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FCE8-B12A-427E-A0DC-6E56F236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AD58-4E95-4734-9C46-3BE1E295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FB8-74CB-467D-A506-DB1948C0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028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95960"/>
            <a:ext cx="264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AD7-E49F-4745-B12E-BC40FA7B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B46-896A-4A7C-B81A-911DDBAB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2E4F-6AD5-49BF-88DD-36B87DF9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242-7791-428D-864E-798C538D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A6D-DEAC-4D02-8AFC-C5DE64FA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1B4-1DC2-423F-A17B-A18655C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50E-823F-4A4B-B1CD-9389F77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9596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386-AE0E-4639-89A5-BD212BF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0280"/>
            <a:ext cx="40158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596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847-6162-421E-9F92-A3585AE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-360"/>
            <a:ext cx="4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D26D-7576-4D08-897A-E9513AA83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CTVC-G198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K 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T DOCOMO, 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CTV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348-BD98-45BE-9FF5-019EE1EF74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“Partial” RPS from “Full” 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” RPS is a modified form of the “Full” RPS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taRPS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_flag is used instead of ref_id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need to signal keep or o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s to only negative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OCs are always cop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o additional new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MS PGothic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OC ad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plit num_ref_pic_sets into two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full_ref_pic_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partial_ref_pic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where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mRefPicSets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um_full_ref_pic_set + num_partial_ref_pic_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ull” RPS are first encoded as per Inter RPS prediction proposal thus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 RPS prediction for “partial” RPS is applied to the “Full” RPS cyclically until all “partial” RPS are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C40-FDD9-4F54-831A-62CE71DB20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for encoding “Partial” R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7200" y="620640"/>
          <a:ext cx="8229600" cy="6410520"/>
        </p:xfrm>
        <a:graphic>
          <a:graphicData uri="http://schemas.openxmlformats.org/drawingml/2006/table">
            <a:tbl>
              <a:tblPr/>
              <a:tblGrid>
                <a:gridCol w="7024680"/>
                <a:gridCol w="1204920"/>
              </a:tblGrid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_parameter_set_rbsp(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_parameter_set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_parameter_set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opy_coding_mod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ull_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um_partial_ref_pic_s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(idx = 0; idx &lt; num_full_ref_pic_sets; idx+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( idx 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hile( idx &lt; NumRefPicSets 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artial_ref_pic_set_flag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i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( partial_ref_pic_set_flag 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or( j = 0; j &lt; NumNegativePics[ i% num_full_ref_pic_set ]; j++ 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f_flag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j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dx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temporal_layer_switching_point_fla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A2F-233C-4A3B-96A4-2B9E2D0B8F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RA with “full” &amp; “partial” inter RPS p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8560" y="677160"/>
            <a:ext cx="776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Table 3: Table comparing the bits needed for a group of reference picture set needed for RA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54040" y="995400"/>
          <a:ext cx="6010200" cy="500220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1000080"/>
                <a:gridCol w="143028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inter RPS prediction with partial exten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0: DeltaPOC = { -8 -10 -12 -1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: DeltaPOC = { -4 -6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2: DeltaPOC = { -2 -4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3: DeltaPOC = { -2 -4 -6 -8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4: DeltaPOC = { -1 -3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5: DeltaPOC = { -1 -3 1 3 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6: DeltaPOC = { -1 -3 1 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7: DeltaPOC = { -1 -3 -5 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um_partial_ref_pic_s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8: DeltaPOC = {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9: DeltaPOC = { -4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0: DeltaPOC = { -2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1: DeltaPOC = { -2 -4 -6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2: DeltaPOC = { -1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588240" y="6092640"/>
            <a:ext cx="8083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* inter reference picture set prediction is not applied for these reference picture sets.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082-B9D5-4B3F-B7E7-5CDDA3A356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4560" y="605520"/>
            <a:ext cx="77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Table 4: Table comparing the bits needed for a group of reference picture set needed for L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052640"/>
          <a:ext cx="8610840" cy="4546440"/>
        </p:xfrm>
        <a:graphic>
          <a:graphicData uri="http://schemas.openxmlformats.org/drawingml/2006/table">
            <a:tbl>
              <a:tblPr/>
              <a:tblGrid>
                <a:gridCol w="689040"/>
                <a:gridCol w="2457360"/>
                <a:gridCol w="2130480"/>
                <a:gridCol w="1851120"/>
                <a:gridCol w="148284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0: DeltaPOC = { -1 -5 -9 -1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: DeltaPOC = { -1 -2 -6 -10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2: DeltaPOC = { -1 -3 -7 -1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3: DeltaPOC = { -1 -4 -8 -1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num_partial_ref_pic_se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(7-2) = 5 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4: DeltaPOC = { -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5: DeltaPOC = { -1 -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6: DeltaPOC = { -1 -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7: DeltaPOC = { -1 -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8: DeltaPOC = { -1 -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9: DeltaPOC = { -1 -2 -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0: DeltaPOC = { -1 -3 -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1: DeltaPOC = { -1 -4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RPS 12: DeltaPOC = { -1 -5 -9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buClr>
                          <a:srgbClr val="008080"/>
                        </a:buClr>
                        <a:buFont typeface="Arial"/>
                        <a:buChar char="•"/>
                        <a:tabLst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511200" y="5952960"/>
            <a:ext cx="8123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* inter reference picture set prediction is not applied for these reference picture sets. 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80"/>
              </a:buClr>
              <a:buFont typeface="Arial"/>
              <a:buChar char="•"/>
              <a:tabLst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** num_full_ref_pic_sets not shown in the table is reduced by 2 bi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LD with “full” &amp; “partial” inter RPS p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F07-AA45-43F6-A61C-EE62BE32E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 text and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fer to the document for full det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refer to the software patch included in the zip contai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BFF-2B98-4FEB-BB55-001939078A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reduce the bits needed to encode a RPS by using reference pictures from a previous RPS already decoded (in the PPS) as predic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type of syntax are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” reference pictur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” reference picture set (eg. RPS subset following IDR and CRA pictures where the DPB is just filling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y of Bits needed for encoding the RP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loss of error resilience as the RPS used for prediction is in the same P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roughly half the bits needed to represent the group of RPS in the P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also be used to signal “full” / “partial” RPS at slice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47640" y="3141720"/>
          <a:ext cx="5975280" cy="1500120"/>
        </p:xfrm>
        <a:graphic>
          <a:graphicData uri="http://schemas.openxmlformats.org/drawingml/2006/table">
            <a:tbl>
              <a:tblPr/>
              <a:tblGrid>
                <a:gridCol w="1008000"/>
                <a:gridCol w="1684440"/>
                <a:gridCol w="1346040"/>
                <a:gridCol w="1936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latest JCTVC-F493 proposal</a:t>
                      </a:r>
                      <a:r>
                        <a:rPr b="0" lang="en-S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inter RPS predi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ts needed by inter RPS prediction with “partial” extension</a:t>
                      </a:r>
                      <a:r>
                        <a:rPr b="0" lang="en-S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 (3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 (5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(2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(4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918-DEE4-4BC7-9483-E67118383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of the DPB content &amp; RPS for 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97160" y="727200"/>
          <a:ext cx="6086520" cy="272880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85640"/>
                <a:gridCol w="490680"/>
                <a:gridCol w="488880"/>
                <a:gridCol w="487440"/>
                <a:gridCol w="490680"/>
                <a:gridCol w="492120"/>
                <a:gridCol w="488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Frame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erence frames in DPB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606960" y="19162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B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90680" y="3868560"/>
          <a:ext cx="6086520" cy="272916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86000"/>
                <a:gridCol w="490320"/>
                <a:gridCol w="489240"/>
                <a:gridCol w="487080"/>
                <a:gridCol w="490680"/>
                <a:gridCol w="492120"/>
                <a:gridCol w="488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Frame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erence frames in RPS (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600120" y="5057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E79-ABB1-4079-891E-13937F01C5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the difference of the rows of R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24000" y="628560"/>
          <a:ext cx="6086520" cy="2729160"/>
        </p:xfrm>
        <a:graphic>
          <a:graphicData uri="http://schemas.openxmlformats.org/drawingml/2006/table">
            <a:tbl>
              <a:tblPr/>
              <a:tblGrid>
                <a:gridCol w="282600"/>
                <a:gridCol w="1887480"/>
                <a:gridCol w="492120"/>
                <a:gridCol w="486000"/>
                <a:gridCol w="490320"/>
                <a:gridCol w="489240"/>
                <a:gridCol w="487080"/>
                <a:gridCol w="490680"/>
                <a:gridCol w="492120"/>
                <a:gridCol w="488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Frame (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Reference frames in RPS (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O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00120" y="1817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73080" y="3759120"/>
          <a:ext cx="6342120" cy="2729160"/>
        </p:xfrm>
        <a:graphic>
          <a:graphicData uri="http://schemas.openxmlformats.org/drawingml/2006/table">
            <a:tbl>
              <a:tblPr/>
              <a:tblGrid>
                <a:gridCol w="538200"/>
                <a:gridCol w="1887840"/>
                <a:gridCol w="492120"/>
                <a:gridCol w="485640"/>
                <a:gridCol w="490680"/>
                <a:gridCol w="488880"/>
                <a:gridCol w="487440"/>
                <a:gridCol w="490320"/>
                <a:gridCol w="492120"/>
                <a:gridCol w="4888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– 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urren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– </a:t>
                      </a:r>
                      <a:r>
                        <a:rPr b="0" lang="el-GR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C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– 28 =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– 26 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– 30 = 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– 25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– 27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7 – 29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29 – 31 = 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53440" y="4019400"/>
            <a:ext cx="139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sing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lta R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D67-45C6-412B-9547-300EB1A1AE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coded the RPS we therefore only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x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dex to the previous R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ltaRPS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RPS POC difference (only one instance is nee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_idc[j]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cator for which of the DeltaPOC[RIdx][j] to keep add DeltaRP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that is already known and therefore n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DeltaP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ize of the previous R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taPOC[RIdx][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Cs of the reference pictures in the previous RP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45D-072E-4E34-9E7F-A0E1BCB8C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for encoding “Full” R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052640"/>
          <a:ext cx="7715520" cy="4689360"/>
        </p:xfrm>
        <a:graphic>
          <a:graphicData uri="http://schemas.openxmlformats.org/drawingml/2006/table">
            <a:tbl>
              <a:tblPr/>
              <a:tblGrid>
                <a:gridCol w="6096240"/>
                <a:gridCol w="1619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_pic_set( idx 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ter_ref_pic_set_prediction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f( inter_ref_pic_set_prediction_flag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ta_idx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ta_rps_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bs_delta_rps_minus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or( j = 0; j &lt;= NumDeltaPocs[ RIdx ]; j++ 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f_idc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[ j 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e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negative_p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positive_p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ue(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621960" y="201780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d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2492280"/>
            <a:ext cx="162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taR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2421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D69-C2C0-4E6B-B6C7-4A9A65DE70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on of the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785080" cy="5518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08320" y="2063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9080" y="206388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65520" y="206064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81920" y="206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0ED-BC8C-4B9D-AFDC-424CB93DB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RA with “full”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77800" y="1117440"/>
          <a:ext cx="6010200" cy="436392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1000080"/>
                <a:gridCol w="14302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0: DeltaPOC = { -8 -10 -12 -1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: DeltaPOC = { -4 -6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2: DeltaPOC = { -2 -4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3: DeltaPOC = { -2 -4 -6 -8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4: DeltaPOC = { -1 -3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5: DeltaPOC = { -1 -3 1 3 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6: DeltaPOC = { -1 -3 1 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7: DeltaPOC = { -1 -3 -5 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8: DeltaPOC = {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9: DeltaPOC = { -4 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0: DeltaPOC = { -2 2 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1: DeltaPOC = { -2 -4 -6 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2: DeltaPOC = { -1 1 3 5 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554400" y="5481360"/>
            <a:ext cx="803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 inter reference picture set prediction is not applied for these reference picture sets.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3480" y="691560"/>
            <a:ext cx="770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1: Table comparing the bits needed for a group of reference picture set needed for RA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7BD-F08A-41E9-9796-98D49E685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59080" y="767520"/>
            <a:ext cx="640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: Table comparing the bits needed for a group of reference picture set needed for LD condi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58720" y="1012680"/>
          <a:ext cx="6964560" cy="4670640"/>
        </p:xfrm>
        <a:graphic>
          <a:graphicData uri="http://schemas.openxmlformats.org/drawingml/2006/table">
            <a:tbl>
              <a:tblPr/>
              <a:tblGrid>
                <a:gridCol w="385920"/>
                <a:gridCol w="2203200"/>
                <a:gridCol w="990720"/>
                <a:gridCol w="990720"/>
                <a:gridCol w="239400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 pict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latest JCTVC-F493 propos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needed by inter RPS pred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s reduction as a % of the original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0: DeltaPOC = { -1 -5 -9 -1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: DeltaPOC = { -1 -2 -6 -10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2: DeltaPOC = { -1 -3 -7 -1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3: DeltaPOC = { -1 -4 -8 -1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4: DeltaPOC = { -1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5: DeltaPOC = { -1 -2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6: DeltaPOC = { -1 -3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7: DeltaPOC = { -1 -4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8: DeltaPOC = { -1 -5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9: DeltaPOC = { -1 -2 -6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0: DeltaPOC = { -1 -3 -7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1: DeltaPOC = { -1 -4 -8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PS 12: DeltaPOC = { -1 -5 -9 }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(not predict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8080"/>
                          </a:solidFill>
                          <a:uFillTx/>
                          <a:latin typeface="Arial"/>
                          <a:ea typeface="Times New Roman"/>
                        </a:rPr>
                        <a:t>2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34600" y="5829120"/>
            <a:ext cx="807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* inter reference picture set prediction is not applied for these reference picture sets.  Bits reported include a 1-bit signaling fl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for LD with “full” inter RP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F30-FDFB-48FA-9C94-C7FFC2440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1:18:58Z</dcterms:created>
  <dc:creator>tktan</dc:creator>
  <dc:description/>
  <dc:language>en-US</dc:language>
  <cp:lastModifiedBy>tktan</cp:lastModifiedBy>
  <dcterms:modified xsi:type="dcterms:W3CDTF">2011-11-22T05:34:42Z</dcterms:modified>
  <cp:revision>34</cp:revision>
  <dc:subject/>
  <dc:title>Slide 1</dc:title>
</cp:coreProperties>
</file>