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42E-FDEB-41F7-B313-119018B5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DF4-01DC-4589-872F-26490B1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4B4-E658-472F-9C6C-1E6141EC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49E-A9D4-4D34-BDE7-10D1AF58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CD4A-AD08-4437-86EF-156786E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450-093B-49EA-B91B-F359D5B5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6C6-0920-418E-AF12-AE2636C9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521-B43D-48F6-91E8-6728772E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5B8-45B3-4E22-8C40-1EF24E66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D6B-8E98-4ED8-88CD-3D15B05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613-F21A-43D8-A852-F1BA1A3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002-1B87-4FB1-A495-2D386D9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FE6-54AA-4AC2-8869-C231D587C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TVC-G198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 DOCOMO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CTV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FF7-89FF-4256-9C98-5FA1F2068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for encoding “Partial” R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620640"/>
          <a:ext cx="8229600" cy="6410520"/>
        </p:xfrm>
        <a:graphic>
          <a:graphicData uri="http://schemas.openxmlformats.org/drawingml/2006/table">
            <a:tbl>
              <a:tblPr/>
              <a:tblGrid>
                <a:gridCol w="7024680"/>
                <a:gridCol w="1204920"/>
              </a:tblGrid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_parameter_set_rbsp(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_parameter_set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py_coding_mod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ull_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um_partial_ref_pic_s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idx = 0; idx &lt; num_full_ref_pic_sets; idx+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( idx 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ile( idx &lt; NumRefPicSets 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rtial_ref_pic_set_flag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i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( partial_ref_pic_set_flag 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or( j = 0; j &lt; NumNegativePics[ i% num_full_ref_pic_set ]; j++ 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f_flag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j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dx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temporal_layer_switching_point_fl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E76-549E-41F7-ACA8-33D9D943A2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RA with “full” &amp; “partial” inter RPS p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560" y="677160"/>
            <a:ext cx="77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Table 3: Table comparing the bits needed for a group of reference picture set needed for RA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54040" y="995400"/>
          <a:ext cx="6010200" cy="500220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1000080"/>
                <a:gridCol w="143028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inter RPS prediction with partial ext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0: DeltaPOC = { -8 -10 -12 -1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: DeltaPOC = { -4 -6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2: DeltaPOC = { -2 -4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3: DeltaPOC = { -2 -4 -6 -8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4: DeltaPOC = { -1 -3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5: DeltaPOC = { -1 -3 1 3 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6: DeltaPOC = { -1 -3 1 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7: DeltaPOC = { -1 -3 -5 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um_partial_ref_pic_s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8: DeltaPOC = {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9: DeltaPOC = { -4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0: DeltaPOC = { -2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1: DeltaPOC = { -2 -4 -6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2: DeltaPOC = { -1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88240" y="6092640"/>
            <a:ext cx="808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* inter reference picture set prediction is not applied for these reference picture sets.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867-D9D6-4193-8DF1-11CE8F041B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3840" y="605520"/>
            <a:ext cx="769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4: Table comparing the bits needed for a group of reference picture set needed for L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052640"/>
          <a:ext cx="8610840" cy="4395600"/>
        </p:xfrm>
        <a:graphic>
          <a:graphicData uri="http://schemas.openxmlformats.org/drawingml/2006/table">
            <a:tbl>
              <a:tblPr/>
              <a:tblGrid>
                <a:gridCol w="689040"/>
                <a:gridCol w="2457360"/>
                <a:gridCol w="2130480"/>
                <a:gridCol w="1851120"/>
                <a:gridCol w="148284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0: DeltaPOC = { -1 -5 -9 -1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: DeltaPOC = { -1 -2 -6 -10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2: DeltaPOC = { -1 -3 -7 -1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3: DeltaPOC = { -1 -4 -8 -1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_partial_ref_pic_s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-2) = 5 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4: DeltaPOC = { -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5: DeltaPOC = { -1 -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6: DeltaPOC = { -1 -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7: DeltaPOC = { -1 -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8: DeltaPOC = { -1 -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9: DeltaPOC = { -1 -2 -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0: DeltaPOC = { -1 -3 -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1: DeltaPOC = { -1 -4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2: DeltaPOC = { -1 -5 -9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510840" y="5952960"/>
            <a:ext cx="807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 inter reference picture set prediction is not applied for these reference picture sets. 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* num_full_ref_pic_sets not shown in the table is reduced by 2 bi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LD with “full” &amp; “partial” inter RPS p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9D6-77AF-4101-AAA0-FF289B0724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text and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fer to the WD text in the zip contai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fer to the software patch included in the zip contai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D20-D9E0-4594-A7E1-288FCE68A7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f the DPB content &amp; RPS for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97160" y="727200"/>
          <a:ext cx="6086520" cy="272880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85640"/>
                <a:gridCol w="490680"/>
                <a:gridCol w="488880"/>
                <a:gridCol w="487440"/>
                <a:gridCol w="490680"/>
                <a:gridCol w="492120"/>
                <a:gridCol w="488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Frame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erence frames in DPB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606960" y="1916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B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90680" y="3868560"/>
          <a:ext cx="6086520" cy="272916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86000"/>
                <a:gridCol w="490320"/>
                <a:gridCol w="489240"/>
                <a:gridCol w="487080"/>
                <a:gridCol w="490680"/>
                <a:gridCol w="492120"/>
                <a:gridCol w="488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Frame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erence frames in RPS (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0120" y="5057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282-F668-40DB-8403-B8E740BAA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the difference of the rows of R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24000" y="3789360"/>
          <a:ext cx="6578640" cy="272880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92120"/>
                <a:gridCol w="486000"/>
                <a:gridCol w="490320"/>
                <a:gridCol w="489240"/>
                <a:gridCol w="487080"/>
                <a:gridCol w="490680"/>
                <a:gridCol w="492120"/>
                <a:gridCol w="488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ta R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_idc[j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81080" y="443700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24000" y="692280"/>
          <a:ext cx="6086520" cy="2728800"/>
        </p:xfrm>
        <a:graphic>
          <a:graphicData uri="http://schemas.openxmlformats.org/drawingml/2006/table">
            <a:tbl>
              <a:tblPr/>
              <a:tblGrid>
                <a:gridCol w="282600"/>
                <a:gridCol w="1887840"/>
                <a:gridCol w="492120"/>
                <a:gridCol w="485640"/>
                <a:gridCol w="490680"/>
                <a:gridCol w="488880"/>
                <a:gridCol w="487440"/>
                <a:gridCol w="490320"/>
                <a:gridCol w="492120"/>
                <a:gridCol w="4888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– 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–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– 28 =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– 26 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– 30 = 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25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 – 29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 – 31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53440" y="952560"/>
            <a:ext cx="13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ing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lta R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00B-23A4-4292-AAF3-40A17229E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675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bits needed to encode RPS by using reference pictures from a previous RPS already decoded (in the PPS / SPS) as predic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needed to encoded the RPS using inter predi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dx: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dex pointing to the previous R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taRP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C difference (only one instance is needed per R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f_idc[j]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cator for which of the reference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C to add DeltaRPS to or o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 = 0 to NumDeltaPocs[ RIdx ]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 of Bits needed for encoding the RPS  for different coding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loss of error resilience as the RPS used for prediction is in the same PPS / S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roughly half the bits needed to represent the group of RPS in the PPS / S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also be used to signal “full” / “partial” RPS at slice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and WD Text are available (provided to in AHG21 on reflector, prior to the mee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333440" y="2916360"/>
          <a:ext cx="6767280" cy="2003400"/>
        </p:xfrm>
        <a:graphic>
          <a:graphicData uri="http://schemas.openxmlformats.org/drawingml/2006/table">
            <a:tbl>
              <a:tblPr/>
              <a:tblGrid>
                <a:gridCol w="1800000"/>
                <a:gridCol w="1684440"/>
                <a:gridCol w="1346400"/>
                <a:gridCol w="1936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latest JCTVC-F493 proposal</a:t>
                      </a:r>
                      <a:r>
                        <a:rPr b="0" lang="en-S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inter RPS predi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inter RPS prediction with “partial” extension</a:t>
                      </a:r>
                      <a:r>
                        <a:rPr b="0" lang="en-S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 (-3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(-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(-2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(-4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CTVC-G589 (RA 4 r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(-3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 (-4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(5 r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 (-3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(-50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R 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 (-4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 (-6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5994000" y="4954680"/>
            <a:ext cx="31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) = (100 * (proposed – original) / origina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DC3-95D3-4B71-B741-A43D837C8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RA with “full”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77800" y="1117440"/>
          <a:ext cx="6010200" cy="436392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1000080"/>
                <a:gridCol w="14302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0: DeltaPOC = { -8 -10 -12 -1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: DeltaPOC = { -4 -6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2: DeltaPOC = { -2 -4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3: DeltaPOC = { -2 -4 -6 -8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4: DeltaPOC = { -1 -3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5: DeltaPOC = { -1 -3 1 3 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6: DeltaPOC = { -1 -3 1 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7: DeltaPOC = { -1 -3 -5 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8: DeltaPOC = {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9: DeltaPOC = { -4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0: DeltaPOC = { -2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1: DeltaPOC = { -2 -4 -6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2: DeltaPOC = { -1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54400" y="5481360"/>
            <a:ext cx="803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 inter reference picture set prediction is not applied for these reference picture sets.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480" y="691560"/>
            <a:ext cx="77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1: Table comparing the bits needed for a group of reference picture set needed for RA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DD2-BBA0-4BB2-8E45-8B497E76B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9080" y="767520"/>
            <a:ext cx="64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: Table comparing the bits needed for a group of reference picture set needed for LD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58720" y="1012680"/>
          <a:ext cx="6964560" cy="467064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990720"/>
                <a:gridCol w="239400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0: DeltaPOC = { -1 -5 -9 -1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: DeltaPOC = { -1 -2 -6 -10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2: DeltaPOC = { -1 -3 -7 -1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3: DeltaPOC = { -1 -4 -8 -1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4: DeltaPOC = { -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5: DeltaPOC = { -1 -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6: DeltaPOC = { -1 -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7: DeltaPOC = { -1 -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8: DeltaPOC = { -1 -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9: DeltaPOC = { -1 -2 -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0: DeltaPOC = { -1 -3 -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1: DeltaPOC = { -1 -4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2: DeltaPOC = { -1 -5 -9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534600" y="5829120"/>
            <a:ext cx="807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 inter reference picture set prediction is not applied for these reference picture sets. 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LD with “full”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F1B-69CB-4FDF-BBE2-C15CCFA473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for encoding R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00000" y="1052640"/>
          <a:ext cx="7715520" cy="5694120"/>
        </p:xfrm>
        <a:graphic>
          <a:graphicData uri="http://schemas.openxmlformats.org/drawingml/2006/table">
            <a:tbl>
              <a:tblPr/>
              <a:tblGrid>
                <a:gridCol w="6096240"/>
                <a:gridCol w="161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( idx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ter_ref_pic_set_prediction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( inter_ref_pic_set_prediction_flag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ta_idx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ta_rps_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bs_delta_rps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or( j = 0; j &lt;= NumDeltaPocs[ RIdx ]; j++ 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f_idc0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j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( !ref_idc0[ j ]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f_idc0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j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negative_p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positive_p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621960" y="2017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d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5280" y="2492280"/>
            <a:ext cx="162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taR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421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4920" y="3710160"/>
            <a:ext cx="1488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_idc[j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3500280"/>
            <a:ext cx="216000" cy="8654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839-BE60-4C69-B7AB-FA0833B4F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13000"/>
          <a:ext cx="8424720" cy="1581120"/>
        </p:xfrm>
        <a:graphic>
          <a:graphicData uri="http://schemas.openxmlformats.org/drawingml/2006/table">
            <a:tbl>
              <a:tblPr/>
              <a:tblGrid>
                <a:gridCol w="705636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B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0: DeltaPOC = {-8 -2 -2 -2}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 -8 -10 -12 -14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1: DeltaPOC = {-4 -2} {4}   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 -4 -6 4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2: DeltaPOC = {-2 -2} {2 4}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 -2 -4 2 6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95280" y="4299120"/>
          <a:ext cx="8496360" cy="1650960"/>
        </p:xfrm>
        <a:graphic>
          <a:graphicData uri="http://schemas.openxmlformats.org/drawingml/2006/table">
            <a:tbl>
              <a:tblPr/>
              <a:tblGrid>
                <a:gridCol w="7129440"/>
                <a:gridCol w="136692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B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0: DeltaPOC = {-8 -2 -2 -2} 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 -8 -10 -12 -14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1: DeltaRPS =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, ref_idc[j] =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{ 1 1 0 0 1 }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-4 -6 4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15 (3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RPS 2: DeltaRPS =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, ref_idc[j] =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{ 1 1 1 1 }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 { -2 -4 2 6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80"/>
                          </a:solidFill>
                          <a:latin typeface="Arial"/>
                          <a:ea typeface="Times New Roman"/>
                        </a:rPr>
                        <a:t>10 (5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390320" y="928800"/>
            <a:ext cx="62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for sending DeltaPOC without inter RP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7760" y="3789360"/>
            <a:ext cx="59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for sending DeltaPOC with inter RPS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22E3-D1AD-4CD4-95FB-77E39EBA1A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85080" cy="5518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08320" y="2063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9080" y="206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5520" y="20606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81920" y="206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96D-37B3-4B0C-A029-86470393FB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F73-4633-43C2-AA32-3E1C606669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“Partial” RPS from “Full” 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” RPS is a modified form of the “Full” RPS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taRPS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_flag is used instead of ref_id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need to signal keep or o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s to only negative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OCs are always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o additional new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OC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plit num_ref_pic_sets into tw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full_ref_pic_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partial_ref_pic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where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RefPicSets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full_ref_pic_set + num_partial_ref_pic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ull” RPS are first encoded as per Inter RPS prediction proposal thus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 RPS prediction for “partial” RPS is applied to the “Full” RPS cyclically until all “partial” RPS are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30C-1CBE-40BE-A257-C5A12ADCEE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1:18:58Z</dcterms:created>
  <dc:creator>tktan</dc:creator>
  <dc:description/>
  <dc:language>en-US</dc:language>
  <cp:lastModifiedBy>tktan</cp:lastModifiedBy>
  <dcterms:modified xsi:type="dcterms:W3CDTF">2011-11-24T05:22:21Z</dcterms:modified>
  <cp:revision>41</cp:revision>
  <dc:subject/>
  <dc:title>Slide 1</dc:title>
</cp:coreProperties>
</file>