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hdr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22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ftr" idx="23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 type="sldNum" idx="24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2075CF-2315-4F46-A46A-25236459AE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13" descr="SD_INTERNAL USE ONLY2"/>
          <p:cNvPicPr/>
          <p:nvPr/>
        </p:nvPicPr>
        <p:blipFill>
          <a:blip r:embed="rId2"/>
          <a:stretch/>
        </p:blipFill>
        <p:spPr>
          <a:xfrm>
            <a:off x="54000" y="54000"/>
            <a:ext cx="159696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6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BC3A0A-5B76-4205-9B88-25F2579DA2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6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3D78A8-C7DF-411F-A3C1-82F212834C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62608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AE38-FF39-49E0-AE07-E3B6C4587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16B9-4A8D-4B29-9A7C-613F7C10F01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B679E0-36C7-41B3-A111-E1F00C43A51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1013E4-FAEF-4CE4-B3F5-926DA6281CD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6FF5B2-1C52-4731-B22F-723A832C9C2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74CD0B-0084-4287-AEBF-9195BD3ECD6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9A8986-4B75-4477-B48A-9A40CD9E015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59E168-3C35-4221-9A3E-3ED389B73E7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2CB825-CFE2-4741-B696-A6707838391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51E58F-F7FC-4386-8524-324DCF16324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3100FC-9249-43FD-9961-754410A4515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5C9D8-D8E7-4633-8C18-0E0B3950F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9D21-725A-4510-B7F6-558A131AD4C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5CBBA-CB9D-477A-B685-B0902AEE308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DDD69-7A6B-41D9-A121-A7E6E6EC236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58C8E-DA67-480B-B61A-32A28110709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45F2C-77A8-4AD2-BEDC-F9D28209178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50692-6B60-4B1C-9AEA-4DB4067038E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61972-B58D-41A5-BEEF-BA6BD212969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F1A41-5BE2-4FA0-8492-1AD651DE9FB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E2B86-F5A3-4388-8044-066A4258374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F0A60-6737-4773-8A2F-8FFF4E53CE0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F3214-BBB2-4FA8-AE12-9DDFD61BF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5C4A-0C17-495D-9D89-C55116CFB01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87F86-71C3-42BB-8CB0-D6DC654903B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DF6F3C-9334-4FF4-9D01-FE75F85EAEE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143282-D1A3-468B-A8E6-46F391959EA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83B767-0C9D-4FEF-88BC-3EEECF1F701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040EB7-F3C3-4743-81BE-9376DF24323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04710B-55D0-4693-BF1A-03ECD13B72C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2F1DD7-CB66-4E8C-B469-53412CF9539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984E3-F0F8-4CA5-9E9A-5DCF5625EA1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45487E-14AB-4AB9-897A-4B799F1FF10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EB9B89-4E6B-43B8-99C2-5B1E4C04B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A39014-814B-4EAC-A9B2-AB72DA25EE1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48B74E-C9CA-46EA-9FBB-58E2FF48F3E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EBBE25-E431-4726-8232-4570595AB5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E734-836B-476F-9236-9BE0184D8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947AC-B1F8-46DD-BC85-512D224E03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D09C6-0DBE-4B08-B3D7-57108499BA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C696C-3A5F-48DD-806B-C7B1C46E70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7772E-86E5-485D-820B-2AFBB17BA9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5A64B-9EB7-480F-9F4E-7FD3D68BE2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4B29-DC3C-41FE-957B-0E2F719459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40ADF-7F97-4219-9167-12443C1065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17492-1783-4EE3-8B58-71F48D2D89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4048B-A562-4B18-AF7D-B2CB7A1657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E1031-E9A3-4D11-AFF3-4483650957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0FD83-FA9B-4914-9A7D-97B32C517A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2D449-CECE-4423-B404-68ECF55D6B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E1FEC-2E6A-40F1-B8F7-92A037B8BD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6242-DB99-4DBB-BE56-227C54793C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C3F9-8A62-471B-958E-9F5DC7C4B9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3EDF-CD7F-4572-8E97-55B1BD220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9CFB-2816-4A03-8782-B47D571882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2531-C96A-401F-90F2-EBEC14C0B0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60C0-39FF-4921-909E-67BB1CB66C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BAE1-F17C-462E-998E-4D2695BC9E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F585-D5A4-45CF-9CB5-B34DA4A6AF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7D95-86FB-4301-BA4E-6A24E21E4C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A9CA-4A23-44E7-84F4-2A1B1C79A2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0AA4-4DAE-425A-B5F4-FBA776A972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B6BD-3C15-43FD-A0FF-974EB4FBBE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CA14-3DAF-4545-BDFB-7A337DCE5CC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89C63-C3CA-42C7-9304-E595E2F1E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6E67-0EB8-4A33-A71A-EEB815C5CBF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B6CB9-C690-4E7A-8477-C05A1DE4E49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09227-AB8B-440C-B248-81266D6EDF5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88A3E-8D5B-40A7-96DB-A1814B036C8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1E3AD-7ACE-4567-AED5-EFD1FC537C4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0B3E9-4B00-4FD1-BF8B-52E14A16735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BD10C-976A-49D7-A98A-68A2907FA9B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DA2A5-1E73-4E50-BA85-3D2DFAF51A1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D5204-D4DB-430E-AA59-E80A24A4607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D1845-0624-4D75-814E-3534A34CC90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825A0-7DDB-465D-9326-EF86FBF4B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D224-3CD7-4D55-A9C1-5BBB4C4BCF8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801D9-DF82-4A21-86DA-8E996A8278A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D6DC49-65F2-4D8F-98D9-DE3B5EC0FBD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B4A8D8-9AF2-4B62-BF72-0825CA1B496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BB4A8C-82E8-4473-A381-5D51B333B63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29B3CE-5309-4899-A0CE-FF8C2704F7F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8D4AB5-D5FB-47DA-B620-BE54CBE9044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071A1F-8916-46FB-9878-BE095CFFD84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815806-8A72-45DE-8A73-3688E42F152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C05AC3-931E-48B0-8651-87C5095094E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7C3668-F25E-48BC-878E-83EAC3EA8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D30B-91F3-46AC-B96E-42E26C34D46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D7F948-60A0-4B8C-B038-9AE2106E3A5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7310FC-6717-497C-8183-D4145C5B765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0B9D93-EB16-4E02-9D13-B020B1EC551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55368-6CCE-48EF-99D4-3CD2AB3479E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2A743-3CCE-4E92-8418-9A99A0F3ACB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2282C-7186-45EF-9189-AD9155D19B4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9F06B-6436-4BDE-AEF2-DA7C6D94610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61BA4-1931-4488-889A-6F349D8A6D2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BC007-D534-43B5-BEAD-6B80C71D6E8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C0DBB-EDAB-4E28-BBEB-DBE6A2D3A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5131-3C67-4633-8552-3712AF85750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ED2FB-A885-469F-A3FD-563E1DBB808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31A1A-B70B-495F-BD5C-02AD0B25711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2648F-DF5E-46B3-98EE-7108675ABF0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52B6E-09FC-45B8-A8CE-7BE7E9514C5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862AA-2706-42F7-AFB3-099F34E01C1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C0294D-D6E7-44EF-97E4-6F364682985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0A2EC-0153-4235-B451-88F973B3C47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97D0D-540C-4575-A2ED-19617215049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294DB-3D5F-43F7-A17F-9A2764492E8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F97169-1D98-4AA2-8A1C-EF49F7AE5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7F0F-68F1-49F5-A67E-BFAA0006FFC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0A9DF9-4B73-4E0B-8296-D48A38AF5F0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B46AD6-52DB-4BA9-A2B4-22A3E002EF4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FF58D-4BF1-42EF-9D4C-111AD740441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A1DFF6-DB48-4321-AD81-91C0EE86A90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0C64D7-D2FB-415D-B287-98CA0F92D46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3D261-009C-484C-BFEA-1AC59BE014B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444339-5A9D-4B71-A9B6-4E7AE8F4331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096822-350B-4D4C-A29E-1F0ECF632C8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F20F3B-AE1D-4E6B-A704-06DF6804B9E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5A7D0A-7BD4-42E9-A574-F875D09CC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2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9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1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1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93D1-4388-473F-AD9D-03DE5A71BEA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490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5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6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7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8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499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8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FDF1-E4A2-4AF1-81A6-1E4A8F315FC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19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541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542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43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44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45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46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47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48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49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50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551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Num" idx="20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29FD-693B-48C2-B138-57CB1CB4D14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1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6" descr="TitleRed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48531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47"/>
          <p:cNvGrpSpPr/>
          <p:nvPr/>
        </p:nvGrpSpPr>
        <p:grpSpPr>
          <a:xfrm>
            <a:off x="7308720" y="185760"/>
            <a:ext cx="1648080" cy="920880"/>
            <a:chOff x="7308720" y="185760"/>
            <a:chExt cx="1648080" cy="920880"/>
          </a:xfrm>
        </p:grpSpPr>
        <p:sp>
          <p:nvSpPr>
            <p:cNvPr id="54" name="AutoShape 48"/>
            <p:cNvSpPr/>
            <p:nvPr/>
          </p:nvSpPr>
          <p:spPr>
            <a:xfrm>
              <a:off x="7308720" y="185760"/>
              <a:ext cx="1648080" cy="9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5" name="Freeform 49"/>
            <p:cNvSpPr/>
            <p:nvPr/>
          </p:nvSpPr>
          <p:spPr>
            <a:xfrm>
              <a:off x="7389720" y="958680"/>
              <a:ext cx="41400" cy="68400"/>
            </a:xfrm>
            <a:custGeom>
              <a:avLst/>
              <a:gdLst/>
              <a:ahLst/>
              <a:rect l="l" t="t" r="r" b="b"/>
              <a:pathLst>
                <a:path w="463" h="762">
                  <a:moveTo>
                    <a:pt x="0" y="731"/>
                  </a:moveTo>
                  <a:cubicBezTo>
                    <a:pt x="0" y="643"/>
                    <a:pt x="0" y="643"/>
                    <a:pt x="0" y="643"/>
                  </a:cubicBezTo>
                  <a:cubicBezTo>
                    <a:pt x="48" y="670"/>
                    <a:pt x="107" y="684"/>
                    <a:pt x="177" y="684"/>
                  </a:cubicBezTo>
                  <a:cubicBezTo>
                    <a:pt x="296" y="684"/>
                    <a:pt x="355" y="645"/>
                    <a:pt x="355" y="568"/>
                  </a:cubicBezTo>
                  <a:cubicBezTo>
                    <a:pt x="355" y="538"/>
                    <a:pt x="345" y="513"/>
                    <a:pt x="325" y="493"/>
                  </a:cubicBezTo>
                  <a:cubicBezTo>
                    <a:pt x="309" y="477"/>
                    <a:pt x="291" y="463"/>
                    <a:pt x="271" y="452"/>
                  </a:cubicBezTo>
                  <a:cubicBezTo>
                    <a:pt x="253" y="442"/>
                    <a:pt x="231" y="431"/>
                    <a:pt x="203" y="417"/>
                  </a:cubicBezTo>
                  <a:cubicBezTo>
                    <a:pt x="135" y="384"/>
                    <a:pt x="89" y="352"/>
                    <a:pt x="62" y="323"/>
                  </a:cubicBezTo>
                  <a:cubicBezTo>
                    <a:pt x="29" y="286"/>
                    <a:pt x="12" y="242"/>
                    <a:pt x="12" y="190"/>
                  </a:cubicBezTo>
                  <a:cubicBezTo>
                    <a:pt x="12" y="124"/>
                    <a:pt x="38" y="74"/>
                    <a:pt x="90" y="41"/>
                  </a:cubicBezTo>
                  <a:cubicBezTo>
                    <a:pt x="134" y="13"/>
                    <a:pt x="189" y="0"/>
                    <a:pt x="257" y="0"/>
                  </a:cubicBezTo>
                  <a:cubicBezTo>
                    <a:pt x="304" y="0"/>
                    <a:pt x="355" y="8"/>
                    <a:pt x="411" y="24"/>
                  </a:cubicBezTo>
                  <a:cubicBezTo>
                    <a:pt x="411" y="106"/>
                    <a:pt x="411" y="106"/>
                    <a:pt x="411" y="106"/>
                  </a:cubicBezTo>
                  <a:cubicBezTo>
                    <a:pt x="364" y="85"/>
                    <a:pt x="314" y="74"/>
                    <a:pt x="262" y="74"/>
                  </a:cubicBezTo>
                  <a:cubicBezTo>
                    <a:pt x="222" y="74"/>
                    <a:pt x="188" y="82"/>
                    <a:pt x="162" y="98"/>
                  </a:cubicBezTo>
                  <a:cubicBezTo>
                    <a:pt x="134" y="115"/>
                    <a:pt x="120" y="141"/>
                    <a:pt x="120" y="178"/>
                  </a:cubicBezTo>
                  <a:cubicBezTo>
                    <a:pt x="120" y="209"/>
                    <a:pt x="130" y="234"/>
                    <a:pt x="149" y="253"/>
                  </a:cubicBezTo>
                  <a:cubicBezTo>
                    <a:pt x="168" y="273"/>
                    <a:pt x="209" y="298"/>
                    <a:pt x="273" y="331"/>
                  </a:cubicBezTo>
                  <a:cubicBezTo>
                    <a:pt x="324" y="356"/>
                    <a:pt x="357" y="375"/>
                    <a:pt x="374" y="388"/>
                  </a:cubicBezTo>
                  <a:cubicBezTo>
                    <a:pt x="407" y="412"/>
                    <a:pt x="430" y="437"/>
                    <a:pt x="444" y="465"/>
                  </a:cubicBezTo>
                  <a:cubicBezTo>
                    <a:pt x="457" y="490"/>
                    <a:pt x="463" y="520"/>
                    <a:pt x="463" y="556"/>
                  </a:cubicBezTo>
                  <a:cubicBezTo>
                    <a:pt x="463" y="693"/>
                    <a:pt x="370" y="762"/>
                    <a:pt x="184" y="762"/>
                  </a:cubicBezTo>
                  <a:cubicBezTo>
                    <a:pt x="109" y="762"/>
                    <a:pt x="48" y="752"/>
                    <a:pt x="0" y="7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6" name="Freeform 50"/>
            <p:cNvSpPr/>
            <p:nvPr/>
          </p:nvSpPr>
          <p:spPr>
            <a:xfrm>
              <a:off x="7446960" y="928800"/>
              <a:ext cx="47520" cy="96840"/>
            </a:xfrm>
            <a:custGeom>
              <a:avLst/>
              <a:gdLst/>
              <a:ahLst/>
              <a:rect l="l" t="t" r="r" b="b"/>
              <a:pathLst>
                <a:path w="548" h="1087">
                  <a:moveTo>
                    <a:pt x="0" y="108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4" y="382"/>
                    <a:pt x="124" y="382"/>
                    <a:pt x="124" y="382"/>
                  </a:cubicBezTo>
                  <a:cubicBezTo>
                    <a:pt x="188" y="357"/>
                    <a:pt x="249" y="345"/>
                    <a:pt x="306" y="345"/>
                  </a:cubicBezTo>
                  <a:cubicBezTo>
                    <a:pt x="420" y="345"/>
                    <a:pt x="493" y="382"/>
                    <a:pt x="526" y="458"/>
                  </a:cubicBezTo>
                  <a:cubicBezTo>
                    <a:pt x="541" y="492"/>
                    <a:pt x="548" y="554"/>
                    <a:pt x="548" y="644"/>
                  </a:cubicBezTo>
                  <a:cubicBezTo>
                    <a:pt x="548" y="1087"/>
                    <a:pt x="548" y="1087"/>
                    <a:pt x="548" y="1087"/>
                  </a:cubicBezTo>
                  <a:cubicBezTo>
                    <a:pt x="425" y="1087"/>
                    <a:pt x="425" y="1087"/>
                    <a:pt x="425" y="1087"/>
                  </a:cubicBezTo>
                  <a:cubicBezTo>
                    <a:pt x="425" y="624"/>
                    <a:pt x="425" y="624"/>
                    <a:pt x="425" y="624"/>
                  </a:cubicBezTo>
                  <a:cubicBezTo>
                    <a:pt x="425" y="555"/>
                    <a:pt x="418" y="506"/>
                    <a:pt x="403" y="477"/>
                  </a:cubicBezTo>
                  <a:cubicBezTo>
                    <a:pt x="384" y="439"/>
                    <a:pt x="347" y="419"/>
                    <a:pt x="294" y="419"/>
                  </a:cubicBezTo>
                  <a:cubicBezTo>
                    <a:pt x="245" y="419"/>
                    <a:pt x="189" y="434"/>
                    <a:pt x="124" y="463"/>
                  </a:cubicBezTo>
                  <a:cubicBezTo>
                    <a:pt x="124" y="1087"/>
                    <a:pt x="124" y="1087"/>
                    <a:pt x="124" y="1087"/>
                  </a:cubicBezTo>
                  <a:lnTo>
                    <a:pt x="0" y="10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7" name="Freeform 51"/>
            <p:cNvSpPr/>
            <p:nvPr/>
          </p:nvSpPr>
          <p:spPr>
            <a:xfrm>
              <a:off x="7508880" y="958680"/>
              <a:ext cx="50760" cy="68400"/>
            </a:xfrm>
            <a:custGeom>
              <a:avLst/>
              <a:gdLst/>
              <a:ahLst/>
              <a:rect l="l" t="t" r="r" b="b"/>
              <a:pathLst>
                <a:path w="561" h="762">
                  <a:moveTo>
                    <a:pt x="437" y="286"/>
                  </a:moveTo>
                  <a:cubicBezTo>
                    <a:pt x="437" y="248"/>
                    <a:pt x="437" y="248"/>
                    <a:pt x="437" y="248"/>
                  </a:cubicBezTo>
                  <a:cubicBezTo>
                    <a:pt x="437" y="200"/>
                    <a:pt x="430" y="164"/>
                    <a:pt x="415" y="138"/>
                  </a:cubicBezTo>
                  <a:cubicBezTo>
                    <a:pt x="392" y="97"/>
                    <a:pt x="344" y="77"/>
                    <a:pt x="271" y="77"/>
                  </a:cubicBezTo>
                  <a:cubicBezTo>
                    <a:pt x="206" y="77"/>
                    <a:pt x="139" y="91"/>
                    <a:pt x="70" y="118"/>
                  </a:cubicBezTo>
                  <a:cubicBezTo>
                    <a:pt x="70" y="31"/>
                    <a:pt x="70" y="31"/>
                    <a:pt x="70" y="31"/>
                  </a:cubicBezTo>
                  <a:cubicBezTo>
                    <a:pt x="139" y="10"/>
                    <a:pt x="210" y="0"/>
                    <a:pt x="284" y="0"/>
                  </a:cubicBezTo>
                  <a:cubicBezTo>
                    <a:pt x="397" y="0"/>
                    <a:pt x="474" y="25"/>
                    <a:pt x="516" y="76"/>
                  </a:cubicBezTo>
                  <a:cubicBezTo>
                    <a:pt x="539" y="104"/>
                    <a:pt x="553" y="145"/>
                    <a:pt x="558" y="200"/>
                  </a:cubicBezTo>
                  <a:cubicBezTo>
                    <a:pt x="560" y="220"/>
                    <a:pt x="561" y="250"/>
                    <a:pt x="561" y="290"/>
                  </a:cubicBezTo>
                  <a:cubicBezTo>
                    <a:pt x="561" y="727"/>
                    <a:pt x="561" y="727"/>
                    <a:pt x="561" y="727"/>
                  </a:cubicBezTo>
                  <a:cubicBezTo>
                    <a:pt x="477" y="750"/>
                    <a:pt x="387" y="762"/>
                    <a:pt x="293" y="762"/>
                  </a:cubicBezTo>
                  <a:cubicBezTo>
                    <a:pt x="203" y="762"/>
                    <a:pt x="133" y="748"/>
                    <a:pt x="83" y="720"/>
                  </a:cubicBezTo>
                  <a:cubicBezTo>
                    <a:pt x="28" y="689"/>
                    <a:pt x="0" y="635"/>
                    <a:pt x="0" y="558"/>
                  </a:cubicBezTo>
                  <a:cubicBezTo>
                    <a:pt x="0" y="470"/>
                    <a:pt x="32" y="405"/>
                    <a:pt x="96" y="363"/>
                  </a:cubicBezTo>
                  <a:cubicBezTo>
                    <a:pt x="143" y="332"/>
                    <a:pt x="223" y="310"/>
                    <a:pt x="336" y="297"/>
                  </a:cubicBezTo>
                  <a:cubicBezTo>
                    <a:pt x="357" y="294"/>
                    <a:pt x="391" y="291"/>
                    <a:pt x="437" y="286"/>
                  </a:cubicBezTo>
                  <a:close/>
                  <a:moveTo>
                    <a:pt x="437" y="356"/>
                  </a:moveTo>
                  <a:cubicBezTo>
                    <a:pt x="362" y="363"/>
                    <a:pt x="305" y="372"/>
                    <a:pt x="267" y="382"/>
                  </a:cubicBezTo>
                  <a:cubicBezTo>
                    <a:pt x="173" y="405"/>
                    <a:pt x="127" y="460"/>
                    <a:pt x="127" y="545"/>
                  </a:cubicBezTo>
                  <a:cubicBezTo>
                    <a:pt x="127" y="593"/>
                    <a:pt x="140" y="627"/>
                    <a:pt x="168" y="650"/>
                  </a:cubicBezTo>
                  <a:cubicBezTo>
                    <a:pt x="198" y="675"/>
                    <a:pt x="246" y="687"/>
                    <a:pt x="312" y="687"/>
                  </a:cubicBezTo>
                  <a:cubicBezTo>
                    <a:pt x="357" y="687"/>
                    <a:pt x="398" y="681"/>
                    <a:pt x="437" y="670"/>
                  </a:cubicBezTo>
                  <a:lnTo>
                    <a:pt x="437" y="3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8" name="Freeform 52"/>
            <p:cNvSpPr/>
            <p:nvPr/>
          </p:nvSpPr>
          <p:spPr>
            <a:xfrm>
              <a:off x="7578720" y="958680"/>
              <a:ext cx="50760" cy="96840"/>
            </a:xfrm>
            <a:custGeom>
              <a:avLst/>
              <a:gdLst/>
              <a:ahLst/>
              <a:rect l="l" t="t" r="r" b="b"/>
              <a:pathLst>
                <a:path w="567" h="1087">
                  <a:moveTo>
                    <a:pt x="123" y="711"/>
                  </a:moveTo>
                  <a:cubicBezTo>
                    <a:pt x="123" y="1087"/>
                    <a:pt x="123" y="1087"/>
                    <a:pt x="123" y="1087"/>
                  </a:cubicBezTo>
                  <a:cubicBezTo>
                    <a:pt x="0" y="1087"/>
                    <a:pt x="0" y="1087"/>
                    <a:pt x="0" y="1087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85" y="9"/>
                    <a:pt x="168" y="0"/>
                    <a:pt x="249" y="0"/>
                  </a:cubicBezTo>
                  <a:cubicBezTo>
                    <a:pt x="374" y="0"/>
                    <a:pt x="459" y="37"/>
                    <a:pt x="505" y="113"/>
                  </a:cubicBezTo>
                  <a:cubicBezTo>
                    <a:pt x="546" y="180"/>
                    <a:pt x="567" y="269"/>
                    <a:pt x="567" y="379"/>
                  </a:cubicBezTo>
                  <a:cubicBezTo>
                    <a:pt x="567" y="495"/>
                    <a:pt x="541" y="590"/>
                    <a:pt x="489" y="662"/>
                  </a:cubicBezTo>
                  <a:cubicBezTo>
                    <a:pt x="440" y="728"/>
                    <a:pt x="369" y="762"/>
                    <a:pt x="274" y="762"/>
                  </a:cubicBezTo>
                  <a:cubicBezTo>
                    <a:pt x="234" y="762"/>
                    <a:pt x="200" y="755"/>
                    <a:pt x="172" y="742"/>
                  </a:cubicBezTo>
                  <a:cubicBezTo>
                    <a:pt x="159" y="736"/>
                    <a:pt x="142" y="725"/>
                    <a:pt x="123" y="711"/>
                  </a:cubicBezTo>
                  <a:close/>
                  <a:moveTo>
                    <a:pt x="123" y="625"/>
                  </a:moveTo>
                  <a:cubicBezTo>
                    <a:pt x="165" y="666"/>
                    <a:pt x="210" y="687"/>
                    <a:pt x="260" y="687"/>
                  </a:cubicBezTo>
                  <a:cubicBezTo>
                    <a:pt x="324" y="687"/>
                    <a:pt x="371" y="655"/>
                    <a:pt x="400" y="591"/>
                  </a:cubicBezTo>
                  <a:cubicBezTo>
                    <a:pt x="427" y="533"/>
                    <a:pt x="441" y="462"/>
                    <a:pt x="441" y="378"/>
                  </a:cubicBezTo>
                  <a:cubicBezTo>
                    <a:pt x="441" y="272"/>
                    <a:pt x="422" y="193"/>
                    <a:pt x="386" y="140"/>
                  </a:cubicBezTo>
                  <a:cubicBezTo>
                    <a:pt x="356" y="96"/>
                    <a:pt x="304" y="74"/>
                    <a:pt x="230" y="74"/>
                  </a:cubicBezTo>
                  <a:cubicBezTo>
                    <a:pt x="198" y="74"/>
                    <a:pt x="162" y="77"/>
                    <a:pt x="123" y="83"/>
                  </a:cubicBezTo>
                  <a:lnTo>
                    <a:pt x="123" y="6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9" name="Freeform 53"/>
            <p:cNvSpPr/>
            <p:nvPr/>
          </p:nvSpPr>
          <p:spPr>
            <a:xfrm>
              <a:off x="7643880" y="938160"/>
              <a:ext cx="14400" cy="87480"/>
            </a:xfrm>
            <a:custGeom>
              <a:avLst/>
              <a:gdLst/>
              <a:ahLst/>
              <a:rect l="l" t="t" r="r" b="b"/>
              <a:pathLst>
                <a:path w="150" h="987">
                  <a:moveTo>
                    <a:pt x="75" y="0"/>
                  </a:moveTo>
                  <a:cubicBezTo>
                    <a:pt x="97" y="0"/>
                    <a:pt x="116" y="9"/>
                    <a:pt x="131" y="25"/>
                  </a:cubicBezTo>
                  <a:cubicBezTo>
                    <a:pt x="144" y="40"/>
                    <a:pt x="150" y="57"/>
                    <a:pt x="150" y="76"/>
                  </a:cubicBezTo>
                  <a:cubicBezTo>
                    <a:pt x="150" y="98"/>
                    <a:pt x="142" y="117"/>
                    <a:pt x="126" y="132"/>
                  </a:cubicBezTo>
                  <a:cubicBezTo>
                    <a:pt x="112" y="145"/>
                    <a:pt x="94" y="151"/>
                    <a:pt x="74" y="151"/>
                  </a:cubicBezTo>
                  <a:cubicBezTo>
                    <a:pt x="52" y="151"/>
                    <a:pt x="33" y="143"/>
                    <a:pt x="19" y="127"/>
                  </a:cubicBezTo>
                  <a:cubicBezTo>
                    <a:pt x="6" y="112"/>
                    <a:pt x="0" y="95"/>
                    <a:pt x="0" y="75"/>
                  </a:cubicBezTo>
                  <a:cubicBezTo>
                    <a:pt x="0" y="53"/>
                    <a:pt x="8" y="35"/>
                    <a:pt x="24" y="20"/>
                  </a:cubicBezTo>
                  <a:cubicBezTo>
                    <a:pt x="38" y="7"/>
                    <a:pt x="55" y="0"/>
                    <a:pt x="75" y="0"/>
                  </a:cubicBezTo>
                  <a:close/>
                  <a:moveTo>
                    <a:pt x="15" y="987"/>
                  </a:moveTo>
                  <a:cubicBezTo>
                    <a:pt x="15" y="265"/>
                    <a:pt x="15" y="265"/>
                    <a:pt x="15" y="265"/>
                  </a:cubicBezTo>
                  <a:cubicBezTo>
                    <a:pt x="138" y="265"/>
                    <a:pt x="138" y="265"/>
                    <a:pt x="138" y="265"/>
                  </a:cubicBezTo>
                  <a:cubicBezTo>
                    <a:pt x="138" y="987"/>
                    <a:pt x="138" y="987"/>
                    <a:pt x="138" y="987"/>
                  </a:cubicBezTo>
                  <a:lnTo>
                    <a:pt x="15" y="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0" name="Freeform 54"/>
            <p:cNvSpPr/>
            <p:nvPr/>
          </p:nvSpPr>
          <p:spPr>
            <a:xfrm>
              <a:off x="7677000" y="958680"/>
              <a:ext cx="49320" cy="66960"/>
            </a:xfrm>
            <a:custGeom>
              <a:avLst/>
              <a:gdLst/>
              <a:ahLst/>
              <a:rect l="l" t="t" r="r" b="b"/>
              <a:pathLst>
                <a:path w="548" h="742">
                  <a:moveTo>
                    <a:pt x="0" y="742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14" y="9"/>
                    <a:pt x="210" y="0"/>
                    <a:pt x="289" y="0"/>
                  </a:cubicBezTo>
                  <a:cubicBezTo>
                    <a:pt x="415" y="0"/>
                    <a:pt x="494" y="38"/>
                    <a:pt x="526" y="113"/>
                  </a:cubicBezTo>
                  <a:cubicBezTo>
                    <a:pt x="541" y="149"/>
                    <a:pt x="548" y="210"/>
                    <a:pt x="548" y="299"/>
                  </a:cubicBezTo>
                  <a:cubicBezTo>
                    <a:pt x="548" y="742"/>
                    <a:pt x="548" y="742"/>
                    <a:pt x="548" y="742"/>
                  </a:cubicBezTo>
                  <a:cubicBezTo>
                    <a:pt x="424" y="742"/>
                    <a:pt x="424" y="742"/>
                    <a:pt x="424" y="742"/>
                  </a:cubicBezTo>
                  <a:cubicBezTo>
                    <a:pt x="424" y="306"/>
                    <a:pt x="424" y="306"/>
                    <a:pt x="424" y="306"/>
                  </a:cubicBezTo>
                  <a:cubicBezTo>
                    <a:pt x="424" y="221"/>
                    <a:pt x="417" y="163"/>
                    <a:pt x="403" y="134"/>
                  </a:cubicBezTo>
                  <a:cubicBezTo>
                    <a:pt x="382" y="94"/>
                    <a:pt x="341" y="74"/>
                    <a:pt x="277" y="74"/>
                  </a:cubicBezTo>
                  <a:cubicBezTo>
                    <a:pt x="227" y="74"/>
                    <a:pt x="176" y="80"/>
                    <a:pt x="123" y="90"/>
                  </a:cubicBezTo>
                  <a:cubicBezTo>
                    <a:pt x="123" y="742"/>
                    <a:pt x="123" y="742"/>
                    <a:pt x="123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1" name="Freeform 55"/>
            <p:cNvSpPr/>
            <p:nvPr/>
          </p:nvSpPr>
          <p:spPr>
            <a:xfrm>
              <a:off x="7740720" y="958680"/>
              <a:ext cx="50760" cy="98640"/>
            </a:xfrm>
            <a:custGeom>
              <a:avLst/>
              <a:gdLst/>
              <a:ahLst/>
              <a:rect l="l" t="t" r="r" b="b"/>
              <a:pathLst>
                <a:path w="569" h="1098">
                  <a:moveTo>
                    <a:pt x="445" y="677"/>
                  </a:moveTo>
                  <a:cubicBezTo>
                    <a:pt x="427" y="697"/>
                    <a:pt x="412" y="712"/>
                    <a:pt x="399" y="721"/>
                  </a:cubicBezTo>
                  <a:cubicBezTo>
                    <a:pt x="362" y="748"/>
                    <a:pt x="314" y="762"/>
                    <a:pt x="257" y="762"/>
                  </a:cubicBezTo>
                  <a:cubicBezTo>
                    <a:pt x="192" y="762"/>
                    <a:pt x="139" y="744"/>
                    <a:pt x="97" y="708"/>
                  </a:cubicBezTo>
                  <a:cubicBezTo>
                    <a:pt x="32" y="654"/>
                    <a:pt x="0" y="556"/>
                    <a:pt x="0" y="414"/>
                  </a:cubicBezTo>
                  <a:cubicBezTo>
                    <a:pt x="0" y="300"/>
                    <a:pt x="24" y="206"/>
                    <a:pt x="71" y="131"/>
                  </a:cubicBezTo>
                  <a:cubicBezTo>
                    <a:pt x="126" y="44"/>
                    <a:pt x="216" y="0"/>
                    <a:pt x="340" y="0"/>
                  </a:cubicBezTo>
                  <a:cubicBezTo>
                    <a:pt x="414" y="0"/>
                    <a:pt x="490" y="9"/>
                    <a:pt x="569" y="28"/>
                  </a:cubicBezTo>
                  <a:cubicBezTo>
                    <a:pt x="569" y="601"/>
                    <a:pt x="569" y="601"/>
                    <a:pt x="569" y="601"/>
                  </a:cubicBezTo>
                  <a:cubicBezTo>
                    <a:pt x="569" y="707"/>
                    <a:pt x="564" y="788"/>
                    <a:pt x="555" y="843"/>
                  </a:cubicBezTo>
                  <a:cubicBezTo>
                    <a:pt x="538" y="944"/>
                    <a:pt x="494" y="1013"/>
                    <a:pt x="422" y="1052"/>
                  </a:cubicBezTo>
                  <a:cubicBezTo>
                    <a:pt x="363" y="1083"/>
                    <a:pt x="286" y="1098"/>
                    <a:pt x="191" y="1098"/>
                  </a:cubicBezTo>
                  <a:cubicBezTo>
                    <a:pt x="164" y="1098"/>
                    <a:pt x="133" y="1096"/>
                    <a:pt x="98" y="1092"/>
                  </a:cubicBezTo>
                  <a:cubicBezTo>
                    <a:pt x="98" y="1018"/>
                    <a:pt x="98" y="1018"/>
                    <a:pt x="98" y="1018"/>
                  </a:cubicBezTo>
                  <a:cubicBezTo>
                    <a:pt x="130" y="1022"/>
                    <a:pt x="160" y="1024"/>
                    <a:pt x="190" y="1024"/>
                  </a:cubicBezTo>
                  <a:cubicBezTo>
                    <a:pt x="258" y="1024"/>
                    <a:pt x="308" y="1015"/>
                    <a:pt x="341" y="997"/>
                  </a:cubicBezTo>
                  <a:cubicBezTo>
                    <a:pt x="390" y="971"/>
                    <a:pt x="421" y="924"/>
                    <a:pt x="434" y="858"/>
                  </a:cubicBezTo>
                  <a:cubicBezTo>
                    <a:pt x="442" y="821"/>
                    <a:pt x="445" y="773"/>
                    <a:pt x="445" y="716"/>
                  </a:cubicBezTo>
                  <a:lnTo>
                    <a:pt x="445" y="677"/>
                  </a:lnTo>
                  <a:close/>
                  <a:moveTo>
                    <a:pt x="445" y="81"/>
                  </a:moveTo>
                  <a:cubicBezTo>
                    <a:pt x="411" y="77"/>
                    <a:pt x="380" y="74"/>
                    <a:pt x="353" y="74"/>
                  </a:cubicBezTo>
                  <a:cubicBezTo>
                    <a:pt x="301" y="74"/>
                    <a:pt x="260" y="85"/>
                    <a:pt x="231" y="106"/>
                  </a:cubicBezTo>
                  <a:cubicBezTo>
                    <a:pt x="197" y="130"/>
                    <a:pt x="171" y="173"/>
                    <a:pt x="152" y="233"/>
                  </a:cubicBezTo>
                  <a:cubicBezTo>
                    <a:pt x="135" y="287"/>
                    <a:pt x="126" y="348"/>
                    <a:pt x="126" y="419"/>
                  </a:cubicBezTo>
                  <a:cubicBezTo>
                    <a:pt x="126" y="517"/>
                    <a:pt x="142" y="589"/>
                    <a:pt x="174" y="633"/>
                  </a:cubicBezTo>
                  <a:cubicBezTo>
                    <a:pt x="199" y="669"/>
                    <a:pt x="233" y="687"/>
                    <a:pt x="274" y="687"/>
                  </a:cubicBezTo>
                  <a:cubicBezTo>
                    <a:pt x="308" y="687"/>
                    <a:pt x="341" y="676"/>
                    <a:pt x="371" y="654"/>
                  </a:cubicBezTo>
                  <a:cubicBezTo>
                    <a:pt x="401" y="631"/>
                    <a:pt x="423" y="602"/>
                    <a:pt x="435" y="566"/>
                  </a:cubicBezTo>
                  <a:cubicBezTo>
                    <a:pt x="442" y="547"/>
                    <a:pt x="445" y="520"/>
                    <a:pt x="445" y="483"/>
                  </a:cubicBezTo>
                  <a:lnTo>
                    <a:pt x="445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2" name="Freeform 56"/>
            <p:cNvSpPr/>
            <p:nvPr/>
          </p:nvSpPr>
          <p:spPr>
            <a:xfrm>
              <a:off x="7840800" y="944640"/>
              <a:ext cx="28440" cy="81000"/>
            </a:xfrm>
            <a:custGeom>
              <a:avLst/>
              <a:gdLst/>
              <a:ahLst/>
              <a:rect l="l" t="t" r="r" b="b"/>
              <a:pathLst>
                <a:path w="318" h="917">
                  <a:moveTo>
                    <a:pt x="0" y="0"/>
                  </a:moveTo>
                  <a:cubicBezTo>
                    <a:pt x="124" y="0"/>
                    <a:pt x="124" y="0"/>
                    <a:pt x="124" y="0"/>
                  </a:cubicBezTo>
                  <a:cubicBezTo>
                    <a:pt x="124" y="195"/>
                    <a:pt x="124" y="195"/>
                    <a:pt x="124" y="195"/>
                  </a:cubicBezTo>
                  <a:cubicBezTo>
                    <a:pt x="318" y="195"/>
                    <a:pt x="318" y="195"/>
                    <a:pt x="318" y="195"/>
                  </a:cubicBezTo>
                  <a:cubicBezTo>
                    <a:pt x="318" y="273"/>
                    <a:pt x="318" y="273"/>
                    <a:pt x="318" y="273"/>
                  </a:cubicBezTo>
                  <a:cubicBezTo>
                    <a:pt x="124" y="273"/>
                    <a:pt x="124" y="273"/>
                    <a:pt x="124" y="273"/>
                  </a:cubicBezTo>
                  <a:cubicBezTo>
                    <a:pt x="124" y="656"/>
                    <a:pt x="124" y="656"/>
                    <a:pt x="124" y="656"/>
                  </a:cubicBezTo>
                  <a:cubicBezTo>
                    <a:pt x="124" y="729"/>
                    <a:pt x="135" y="778"/>
                    <a:pt x="156" y="804"/>
                  </a:cubicBezTo>
                  <a:cubicBezTo>
                    <a:pt x="171" y="821"/>
                    <a:pt x="194" y="832"/>
                    <a:pt x="225" y="836"/>
                  </a:cubicBezTo>
                  <a:cubicBezTo>
                    <a:pt x="235" y="837"/>
                    <a:pt x="252" y="838"/>
                    <a:pt x="277" y="838"/>
                  </a:cubicBezTo>
                  <a:cubicBezTo>
                    <a:pt x="318" y="838"/>
                    <a:pt x="318" y="838"/>
                    <a:pt x="318" y="838"/>
                  </a:cubicBezTo>
                  <a:cubicBezTo>
                    <a:pt x="318" y="917"/>
                    <a:pt x="318" y="917"/>
                    <a:pt x="318" y="917"/>
                  </a:cubicBezTo>
                  <a:cubicBezTo>
                    <a:pt x="251" y="917"/>
                    <a:pt x="251" y="917"/>
                    <a:pt x="251" y="917"/>
                  </a:cubicBezTo>
                  <a:cubicBezTo>
                    <a:pt x="198" y="917"/>
                    <a:pt x="157" y="913"/>
                    <a:pt x="127" y="904"/>
                  </a:cubicBezTo>
                  <a:cubicBezTo>
                    <a:pt x="64" y="887"/>
                    <a:pt x="26" y="846"/>
                    <a:pt x="11" y="782"/>
                  </a:cubicBezTo>
                  <a:cubicBezTo>
                    <a:pt x="4" y="747"/>
                    <a:pt x="0" y="699"/>
                    <a:pt x="0" y="6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3" name="Freeform 57"/>
            <p:cNvSpPr/>
            <p:nvPr/>
          </p:nvSpPr>
          <p:spPr>
            <a:xfrm>
              <a:off x="787860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4" name="Freeform 58"/>
            <p:cNvSpPr/>
            <p:nvPr/>
          </p:nvSpPr>
          <p:spPr>
            <a:xfrm>
              <a:off x="7948440" y="958680"/>
              <a:ext cx="82800" cy="66960"/>
            </a:xfrm>
            <a:custGeom>
              <a:avLst/>
              <a:gdLst/>
              <a:ahLst/>
              <a:rect l="l" t="t" r="r" b="b"/>
              <a:pathLst>
                <a:path w="933" h="742">
                  <a:moveTo>
                    <a:pt x="0" y="742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13" y="9"/>
                    <a:pt x="202" y="0"/>
                    <a:pt x="267" y="0"/>
                  </a:cubicBezTo>
                  <a:cubicBezTo>
                    <a:pt x="352" y="0"/>
                    <a:pt x="417" y="15"/>
                    <a:pt x="460" y="46"/>
                  </a:cubicBezTo>
                  <a:cubicBezTo>
                    <a:pt x="538" y="15"/>
                    <a:pt x="615" y="0"/>
                    <a:pt x="691" y="0"/>
                  </a:cubicBezTo>
                  <a:cubicBezTo>
                    <a:pt x="808" y="0"/>
                    <a:pt x="881" y="38"/>
                    <a:pt x="912" y="114"/>
                  </a:cubicBezTo>
                  <a:cubicBezTo>
                    <a:pt x="926" y="149"/>
                    <a:pt x="933" y="211"/>
                    <a:pt x="933" y="299"/>
                  </a:cubicBezTo>
                  <a:cubicBezTo>
                    <a:pt x="933" y="742"/>
                    <a:pt x="933" y="742"/>
                    <a:pt x="933" y="742"/>
                  </a:cubicBezTo>
                  <a:cubicBezTo>
                    <a:pt x="809" y="742"/>
                    <a:pt x="809" y="742"/>
                    <a:pt x="809" y="742"/>
                  </a:cubicBezTo>
                  <a:cubicBezTo>
                    <a:pt x="809" y="306"/>
                    <a:pt x="809" y="306"/>
                    <a:pt x="809" y="306"/>
                  </a:cubicBezTo>
                  <a:cubicBezTo>
                    <a:pt x="809" y="222"/>
                    <a:pt x="803" y="164"/>
                    <a:pt x="790" y="135"/>
                  </a:cubicBezTo>
                  <a:cubicBezTo>
                    <a:pt x="771" y="94"/>
                    <a:pt x="733" y="74"/>
                    <a:pt x="675" y="74"/>
                  </a:cubicBezTo>
                  <a:cubicBezTo>
                    <a:pt x="627" y="74"/>
                    <a:pt x="578" y="86"/>
                    <a:pt x="528" y="108"/>
                  </a:cubicBezTo>
                  <a:cubicBezTo>
                    <a:pt x="528" y="742"/>
                    <a:pt x="528" y="742"/>
                    <a:pt x="528" y="742"/>
                  </a:cubicBezTo>
                  <a:cubicBezTo>
                    <a:pt x="405" y="742"/>
                    <a:pt x="405" y="742"/>
                    <a:pt x="405" y="742"/>
                  </a:cubicBezTo>
                  <a:cubicBezTo>
                    <a:pt x="405" y="301"/>
                    <a:pt x="405" y="301"/>
                    <a:pt x="405" y="301"/>
                  </a:cubicBezTo>
                  <a:cubicBezTo>
                    <a:pt x="405" y="219"/>
                    <a:pt x="398" y="164"/>
                    <a:pt x="385" y="135"/>
                  </a:cubicBezTo>
                  <a:cubicBezTo>
                    <a:pt x="366" y="94"/>
                    <a:pt x="327" y="74"/>
                    <a:pt x="267" y="74"/>
                  </a:cubicBezTo>
                  <a:cubicBezTo>
                    <a:pt x="221" y="74"/>
                    <a:pt x="173" y="80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5" name="Freeform 59"/>
            <p:cNvSpPr/>
            <p:nvPr/>
          </p:nvSpPr>
          <p:spPr>
            <a:xfrm>
              <a:off x="804708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6" name="Freeform 60"/>
            <p:cNvSpPr/>
            <p:nvPr/>
          </p:nvSpPr>
          <p:spPr>
            <a:xfrm>
              <a:off x="8116920" y="958680"/>
              <a:ext cx="27000" cy="66960"/>
            </a:xfrm>
            <a:custGeom>
              <a:avLst/>
              <a:gdLst/>
              <a:ahLst/>
              <a:rect l="l" t="t" r="r" b="b"/>
              <a:pathLst>
                <a:path w="312" h="742">
                  <a:moveTo>
                    <a:pt x="0" y="742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94" y="11"/>
                    <a:pt x="198" y="1"/>
                    <a:pt x="312" y="0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243" y="78"/>
                    <a:pt x="180" y="82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7" name="Freeform 61"/>
            <p:cNvSpPr/>
            <p:nvPr/>
          </p:nvSpPr>
          <p:spPr>
            <a:xfrm>
              <a:off x="8156520" y="958680"/>
              <a:ext cx="27000" cy="66960"/>
            </a:xfrm>
            <a:custGeom>
              <a:avLst/>
              <a:gdLst/>
              <a:ahLst/>
              <a:rect l="l" t="t" r="r" b="b"/>
              <a:pathLst>
                <a:path w="312" h="742">
                  <a:moveTo>
                    <a:pt x="0" y="742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94" y="11"/>
                    <a:pt x="198" y="1"/>
                    <a:pt x="312" y="0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243" y="78"/>
                    <a:pt x="180" y="82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8" name="Freeform 62"/>
            <p:cNvSpPr/>
            <p:nvPr/>
          </p:nvSpPr>
          <p:spPr>
            <a:xfrm>
              <a:off x="819144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5" y="762"/>
                  </a:cubicBezTo>
                  <a:cubicBezTo>
                    <a:pt x="102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9" name="Freeform 63"/>
            <p:cNvSpPr/>
            <p:nvPr/>
          </p:nvSpPr>
          <p:spPr>
            <a:xfrm>
              <a:off x="8251920" y="960480"/>
              <a:ext cx="82440" cy="65160"/>
            </a:xfrm>
            <a:custGeom>
              <a:avLst/>
              <a:gdLst/>
              <a:ahLst/>
              <a:rect l="l" t="t" r="r" b="b"/>
              <a:pathLst>
                <a:path w="929" h="722">
                  <a:moveTo>
                    <a:pt x="204" y="7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277" y="588"/>
                    <a:pt x="277" y="588"/>
                    <a:pt x="277" y="588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534" y="0"/>
                    <a:pt x="534" y="0"/>
                    <a:pt x="534" y="0"/>
                  </a:cubicBezTo>
                  <a:cubicBezTo>
                    <a:pt x="676" y="588"/>
                    <a:pt x="676" y="588"/>
                    <a:pt x="676" y="588"/>
                  </a:cubicBezTo>
                  <a:cubicBezTo>
                    <a:pt x="828" y="0"/>
                    <a:pt x="828" y="0"/>
                    <a:pt x="828" y="0"/>
                  </a:cubicBezTo>
                  <a:cubicBezTo>
                    <a:pt x="929" y="0"/>
                    <a:pt x="929" y="0"/>
                    <a:pt x="929" y="0"/>
                  </a:cubicBezTo>
                  <a:cubicBezTo>
                    <a:pt x="726" y="722"/>
                    <a:pt x="726" y="722"/>
                    <a:pt x="726" y="722"/>
                  </a:cubicBezTo>
                  <a:cubicBezTo>
                    <a:pt x="603" y="722"/>
                    <a:pt x="603" y="722"/>
                    <a:pt x="603" y="722"/>
                  </a:cubicBezTo>
                  <a:cubicBezTo>
                    <a:pt x="495" y="255"/>
                    <a:pt x="495" y="255"/>
                    <a:pt x="495" y="255"/>
                  </a:cubicBezTo>
                  <a:cubicBezTo>
                    <a:pt x="487" y="221"/>
                    <a:pt x="478" y="172"/>
                    <a:pt x="468" y="107"/>
                  </a:cubicBezTo>
                  <a:cubicBezTo>
                    <a:pt x="460" y="159"/>
                    <a:pt x="451" y="208"/>
                    <a:pt x="440" y="254"/>
                  </a:cubicBezTo>
                  <a:cubicBezTo>
                    <a:pt x="332" y="722"/>
                    <a:pt x="332" y="722"/>
                    <a:pt x="332" y="722"/>
                  </a:cubicBezTo>
                  <a:lnTo>
                    <a:pt x="204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0" name="Freeform 64"/>
            <p:cNvSpPr/>
            <p:nvPr/>
          </p:nvSpPr>
          <p:spPr>
            <a:xfrm>
              <a:off x="8366040" y="960480"/>
              <a:ext cx="82800" cy="65160"/>
            </a:xfrm>
            <a:custGeom>
              <a:avLst/>
              <a:gdLst/>
              <a:ahLst/>
              <a:rect l="l" t="t" r="r" b="b"/>
              <a:pathLst>
                <a:path w="930" h="722">
                  <a:moveTo>
                    <a:pt x="204" y="7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5" y="0"/>
                    <a:pt x="125" y="0"/>
                    <a:pt x="125" y="0"/>
                  </a:cubicBezTo>
                  <a:cubicBezTo>
                    <a:pt x="277" y="588"/>
                    <a:pt x="277" y="588"/>
                    <a:pt x="277" y="588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535" y="0"/>
                    <a:pt x="535" y="0"/>
                    <a:pt x="535" y="0"/>
                  </a:cubicBezTo>
                  <a:cubicBezTo>
                    <a:pt x="676" y="588"/>
                    <a:pt x="676" y="588"/>
                    <a:pt x="676" y="588"/>
                  </a:cubicBezTo>
                  <a:cubicBezTo>
                    <a:pt x="829" y="0"/>
                    <a:pt x="829" y="0"/>
                    <a:pt x="829" y="0"/>
                  </a:cubicBezTo>
                  <a:cubicBezTo>
                    <a:pt x="930" y="0"/>
                    <a:pt x="930" y="0"/>
                    <a:pt x="930" y="0"/>
                  </a:cubicBezTo>
                  <a:cubicBezTo>
                    <a:pt x="726" y="722"/>
                    <a:pt x="726" y="722"/>
                    <a:pt x="726" y="722"/>
                  </a:cubicBezTo>
                  <a:cubicBezTo>
                    <a:pt x="604" y="722"/>
                    <a:pt x="604" y="722"/>
                    <a:pt x="604" y="722"/>
                  </a:cubicBezTo>
                  <a:cubicBezTo>
                    <a:pt x="495" y="255"/>
                    <a:pt x="495" y="255"/>
                    <a:pt x="495" y="255"/>
                  </a:cubicBezTo>
                  <a:cubicBezTo>
                    <a:pt x="488" y="221"/>
                    <a:pt x="479" y="172"/>
                    <a:pt x="468" y="107"/>
                  </a:cubicBezTo>
                  <a:cubicBezTo>
                    <a:pt x="460" y="159"/>
                    <a:pt x="451" y="208"/>
                    <a:pt x="441" y="254"/>
                  </a:cubicBezTo>
                  <a:cubicBezTo>
                    <a:pt x="332" y="722"/>
                    <a:pt x="332" y="722"/>
                    <a:pt x="332" y="722"/>
                  </a:cubicBezTo>
                  <a:lnTo>
                    <a:pt x="204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1" name="Freeform 65"/>
            <p:cNvSpPr/>
            <p:nvPr/>
          </p:nvSpPr>
          <p:spPr>
            <a:xfrm>
              <a:off x="8459640" y="938160"/>
              <a:ext cx="14400" cy="87480"/>
            </a:xfrm>
            <a:custGeom>
              <a:avLst/>
              <a:gdLst/>
              <a:ahLst/>
              <a:rect l="l" t="t" r="r" b="b"/>
              <a:pathLst>
                <a:path w="151" h="987">
                  <a:moveTo>
                    <a:pt x="76" y="0"/>
                  </a:moveTo>
                  <a:cubicBezTo>
                    <a:pt x="98" y="0"/>
                    <a:pt x="117" y="9"/>
                    <a:pt x="132" y="25"/>
                  </a:cubicBezTo>
                  <a:cubicBezTo>
                    <a:pt x="145" y="40"/>
                    <a:pt x="151" y="57"/>
                    <a:pt x="151" y="76"/>
                  </a:cubicBezTo>
                  <a:cubicBezTo>
                    <a:pt x="151" y="98"/>
                    <a:pt x="143" y="117"/>
                    <a:pt x="126" y="132"/>
                  </a:cubicBezTo>
                  <a:cubicBezTo>
                    <a:pt x="112" y="145"/>
                    <a:pt x="95" y="151"/>
                    <a:pt x="75" y="151"/>
                  </a:cubicBezTo>
                  <a:cubicBezTo>
                    <a:pt x="53" y="151"/>
                    <a:pt x="34" y="143"/>
                    <a:pt x="20" y="127"/>
                  </a:cubicBezTo>
                  <a:cubicBezTo>
                    <a:pt x="7" y="112"/>
                    <a:pt x="0" y="95"/>
                    <a:pt x="0" y="75"/>
                  </a:cubicBezTo>
                  <a:cubicBezTo>
                    <a:pt x="0" y="53"/>
                    <a:pt x="9" y="35"/>
                    <a:pt x="25" y="20"/>
                  </a:cubicBezTo>
                  <a:cubicBezTo>
                    <a:pt x="39" y="7"/>
                    <a:pt x="56" y="0"/>
                    <a:pt x="76" y="0"/>
                  </a:cubicBezTo>
                  <a:close/>
                  <a:moveTo>
                    <a:pt x="15" y="987"/>
                  </a:moveTo>
                  <a:cubicBezTo>
                    <a:pt x="15" y="265"/>
                    <a:pt x="15" y="265"/>
                    <a:pt x="15" y="265"/>
                  </a:cubicBezTo>
                  <a:cubicBezTo>
                    <a:pt x="139" y="265"/>
                    <a:pt x="139" y="265"/>
                    <a:pt x="139" y="265"/>
                  </a:cubicBezTo>
                  <a:cubicBezTo>
                    <a:pt x="139" y="987"/>
                    <a:pt x="139" y="987"/>
                    <a:pt x="139" y="987"/>
                  </a:cubicBezTo>
                  <a:lnTo>
                    <a:pt x="15" y="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2" name="Freeform 66"/>
            <p:cNvSpPr/>
            <p:nvPr/>
          </p:nvSpPr>
          <p:spPr>
            <a:xfrm>
              <a:off x="8493120" y="944640"/>
              <a:ext cx="28440" cy="81000"/>
            </a:xfrm>
            <a:custGeom>
              <a:avLst/>
              <a:gdLst/>
              <a:ahLst/>
              <a:rect l="l" t="t" r="r" b="b"/>
              <a:pathLst>
                <a:path w="318" h="917">
                  <a:moveTo>
                    <a:pt x="0" y="0"/>
                  </a:moveTo>
                  <a:cubicBezTo>
                    <a:pt x="124" y="0"/>
                    <a:pt x="124" y="0"/>
                    <a:pt x="124" y="0"/>
                  </a:cubicBezTo>
                  <a:cubicBezTo>
                    <a:pt x="124" y="195"/>
                    <a:pt x="124" y="195"/>
                    <a:pt x="124" y="195"/>
                  </a:cubicBezTo>
                  <a:cubicBezTo>
                    <a:pt x="318" y="195"/>
                    <a:pt x="318" y="195"/>
                    <a:pt x="318" y="195"/>
                  </a:cubicBezTo>
                  <a:cubicBezTo>
                    <a:pt x="318" y="273"/>
                    <a:pt x="318" y="273"/>
                    <a:pt x="318" y="273"/>
                  </a:cubicBezTo>
                  <a:cubicBezTo>
                    <a:pt x="124" y="273"/>
                    <a:pt x="124" y="273"/>
                    <a:pt x="124" y="273"/>
                  </a:cubicBezTo>
                  <a:cubicBezTo>
                    <a:pt x="124" y="656"/>
                    <a:pt x="124" y="656"/>
                    <a:pt x="124" y="656"/>
                  </a:cubicBezTo>
                  <a:cubicBezTo>
                    <a:pt x="124" y="729"/>
                    <a:pt x="135" y="778"/>
                    <a:pt x="156" y="804"/>
                  </a:cubicBezTo>
                  <a:cubicBezTo>
                    <a:pt x="171" y="821"/>
                    <a:pt x="194" y="832"/>
                    <a:pt x="225" y="836"/>
                  </a:cubicBezTo>
                  <a:cubicBezTo>
                    <a:pt x="235" y="837"/>
                    <a:pt x="252" y="838"/>
                    <a:pt x="277" y="838"/>
                  </a:cubicBezTo>
                  <a:cubicBezTo>
                    <a:pt x="318" y="838"/>
                    <a:pt x="318" y="838"/>
                    <a:pt x="318" y="838"/>
                  </a:cubicBezTo>
                  <a:cubicBezTo>
                    <a:pt x="318" y="917"/>
                    <a:pt x="318" y="917"/>
                    <a:pt x="318" y="917"/>
                  </a:cubicBezTo>
                  <a:cubicBezTo>
                    <a:pt x="251" y="917"/>
                    <a:pt x="251" y="917"/>
                    <a:pt x="251" y="917"/>
                  </a:cubicBezTo>
                  <a:cubicBezTo>
                    <a:pt x="198" y="917"/>
                    <a:pt x="157" y="913"/>
                    <a:pt x="127" y="904"/>
                  </a:cubicBezTo>
                  <a:cubicBezTo>
                    <a:pt x="64" y="887"/>
                    <a:pt x="25" y="846"/>
                    <a:pt x="11" y="782"/>
                  </a:cubicBezTo>
                  <a:cubicBezTo>
                    <a:pt x="4" y="747"/>
                    <a:pt x="0" y="699"/>
                    <a:pt x="0" y="6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3" name="Freeform 67"/>
            <p:cNvSpPr/>
            <p:nvPr/>
          </p:nvSpPr>
          <p:spPr>
            <a:xfrm>
              <a:off x="8534520" y="928800"/>
              <a:ext cx="48960" cy="96840"/>
            </a:xfrm>
            <a:custGeom>
              <a:avLst/>
              <a:gdLst/>
              <a:ahLst/>
              <a:rect l="l" t="t" r="r" b="b"/>
              <a:pathLst>
                <a:path w="548" h="1087">
                  <a:moveTo>
                    <a:pt x="0" y="108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4" y="382"/>
                    <a:pt x="124" y="382"/>
                    <a:pt x="124" y="382"/>
                  </a:cubicBezTo>
                  <a:cubicBezTo>
                    <a:pt x="188" y="357"/>
                    <a:pt x="249" y="345"/>
                    <a:pt x="306" y="345"/>
                  </a:cubicBezTo>
                  <a:cubicBezTo>
                    <a:pt x="420" y="345"/>
                    <a:pt x="493" y="382"/>
                    <a:pt x="526" y="458"/>
                  </a:cubicBezTo>
                  <a:cubicBezTo>
                    <a:pt x="541" y="492"/>
                    <a:pt x="548" y="554"/>
                    <a:pt x="548" y="644"/>
                  </a:cubicBezTo>
                  <a:cubicBezTo>
                    <a:pt x="548" y="1087"/>
                    <a:pt x="548" y="1087"/>
                    <a:pt x="548" y="1087"/>
                  </a:cubicBezTo>
                  <a:cubicBezTo>
                    <a:pt x="425" y="1087"/>
                    <a:pt x="425" y="1087"/>
                    <a:pt x="425" y="1087"/>
                  </a:cubicBezTo>
                  <a:cubicBezTo>
                    <a:pt x="425" y="624"/>
                    <a:pt x="425" y="624"/>
                    <a:pt x="425" y="624"/>
                  </a:cubicBezTo>
                  <a:cubicBezTo>
                    <a:pt x="425" y="555"/>
                    <a:pt x="418" y="506"/>
                    <a:pt x="403" y="477"/>
                  </a:cubicBezTo>
                  <a:cubicBezTo>
                    <a:pt x="384" y="439"/>
                    <a:pt x="347" y="419"/>
                    <a:pt x="294" y="419"/>
                  </a:cubicBezTo>
                  <a:cubicBezTo>
                    <a:pt x="245" y="419"/>
                    <a:pt x="189" y="434"/>
                    <a:pt x="124" y="463"/>
                  </a:cubicBezTo>
                  <a:cubicBezTo>
                    <a:pt x="124" y="1087"/>
                    <a:pt x="124" y="1087"/>
                    <a:pt x="124" y="1087"/>
                  </a:cubicBezTo>
                  <a:lnTo>
                    <a:pt x="0" y="10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4" name="Freeform 68"/>
            <p:cNvSpPr/>
            <p:nvPr/>
          </p:nvSpPr>
          <p:spPr>
            <a:xfrm>
              <a:off x="8623440" y="960480"/>
              <a:ext cx="54000" cy="9504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15" y="4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8" y="33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14" y="60"/>
                  </a:lnTo>
                  <a:lnTo>
                    <a:pt x="8" y="60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5" name="Freeform 69"/>
            <p:cNvSpPr/>
            <p:nvPr/>
          </p:nvSpPr>
          <p:spPr>
            <a:xfrm>
              <a:off x="868356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5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5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6" name="Freeform 70"/>
            <p:cNvSpPr/>
            <p:nvPr/>
          </p:nvSpPr>
          <p:spPr>
            <a:xfrm>
              <a:off x="8753400" y="960480"/>
              <a:ext cx="46080" cy="66600"/>
            </a:xfrm>
            <a:custGeom>
              <a:avLst/>
              <a:gdLst/>
              <a:ahLst/>
              <a:rect l="l" t="t" r="r" b="b"/>
              <a:pathLst>
                <a:path w="527" h="742">
                  <a:moveTo>
                    <a:pt x="0" y="0"/>
                  </a:moveTo>
                  <a:cubicBezTo>
                    <a:pt x="123" y="0"/>
                    <a:pt x="123" y="0"/>
                    <a:pt x="123" y="0"/>
                  </a:cubicBezTo>
                  <a:cubicBezTo>
                    <a:pt x="123" y="445"/>
                    <a:pt x="123" y="445"/>
                    <a:pt x="123" y="445"/>
                  </a:cubicBezTo>
                  <a:cubicBezTo>
                    <a:pt x="123" y="527"/>
                    <a:pt x="131" y="582"/>
                    <a:pt x="145" y="609"/>
                  </a:cubicBezTo>
                  <a:cubicBezTo>
                    <a:pt x="157" y="632"/>
                    <a:pt x="174" y="648"/>
                    <a:pt x="197" y="656"/>
                  </a:cubicBezTo>
                  <a:cubicBezTo>
                    <a:pt x="216" y="663"/>
                    <a:pt x="242" y="667"/>
                    <a:pt x="276" y="667"/>
                  </a:cubicBezTo>
                  <a:cubicBezTo>
                    <a:pt x="317" y="667"/>
                    <a:pt x="359" y="661"/>
                    <a:pt x="403" y="648"/>
                  </a:cubicBezTo>
                  <a:cubicBezTo>
                    <a:pt x="403" y="0"/>
                    <a:pt x="403" y="0"/>
                    <a:pt x="403" y="0"/>
                  </a:cubicBezTo>
                  <a:cubicBezTo>
                    <a:pt x="527" y="0"/>
                    <a:pt x="527" y="0"/>
                    <a:pt x="527" y="0"/>
                  </a:cubicBezTo>
                  <a:cubicBezTo>
                    <a:pt x="527" y="710"/>
                    <a:pt x="527" y="710"/>
                    <a:pt x="527" y="710"/>
                  </a:cubicBezTo>
                  <a:cubicBezTo>
                    <a:pt x="435" y="731"/>
                    <a:pt x="349" y="742"/>
                    <a:pt x="269" y="742"/>
                  </a:cubicBezTo>
                  <a:cubicBezTo>
                    <a:pt x="187" y="742"/>
                    <a:pt x="126" y="729"/>
                    <a:pt x="86" y="703"/>
                  </a:cubicBezTo>
                  <a:cubicBezTo>
                    <a:pt x="41" y="674"/>
                    <a:pt x="14" y="629"/>
                    <a:pt x="6" y="567"/>
                  </a:cubicBezTo>
                  <a:cubicBezTo>
                    <a:pt x="2" y="539"/>
                    <a:pt x="0" y="501"/>
                    <a:pt x="0" y="45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7" name="Freeform 71"/>
            <p:cNvSpPr/>
            <p:nvPr/>
          </p:nvSpPr>
          <p:spPr>
            <a:xfrm>
              <a:off x="8120160" y="343080"/>
              <a:ext cx="209520" cy="16164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8" name="Freeform 72"/>
            <p:cNvSpPr/>
            <p:nvPr/>
          </p:nvSpPr>
          <p:spPr>
            <a:xfrm>
              <a:off x="7777080" y="519120"/>
              <a:ext cx="144720" cy="23508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9" name="Freeform 73"/>
            <p:cNvSpPr/>
            <p:nvPr/>
          </p:nvSpPr>
          <p:spPr>
            <a:xfrm>
              <a:off x="8118360" y="519120"/>
              <a:ext cx="95400" cy="3286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0" name="Freeform 74"/>
            <p:cNvSpPr/>
            <p:nvPr/>
          </p:nvSpPr>
          <p:spPr>
            <a:xfrm>
              <a:off x="8223120" y="519120"/>
              <a:ext cx="74880" cy="23508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1" name="Freeform 75"/>
            <p:cNvSpPr/>
            <p:nvPr/>
          </p:nvSpPr>
          <p:spPr>
            <a:xfrm>
              <a:off x="8298000" y="519120"/>
              <a:ext cx="176040" cy="23508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2" name="Freeform 76"/>
            <p:cNvSpPr/>
            <p:nvPr/>
          </p:nvSpPr>
          <p:spPr>
            <a:xfrm>
              <a:off x="8618400" y="519120"/>
              <a:ext cx="196920" cy="23976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3" name="Freeform 77"/>
            <p:cNvSpPr/>
            <p:nvPr/>
          </p:nvSpPr>
          <p:spPr>
            <a:xfrm>
              <a:off x="7927920" y="519120"/>
              <a:ext cx="198360" cy="2397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4" name="Freeform 78"/>
            <p:cNvSpPr/>
            <p:nvPr/>
          </p:nvSpPr>
          <p:spPr>
            <a:xfrm>
              <a:off x="8466120" y="514440"/>
              <a:ext cx="150840" cy="24444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3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126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7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9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0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1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2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4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35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4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6C8B-197A-4D6E-AF16-494C1A787BC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5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178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79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0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1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3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4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5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6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87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6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AE5D-256C-4DF1-A069-F2B6971779D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7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230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1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7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239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8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8A42-1A2D-4DE1-9FE5-105EF72FFAB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9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281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282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83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84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85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86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87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88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89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90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291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Num" idx="10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85C5-9607-4EB5-8296-0E99608F0AC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1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334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35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36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37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38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39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40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41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42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43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12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DDC1-53DE-43BA-9958-B919A427F91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3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385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386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87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88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93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94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95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14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E4E9-43BB-4B91-9335-0F598838AD8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15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438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39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40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41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42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43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44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45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46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447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6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D913-71A9-4365-9F38-5B513F59436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17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43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24000" y="1738080"/>
            <a:ext cx="7920000" cy="23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result of low delay til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CTVC-G183, m2174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24000" y="4579560"/>
            <a:ext cx="792000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th JCT-VC meeting, Geneva/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/11/21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.Kazui, S.Shimada, J.Koyama, and A.Nakaga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JITSU LABORATORIES L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low delay tile scheme is implemented onto HM4 and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checked by Sha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Rate reduction of -4.6%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5.8% is achieved in the very low delay scen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uggest to adopt the additional mode in which the order of entropy coding is the raster scan within a picture into W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posed scheme enables that source coding and entropy coding  have different setting of the processing order and restriction at tile bound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7" name="スライド番号プレースホルダー 10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071A-62D0-4AD6-859A-0D421171AEF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スライド番号プレースホルダ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E5FB-2515-4019-BD4D-58DAC811F9A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9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670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grpSp>
          <p:nvGrpSpPr>
            <p:cNvPr id="672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73" name="AutoShape 7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74" name="Freeform 8"/>
              <p:cNvSpPr/>
              <p:nvPr/>
            </p:nvSpPr>
            <p:spPr>
              <a:xfrm>
                <a:off x="1932120" y="4124160"/>
                <a:ext cx="153720" cy="25272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484" h="795">
                    <a:moveTo>
                      <a:pt x="0" y="764"/>
                    </a:moveTo>
                    <a:cubicBezTo>
                      <a:pt x="0" y="672"/>
                      <a:pt x="0" y="672"/>
                      <a:pt x="0" y="672"/>
                    </a:cubicBezTo>
                    <a:cubicBezTo>
                      <a:pt x="50" y="700"/>
                      <a:pt x="113" y="715"/>
                      <a:pt x="186" y="715"/>
                    </a:cubicBezTo>
                    <a:cubicBezTo>
                      <a:pt x="309" y="715"/>
                      <a:pt x="371" y="674"/>
                      <a:pt x="371" y="593"/>
                    </a:cubicBezTo>
                    <a:cubicBezTo>
                      <a:pt x="371" y="562"/>
                      <a:pt x="361" y="536"/>
                      <a:pt x="339" y="515"/>
                    </a:cubicBezTo>
                    <a:cubicBezTo>
                      <a:pt x="323" y="498"/>
                      <a:pt x="305" y="484"/>
                      <a:pt x="284" y="472"/>
                    </a:cubicBezTo>
                    <a:cubicBezTo>
                      <a:pt x="265" y="462"/>
                      <a:pt x="241" y="450"/>
                      <a:pt x="212" y="436"/>
                    </a:cubicBezTo>
                    <a:cubicBezTo>
                      <a:pt x="142" y="402"/>
                      <a:pt x="93" y="369"/>
                      <a:pt x="65" y="337"/>
                    </a:cubicBezTo>
                    <a:cubicBezTo>
                      <a:pt x="30" y="299"/>
                      <a:pt x="13" y="253"/>
                      <a:pt x="13" y="199"/>
                    </a:cubicBezTo>
                    <a:cubicBezTo>
                      <a:pt x="13" y="129"/>
                      <a:pt x="40" y="77"/>
                      <a:pt x="94" y="43"/>
                    </a:cubicBezTo>
                    <a:cubicBezTo>
                      <a:pt x="140" y="14"/>
                      <a:pt x="198" y="0"/>
                      <a:pt x="269" y="0"/>
                    </a:cubicBezTo>
                    <a:cubicBezTo>
                      <a:pt x="318" y="0"/>
                      <a:pt x="372" y="8"/>
                      <a:pt x="430" y="26"/>
                    </a:cubicBezTo>
                    <a:cubicBezTo>
                      <a:pt x="430" y="111"/>
                      <a:pt x="430" y="111"/>
                      <a:pt x="430" y="111"/>
                    </a:cubicBezTo>
                    <a:cubicBezTo>
                      <a:pt x="381" y="89"/>
                      <a:pt x="329" y="78"/>
                      <a:pt x="274" y="78"/>
                    </a:cubicBezTo>
                    <a:cubicBezTo>
                      <a:pt x="232" y="78"/>
                      <a:pt x="197" y="86"/>
                      <a:pt x="169" y="103"/>
                    </a:cubicBezTo>
                    <a:cubicBezTo>
                      <a:pt x="141" y="120"/>
                      <a:pt x="126" y="148"/>
                      <a:pt x="126" y="186"/>
                    </a:cubicBezTo>
                    <a:cubicBezTo>
                      <a:pt x="126" y="218"/>
                      <a:pt x="136" y="244"/>
                      <a:pt x="156" y="264"/>
                    </a:cubicBezTo>
                    <a:cubicBezTo>
                      <a:pt x="176" y="285"/>
                      <a:pt x="219" y="312"/>
                      <a:pt x="286" y="345"/>
                    </a:cubicBezTo>
                    <a:cubicBezTo>
                      <a:pt x="338" y="372"/>
                      <a:pt x="374" y="392"/>
                      <a:pt x="391" y="406"/>
                    </a:cubicBezTo>
                    <a:cubicBezTo>
                      <a:pt x="426" y="430"/>
                      <a:pt x="450" y="457"/>
                      <a:pt x="464" y="486"/>
                    </a:cubicBezTo>
                    <a:cubicBezTo>
                      <a:pt x="478" y="512"/>
                      <a:pt x="484" y="544"/>
                      <a:pt x="484" y="581"/>
                    </a:cubicBezTo>
                    <a:cubicBezTo>
                      <a:pt x="484" y="724"/>
                      <a:pt x="387" y="795"/>
                      <a:pt x="193" y="795"/>
                    </a:cubicBezTo>
                    <a:cubicBezTo>
                      <a:pt x="114" y="795"/>
                      <a:pt x="50" y="785"/>
                      <a:pt x="0" y="76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75" name="Freeform 9"/>
              <p:cNvSpPr/>
              <p:nvPr/>
            </p:nvSpPr>
            <p:spPr>
              <a:xfrm>
                <a:off x="2141640" y="4010040"/>
                <a:ext cx="182520" cy="36036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72" h="1136">
                    <a:moveTo>
                      <a:pt x="0" y="113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00"/>
                      <a:pt x="129" y="400"/>
                      <a:pt x="129" y="400"/>
                    </a:cubicBezTo>
                    <a:cubicBezTo>
                      <a:pt x="196" y="374"/>
                      <a:pt x="260" y="361"/>
                      <a:pt x="319" y="361"/>
                    </a:cubicBezTo>
                    <a:cubicBezTo>
                      <a:pt x="438" y="361"/>
                      <a:pt x="515" y="400"/>
                      <a:pt x="549" y="479"/>
                    </a:cubicBezTo>
                    <a:cubicBezTo>
                      <a:pt x="564" y="515"/>
                      <a:pt x="572" y="579"/>
                      <a:pt x="572" y="673"/>
                    </a:cubicBezTo>
                    <a:cubicBezTo>
                      <a:pt x="572" y="1136"/>
                      <a:pt x="572" y="1136"/>
                      <a:pt x="572" y="1136"/>
                    </a:cubicBezTo>
                    <a:cubicBezTo>
                      <a:pt x="443" y="1136"/>
                      <a:pt x="443" y="1136"/>
                      <a:pt x="443" y="1136"/>
                    </a:cubicBezTo>
                    <a:cubicBezTo>
                      <a:pt x="443" y="653"/>
                      <a:pt x="443" y="653"/>
                      <a:pt x="443" y="653"/>
                    </a:cubicBezTo>
                    <a:cubicBezTo>
                      <a:pt x="443" y="581"/>
                      <a:pt x="436" y="529"/>
                      <a:pt x="420" y="499"/>
                    </a:cubicBezTo>
                    <a:cubicBezTo>
                      <a:pt x="400" y="459"/>
                      <a:pt x="362" y="439"/>
                      <a:pt x="307" y="439"/>
                    </a:cubicBezTo>
                    <a:cubicBezTo>
                      <a:pt x="256" y="439"/>
                      <a:pt x="196" y="454"/>
                      <a:pt x="129" y="485"/>
                    </a:cubicBezTo>
                    <a:cubicBezTo>
                      <a:pt x="129" y="1136"/>
                      <a:pt x="129" y="1136"/>
                      <a:pt x="129" y="1136"/>
                    </a:cubicBezTo>
                    <a:lnTo>
                      <a:pt x="0" y="1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76" name="Freeform 10"/>
              <p:cNvSpPr/>
              <p:nvPr/>
            </p:nvSpPr>
            <p:spPr>
              <a:xfrm>
                <a:off x="2379600" y="4124160"/>
                <a:ext cx="185760" cy="2527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585" h="795">
                    <a:moveTo>
                      <a:pt x="456" y="298"/>
                    </a:moveTo>
                    <a:cubicBezTo>
                      <a:pt x="456" y="259"/>
                      <a:pt x="456" y="259"/>
                      <a:pt x="456" y="259"/>
                    </a:cubicBezTo>
                    <a:cubicBezTo>
                      <a:pt x="456" y="209"/>
                      <a:pt x="448" y="171"/>
                      <a:pt x="432" y="144"/>
                    </a:cubicBezTo>
                    <a:cubicBezTo>
                      <a:pt x="409" y="102"/>
                      <a:pt x="359" y="81"/>
                      <a:pt x="283" y="81"/>
                    </a:cubicBezTo>
                    <a:cubicBezTo>
                      <a:pt x="214" y="81"/>
                      <a:pt x="144" y="95"/>
                      <a:pt x="73" y="12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145" y="11"/>
                      <a:pt x="219" y="0"/>
                      <a:pt x="296" y="0"/>
                    </a:cubicBezTo>
                    <a:cubicBezTo>
                      <a:pt x="414" y="0"/>
                      <a:pt x="495" y="27"/>
                      <a:pt x="539" y="80"/>
                    </a:cubicBezTo>
                    <a:cubicBezTo>
                      <a:pt x="562" y="109"/>
                      <a:pt x="577" y="152"/>
                      <a:pt x="582" y="209"/>
                    </a:cubicBezTo>
                    <a:cubicBezTo>
                      <a:pt x="584" y="230"/>
                      <a:pt x="585" y="261"/>
                      <a:pt x="585" y="303"/>
                    </a:cubicBezTo>
                    <a:cubicBezTo>
                      <a:pt x="585" y="760"/>
                      <a:pt x="585" y="760"/>
                      <a:pt x="585" y="760"/>
                    </a:cubicBezTo>
                    <a:cubicBezTo>
                      <a:pt x="497" y="783"/>
                      <a:pt x="404" y="795"/>
                      <a:pt x="305" y="795"/>
                    </a:cubicBezTo>
                    <a:cubicBezTo>
                      <a:pt x="211" y="795"/>
                      <a:pt x="138" y="781"/>
                      <a:pt x="86" y="752"/>
                    </a:cubicBezTo>
                    <a:cubicBezTo>
                      <a:pt x="29" y="719"/>
                      <a:pt x="0" y="663"/>
                      <a:pt x="0" y="583"/>
                    </a:cubicBezTo>
                    <a:cubicBezTo>
                      <a:pt x="0" y="491"/>
                      <a:pt x="33" y="423"/>
                      <a:pt x="99" y="380"/>
                    </a:cubicBezTo>
                    <a:cubicBezTo>
                      <a:pt x="149" y="347"/>
                      <a:pt x="233" y="324"/>
                      <a:pt x="350" y="310"/>
                    </a:cubicBezTo>
                    <a:cubicBezTo>
                      <a:pt x="372" y="307"/>
                      <a:pt x="407" y="303"/>
                      <a:pt x="456" y="298"/>
                    </a:cubicBezTo>
                    <a:moveTo>
                      <a:pt x="456" y="372"/>
                    </a:moveTo>
                    <a:cubicBezTo>
                      <a:pt x="378" y="379"/>
                      <a:pt x="318" y="389"/>
                      <a:pt x="278" y="399"/>
                    </a:cubicBezTo>
                    <a:cubicBezTo>
                      <a:pt x="180" y="423"/>
                      <a:pt x="132" y="480"/>
                      <a:pt x="132" y="570"/>
                    </a:cubicBezTo>
                    <a:cubicBezTo>
                      <a:pt x="132" y="619"/>
                      <a:pt x="146" y="655"/>
                      <a:pt x="175" y="679"/>
                    </a:cubicBezTo>
                    <a:cubicBezTo>
                      <a:pt x="206" y="705"/>
                      <a:pt x="256" y="718"/>
                      <a:pt x="325" y="718"/>
                    </a:cubicBezTo>
                    <a:cubicBezTo>
                      <a:pt x="372" y="718"/>
                      <a:pt x="415" y="711"/>
                      <a:pt x="456" y="700"/>
                    </a:cubicBezTo>
                    <a:lnTo>
                      <a:pt x="456" y="3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77" name="Freeform 11"/>
              <p:cNvSpPr/>
              <p:nvPr/>
            </p:nvSpPr>
            <p:spPr>
              <a:xfrm>
                <a:off x="2638440" y="4124160"/>
                <a:ext cx="189000" cy="3603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92" h="1136">
                    <a:moveTo>
                      <a:pt x="129" y="742"/>
                    </a:moveTo>
                    <a:cubicBezTo>
                      <a:pt x="129" y="1136"/>
                      <a:pt x="129" y="1136"/>
                      <a:pt x="129" y="1136"/>
                    </a:cubicBezTo>
                    <a:cubicBezTo>
                      <a:pt x="0" y="1136"/>
                      <a:pt x="0" y="1136"/>
                      <a:pt x="0" y="1136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89" y="10"/>
                      <a:pt x="175" y="0"/>
                      <a:pt x="260" y="0"/>
                    </a:cubicBezTo>
                    <a:cubicBezTo>
                      <a:pt x="391" y="0"/>
                      <a:pt x="480" y="39"/>
                      <a:pt x="528" y="118"/>
                    </a:cubicBezTo>
                    <a:cubicBezTo>
                      <a:pt x="571" y="188"/>
                      <a:pt x="592" y="281"/>
                      <a:pt x="592" y="396"/>
                    </a:cubicBezTo>
                    <a:cubicBezTo>
                      <a:pt x="592" y="518"/>
                      <a:pt x="565" y="616"/>
                      <a:pt x="511" y="691"/>
                    </a:cubicBezTo>
                    <a:cubicBezTo>
                      <a:pt x="460" y="761"/>
                      <a:pt x="385" y="795"/>
                      <a:pt x="287" y="795"/>
                    </a:cubicBezTo>
                    <a:cubicBezTo>
                      <a:pt x="245" y="795"/>
                      <a:pt x="209" y="789"/>
                      <a:pt x="180" y="775"/>
                    </a:cubicBezTo>
                    <a:cubicBezTo>
                      <a:pt x="166" y="769"/>
                      <a:pt x="149" y="758"/>
                      <a:pt x="129" y="742"/>
                    </a:cubicBezTo>
                    <a:moveTo>
                      <a:pt x="129" y="653"/>
                    </a:moveTo>
                    <a:cubicBezTo>
                      <a:pt x="172" y="696"/>
                      <a:pt x="220" y="718"/>
                      <a:pt x="272" y="718"/>
                    </a:cubicBezTo>
                    <a:cubicBezTo>
                      <a:pt x="338" y="718"/>
                      <a:pt x="387" y="684"/>
                      <a:pt x="418" y="618"/>
                    </a:cubicBezTo>
                    <a:cubicBezTo>
                      <a:pt x="447" y="557"/>
                      <a:pt x="461" y="483"/>
                      <a:pt x="461" y="395"/>
                    </a:cubicBezTo>
                    <a:cubicBezTo>
                      <a:pt x="461" y="284"/>
                      <a:pt x="442" y="202"/>
                      <a:pt x="403" y="147"/>
                    </a:cubicBezTo>
                    <a:cubicBezTo>
                      <a:pt x="372" y="101"/>
                      <a:pt x="318" y="78"/>
                      <a:pt x="241" y="78"/>
                    </a:cubicBezTo>
                    <a:cubicBezTo>
                      <a:pt x="207" y="78"/>
                      <a:pt x="170" y="81"/>
                      <a:pt x="129" y="87"/>
                    </a:cubicBezTo>
                    <a:lnTo>
                      <a:pt x="129" y="6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78" name="Freeform 12"/>
              <p:cNvSpPr/>
              <p:nvPr/>
            </p:nvSpPr>
            <p:spPr>
              <a:xfrm>
                <a:off x="2882880" y="4043520"/>
                <a:ext cx="50760" cy="326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157" h="1031">
                    <a:moveTo>
                      <a:pt x="78" y="0"/>
                    </a:moveTo>
                    <a:cubicBezTo>
                      <a:pt x="102" y="0"/>
                      <a:pt x="121" y="9"/>
                      <a:pt x="137" y="26"/>
                    </a:cubicBezTo>
                    <a:cubicBezTo>
                      <a:pt x="150" y="42"/>
                      <a:pt x="157" y="59"/>
                      <a:pt x="157" y="79"/>
                    </a:cubicBezTo>
                    <a:cubicBezTo>
                      <a:pt x="157" y="103"/>
                      <a:pt x="148" y="123"/>
                      <a:pt x="131" y="139"/>
                    </a:cubicBezTo>
                    <a:cubicBezTo>
                      <a:pt x="116" y="152"/>
                      <a:pt x="99" y="159"/>
                      <a:pt x="78" y="159"/>
                    </a:cubicBezTo>
                    <a:cubicBezTo>
                      <a:pt x="54" y="159"/>
                      <a:pt x="35" y="150"/>
                      <a:pt x="20" y="133"/>
                    </a:cubicBezTo>
                    <a:cubicBezTo>
                      <a:pt x="6" y="118"/>
                      <a:pt x="0" y="99"/>
                      <a:pt x="0" y="78"/>
                    </a:cubicBezTo>
                    <a:cubicBezTo>
                      <a:pt x="0" y="56"/>
                      <a:pt x="8" y="37"/>
                      <a:pt x="25" y="20"/>
                    </a:cubicBezTo>
                    <a:cubicBezTo>
                      <a:pt x="40" y="7"/>
                      <a:pt x="58" y="0"/>
                      <a:pt x="78" y="0"/>
                    </a:cubicBezTo>
                    <a:moveTo>
                      <a:pt x="15" y="277"/>
                    </a:moveTo>
                    <a:cubicBezTo>
                      <a:pt x="144" y="277"/>
                      <a:pt x="144" y="277"/>
                      <a:pt x="144" y="277"/>
                    </a:cubicBezTo>
                    <a:cubicBezTo>
                      <a:pt x="144" y="1031"/>
                      <a:pt x="144" y="1031"/>
                      <a:pt x="144" y="1031"/>
                    </a:cubicBezTo>
                    <a:cubicBezTo>
                      <a:pt x="15" y="1031"/>
                      <a:pt x="15" y="1031"/>
                      <a:pt x="15" y="1031"/>
                    </a:cubicBezTo>
                    <a:lnTo>
                      <a:pt x="15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79" name="Freeform 13"/>
              <p:cNvSpPr/>
              <p:nvPr/>
            </p:nvSpPr>
            <p:spPr>
              <a:xfrm>
                <a:off x="3006720" y="4124160"/>
                <a:ext cx="181080" cy="2462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73" h="775">
                    <a:moveTo>
                      <a:pt x="0" y="775"/>
                    </a:moveTo>
                    <a:cubicBezTo>
                      <a:pt x="0" y="30"/>
                      <a:pt x="0" y="30"/>
                      <a:pt x="0" y="30"/>
                    </a:cubicBezTo>
                    <a:cubicBezTo>
                      <a:pt x="120" y="10"/>
                      <a:pt x="220" y="0"/>
                      <a:pt x="302" y="0"/>
                    </a:cubicBezTo>
                    <a:cubicBezTo>
                      <a:pt x="434" y="0"/>
                      <a:pt x="516" y="39"/>
                      <a:pt x="550" y="119"/>
                    </a:cubicBezTo>
                    <a:cubicBezTo>
                      <a:pt x="565" y="155"/>
                      <a:pt x="573" y="220"/>
                      <a:pt x="573" y="312"/>
                    </a:cubicBezTo>
                    <a:cubicBezTo>
                      <a:pt x="573" y="775"/>
                      <a:pt x="573" y="775"/>
                      <a:pt x="573" y="775"/>
                    </a:cubicBezTo>
                    <a:cubicBezTo>
                      <a:pt x="444" y="775"/>
                      <a:pt x="444" y="775"/>
                      <a:pt x="444" y="775"/>
                    </a:cubicBezTo>
                    <a:cubicBezTo>
                      <a:pt x="444" y="320"/>
                      <a:pt x="444" y="320"/>
                      <a:pt x="444" y="320"/>
                    </a:cubicBezTo>
                    <a:cubicBezTo>
                      <a:pt x="444" y="230"/>
                      <a:pt x="436" y="171"/>
                      <a:pt x="421" y="140"/>
                    </a:cubicBezTo>
                    <a:cubicBezTo>
                      <a:pt x="400" y="99"/>
                      <a:pt x="356" y="78"/>
                      <a:pt x="290" y="78"/>
                    </a:cubicBezTo>
                    <a:cubicBezTo>
                      <a:pt x="237" y="78"/>
                      <a:pt x="184" y="83"/>
                      <a:pt x="130" y="94"/>
                    </a:cubicBezTo>
                    <a:cubicBezTo>
                      <a:pt x="130" y="775"/>
                      <a:pt x="130" y="775"/>
                      <a:pt x="130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80" name="Freeform 14"/>
              <p:cNvSpPr/>
              <p:nvPr/>
            </p:nvSpPr>
            <p:spPr>
              <a:xfrm>
                <a:off x="3244680" y="4124160"/>
                <a:ext cx="189000" cy="36360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595" h="1147">
                    <a:moveTo>
                      <a:pt x="466" y="707"/>
                    </a:moveTo>
                    <a:cubicBezTo>
                      <a:pt x="446" y="728"/>
                      <a:pt x="430" y="743"/>
                      <a:pt x="418" y="752"/>
                    </a:cubicBezTo>
                    <a:cubicBezTo>
                      <a:pt x="378" y="781"/>
                      <a:pt x="329" y="795"/>
                      <a:pt x="268" y="795"/>
                    </a:cubicBezTo>
                    <a:cubicBezTo>
                      <a:pt x="201" y="795"/>
                      <a:pt x="146" y="777"/>
                      <a:pt x="102" y="740"/>
                    </a:cubicBezTo>
                    <a:cubicBezTo>
                      <a:pt x="34" y="683"/>
                      <a:pt x="0" y="581"/>
                      <a:pt x="0" y="433"/>
                    </a:cubicBezTo>
                    <a:cubicBezTo>
                      <a:pt x="0" y="313"/>
                      <a:pt x="25" y="215"/>
                      <a:pt x="75" y="137"/>
                    </a:cubicBezTo>
                    <a:cubicBezTo>
                      <a:pt x="133" y="46"/>
                      <a:pt x="226" y="0"/>
                      <a:pt x="356" y="0"/>
                    </a:cubicBezTo>
                    <a:cubicBezTo>
                      <a:pt x="433" y="0"/>
                      <a:pt x="513" y="10"/>
                      <a:pt x="595" y="30"/>
                    </a:cubicBezTo>
                    <a:cubicBezTo>
                      <a:pt x="595" y="628"/>
                      <a:pt x="595" y="628"/>
                      <a:pt x="595" y="628"/>
                    </a:cubicBezTo>
                    <a:cubicBezTo>
                      <a:pt x="595" y="739"/>
                      <a:pt x="590" y="823"/>
                      <a:pt x="580" y="881"/>
                    </a:cubicBezTo>
                    <a:cubicBezTo>
                      <a:pt x="563" y="986"/>
                      <a:pt x="516" y="1059"/>
                      <a:pt x="441" y="1099"/>
                    </a:cubicBezTo>
                    <a:cubicBezTo>
                      <a:pt x="380" y="1131"/>
                      <a:pt x="299" y="1147"/>
                      <a:pt x="200" y="1147"/>
                    </a:cubicBezTo>
                    <a:cubicBezTo>
                      <a:pt x="172" y="1147"/>
                      <a:pt x="140" y="1145"/>
                      <a:pt x="103" y="1141"/>
                    </a:cubicBezTo>
                    <a:cubicBezTo>
                      <a:pt x="103" y="1064"/>
                      <a:pt x="103" y="1064"/>
                      <a:pt x="103" y="1064"/>
                    </a:cubicBezTo>
                    <a:cubicBezTo>
                      <a:pt x="136" y="1068"/>
                      <a:pt x="168" y="1069"/>
                      <a:pt x="199" y="1069"/>
                    </a:cubicBezTo>
                    <a:cubicBezTo>
                      <a:pt x="270" y="1069"/>
                      <a:pt x="322" y="1060"/>
                      <a:pt x="357" y="1041"/>
                    </a:cubicBezTo>
                    <a:cubicBezTo>
                      <a:pt x="408" y="1014"/>
                      <a:pt x="440" y="966"/>
                      <a:pt x="454" y="896"/>
                    </a:cubicBezTo>
                    <a:cubicBezTo>
                      <a:pt x="462" y="857"/>
                      <a:pt x="466" y="808"/>
                      <a:pt x="466" y="748"/>
                    </a:cubicBezTo>
                    <a:lnTo>
                      <a:pt x="466" y="707"/>
                    </a:lnTo>
                    <a:close/>
                    <a:moveTo>
                      <a:pt x="466" y="85"/>
                    </a:moveTo>
                    <a:cubicBezTo>
                      <a:pt x="430" y="80"/>
                      <a:pt x="398" y="78"/>
                      <a:pt x="369" y="78"/>
                    </a:cubicBezTo>
                    <a:cubicBezTo>
                      <a:pt x="315" y="78"/>
                      <a:pt x="272" y="89"/>
                      <a:pt x="242" y="111"/>
                    </a:cubicBezTo>
                    <a:cubicBezTo>
                      <a:pt x="207" y="136"/>
                      <a:pt x="179" y="180"/>
                      <a:pt x="159" y="244"/>
                    </a:cubicBezTo>
                    <a:cubicBezTo>
                      <a:pt x="141" y="299"/>
                      <a:pt x="132" y="364"/>
                      <a:pt x="132" y="438"/>
                    </a:cubicBezTo>
                    <a:cubicBezTo>
                      <a:pt x="132" y="540"/>
                      <a:pt x="149" y="615"/>
                      <a:pt x="183" y="662"/>
                    </a:cubicBezTo>
                    <a:cubicBezTo>
                      <a:pt x="209" y="699"/>
                      <a:pt x="243" y="718"/>
                      <a:pt x="286" y="718"/>
                    </a:cubicBezTo>
                    <a:cubicBezTo>
                      <a:pt x="323" y="718"/>
                      <a:pt x="357" y="706"/>
                      <a:pt x="388" y="683"/>
                    </a:cubicBezTo>
                    <a:cubicBezTo>
                      <a:pt x="420" y="660"/>
                      <a:pt x="442" y="629"/>
                      <a:pt x="455" y="592"/>
                    </a:cubicBezTo>
                    <a:cubicBezTo>
                      <a:pt x="462" y="572"/>
                      <a:pt x="466" y="543"/>
                      <a:pt x="466" y="505"/>
                    </a:cubicBezTo>
                    <a:lnTo>
                      <a:pt x="46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81" name="Freeform 15"/>
              <p:cNvSpPr/>
              <p:nvPr/>
            </p:nvSpPr>
            <p:spPr>
              <a:xfrm>
                <a:off x="3619440" y="4065480"/>
                <a:ext cx="106560" cy="3049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32" h="958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204"/>
                      <a:pt x="129" y="204"/>
                      <a:pt x="129" y="204"/>
                    </a:cubicBezTo>
                    <a:cubicBezTo>
                      <a:pt x="332" y="204"/>
                      <a:pt x="332" y="204"/>
                      <a:pt x="332" y="204"/>
                    </a:cubicBezTo>
                    <a:cubicBezTo>
                      <a:pt x="332" y="286"/>
                      <a:pt x="332" y="286"/>
                      <a:pt x="332" y="286"/>
                    </a:cubicBezTo>
                    <a:cubicBezTo>
                      <a:pt x="129" y="286"/>
                      <a:pt x="129" y="286"/>
                      <a:pt x="129" y="286"/>
                    </a:cubicBezTo>
                    <a:cubicBezTo>
                      <a:pt x="129" y="686"/>
                      <a:pt x="129" y="686"/>
                      <a:pt x="129" y="686"/>
                    </a:cubicBezTo>
                    <a:cubicBezTo>
                      <a:pt x="129" y="762"/>
                      <a:pt x="140" y="813"/>
                      <a:pt x="163" y="840"/>
                    </a:cubicBezTo>
                    <a:cubicBezTo>
                      <a:pt x="179" y="858"/>
                      <a:pt x="203" y="869"/>
                      <a:pt x="235" y="873"/>
                    </a:cubicBezTo>
                    <a:cubicBezTo>
                      <a:pt x="245" y="875"/>
                      <a:pt x="264" y="875"/>
                      <a:pt x="290" y="875"/>
                    </a:cubicBezTo>
                    <a:cubicBezTo>
                      <a:pt x="332" y="875"/>
                      <a:pt x="332" y="875"/>
                      <a:pt x="332" y="875"/>
                    </a:cubicBezTo>
                    <a:cubicBezTo>
                      <a:pt x="332" y="958"/>
                      <a:pt x="332" y="958"/>
                      <a:pt x="332" y="958"/>
                    </a:cubicBezTo>
                    <a:cubicBezTo>
                      <a:pt x="263" y="958"/>
                      <a:pt x="263" y="958"/>
                      <a:pt x="263" y="958"/>
                    </a:cubicBezTo>
                    <a:cubicBezTo>
                      <a:pt x="207" y="958"/>
                      <a:pt x="164" y="953"/>
                      <a:pt x="132" y="945"/>
                    </a:cubicBezTo>
                    <a:cubicBezTo>
                      <a:pt x="67" y="927"/>
                      <a:pt x="27" y="884"/>
                      <a:pt x="12" y="817"/>
                    </a:cubicBezTo>
                    <a:cubicBezTo>
                      <a:pt x="4" y="781"/>
                      <a:pt x="0" y="731"/>
                      <a:pt x="0" y="66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82" name="Freeform 16"/>
              <p:cNvSpPr/>
              <p:nvPr/>
            </p:nvSpPr>
            <p:spPr>
              <a:xfrm>
                <a:off x="376884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4" y="273"/>
                      <a:pt x="634" y="398"/>
                    </a:cubicBezTo>
                    <a:cubicBezTo>
                      <a:pt x="634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6" y="107"/>
                    </a:cubicBezTo>
                    <a:cubicBezTo>
                      <a:pt x="129" y="36"/>
                      <a:pt x="209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6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6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83" name="Freeform 17"/>
              <p:cNvSpPr/>
              <p:nvPr/>
            </p:nvSpPr>
            <p:spPr>
              <a:xfrm>
                <a:off x="4029120" y="4124160"/>
                <a:ext cx="309600" cy="2462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974" h="775">
                    <a:moveTo>
                      <a:pt x="0" y="775"/>
                    </a:moveTo>
                    <a:cubicBezTo>
                      <a:pt x="0" y="30"/>
                      <a:pt x="0" y="30"/>
                      <a:pt x="0" y="30"/>
                    </a:cubicBezTo>
                    <a:cubicBezTo>
                      <a:pt x="117" y="10"/>
                      <a:pt x="210" y="0"/>
                      <a:pt x="278" y="0"/>
                    </a:cubicBezTo>
                    <a:cubicBezTo>
                      <a:pt x="367" y="0"/>
                      <a:pt x="435" y="16"/>
                      <a:pt x="480" y="49"/>
                    </a:cubicBezTo>
                    <a:cubicBezTo>
                      <a:pt x="561" y="16"/>
                      <a:pt x="642" y="0"/>
                      <a:pt x="722" y="0"/>
                    </a:cubicBezTo>
                    <a:cubicBezTo>
                      <a:pt x="843" y="0"/>
                      <a:pt x="920" y="40"/>
                      <a:pt x="952" y="119"/>
                    </a:cubicBezTo>
                    <a:cubicBezTo>
                      <a:pt x="967" y="156"/>
                      <a:pt x="974" y="220"/>
                      <a:pt x="974" y="312"/>
                    </a:cubicBezTo>
                    <a:cubicBezTo>
                      <a:pt x="974" y="775"/>
                      <a:pt x="974" y="775"/>
                      <a:pt x="974" y="775"/>
                    </a:cubicBezTo>
                    <a:cubicBezTo>
                      <a:pt x="845" y="775"/>
                      <a:pt x="845" y="775"/>
                      <a:pt x="845" y="775"/>
                    </a:cubicBezTo>
                    <a:cubicBezTo>
                      <a:pt x="845" y="320"/>
                      <a:pt x="845" y="320"/>
                      <a:pt x="845" y="320"/>
                    </a:cubicBezTo>
                    <a:cubicBezTo>
                      <a:pt x="845" y="231"/>
                      <a:pt x="838" y="172"/>
                      <a:pt x="824" y="141"/>
                    </a:cubicBezTo>
                    <a:cubicBezTo>
                      <a:pt x="805" y="99"/>
                      <a:pt x="765" y="78"/>
                      <a:pt x="705" y="78"/>
                    </a:cubicBezTo>
                    <a:cubicBezTo>
                      <a:pt x="654" y="78"/>
                      <a:pt x="603" y="90"/>
                      <a:pt x="551" y="113"/>
                    </a:cubicBezTo>
                    <a:cubicBezTo>
                      <a:pt x="551" y="775"/>
                      <a:pt x="551" y="775"/>
                      <a:pt x="551" y="775"/>
                    </a:cubicBezTo>
                    <a:cubicBezTo>
                      <a:pt x="422" y="775"/>
                      <a:pt x="422" y="775"/>
                      <a:pt x="422" y="775"/>
                    </a:cubicBezTo>
                    <a:cubicBezTo>
                      <a:pt x="422" y="314"/>
                      <a:pt x="422" y="314"/>
                      <a:pt x="422" y="314"/>
                    </a:cubicBezTo>
                    <a:cubicBezTo>
                      <a:pt x="422" y="229"/>
                      <a:pt x="415" y="171"/>
                      <a:pt x="401" y="141"/>
                    </a:cubicBezTo>
                    <a:cubicBezTo>
                      <a:pt x="382" y="99"/>
                      <a:pt x="341" y="78"/>
                      <a:pt x="278" y="78"/>
                    </a:cubicBezTo>
                    <a:cubicBezTo>
                      <a:pt x="231" y="78"/>
                      <a:pt x="181" y="83"/>
                      <a:pt x="128" y="94"/>
                    </a:cubicBezTo>
                    <a:cubicBezTo>
                      <a:pt x="128" y="775"/>
                      <a:pt x="128" y="775"/>
                      <a:pt x="128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84" name="Freeform 18"/>
              <p:cNvSpPr/>
              <p:nvPr/>
            </p:nvSpPr>
            <p:spPr>
              <a:xfrm>
                <a:off x="439416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5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5" y="273"/>
                      <a:pt x="635" y="398"/>
                    </a:cubicBezTo>
                    <a:cubicBezTo>
                      <a:pt x="635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9" y="795"/>
                    </a:cubicBezTo>
                    <a:cubicBezTo>
                      <a:pt x="107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7" y="107"/>
                    </a:cubicBezTo>
                    <a:cubicBezTo>
                      <a:pt x="129" y="36"/>
                      <a:pt x="209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7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7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85" name="Freeform 19"/>
              <p:cNvSpPr/>
              <p:nvPr/>
            </p:nvSpPr>
            <p:spPr>
              <a:xfrm>
                <a:off x="4657680" y="4124160"/>
                <a:ext cx="103320" cy="2462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26" h="775">
                    <a:moveTo>
                      <a:pt x="0" y="775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99" y="12"/>
                      <a:pt x="207" y="1"/>
                      <a:pt x="326" y="0"/>
                    </a:cubicBezTo>
                    <a:cubicBezTo>
                      <a:pt x="326" y="81"/>
                      <a:pt x="326" y="81"/>
                      <a:pt x="326" y="81"/>
                    </a:cubicBezTo>
                    <a:cubicBezTo>
                      <a:pt x="254" y="81"/>
                      <a:pt x="188" y="86"/>
                      <a:pt x="129" y="94"/>
                    </a:cubicBezTo>
                    <a:cubicBezTo>
                      <a:pt x="129" y="775"/>
                      <a:pt x="129" y="775"/>
                      <a:pt x="129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86" name="Freeform 20"/>
              <p:cNvSpPr/>
              <p:nvPr/>
            </p:nvSpPr>
            <p:spPr>
              <a:xfrm>
                <a:off x="4807080" y="4124160"/>
                <a:ext cx="102960" cy="2462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26" h="775">
                    <a:moveTo>
                      <a:pt x="0" y="775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99" y="12"/>
                      <a:pt x="207" y="1"/>
                      <a:pt x="326" y="0"/>
                    </a:cubicBezTo>
                    <a:cubicBezTo>
                      <a:pt x="326" y="81"/>
                      <a:pt x="326" y="81"/>
                      <a:pt x="326" y="81"/>
                    </a:cubicBezTo>
                    <a:cubicBezTo>
                      <a:pt x="253" y="81"/>
                      <a:pt x="188" y="86"/>
                      <a:pt x="129" y="94"/>
                    </a:cubicBezTo>
                    <a:cubicBezTo>
                      <a:pt x="129" y="775"/>
                      <a:pt x="129" y="775"/>
                      <a:pt x="129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87" name="Freeform 21"/>
              <p:cNvSpPr/>
              <p:nvPr/>
            </p:nvSpPr>
            <p:spPr>
              <a:xfrm>
                <a:off x="493704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7" y="0"/>
                    </a:moveTo>
                    <a:cubicBezTo>
                      <a:pt x="425" y="0"/>
                      <a:pt x="505" y="36"/>
                      <a:pt x="558" y="107"/>
                    </a:cubicBezTo>
                    <a:cubicBezTo>
                      <a:pt x="608" y="176"/>
                      <a:pt x="634" y="273"/>
                      <a:pt x="634" y="398"/>
                    </a:cubicBezTo>
                    <a:cubicBezTo>
                      <a:pt x="634" y="521"/>
                      <a:pt x="608" y="618"/>
                      <a:pt x="558" y="688"/>
                    </a:cubicBezTo>
                    <a:cubicBezTo>
                      <a:pt x="506" y="760"/>
                      <a:pt x="426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5" y="176"/>
                      <a:pt x="76" y="107"/>
                    </a:cubicBezTo>
                    <a:cubicBezTo>
                      <a:pt x="128" y="36"/>
                      <a:pt x="209" y="0"/>
                      <a:pt x="317" y="0"/>
                    </a:cubicBezTo>
                    <a:moveTo>
                      <a:pt x="317" y="78"/>
                    </a:moveTo>
                    <a:cubicBezTo>
                      <a:pt x="244" y="78"/>
                      <a:pt x="194" y="110"/>
                      <a:pt x="166" y="176"/>
                    </a:cubicBezTo>
                    <a:cubicBezTo>
                      <a:pt x="143" y="230"/>
                      <a:pt x="132" y="303"/>
                      <a:pt x="132" y="394"/>
                    </a:cubicBezTo>
                    <a:cubicBezTo>
                      <a:pt x="132" y="490"/>
                      <a:pt x="143" y="565"/>
                      <a:pt x="166" y="619"/>
                    </a:cubicBezTo>
                    <a:cubicBezTo>
                      <a:pt x="194" y="685"/>
                      <a:pt x="244" y="718"/>
                      <a:pt x="317" y="718"/>
                    </a:cubicBezTo>
                    <a:cubicBezTo>
                      <a:pt x="390" y="718"/>
                      <a:pt x="440" y="685"/>
                      <a:pt x="468" y="619"/>
                    </a:cubicBezTo>
                    <a:cubicBezTo>
                      <a:pt x="490" y="565"/>
                      <a:pt x="502" y="491"/>
                      <a:pt x="502" y="398"/>
                    </a:cubicBezTo>
                    <a:cubicBezTo>
                      <a:pt x="502" y="302"/>
                      <a:pt x="490" y="228"/>
                      <a:pt x="468" y="176"/>
                    </a:cubicBezTo>
                    <a:cubicBezTo>
                      <a:pt x="439" y="110"/>
                      <a:pt x="389" y="78"/>
                      <a:pt x="317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88" name="Freeform 22"/>
              <p:cNvSpPr/>
              <p:nvPr/>
            </p:nvSpPr>
            <p:spPr>
              <a:xfrm>
                <a:off x="5164200" y="4130640"/>
                <a:ext cx="309600" cy="23976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971" h="754">
                    <a:moveTo>
                      <a:pt x="213" y="75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30" y="0"/>
                      <a:pt x="130" y="0"/>
                      <a:pt x="130" y="0"/>
                    </a:cubicBezTo>
                    <a:cubicBezTo>
                      <a:pt x="290" y="614"/>
                      <a:pt x="290" y="614"/>
                      <a:pt x="290" y="614"/>
                    </a:cubicBezTo>
                    <a:cubicBezTo>
                      <a:pt x="431" y="0"/>
                      <a:pt x="431" y="0"/>
                      <a:pt x="431" y="0"/>
                    </a:cubicBezTo>
                    <a:cubicBezTo>
                      <a:pt x="558" y="0"/>
                      <a:pt x="558" y="0"/>
                      <a:pt x="558" y="0"/>
                    </a:cubicBezTo>
                    <a:cubicBezTo>
                      <a:pt x="706" y="614"/>
                      <a:pt x="706" y="614"/>
                      <a:pt x="706" y="614"/>
                    </a:cubicBezTo>
                    <a:cubicBezTo>
                      <a:pt x="866" y="0"/>
                      <a:pt x="866" y="0"/>
                      <a:pt x="866" y="0"/>
                    </a:cubicBezTo>
                    <a:cubicBezTo>
                      <a:pt x="971" y="0"/>
                      <a:pt x="971" y="0"/>
                      <a:pt x="971" y="0"/>
                    </a:cubicBezTo>
                    <a:cubicBezTo>
                      <a:pt x="758" y="754"/>
                      <a:pt x="758" y="754"/>
                      <a:pt x="758" y="754"/>
                    </a:cubicBezTo>
                    <a:cubicBezTo>
                      <a:pt x="631" y="754"/>
                      <a:pt x="631" y="754"/>
                      <a:pt x="631" y="754"/>
                    </a:cubicBezTo>
                    <a:cubicBezTo>
                      <a:pt x="517" y="266"/>
                      <a:pt x="517" y="266"/>
                      <a:pt x="517" y="266"/>
                    </a:cubicBezTo>
                    <a:cubicBezTo>
                      <a:pt x="509" y="231"/>
                      <a:pt x="500" y="180"/>
                      <a:pt x="489" y="112"/>
                    </a:cubicBezTo>
                    <a:cubicBezTo>
                      <a:pt x="481" y="166"/>
                      <a:pt x="471" y="217"/>
                      <a:pt x="460" y="265"/>
                    </a:cubicBezTo>
                    <a:cubicBezTo>
                      <a:pt x="347" y="754"/>
                      <a:pt x="347" y="754"/>
                      <a:pt x="347" y="754"/>
                    </a:cubicBezTo>
                    <a:lnTo>
                      <a:pt x="213" y="7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89" name="Freeform 23"/>
              <p:cNvSpPr/>
              <p:nvPr/>
            </p:nvSpPr>
            <p:spPr>
              <a:xfrm>
                <a:off x="5595840" y="4130640"/>
                <a:ext cx="308160" cy="23976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971" h="754">
                    <a:moveTo>
                      <a:pt x="213" y="75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30" y="0"/>
                      <a:pt x="130" y="0"/>
                      <a:pt x="130" y="0"/>
                    </a:cubicBezTo>
                    <a:cubicBezTo>
                      <a:pt x="290" y="614"/>
                      <a:pt x="290" y="614"/>
                      <a:pt x="290" y="614"/>
                    </a:cubicBezTo>
                    <a:cubicBezTo>
                      <a:pt x="431" y="0"/>
                      <a:pt x="431" y="0"/>
                      <a:pt x="431" y="0"/>
                    </a:cubicBezTo>
                    <a:cubicBezTo>
                      <a:pt x="559" y="0"/>
                      <a:pt x="559" y="0"/>
                      <a:pt x="559" y="0"/>
                    </a:cubicBezTo>
                    <a:cubicBezTo>
                      <a:pt x="706" y="614"/>
                      <a:pt x="706" y="614"/>
                      <a:pt x="706" y="614"/>
                    </a:cubicBezTo>
                    <a:cubicBezTo>
                      <a:pt x="866" y="0"/>
                      <a:pt x="866" y="0"/>
                      <a:pt x="866" y="0"/>
                    </a:cubicBezTo>
                    <a:cubicBezTo>
                      <a:pt x="971" y="0"/>
                      <a:pt x="971" y="0"/>
                      <a:pt x="971" y="0"/>
                    </a:cubicBezTo>
                    <a:cubicBezTo>
                      <a:pt x="758" y="754"/>
                      <a:pt x="758" y="754"/>
                      <a:pt x="758" y="754"/>
                    </a:cubicBezTo>
                    <a:cubicBezTo>
                      <a:pt x="631" y="754"/>
                      <a:pt x="631" y="754"/>
                      <a:pt x="631" y="754"/>
                    </a:cubicBezTo>
                    <a:cubicBezTo>
                      <a:pt x="518" y="266"/>
                      <a:pt x="518" y="266"/>
                      <a:pt x="518" y="266"/>
                    </a:cubicBezTo>
                    <a:cubicBezTo>
                      <a:pt x="510" y="231"/>
                      <a:pt x="500" y="180"/>
                      <a:pt x="489" y="112"/>
                    </a:cubicBezTo>
                    <a:cubicBezTo>
                      <a:pt x="481" y="166"/>
                      <a:pt x="471" y="217"/>
                      <a:pt x="460" y="265"/>
                    </a:cubicBezTo>
                    <a:cubicBezTo>
                      <a:pt x="347" y="754"/>
                      <a:pt x="347" y="754"/>
                      <a:pt x="347" y="754"/>
                    </a:cubicBezTo>
                    <a:lnTo>
                      <a:pt x="213" y="7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90" name="Freeform 24"/>
              <p:cNvSpPr/>
              <p:nvPr/>
            </p:nvSpPr>
            <p:spPr>
              <a:xfrm>
                <a:off x="5945040" y="4043520"/>
                <a:ext cx="49320" cy="3268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157" h="1031">
                    <a:moveTo>
                      <a:pt x="79" y="0"/>
                    </a:moveTo>
                    <a:cubicBezTo>
                      <a:pt x="102" y="0"/>
                      <a:pt x="122" y="9"/>
                      <a:pt x="137" y="26"/>
                    </a:cubicBezTo>
                    <a:cubicBezTo>
                      <a:pt x="151" y="42"/>
                      <a:pt x="157" y="59"/>
                      <a:pt x="157" y="79"/>
                    </a:cubicBezTo>
                    <a:cubicBezTo>
                      <a:pt x="157" y="103"/>
                      <a:pt x="149" y="123"/>
                      <a:pt x="132" y="139"/>
                    </a:cubicBezTo>
                    <a:cubicBezTo>
                      <a:pt x="117" y="152"/>
                      <a:pt x="99" y="159"/>
                      <a:pt x="78" y="159"/>
                    </a:cubicBezTo>
                    <a:cubicBezTo>
                      <a:pt x="55" y="159"/>
                      <a:pt x="35" y="150"/>
                      <a:pt x="20" y="133"/>
                    </a:cubicBezTo>
                    <a:cubicBezTo>
                      <a:pt x="6" y="118"/>
                      <a:pt x="0" y="99"/>
                      <a:pt x="0" y="78"/>
                    </a:cubicBezTo>
                    <a:cubicBezTo>
                      <a:pt x="0" y="56"/>
                      <a:pt x="9" y="37"/>
                      <a:pt x="26" y="20"/>
                    </a:cubicBezTo>
                    <a:cubicBezTo>
                      <a:pt x="41" y="7"/>
                      <a:pt x="58" y="0"/>
                      <a:pt x="79" y="0"/>
                    </a:cubicBezTo>
                    <a:moveTo>
                      <a:pt x="16" y="277"/>
                    </a:moveTo>
                    <a:cubicBezTo>
                      <a:pt x="144" y="277"/>
                      <a:pt x="144" y="277"/>
                      <a:pt x="144" y="277"/>
                    </a:cubicBezTo>
                    <a:cubicBezTo>
                      <a:pt x="144" y="1031"/>
                      <a:pt x="144" y="1031"/>
                      <a:pt x="144" y="1031"/>
                    </a:cubicBezTo>
                    <a:cubicBezTo>
                      <a:pt x="16" y="1031"/>
                      <a:pt x="16" y="1031"/>
                      <a:pt x="16" y="1031"/>
                    </a:cubicBezTo>
                    <a:lnTo>
                      <a:pt x="16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91" name="Freeform 25"/>
              <p:cNvSpPr/>
              <p:nvPr/>
            </p:nvSpPr>
            <p:spPr>
              <a:xfrm>
                <a:off x="6064200" y="4065480"/>
                <a:ext cx="106560" cy="3049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32" h="958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204"/>
                      <a:pt x="129" y="204"/>
                      <a:pt x="129" y="204"/>
                    </a:cubicBezTo>
                    <a:cubicBezTo>
                      <a:pt x="332" y="204"/>
                      <a:pt x="332" y="204"/>
                      <a:pt x="332" y="204"/>
                    </a:cubicBezTo>
                    <a:cubicBezTo>
                      <a:pt x="332" y="286"/>
                      <a:pt x="332" y="286"/>
                      <a:pt x="332" y="286"/>
                    </a:cubicBezTo>
                    <a:cubicBezTo>
                      <a:pt x="129" y="286"/>
                      <a:pt x="129" y="286"/>
                      <a:pt x="129" y="286"/>
                    </a:cubicBezTo>
                    <a:cubicBezTo>
                      <a:pt x="129" y="686"/>
                      <a:pt x="129" y="686"/>
                      <a:pt x="129" y="686"/>
                    </a:cubicBezTo>
                    <a:cubicBezTo>
                      <a:pt x="129" y="762"/>
                      <a:pt x="140" y="813"/>
                      <a:pt x="163" y="840"/>
                    </a:cubicBezTo>
                    <a:cubicBezTo>
                      <a:pt x="178" y="858"/>
                      <a:pt x="202" y="869"/>
                      <a:pt x="234" y="873"/>
                    </a:cubicBezTo>
                    <a:cubicBezTo>
                      <a:pt x="245" y="875"/>
                      <a:pt x="263" y="875"/>
                      <a:pt x="289" y="875"/>
                    </a:cubicBezTo>
                    <a:cubicBezTo>
                      <a:pt x="332" y="875"/>
                      <a:pt x="332" y="875"/>
                      <a:pt x="332" y="875"/>
                    </a:cubicBezTo>
                    <a:cubicBezTo>
                      <a:pt x="332" y="958"/>
                      <a:pt x="332" y="958"/>
                      <a:pt x="332" y="958"/>
                    </a:cubicBezTo>
                    <a:cubicBezTo>
                      <a:pt x="262" y="958"/>
                      <a:pt x="262" y="958"/>
                      <a:pt x="262" y="958"/>
                    </a:cubicBezTo>
                    <a:cubicBezTo>
                      <a:pt x="207" y="958"/>
                      <a:pt x="163" y="953"/>
                      <a:pt x="132" y="945"/>
                    </a:cubicBezTo>
                    <a:cubicBezTo>
                      <a:pt x="66" y="927"/>
                      <a:pt x="26" y="884"/>
                      <a:pt x="11" y="817"/>
                    </a:cubicBezTo>
                    <a:cubicBezTo>
                      <a:pt x="4" y="781"/>
                      <a:pt x="0" y="731"/>
                      <a:pt x="0" y="66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6219720" y="4010040"/>
                <a:ext cx="181080" cy="36036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72" h="1136">
                    <a:moveTo>
                      <a:pt x="0" y="113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00"/>
                      <a:pt x="129" y="400"/>
                      <a:pt x="129" y="400"/>
                    </a:cubicBezTo>
                    <a:cubicBezTo>
                      <a:pt x="196" y="374"/>
                      <a:pt x="259" y="361"/>
                      <a:pt x="319" y="361"/>
                    </a:cubicBezTo>
                    <a:cubicBezTo>
                      <a:pt x="438" y="361"/>
                      <a:pt x="515" y="400"/>
                      <a:pt x="549" y="479"/>
                    </a:cubicBezTo>
                    <a:cubicBezTo>
                      <a:pt x="564" y="515"/>
                      <a:pt x="572" y="579"/>
                      <a:pt x="572" y="673"/>
                    </a:cubicBezTo>
                    <a:cubicBezTo>
                      <a:pt x="572" y="1136"/>
                      <a:pt x="572" y="1136"/>
                      <a:pt x="572" y="1136"/>
                    </a:cubicBezTo>
                    <a:cubicBezTo>
                      <a:pt x="443" y="1136"/>
                      <a:pt x="443" y="1136"/>
                      <a:pt x="443" y="1136"/>
                    </a:cubicBezTo>
                    <a:cubicBezTo>
                      <a:pt x="443" y="653"/>
                      <a:pt x="443" y="653"/>
                      <a:pt x="443" y="653"/>
                    </a:cubicBezTo>
                    <a:cubicBezTo>
                      <a:pt x="443" y="581"/>
                      <a:pt x="436" y="529"/>
                      <a:pt x="420" y="499"/>
                    </a:cubicBezTo>
                    <a:cubicBezTo>
                      <a:pt x="400" y="459"/>
                      <a:pt x="362" y="439"/>
                      <a:pt x="306" y="439"/>
                    </a:cubicBezTo>
                    <a:cubicBezTo>
                      <a:pt x="256" y="439"/>
                      <a:pt x="197" y="454"/>
                      <a:pt x="129" y="485"/>
                    </a:cubicBezTo>
                    <a:cubicBezTo>
                      <a:pt x="129" y="1136"/>
                      <a:pt x="129" y="1136"/>
                      <a:pt x="129" y="1136"/>
                    </a:cubicBezTo>
                    <a:lnTo>
                      <a:pt x="0" y="1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6553080" y="4130640"/>
                <a:ext cx="200160" cy="3538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26" h="223">
                    <a:moveTo>
                      <a:pt x="56" y="153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67" y="120"/>
                    </a:lnTo>
                    <a:lnTo>
                      <a:pt x="104" y="0"/>
                    </a:lnTo>
                    <a:lnTo>
                      <a:pt x="126" y="0"/>
                    </a:lnTo>
                    <a:lnTo>
                      <a:pt x="51" y="223"/>
                    </a:lnTo>
                    <a:lnTo>
                      <a:pt x="29" y="223"/>
                    </a:lnTo>
                    <a:lnTo>
                      <a:pt x="5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94" name="Freeform 28"/>
              <p:cNvSpPr/>
              <p:nvPr/>
            </p:nvSpPr>
            <p:spPr>
              <a:xfrm>
                <a:off x="677880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4" y="273"/>
                      <a:pt x="634" y="398"/>
                    </a:cubicBezTo>
                    <a:cubicBezTo>
                      <a:pt x="634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6" y="107"/>
                    </a:cubicBezTo>
                    <a:cubicBezTo>
                      <a:pt x="129" y="36"/>
                      <a:pt x="210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7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7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95" name="Freeform 29"/>
              <p:cNvSpPr/>
              <p:nvPr/>
            </p:nvSpPr>
            <p:spPr>
              <a:xfrm>
                <a:off x="7037280" y="4130640"/>
                <a:ext cx="174600" cy="246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50" h="774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65"/>
                      <a:pt x="129" y="465"/>
                      <a:pt x="129" y="465"/>
                    </a:cubicBezTo>
                    <a:cubicBezTo>
                      <a:pt x="129" y="550"/>
                      <a:pt x="137" y="608"/>
                      <a:pt x="152" y="636"/>
                    </a:cubicBezTo>
                    <a:cubicBezTo>
                      <a:pt x="165" y="660"/>
                      <a:pt x="183" y="676"/>
                      <a:pt x="206" y="685"/>
                    </a:cubicBezTo>
                    <a:cubicBezTo>
                      <a:pt x="225" y="693"/>
                      <a:pt x="253" y="697"/>
                      <a:pt x="289" y="697"/>
                    </a:cubicBezTo>
                    <a:cubicBezTo>
                      <a:pt x="331" y="697"/>
                      <a:pt x="375" y="690"/>
                      <a:pt x="422" y="677"/>
                    </a:cubicBezTo>
                    <a:cubicBezTo>
                      <a:pt x="422" y="0"/>
                      <a:pt x="422" y="0"/>
                      <a:pt x="422" y="0"/>
                    </a:cubicBezTo>
                    <a:cubicBezTo>
                      <a:pt x="550" y="0"/>
                      <a:pt x="550" y="0"/>
                      <a:pt x="550" y="0"/>
                    </a:cubicBezTo>
                    <a:cubicBezTo>
                      <a:pt x="550" y="742"/>
                      <a:pt x="550" y="742"/>
                      <a:pt x="550" y="742"/>
                    </a:cubicBezTo>
                    <a:cubicBezTo>
                      <a:pt x="455" y="763"/>
                      <a:pt x="365" y="774"/>
                      <a:pt x="281" y="774"/>
                    </a:cubicBezTo>
                    <a:cubicBezTo>
                      <a:pt x="196" y="774"/>
                      <a:pt x="132" y="761"/>
                      <a:pt x="90" y="734"/>
                    </a:cubicBezTo>
                    <a:cubicBezTo>
                      <a:pt x="43" y="704"/>
                      <a:pt x="15" y="657"/>
                      <a:pt x="7" y="593"/>
                    </a:cubicBezTo>
                    <a:cubicBezTo>
                      <a:pt x="2" y="563"/>
                      <a:pt x="0" y="523"/>
                      <a:pt x="0" y="47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96" name="Freeform 30"/>
              <p:cNvSpPr/>
              <p:nvPr/>
            </p:nvSpPr>
            <p:spPr>
              <a:xfrm>
                <a:off x="3935520" y="1814400"/>
                <a:ext cx="787320" cy="60804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608040"/>
                  <a:gd name="textAreaBottom" fmla="*/ 608400 h 608040"/>
                </a:gdLst>
                <a:ahLst/>
                <a:rect l="textAreaLeft" t="textAreaTop" r="textAreaRight" b="textAreaBottom"/>
                <a:pathLst>
                  <a:path w="2477" h="1913">
                    <a:moveTo>
                      <a:pt x="1006" y="801"/>
                    </a:moveTo>
                    <a:cubicBezTo>
                      <a:pt x="916" y="722"/>
                      <a:pt x="771" y="674"/>
                      <a:pt x="627" y="673"/>
                    </a:cubicBezTo>
                    <a:cubicBezTo>
                      <a:pt x="283" y="672"/>
                      <a:pt x="2" y="944"/>
                      <a:pt x="1" y="1294"/>
                    </a:cubicBezTo>
                    <a:cubicBezTo>
                      <a:pt x="0" y="1638"/>
                      <a:pt x="283" y="1911"/>
                      <a:pt x="627" y="1912"/>
                    </a:cubicBezTo>
                    <a:cubicBezTo>
                      <a:pt x="820" y="1913"/>
                      <a:pt x="988" y="1834"/>
                      <a:pt x="1103" y="1696"/>
                    </a:cubicBezTo>
                    <a:cubicBezTo>
                      <a:pt x="1103" y="1355"/>
                      <a:pt x="1103" y="1355"/>
                      <a:pt x="1103" y="1355"/>
                    </a:cubicBezTo>
                    <a:cubicBezTo>
                      <a:pt x="1042" y="1461"/>
                      <a:pt x="918" y="1597"/>
                      <a:pt x="807" y="1643"/>
                    </a:cubicBezTo>
                    <a:cubicBezTo>
                      <a:pt x="751" y="1666"/>
                      <a:pt x="694" y="1681"/>
                      <a:pt x="627" y="1681"/>
                    </a:cubicBezTo>
                    <a:cubicBezTo>
                      <a:pt x="412" y="1681"/>
                      <a:pt x="235" y="1514"/>
                      <a:pt x="235" y="1294"/>
                    </a:cubicBezTo>
                    <a:cubicBezTo>
                      <a:pt x="235" y="1091"/>
                      <a:pt x="398" y="904"/>
                      <a:pt x="627" y="905"/>
                    </a:cubicBezTo>
                    <a:cubicBezTo>
                      <a:pt x="734" y="905"/>
                      <a:pt x="831" y="949"/>
                      <a:pt x="902" y="1019"/>
                    </a:cubicBezTo>
                    <a:cubicBezTo>
                      <a:pt x="976" y="1090"/>
                      <a:pt x="1090" y="1239"/>
                      <a:pt x="1145" y="1298"/>
                    </a:cubicBezTo>
                    <a:cubicBezTo>
                      <a:pt x="1285" y="1449"/>
                      <a:pt x="1486" y="1543"/>
                      <a:pt x="1708" y="1544"/>
                    </a:cubicBezTo>
                    <a:cubicBezTo>
                      <a:pt x="2132" y="1545"/>
                      <a:pt x="2477" y="1201"/>
                      <a:pt x="2477" y="777"/>
                    </a:cubicBezTo>
                    <a:cubicBezTo>
                      <a:pt x="2477" y="353"/>
                      <a:pt x="2132" y="0"/>
                      <a:pt x="1708" y="0"/>
                    </a:cubicBezTo>
                    <a:cubicBezTo>
                      <a:pt x="1461" y="0"/>
                      <a:pt x="1244" y="129"/>
                      <a:pt x="1103" y="309"/>
                    </a:cubicBezTo>
                    <a:cubicBezTo>
                      <a:pt x="1103" y="771"/>
                      <a:pt x="1103" y="771"/>
                      <a:pt x="1103" y="771"/>
                    </a:cubicBezTo>
                    <a:cubicBezTo>
                      <a:pt x="1210" y="478"/>
                      <a:pt x="1404" y="244"/>
                      <a:pt x="1708" y="244"/>
                    </a:cubicBezTo>
                    <a:cubicBezTo>
                      <a:pt x="2000" y="244"/>
                      <a:pt x="2237" y="485"/>
                      <a:pt x="2236" y="777"/>
                    </a:cubicBezTo>
                    <a:cubicBezTo>
                      <a:pt x="2235" y="1069"/>
                      <a:pt x="2000" y="1305"/>
                      <a:pt x="1708" y="1305"/>
                    </a:cubicBezTo>
                    <a:cubicBezTo>
                      <a:pt x="1578" y="1304"/>
                      <a:pt x="1457" y="1257"/>
                      <a:pt x="1365" y="1179"/>
                    </a:cubicBezTo>
                    <a:cubicBezTo>
                      <a:pt x="1251" y="1090"/>
                      <a:pt x="1124" y="901"/>
                      <a:pt x="1006" y="801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97" name="Freeform 31"/>
              <p:cNvSpPr/>
              <p:nvPr/>
            </p:nvSpPr>
            <p:spPr>
              <a:xfrm>
                <a:off x="2652840" y="2476440"/>
                <a:ext cx="539640" cy="88272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1700" h="2777">
                    <a:moveTo>
                      <a:pt x="0" y="0"/>
                    </a:moveTo>
                    <a:cubicBezTo>
                      <a:pt x="1700" y="0"/>
                      <a:pt x="1700" y="0"/>
                      <a:pt x="1700" y="0"/>
                    </a:cubicBezTo>
                    <a:cubicBezTo>
                      <a:pt x="1700" y="473"/>
                      <a:pt x="1700" y="473"/>
                      <a:pt x="1700" y="473"/>
                    </a:cubicBezTo>
                    <a:cubicBezTo>
                      <a:pt x="1700" y="473"/>
                      <a:pt x="1613" y="287"/>
                      <a:pt x="1429" y="286"/>
                    </a:cubicBezTo>
                    <a:cubicBezTo>
                      <a:pt x="642" y="286"/>
                      <a:pt x="642" y="286"/>
                      <a:pt x="642" y="286"/>
                    </a:cubicBezTo>
                    <a:cubicBezTo>
                      <a:pt x="642" y="1104"/>
                      <a:pt x="642" y="1104"/>
                      <a:pt x="642" y="1104"/>
                    </a:cubicBezTo>
                    <a:cubicBezTo>
                      <a:pt x="1495" y="1104"/>
                      <a:pt x="1495" y="1104"/>
                      <a:pt x="1495" y="1104"/>
                    </a:cubicBezTo>
                    <a:cubicBezTo>
                      <a:pt x="1495" y="1537"/>
                      <a:pt x="1495" y="1537"/>
                      <a:pt x="1495" y="1537"/>
                    </a:cubicBezTo>
                    <a:cubicBezTo>
                      <a:pt x="1495" y="1537"/>
                      <a:pt x="1468" y="1399"/>
                      <a:pt x="1262" y="1398"/>
                    </a:cubicBezTo>
                    <a:cubicBezTo>
                      <a:pt x="642" y="1398"/>
                      <a:pt x="642" y="1398"/>
                      <a:pt x="642" y="1398"/>
                    </a:cubicBezTo>
                    <a:cubicBezTo>
                      <a:pt x="642" y="2515"/>
                      <a:pt x="642" y="2515"/>
                      <a:pt x="642" y="2515"/>
                    </a:cubicBezTo>
                    <a:cubicBezTo>
                      <a:pt x="642" y="2679"/>
                      <a:pt x="820" y="2777"/>
                      <a:pt x="820" y="2777"/>
                    </a:cubicBezTo>
                    <a:cubicBezTo>
                      <a:pt x="11" y="2777"/>
                      <a:pt x="11" y="2777"/>
                      <a:pt x="11" y="2777"/>
                    </a:cubicBezTo>
                    <a:cubicBezTo>
                      <a:pt x="11" y="2777"/>
                      <a:pt x="181" y="2691"/>
                      <a:pt x="181" y="2515"/>
                    </a:cubicBezTo>
                    <a:cubicBezTo>
                      <a:pt x="181" y="291"/>
                      <a:pt x="181" y="291"/>
                      <a:pt x="181" y="291"/>
                    </a:cubicBezTo>
                    <a:cubicBezTo>
                      <a:pt x="181" y="10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98" name="Freeform 32"/>
              <p:cNvSpPr/>
              <p:nvPr/>
            </p:nvSpPr>
            <p:spPr>
              <a:xfrm>
                <a:off x="3929040" y="2476440"/>
                <a:ext cx="355680" cy="12304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230480"/>
                  <a:gd name="textAreaBottom" fmla="*/ 1230840 h 1230480"/>
                </a:gdLst>
                <a:ahLst/>
                <a:rect l="textAreaLeft" t="textAreaTop" r="textAreaRight" b="textAreaBottom"/>
                <a:pathLst>
                  <a:path w="1123" h="3872">
                    <a:moveTo>
                      <a:pt x="257" y="0"/>
                    </a:moveTo>
                    <a:cubicBezTo>
                      <a:pt x="1123" y="0"/>
                      <a:pt x="1123" y="0"/>
                      <a:pt x="1123" y="0"/>
                    </a:cubicBezTo>
                    <a:cubicBezTo>
                      <a:pt x="1123" y="0"/>
                      <a:pt x="929" y="92"/>
                      <a:pt x="929" y="242"/>
                    </a:cubicBezTo>
                    <a:cubicBezTo>
                      <a:pt x="929" y="2847"/>
                      <a:pt x="929" y="2847"/>
                      <a:pt x="929" y="2847"/>
                    </a:cubicBezTo>
                    <a:cubicBezTo>
                      <a:pt x="929" y="3727"/>
                      <a:pt x="46" y="3872"/>
                      <a:pt x="0" y="3869"/>
                    </a:cubicBezTo>
                    <a:cubicBezTo>
                      <a:pt x="75" y="3821"/>
                      <a:pt x="442" y="3508"/>
                      <a:pt x="443" y="2847"/>
                    </a:cubicBezTo>
                    <a:cubicBezTo>
                      <a:pt x="443" y="242"/>
                      <a:pt x="443" y="242"/>
                      <a:pt x="443" y="242"/>
                    </a:cubicBezTo>
                    <a:cubicBezTo>
                      <a:pt x="444" y="100"/>
                      <a:pt x="257" y="0"/>
                      <a:pt x="257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99" name="Freeform 33"/>
              <p:cNvSpPr/>
              <p:nvPr/>
            </p:nvSpPr>
            <p:spPr>
              <a:xfrm>
                <a:off x="4322880" y="2476440"/>
                <a:ext cx="276120" cy="8827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868" h="2778">
                    <a:moveTo>
                      <a:pt x="0" y="0"/>
                    </a:moveTo>
                    <a:cubicBezTo>
                      <a:pt x="868" y="0"/>
                      <a:pt x="868" y="0"/>
                      <a:pt x="868" y="0"/>
                    </a:cubicBezTo>
                    <a:cubicBezTo>
                      <a:pt x="868" y="0"/>
                      <a:pt x="675" y="92"/>
                      <a:pt x="675" y="245"/>
                    </a:cubicBezTo>
                    <a:cubicBezTo>
                      <a:pt x="675" y="2514"/>
                      <a:pt x="675" y="2514"/>
                      <a:pt x="675" y="2514"/>
                    </a:cubicBezTo>
                    <a:cubicBezTo>
                      <a:pt x="675" y="2677"/>
                      <a:pt x="868" y="2778"/>
                      <a:pt x="868" y="2778"/>
                    </a:cubicBezTo>
                    <a:cubicBezTo>
                      <a:pt x="0" y="2778"/>
                      <a:pt x="0" y="2778"/>
                      <a:pt x="0" y="2778"/>
                    </a:cubicBezTo>
                    <a:cubicBezTo>
                      <a:pt x="0" y="2778"/>
                      <a:pt x="193" y="2677"/>
                      <a:pt x="193" y="2514"/>
                    </a:cubicBezTo>
                    <a:cubicBezTo>
                      <a:pt x="193" y="245"/>
                      <a:pt x="193" y="245"/>
                      <a:pt x="193" y="245"/>
                    </a:cubicBezTo>
                    <a:cubicBezTo>
                      <a:pt x="193" y="9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00" name="Freeform 34"/>
              <p:cNvSpPr/>
              <p:nvPr/>
            </p:nvSpPr>
            <p:spPr>
              <a:xfrm>
                <a:off x="4600440" y="2476440"/>
                <a:ext cx="660600" cy="88272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2079" h="2777">
                    <a:moveTo>
                      <a:pt x="170" y="0"/>
                    </a:moveTo>
                    <a:cubicBezTo>
                      <a:pt x="2079" y="0"/>
                      <a:pt x="2079" y="0"/>
                      <a:pt x="2079" y="0"/>
                    </a:cubicBezTo>
                    <a:cubicBezTo>
                      <a:pt x="1917" y="505"/>
                      <a:pt x="1917" y="505"/>
                      <a:pt x="1917" y="505"/>
                    </a:cubicBezTo>
                    <a:cubicBezTo>
                      <a:pt x="1917" y="505"/>
                      <a:pt x="1869" y="293"/>
                      <a:pt x="1684" y="293"/>
                    </a:cubicBezTo>
                    <a:cubicBezTo>
                      <a:pt x="1288" y="293"/>
                      <a:pt x="1288" y="293"/>
                      <a:pt x="1288" y="293"/>
                    </a:cubicBezTo>
                    <a:cubicBezTo>
                      <a:pt x="1288" y="2515"/>
                      <a:pt x="1288" y="2515"/>
                      <a:pt x="1288" y="2515"/>
                    </a:cubicBezTo>
                    <a:cubicBezTo>
                      <a:pt x="1288" y="2656"/>
                      <a:pt x="1474" y="2777"/>
                      <a:pt x="1474" y="2777"/>
                    </a:cubicBezTo>
                    <a:cubicBezTo>
                      <a:pt x="624" y="2777"/>
                      <a:pt x="624" y="2777"/>
                      <a:pt x="624" y="2777"/>
                    </a:cubicBezTo>
                    <a:cubicBezTo>
                      <a:pt x="624" y="2777"/>
                      <a:pt x="809" y="2668"/>
                      <a:pt x="808" y="2515"/>
                    </a:cubicBezTo>
                    <a:cubicBezTo>
                      <a:pt x="808" y="293"/>
                      <a:pt x="808" y="293"/>
                      <a:pt x="808" y="293"/>
                    </a:cubicBezTo>
                    <a:cubicBezTo>
                      <a:pt x="330" y="293"/>
                      <a:pt x="330" y="293"/>
                      <a:pt x="330" y="293"/>
                    </a:cubicBezTo>
                    <a:cubicBezTo>
                      <a:pt x="195" y="293"/>
                      <a:pt x="0" y="547"/>
                      <a:pt x="0" y="547"/>
                    </a:cubicBez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01" name="Freeform 35"/>
              <p:cNvSpPr/>
              <p:nvPr/>
            </p:nvSpPr>
            <p:spPr>
              <a:xfrm>
                <a:off x="5800680" y="2476440"/>
                <a:ext cx="738360" cy="895320"/>
              </a:xfrm>
              <a:custGeom>
                <a:avLst/>
                <a:gdLst>
                  <a:gd name="textAreaLeft" fmla="*/ 0 w 738360"/>
                  <a:gd name="textAreaRight" fmla="*/ 738720 w 73836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24" h="2820">
                    <a:moveTo>
                      <a:pt x="1488" y="0"/>
                    </a:moveTo>
                    <a:cubicBezTo>
                      <a:pt x="2324" y="0"/>
                      <a:pt x="2324" y="0"/>
                      <a:pt x="2324" y="0"/>
                    </a:cubicBezTo>
                    <a:cubicBezTo>
                      <a:pt x="2324" y="0"/>
                      <a:pt x="2145" y="94"/>
                      <a:pt x="2145" y="244"/>
                    </a:cubicBezTo>
                    <a:cubicBezTo>
                      <a:pt x="2145" y="1926"/>
                      <a:pt x="2145" y="1926"/>
                      <a:pt x="2145" y="1926"/>
                    </a:cubicBezTo>
                    <a:cubicBezTo>
                      <a:pt x="2144" y="2610"/>
                      <a:pt x="1578" y="2820"/>
                      <a:pt x="1185" y="2820"/>
                    </a:cubicBezTo>
                    <a:cubicBezTo>
                      <a:pt x="795" y="2820"/>
                      <a:pt x="184" y="2607"/>
                      <a:pt x="185" y="1926"/>
                    </a:cubicBezTo>
                    <a:cubicBezTo>
                      <a:pt x="185" y="244"/>
                      <a:pt x="185" y="244"/>
                      <a:pt x="185" y="244"/>
                    </a:cubicBezTo>
                    <a:cubicBezTo>
                      <a:pt x="185" y="94"/>
                      <a:pt x="0" y="0"/>
                      <a:pt x="0" y="0"/>
                    </a:cubicBezTo>
                    <a:cubicBezTo>
                      <a:pt x="861" y="0"/>
                      <a:pt x="861" y="0"/>
                      <a:pt x="861" y="0"/>
                    </a:cubicBezTo>
                    <a:cubicBezTo>
                      <a:pt x="861" y="0"/>
                      <a:pt x="669" y="92"/>
                      <a:pt x="669" y="244"/>
                    </a:cubicBezTo>
                    <a:cubicBezTo>
                      <a:pt x="669" y="1926"/>
                      <a:pt x="669" y="1926"/>
                      <a:pt x="669" y="1926"/>
                    </a:cubicBezTo>
                    <a:cubicBezTo>
                      <a:pt x="669" y="2285"/>
                      <a:pt x="907" y="2519"/>
                      <a:pt x="1185" y="2519"/>
                    </a:cubicBezTo>
                    <a:cubicBezTo>
                      <a:pt x="1464" y="2519"/>
                      <a:pt x="1676" y="2275"/>
                      <a:pt x="1677" y="1926"/>
                    </a:cubicBezTo>
                    <a:cubicBezTo>
                      <a:pt x="1677" y="244"/>
                      <a:pt x="1677" y="244"/>
                      <a:pt x="1677" y="244"/>
                    </a:cubicBezTo>
                    <a:cubicBezTo>
                      <a:pt x="1677" y="94"/>
                      <a:pt x="1488" y="0"/>
                      <a:pt x="1488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02" name="Freeform 36"/>
              <p:cNvSpPr/>
              <p:nvPr/>
            </p:nvSpPr>
            <p:spPr>
              <a:xfrm>
                <a:off x="3218040" y="2476440"/>
                <a:ext cx="744480" cy="898560"/>
              </a:xfrm>
              <a:custGeom>
                <a:avLst/>
                <a:gdLst>
                  <a:gd name="textAreaLeft" fmla="*/ 0 w 744480"/>
                  <a:gd name="textAreaRight" fmla="*/ 744840 w 744480"/>
                  <a:gd name="textAreaTop" fmla="*/ 0 h 898560"/>
                  <a:gd name="textAreaBottom" fmla="*/ 898920 h 898560"/>
                </a:gdLst>
                <a:ahLst/>
                <a:rect l="textAreaLeft" t="textAreaTop" r="textAreaRight" b="textAreaBottom"/>
                <a:pathLst>
                  <a:path w="2347" h="2827">
                    <a:moveTo>
                      <a:pt x="1495" y="0"/>
                    </a:moveTo>
                    <a:cubicBezTo>
                      <a:pt x="2347" y="0"/>
                      <a:pt x="2347" y="0"/>
                      <a:pt x="2347" y="0"/>
                    </a:cubicBezTo>
                    <a:cubicBezTo>
                      <a:pt x="2347" y="0"/>
                      <a:pt x="2166" y="98"/>
                      <a:pt x="2166" y="247"/>
                    </a:cubicBezTo>
                    <a:cubicBezTo>
                      <a:pt x="2166" y="248"/>
                      <a:pt x="2166" y="1925"/>
                      <a:pt x="2166" y="1925"/>
                    </a:cubicBezTo>
                    <a:cubicBezTo>
                      <a:pt x="2166" y="2611"/>
                      <a:pt x="1573" y="2827"/>
                      <a:pt x="1176" y="2827"/>
                    </a:cubicBezTo>
                    <a:cubicBezTo>
                      <a:pt x="786" y="2827"/>
                      <a:pt x="175" y="2608"/>
                      <a:pt x="175" y="1925"/>
                    </a:cubicBezTo>
                    <a:cubicBezTo>
                      <a:pt x="174" y="247"/>
                      <a:pt x="174" y="247"/>
                      <a:pt x="174" y="247"/>
                    </a:cubicBezTo>
                    <a:cubicBezTo>
                      <a:pt x="174" y="97"/>
                      <a:pt x="0" y="0"/>
                      <a:pt x="0" y="0"/>
                    </a:cubicBezTo>
                    <a:cubicBezTo>
                      <a:pt x="860" y="0"/>
                      <a:pt x="860" y="0"/>
                      <a:pt x="860" y="0"/>
                    </a:cubicBezTo>
                    <a:cubicBezTo>
                      <a:pt x="860" y="0"/>
                      <a:pt x="661" y="98"/>
                      <a:pt x="661" y="247"/>
                    </a:cubicBezTo>
                    <a:cubicBezTo>
                      <a:pt x="660" y="1925"/>
                      <a:pt x="660" y="1925"/>
                      <a:pt x="660" y="1925"/>
                    </a:cubicBezTo>
                    <a:cubicBezTo>
                      <a:pt x="660" y="2280"/>
                      <a:pt x="897" y="2525"/>
                      <a:pt x="1176" y="2527"/>
                    </a:cubicBezTo>
                    <a:cubicBezTo>
                      <a:pt x="1454" y="2528"/>
                      <a:pt x="1678" y="2277"/>
                      <a:pt x="1678" y="1925"/>
                    </a:cubicBezTo>
                    <a:cubicBezTo>
                      <a:pt x="1679" y="247"/>
                      <a:pt x="1679" y="247"/>
                      <a:pt x="1679" y="247"/>
                    </a:cubicBezTo>
                    <a:cubicBezTo>
                      <a:pt x="1679" y="97"/>
                      <a:pt x="1495" y="0"/>
                      <a:pt x="149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703" name="Freeform 37"/>
              <p:cNvSpPr/>
              <p:nvPr/>
            </p:nvSpPr>
            <p:spPr>
              <a:xfrm>
                <a:off x="5230800" y="2459160"/>
                <a:ext cx="568440" cy="915840"/>
              </a:xfrm>
              <a:custGeom>
                <a:avLst/>
                <a:gdLst>
                  <a:gd name="textAreaLeft" fmla="*/ 0 w 568440"/>
                  <a:gd name="textAreaRight" fmla="*/ 568800 w 5684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1788" h="2885">
                    <a:moveTo>
                      <a:pt x="1537" y="501"/>
                    </a:moveTo>
                    <a:cubicBezTo>
                      <a:pt x="1537" y="501"/>
                      <a:pt x="1416" y="290"/>
                      <a:pt x="1067" y="289"/>
                    </a:cubicBezTo>
                    <a:cubicBezTo>
                      <a:pt x="718" y="288"/>
                      <a:pt x="529" y="471"/>
                      <a:pt x="528" y="709"/>
                    </a:cubicBezTo>
                    <a:cubicBezTo>
                      <a:pt x="527" y="978"/>
                      <a:pt x="729" y="1079"/>
                      <a:pt x="1042" y="1230"/>
                    </a:cubicBezTo>
                    <a:cubicBezTo>
                      <a:pt x="1340" y="1373"/>
                      <a:pt x="1788" y="1570"/>
                      <a:pt x="1786" y="2067"/>
                    </a:cubicBezTo>
                    <a:cubicBezTo>
                      <a:pt x="1785" y="2513"/>
                      <a:pt x="1390" y="2885"/>
                      <a:pt x="681" y="2885"/>
                    </a:cubicBezTo>
                    <a:cubicBezTo>
                      <a:pt x="463" y="2884"/>
                      <a:pt x="162" y="2813"/>
                      <a:pt x="162" y="2813"/>
                    </a:cubicBezTo>
                    <a:cubicBezTo>
                      <a:pt x="0" y="2280"/>
                      <a:pt x="0" y="2280"/>
                      <a:pt x="0" y="2280"/>
                    </a:cubicBezTo>
                    <a:cubicBezTo>
                      <a:pt x="150" y="2426"/>
                      <a:pt x="416" y="2582"/>
                      <a:pt x="689" y="2582"/>
                    </a:cubicBezTo>
                    <a:cubicBezTo>
                      <a:pt x="973" y="2582"/>
                      <a:pt x="1311" y="2407"/>
                      <a:pt x="1311" y="2126"/>
                    </a:cubicBezTo>
                    <a:cubicBezTo>
                      <a:pt x="1311" y="1583"/>
                      <a:pt x="48" y="1674"/>
                      <a:pt x="48" y="765"/>
                    </a:cubicBezTo>
                    <a:cubicBezTo>
                      <a:pt x="48" y="453"/>
                      <a:pt x="266" y="0"/>
                      <a:pt x="1019" y="0"/>
                    </a:cubicBezTo>
                    <a:cubicBezTo>
                      <a:pt x="1264" y="0"/>
                      <a:pt x="1537" y="72"/>
                      <a:pt x="1537" y="72"/>
                    </a:cubicBezTo>
                    <a:lnTo>
                      <a:pt x="1537" y="50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168120" y="692280"/>
            <a:ext cx="8786880" cy="59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7280" indent="-28728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result of low delay tile proposal (JCTVC-E140) is pres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920" indent="-2404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pose is to provide very low delay functionality with higher picture quality in HEVC , which is requested from major broadcasters (e.g. CBS and ABC, as referred in JCTVC-F14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scheme in JCTVC-E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920" indent="-2404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low delay mode in which the order of entropy coding is the raster scan within a pi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13644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ing order of entropy coding and source coding can be set differen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920" indent="-2404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yntax for restricting reference across tile boundary in a flexible ma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13644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ile with lower index is treated as “not availabl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920" indent="-2404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ario: very low delay coding using vertical intra line ref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920" indent="-2404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ing gain of the proposed scheme over two existing schemes are measu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920" indent="-2404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is implemented onto HM-4.0-dev-tiles-wpp (v14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920" indent="-2404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 of BD-Rate from -4.6% to -5.8% in low delay configu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920" indent="-2404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ould like to thank Sharp for cross-checking (JCTVC-G96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uggest to promote the proposed scheme to W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スライド番号プレースホルダー 10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FD56-E6A7-4CFE-B665-0CAA7F76112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/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68120" y="869760"/>
            <a:ext cx="8786880" cy="27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low delay coding with high picture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from industries such as broadcasting (JCTVC-E1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ra line refr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ype of gradual decoding refresh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ing delay due to the bitstream buffer can be reduced to 1 Treeblock li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 control for guaranteeing correct reconstruction within one refresh cycle is necessary. (Similar discussion is found in JCTVC-G317 (Qualco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ntrol should prevent contamination of refreshed pixels from non-refreshed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0" name="テキスト ボックス 8"/>
          <p:cNvSpPr/>
          <p:nvPr/>
        </p:nvSpPr>
        <p:spPr>
          <a:xfrm>
            <a:off x="2627280" y="6308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intra line refresh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611" name="Object 9"/>
          <p:cNvGraphicFramePr/>
          <p:nvPr/>
        </p:nvGraphicFramePr>
        <p:xfrm>
          <a:off x="324000" y="3700440"/>
          <a:ext cx="8418240" cy="26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700440"/>
                    <a:ext cx="841824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スライド番号プレースホルダー 11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2F0F-8AD0-4E8A-8EC3-475F3E67643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(2/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68120" y="725400"/>
            <a:ext cx="8786880" cy="29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adation occurs when vertical intra line refresh is applied to HEV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ce insertion in each treeblock line for disabling in-loop filtering at the area boundary leads to significant coding loss. (JCTVC-C0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n-loop filtering remains enabled at the boundary, significant degradation occurs long after 1 refresh cycle. (JCTVC-E0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proposed high-level syntax/semantics for this problem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CTVC-B031, JCTVC-C021, JCTVC-D05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partitioning in source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ymmetric) restriction on reference among 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7" name="テキスト ボックス 7"/>
          <p:cNvSpPr/>
          <p:nvPr/>
        </p:nvSpPr>
        <p:spPr>
          <a:xfrm>
            <a:off x="-36360" y="5869080"/>
            <a:ext cx="252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tional scheme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ultiple slices insertion)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618" name="図 13" descr=""/>
          <p:cNvPicPr/>
          <p:nvPr/>
        </p:nvPicPr>
        <p:blipFill>
          <a:blip r:embed="rId1"/>
          <a:srcRect l="0" t="5932" r="0" b="0"/>
          <a:stretch/>
        </p:blipFill>
        <p:spPr>
          <a:xfrm>
            <a:off x="2498760" y="4049640"/>
            <a:ext cx="2720880" cy="1755720"/>
          </a:xfrm>
          <a:prstGeom prst="rect">
            <a:avLst/>
          </a:prstGeom>
          <a:ln w="0">
            <a:noFill/>
          </a:ln>
        </p:spPr>
      </p:pic>
      <p:sp>
        <p:nvSpPr>
          <p:cNvPr id="619" name="テキスト ボックス 9"/>
          <p:cNvSpPr/>
          <p:nvPr/>
        </p:nvSpPr>
        <p:spPr>
          <a:xfrm>
            <a:off x="2340000" y="5805360"/>
            <a:ext cx="30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radation caused by in-loop filtering at area boundary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CTVC-E061)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0" name="テキスト ボックス 13"/>
          <p:cNvSpPr/>
          <p:nvPr/>
        </p:nvSpPr>
        <p:spPr>
          <a:xfrm>
            <a:off x="5292720" y="595008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ed high-level syntax/semantics in JCTVC-B031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621" name="Object 14"/>
          <p:cNvGraphicFramePr/>
          <p:nvPr/>
        </p:nvGraphicFramePr>
        <p:xfrm>
          <a:off x="108000" y="3860640"/>
          <a:ext cx="2343240" cy="208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2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3860640"/>
                    <a:ext cx="234324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15"/>
          <p:cNvGraphicFramePr/>
          <p:nvPr/>
        </p:nvGraphicFramePr>
        <p:xfrm>
          <a:off x="5508720" y="3645000"/>
          <a:ext cx="3246480" cy="230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4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08720" y="3645000"/>
                    <a:ext cx="324648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スライド番号プレースホルダー 1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75B2-0370-422D-885F-13D82D61C54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(3/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68120" y="692280"/>
            <a:ext cx="878688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le scheme realizes sub-picture partitio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high-quality and very low delay cannot co-exists with tile in WD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der of entropy coding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raster scan within a t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elay of 1-picture duration is inevitable when vertical tiles are inse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iles are inserted in each treeblock rows, loss in coding efficiency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TVC-F140 proposes additional mode in which the order of entropy coding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raster-scan within a pi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result of the proposed scheme is shown in this con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9" name="テキスト ボックス 7"/>
          <p:cNvSpPr/>
          <p:nvPr/>
        </p:nvSpPr>
        <p:spPr>
          <a:xfrm>
            <a:off x="252360" y="608472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opy coding order of WD4 tile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0" name="テキスト ボックス 10"/>
          <p:cNvSpPr/>
          <p:nvPr/>
        </p:nvSpPr>
        <p:spPr>
          <a:xfrm>
            <a:off x="3130560" y="6084720"/>
            <a:ext cx="25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delay coding with WD4 tile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1" name="テキスト ボックス 11"/>
          <p:cNvSpPr/>
          <p:nvPr/>
        </p:nvSpPr>
        <p:spPr>
          <a:xfrm>
            <a:off x="6300720" y="608472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ed Low delay tile in JCTVC-F140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632" name="Object 16"/>
          <p:cNvGraphicFramePr/>
          <p:nvPr/>
        </p:nvGraphicFramePr>
        <p:xfrm>
          <a:off x="679320" y="3454560"/>
          <a:ext cx="770904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3454560"/>
                    <a:ext cx="770904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スライド番号プレースホルダー 1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0A28-7C75-41DB-BEF2-3D5EBA57552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68120" y="764640"/>
            <a:ext cx="8786880" cy="28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delay coding using vertical intra line refresh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resh_cycle = Ceil( picture_width / LCU_width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fting speed of the vertical intra line is LCU_width per pi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4 tile based scheme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_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heme without tile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_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: implemented onto HM-4.0-dev-tiles-wpp (v14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638" name="Object 7"/>
          <p:cNvGraphicFramePr/>
          <p:nvPr/>
        </p:nvGraphicFramePr>
        <p:xfrm>
          <a:off x="755640" y="4005360"/>
          <a:ext cx="1579680" cy="21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4005360"/>
                    <a:ext cx="1579680" cy="21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Object 8"/>
          <p:cNvGraphicFramePr/>
          <p:nvPr/>
        </p:nvGraphicFramePr>
        <p:xfrm>
          <a:off x="3638520" y="3500280"/>
          <a:ext cx="4965840" cy="23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8520" y="3500280"/>
                    <a:ext cx="4965840" cy="23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テキスト ボックス 8"/>
          <p:cNvSpPr/>
          <p:nvPr/>
        </p:nvSpPr>
        <p:spPr>
          <a:xfrm>
            <a:off x="324000" y="608472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_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4 tile based scheme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3" name="テキスト ボックス 9"/>
          <p:cNvSpPr/>
          <p:nvPr/>
        </p:nvSpPr>
        <p:spPr>
          <a:xfrm>
            <a:off x="4211640" y="602136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_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me without tile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4" name="テキスト ボックス 10"/>
          <p:cNvSpPr/>
          <p:nvPr/>
        </p:nvSpPr>
        <p:spPr>
          <a:xfrm>
            <a:off x="6372360" y="5516640"/>
            <a:ext cx="25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tical intra line is partially overlapped among pictures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5" name="スライド番号プレースホルダー 1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94E2-CF68-460E-8B55-1312843F474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 of proposed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68120" y="691920"/>
            <a:ext cx="8786880" cy="36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ion of reference at the tile bound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 reference for intra prediction and for in-loop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 reference for MV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ile boundary is treated as a picture boundary for in-loop filt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ing order is changed to the raster-scan within a pi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set, no restriction of context reference at the tile bound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ike source coding, entropy coding is completely independent to other pi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649" name="オブジェクト 5"/>
          <p:cNvGraphicFramePr/>
          <p:nvPr/>
        </p:nvGraphicFramePr>
        <p:xfrm>
          <a:off x="2124000" y="4125960"/>
          <a:ext cx="3527640" cy="25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オブジェクト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4125960"/>
                    <a:ext cx="352764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テキスト ボックス 8"/>
          <p:cNvSpPr/>
          <p:nvPr/>
        </p:nvSpPr>
        <p:spPr>
          <a:xfrm>
            <a:off x="5724360" y="533232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scheme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2" name="スライド番号プレースホルダー 1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1972-057E-4F9E-9FD5-BECD1F7C987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4 tile based scheme (Ref_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al restriction of reference at all tile boundaries regardless the presence of slice bound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M4 tile does not support restriction of reference for ALF and SA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heme without tile (Ref_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 of intra prediction for a PU inside the vertical intra line is restricted so that non-refreshed pixels are referred in intra predi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features among the proposed scheme and compared sche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of the vertical intra line in a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ction of the search range in ME (Encoder-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l MVP is not used at a recovery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al use of the flag corresponding to mv_competition_temporal_fla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CTVC-F427, So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6" name="スライド番号プレースホルダー 10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123E-A98B-446A-AD9D-8929CE1BF11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468360" y="3789360"/>
          <a:ext cx="8172360" cy="2346480"/>
        </p:xfrm>
        <a:graphic>
          <a:graphicData uri="http://schemas.openxmlformats.org/drawingml/2006/table">
            <a:tbl>
              <a:tblPr/>
              <a:tblGrid>
                <a:gridCol w="1387440"/>
                <a:gridCol w="1130400"/>
                <a:gridCol w="1130040"/>
                <a:gridCol w="1132200"/>
                <a:gridCol w="1130040"/>
                <a:gridCol w="1131840"/>
                <a:gridCol w="1130400"/>
              </a:tblGrid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5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6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6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5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5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468360" y="1009800"/>
          <a:ext cx="8172360" cy="2346120"/>
        </p:xfrm>
        <a:graphic>
          <a:graphicData uri="http://schemas.openxmlformats.org/drawingml/2006/table">
            <a:tbl>
              <a:tblPr/>
              <a:tblGrid>
                <a:gridCol w="1387440"/>
                <a:gridCol w="1130400"/>
                <a:gridCol w="1130040"/>
                <a:gridCol w="1130400"/>
                <a:gridCol w="998640"/>
                <a:gridCol w="1197000"/>
                <a:gridCol w="1198440"/>
              </a:tblGrid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6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5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9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9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4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6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5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1" name="テキスト ボックス 8"/>
          <p:cNvSpPr/>
          <p:nvPr/>
        </p:nvSpPr>
        <p:spPr>
          <a:xfrm>
            <a:off x="250920" y="620640"/>
            <a:ext cx="3600360" cy="368280"/>
          </a:xfrm>
          <a:prstGeom prst="rect">
            <a:avLst/>
          </a:prstGeom>
          <a:solidFill>
            <a:srgbClr val="f3c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al vs. WD4 Tile (Ref_1)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2" name="テキスト ボックス 9"/>
          <p:cNvSpPr/>
          <p:nvPr/>
        </p:nvSpPr>
        <p:spPr>
          <a:xfrm>
            <a:off x="250920" y="3429000"/>
            <a:ext cx="3600360" cy="368280"/>
          </a:xfrm>
          <a:prstGeom prst="rect">
            <a:avLst/>
          </a:prstGeom>
          <a:solidFill>
            <a:srgbClr val="f3c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al vs. w/o Tile (Ref_2)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3" name="スライド番号プレースホルダー 14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1F6B-1DDE-4092-A42E-B5F15AC6A5F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05:08:18Z</dcterms:created>
  <dc:creator/>
  <dc:description/>
  <dc:language>en-US</dc:language>
  <cp:lastModifiedBy/>
  <dcterms:modified xsi:type="dcterms:W3CDTF">2011-11-22T14:32:57Z</dcterms:modified>
  <cp:revision>3</cp:revision>
  <dc:subject/>
  <dc:title>Benefit of the new syntax and semantics for very low delay coding in HEVC (JCTVC-D0x3, m1XXXX)</dc:title>
</cp:coreProperties>
</file>