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F813-66DB-4CBA-9E9A-7DE7A5782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DD6D-6503-464F-A5A6-9590337D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97E32-A584-4CEA-80F5-7AF0FB4D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15AEA-8E71-4301-9FB5-EDBD98C0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7E040-8775-42F7-86F7-85EF7BB2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087E2E-2951-43BF-8EB0-DAD8FDC9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63FC4-72AC-4999-AB6A-89ACAC8F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79A01-66EC-4FDC-AD48-AFB22CC0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ACAF4-92BB-4474-ABCC-2E2F1E06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754D7-54C1-4413-9B6E-E6B064CEB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07BBC-BAB5-4C04-BA0D-A70EF713C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B5BA-B98D-43C1-88CB-C951052B1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7F98-730D-4207-AFB2-29CE0FAE0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6524-5754-45E7-BC8F-B12CDED94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CE8C-E056-4AF8-871B-FEB6BAFE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818E-AEE7-4616-B237-498499D7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E47C-154B-4325-83E9-DEF1BE88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76AC-1B59-443A-91B2-AC971297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A411-911D-44DB-8688-FE0E02C9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AF62-6311-44D9-8638-D46B1545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6F21-CC3A-47C7-A2E6-853F8DB9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CCBA-9AEF-4B78-B756-9FE8DB87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21B1-D081-40F2-945A-91CE9206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9F24-0C53-410F-AC1A-0BB2BBDC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F692-77C1-4762-8C84-CC9EDEE2F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6D68-3BE6-4E27-8377-19C1E664B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D2C11-9D6E-44F1-8239-5C3B7293C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7BC40-A347-47F0-BB7A-ACFBD68A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9B64E-0EB2-4EA7-93D0-0906E71A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0621E-DCDD-4ECD-8090-A98B1FF2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342F7-9897-455E-97ED-8B6D09B2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4CD6-91B7-4525-8360-4D71A83D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050E6-D814-4CEA-9926-E361707A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AD3C7-4B38-4554-A743-690C174A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5FE43-07C3-449A-8D5C-A19E7E68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BFBB5-803F-4951-B15B-0F400339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2D6EA-927C-4383-B5EA-9145CFD7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72F44-3179-4095-9127-BC1D4ED3B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AD7E8-280A-4C13-9B7D-776EBDCCC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03863-7929-4615-A3C4-097A10B98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3ABB7-3965-46CF-A2BB-A6A559FC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54978-072F-427C-B274-152C55A3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CC1D-46BF-4CF9-87B7-B8CA6FA6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DBE76-AF25-42A2-BB62-E661DA20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4BDC6-FFBD-4CEE-AB9F-FFE0FAFD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17F27-FB56-4F2F-99D1-201E62AE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1FC08-8905-45C9-A91A-A72B0A0D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F5395-7D87-434A-A20C-FF1EDF40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882AC-F34A-45D0-A164-42316D6D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C2EFF-2AD6-44C3-9817-4BB82CD9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9E11E-5EAF-427D-8AC8-8D3F43655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42D6F-6D35-4F21-BCA8-460F79B62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55140-A012-48D8-B961-A460D2A78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2994-7F2D-4157-8536-0691580E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A095E-27A9-468B-9A80-C9E26214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4E503-A83F-41E4-A04A-A175E8DC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70EBD-5CB2-4750-9506-CCAF9368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8BC86-67AE-4A29-96F5-ECA412B4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11086-D379-478B-BE3D-997DAB90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F935C-C786-4C58-B59C-CFC9A1FC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F5FCE-5248-46F2-A3B6-77204E88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B0A14-975F-40D6-AEE3-40B06552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19E36-F4D4-42E8-9405-3F0B4913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039F7-13DC-4D74-A447-BD4BCB09D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2066-D450-4A81-9F4C-373D648E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76FFC-121F-465F-9781-94E957F03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5D4BD-7351-41E8-8000-2B8A6124E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ED1E1-CAB5-44EB-9CB4-5060CA5D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F0BD1-5905-4E82-B0B4-9C989E16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4986B-A5AA-4EB6-8E41-9C0E58AF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D7C14-B541-421D-A43C-378326DA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560D1-1AA1-48D9-95BE-2290B3C5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1FCC3-903D-47A4-9690-A2B4B8E7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E2C3C-4BE0-46EF-A1F4-EAB6E467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7A3D6-AF42-43AB-AE08-241182F3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56E9-260D-4B19-A218-52CC76A8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96856-CA16-416A-9167-E917F634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7E93B-0A82-4EAA-8C0F-837272A99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2B241-8BC3-4B2C-B460-DFB89F42D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2B3AB-3ECD-4801-898C-A96D5D313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DE259-7CEC-4E58-9693-E34FE861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D6303-A9F4-4071-A19D-C5274ADA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9ED23-62AF-4744-88E7-66623BA7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379EA-4B48-46A9-9624-EA63C110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FE55A-7B81-4E67-B384-C411B723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FCEAA-CEDC-4BBF-97F6-8DCE4A22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93F9-7FE4-4994-B601-5110A4EC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0BAC0-38C4-44E3-A125-0F1E4DE3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61E75-4DE5-4786-B3A6-3E98173A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88D81-2EFC-43F3-8E86-C34D77F7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0A7C7-FD46-48BA-AFBD-BB0870682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7D0F6-8B54-47A9-8192-33F2CEC25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0E907-5FF0-4997-B9C5-17CBEE144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42DAB-0847-4745-81D6-DA739A72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ECC51-2AD6-4C5F-AF3E-DFE71F8A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2E751-2F0A-4D9F-8B12-BED8ABEA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7FE04-F9DF-4E56-ACA7-AE6F3F3D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02E6-4B6C-4BE8-957E-8AEB7D35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EEA57-5979-494C-8458-84E2C73B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DF4B3-D79F-4283-9D2B-5FE047D3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15901-B81A-45E1-818A-69FF7A91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4FA19-371A-471F-B93D-131EC900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8F102-48D9-425F-9A27-6DB8C74F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27313-DB2D-4A1D-9C6A-DD08B991F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C3BD3-D213-4BE2-8834-61DC52DBA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31382-BACF-4B1F-9053-C8EAAB02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129B9-4C26-426F-A891-A64BDA90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A841B-8457-401E-8F23-1B45B15A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8458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5680" y="603864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HK" sz="8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HK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14360" y="6038640"/>
            <a:ext cx="289548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2F53-5717-4F99-B0A3-EF0C0B035797}" type="slidenum">
              <a: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55680" y="603864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HK" sz="8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HK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14360" y="6038640"/>
            <a:ext cx="289548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5C3F-8079-453D-A839-380DC8BDAA02}" type="slidenum">
              <a: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47240" indent="-14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7240" indent="-147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7240" indent="-14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47240" indent="-147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47240" indent="-14724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47240" indent="-14724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55680" y="603864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HK" sz="8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HK" sz="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14360" y="6038640"/>
            <a:ext cx="289548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0270-ABC2-4016-BCEA-BCD6A772B65E}" type="slidenum">
              <a:rPr b="0" lang="en-US" sz="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47240" indent="-147240">
              <a:spcBef>
                <a:spcPts val="7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7240" indent="-147240">
              <a:spcBef>
                <a:spcPts val="7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7240" indent="-147240">
              <a:spcBef>
                <a:spcPts val="7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47240" indent="-147240">
              <a:spcBef>
                <a:spcPts val="7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47240" indent="-147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47240" indent="-147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355680" y="603864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HK" sz="8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HK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14360" y="6038640"/>
            <a:ext cx="289548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753A-879D-4848-AB4A-B622F55CF6B7}" type="slidenum">
              <a: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47240" indent="-14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7240" indent="-147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7240" indent="-14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47240" indent="-147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47240" indent="-14724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47240" indent="-14724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355680" y="603864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HK" sz="8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HK" sz="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14360" y="6038640"/>
            <a:ext cx="289548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2623-1308-4009-B62A-8BB9AA530011}" type="slidenum">
              <a:rPr b="0" lang="en-US" sz="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8458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355680" y="603864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HK" sz="8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HK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14360" y="6038640"/>
            <a:ext cx="289548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D540-E566-425D-AF8F-5DED73838515}" type="slidenum">
              <a: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9"/>
          </p:nvPr>
        </p:nvSpPr>
        <p:spPr>
          <a:xfrm>
            <a:off x="355680" y="603864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HK" sz="8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HK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20"/>
          </p:nvPr>
        </p:nvSpPr>
        <p:spPr>
          <a:xfrm>
            <a:off x="3114360" y="6038640"/>
            <a:ext cx="289548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sldNum" idx="21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559F-D249-4692-A324-C70496E88B87}" type="slidenum">
              <a: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355680" y="607824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8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2485800" y="6078240"/>
            <a:ext cx="415260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8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6641640" y="60782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8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9423-6EDD-4077-AFBF-94D55A809C9B}" type="slidenum">
              <a:rPr b="0" lang="ja-JP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25"/>
          </p:nvPr>
        </p:nvSpPr>
        <p:spPr>
          <a:xfrm>
            <a:off x="355680" y="603864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8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26"/>
          </p:nvPr>
        </p:nvSpPr>
        <p:spPr>
          <a:xfrm>
            <a:off x="2475000" y="6038640"/>
            <a:ext cx="41637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8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27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8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5968-CC0F-4511-B1CF-151ECEA75326}" type="slidenum">
              <a:rPr b="0" lang="ja-JP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968400" algn="ctr">
              <a:spcBef>
                <a:spcPts val="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31616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316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316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33000" y="534600"/>
            <a:ext cx="861372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VLC for high level syntax (ALF and SAO parameters) </a:t>
            </a:r>
            <a:br>
              <a:rPr sz="40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JCTVC-G122)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358560" y="2971440"/>
            <a:ext cx="8458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Vivienne S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xas Instru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068560" y="4917240"/>
            <a:ext cx="517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int Collaborative Team on Video Coding (JCT-V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ITU-T SG16 WP3 and ISO/IEC JTb1/SC29/WG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th Meeting: Geneva, CH, 21-30 Nov, 201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97135-363C-40B3-9575-BB54C8D64A2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BAC used for high level syntax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67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 level syntax is typically handled by firmware, which traditionally don’t have CABAC acceleration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CTVC-F377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reduced system implementation complexity it is desirable for all syntax elements found in slice header, APS, PPS, and SPS be coded with simple VL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BAC coded high level syntax elements in HM-4.0 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f_cu_control_flag, alf_cu_control_max_depth, alf_length_cu_control_info, alf_cu_flag, sao_split_flag, sao_flag_cb, sao_flag_cr, sao_type_idx, sao_off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2D5E7-50C8-4AAB-A6FB-F74F4A362E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posed Approach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 always using VLC for high level syntax elements even when CABAC is selected as the entropy coder.  These parameters 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yte alignment moved from before transmitting SAO parameters in the slice header to after the slice hea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AF9DF-2A48-4685-BCF0-D4ADAFE9AF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xperiment Resul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33000" y="1185840"/>
            <a:ext cx="8201160" cy="20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M-4.0 under common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 platform is LSF equipped wit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Intel(R) Xeon(R) CPU X5570@2.93GHz 64 bits Linux mach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cross-checked by H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380880" y="3124080"/>
          <a:ext cx="8000640" cy="730440"/>
        </p:xfrm>
        <a:graphic>
          <a:graphicData uri="http://schemas.openxmlformats.org/drawingml/2006/table">
            <a:tbl>
              <a:tblPr/>
              <a:tblGrid>
                <a:gridCol w="2090880"/>
                <a:gridCol w="2997720"/>
                <a:gridCol w="2912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4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In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4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andom A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4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ow Del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4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4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4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1848F-29E6-4C67-9FEB-703578B372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use VLC for high level syntax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ligible impact on coding efficiency (up to 0.1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mend for adoption into HEVC test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text available in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5289E-C468-4CCB-9002-422198E680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0866746</cp:lastModifiedBy>
  <dcterms:modified xsi:type="dcterms:W3CDTF">2011-11-20T15:33:35Z</dcterms:modified>
  <cp:revision>6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