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86D7-BD87-4685-BCDC-DCF1001C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6F68-67FF-4121-A7F3-421D88E0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5DF-2555-4801-B960-D25B1BC5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F057-F312-4571-AAF9-2E9A36EF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10EC-32E8-418C-A418-31D023B6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7E3D-635C-4C24-B4BD-DEF0E651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BF13-2C4E-46AC-886B-90C2FBBF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6447-B44D-4053-9227-BF9644E7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8EA1-FD20-4176-A549-5850D5D0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30AB-7AB4-4372-B555-66C649BB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44CC-75DF-4720-8502-1C73A3B8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DA0-47F4-4FBC-91BD-35076AEA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9F53-E402-47F6-A0FE-BFE9AC7F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6A1A-A2FA-4CDE-9E0D-8B7E978B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3BE6-32AC-462C-A44D-C429CADA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7450-F7F4-4892-8E19-11401A79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F7B7-0B05-4756-A36E-B6C51C92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91472-A85B-4C4F-8897-48796EF1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55333-6ADD-48E9-B96B-E2E74E66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BC4E5-3CB2-4800-8402-DF7591AF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76353-D2EA-4A91-9B4B-8685F14B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3D1F9-1E17-41C2-843F-9D6552F7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5AD8-16DB-486E-987C-8204F73F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DC05E-E7CC-400B-A013-281EBA4D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C2A99-1B3C-4017-933B-AC6EAC43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F42D4-E780-4FDA-89BD-3CD3BB9E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E58BD-4CE6-4FC1-B414-333C02BD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28BDD-237C-4E46-A278-167C2E44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F2A83-60C4-41D2-88EE-40D184CE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02F01-A278-4A19-8EB4-87A5DE67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024AD-64E5-4992-9C05-53BC05A7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3F722-0538-417E-889F-C0222159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F0B70-CEBC-4BF4-9F4B-C0ABA5C1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C99-ECD7-4A25-87FF-4BEECCAC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42771-3649-4638-873C-2005631C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94DF3-E6DE-42B8-8B36-C636138B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13526-9F25-4ADE-BA49-D2C09629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16D90-6480-4AB9-96DE-6E42948F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AAEB7-8311-401F-AC2D-C56B5763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2662F-261C-439A-B28F-72D6BC15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32593-B243-439C-A888-5498B876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0747A-5FA8-425B-B361-6C32EC2A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74B7C-6596-44C2-929C-8B5167ED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9A3B6-CF91-457F-A81E-6673294F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9C88-4AAD-492C-A77C-B30BC1A6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AA746-D4B0-4BD3-A089-307D9B6D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DBDAC-4CB8-480F-A9F4-0B4BACAC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E59B7-853B-46A7-AD29-013140D3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A5588-7B97-41D0-B841-804E7597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D3256-249A-47BC-87B1-F45A0285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E1F49-AB20-415B-BCAD-74CB0632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D3D29-7D27-46BB-873E-56284485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548FB-5AD4-4B50-B421-33C299AC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20D4A-E02A-4686-8029-36D4A525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55093-7443-4E0A-BBD7-5372B718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FEE5-7A02-4EDC-9389-FFFE69BD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937DF-8211-424B-8238-7401CB20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FDFF-F174-4F90-BE80-B572095E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8266-1CB2-4DA2-A544-F2479777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43B7-8FDA-472C-920F-82559225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5680" y="60782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01DA-A009-4936-91EA-343C023BA0D6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85800" y="6078240"/>
            <a:ext cx="4152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FF10-C7FC-448A-BD87-E68379AE73B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7D4A-0669-49F2-8D27-2A01572EB9C1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475000" y="6038640"/>
            <a:ext cx="41637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9689-32DA-4AC7-AF1D-6F7EAB50302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68400" algn="ctr">
              <a:spcBef>
                <a:spcPts val="8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1616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161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161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02D0-8930-4F82-A852-66F5299E2D99}" type="datetime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468520" y="6038640"/>
            <a:ext cx="41594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19FA-F254-454A-A913-1166571F9DF5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430C-A2C2-461D-BBB8-26AC8DB7E336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485800" y="6039000"/>
            <a:ext cx="4152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07CA-8D0D-494F-B23F-D94A8C56249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015B-5E7E-4715-9ABE-928D4BD2F2BF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486160" y="6039000"/>
            <a:ext cx="416376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F82F-E324-4A21-86FD-CC0046C35B9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33000" y="85716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on-CE9: Modified H positions for memory bandwidth reduction in TMVP derivation 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33000" y="3659040"/>
            <a:ext cx="84582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inhua  Zho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Texas Instruments Inc., US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0" y="313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56440" y="265320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CTVC-G0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9ABC-981E-42FC-B73A-410F41DB211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F27DAC9-A8F3-43F4-B843-3CD056E5C5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tivat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33360" y="4223880"/>
            <a:ext cx="84679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586320" y="757080"/>
            <a:ext cx="5058360" cy="2106720"/>
            <a:chOff x="3586320" y="757080"/>
            <a:chExt cx="5058360" cy="2106720"/>
          </a:xfrm>
        </p:grpSpPr>
        <p:sp>
          <p:nvSpPr>
            <p:cNvPr id="224" name=""/>
            <p:cNvSpPr/>
            <p:nvPr/>
          </p:nvSpPr>
          <p:spPr>
            <a:xfrm>
              <a:off x="4501800" y="1117080"/>
              <a:ext cx="1436400" cy="1110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urrent P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16880" y="2229480"/>
              <a:ext cx="484560" cy="365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88200" y="757080"/>
              <a:ext cx="448200" cy="354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17600" y="757080"/>
              <a:ext cx="484560" cy="354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86320" y="2228040"/>
              <a:ext cx="91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501800" y="2228040"/>
              <a:ext cx="0" cy="63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16880" y="1872000"/>
              <a:ext cx="484560" cy="354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08960" y="1110960"/>
              <a:ext cx="1436400" cy="1110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-located P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10080" y="1391040"/>
              <a:ext cx="484560" cy="354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CR 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60120" y="2210400"/>
              <a:ext cx="484560" cy="354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H 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34960" y="757080"/>
              <a:ext cx="484560" cy="354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492000" y="3495600"/>
            <a:ext cx="5566320" cy="2170440"/>
            <a:chOff x="3492000" y="3495600"/>
            <a:chExt cx="5566320" cy="2170440"/>
          </a:xfrm>
        </p:grpSpPr>
        <p:sp>
          <p:nvSpPr>
            <p:cNvPr id="236" name=""/>
            <p:cNvSpPr/>
            <p:nvPr/>
          </p:nvSpPr>
          <p:spPr>
            <a:xfrm>
              <a:off x="6626520" y="3679560"/>
              <a:ext cx="564840" cy="2372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LC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18240" y="5311800"/>
              <a:ext cx="1111680" cy="3542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HM4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32600" y="4148280"/>
              <a:ext cx="5760" cy="432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501000" y="3495600"/>
              <a:ext cx="1817280" cy="1742760"/>
              <a:chOff x="3501000" y="3495600"/>
              <a:chExt cx="1817280" cy="1742760"/>
            </a:xfrm>
          </p:grpSpPr>
          <p:sp>
            <p:nvSpPr>
              <p:cNvPr id="240" name=""/>
              <p:cNvSpPr/>
              <p:nvPr/>
            </p:nvSpPr>
            <p:spPr>
              <a:xfrm>
                <a:off x="3501000" y="3495600"/>
                <a:ext cx="908640" cy="866520"/>
              </a:xfrm>
              <a:prstGeom prst="rect">
                <a:avLst/>
              </a:prstGeom>
              <a:solidFill>
                <a:srgbClr val="ffcc99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404240" y="3495600"/>
                <a:ext cx="908640" cy="866520"/>
              </a:xfrm>
              <a:prstGeom prst="rect">
                <a:avLst/>
              </a:prstGeom>
              <a:solidFill>
                <a:srgbClr val="ffcc99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506400" y="4371840"/>
                <a:ext cx="908640" cy="866520"/>
              </a:xfrm>
              <a:prstGeom prst="rect">
                <a:avLst/>
              </a:prstGeom>
              <a:solidFill>
                <a:srgbClr val="ffcc99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409640" y="4371840"/>
                <a:ext cx="908640" cy="866520"/>
              </a:xfrm>
              <a:prstGeom prst="rect">
                <a:avLst/>
              </a:prstGeom>
              <a:solidFill>
                <a:srgbClr val="ffcc99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3492000" y="3495600"/>
              <a:ext cx="1111680" cy="10954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24520" y="3578040"/>
              <a:ext cx="491400" cy="42840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29920" y="4152600"/>
              <a:ext cx="479880" cy="4381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26520" y="4245480"/>
              <a:ext cx="2431800" cy="2372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o-located motion data fetch a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281120" y="2765520"/>
            <a:ext cx="33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ons of spatial/temporal MV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06920" y="5641920"/>
            <a:ext cx="50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-located motion data fetch area for the current LC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4600" y="1065240"/>
            <a:ext cx="33814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TMVP positions require motion data from four LCUs in the co-located frame for TMVP derivation of the current LC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memory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tion data Line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ed H TMVP positions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 bandwidth re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tion data line buffer remo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2F5D-58EC-452D-A624-6FE5C70C279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EDB67-61FA-4B23-889C-BA6933C9B7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posed modification 1 (configuration 1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403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48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37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537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537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38400" y="52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759040" y="1972080"/>
            <a:ext cx="5767560" cy="4102200"/>
            <a:chOff x="2759040" y="1972080"/>
            <a:chExt cx="5767560" cy="4102200"/>
          </a:xfrm>
        </p:grpSpPr>
        <p:sp>
          <p:nvSpPr>
            <p:cNvPr id="260" name=""/>
            <p:cNvSpPr/>
            <p:nvPr/>
          </p:nvSpPr>
          <p:spPr>
            <a:xfrm>
              <a:off x="2759760" y="2565360"/>
              <a:ext cx="1662480" cy="1424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22240" y="2565360"/>
              <a:ext cx="1662480" cy="142488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59760" y="3990600"/>
              <a:ext cx="1662480" cy="142488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22240" y="3990600"/>
              <a:ext cx="1662480" cy="142488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59760" y="3277800"/>
              <a:ext cx="166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3480" y="2565360"/>
              <a:ext cx="0" cy="142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22240" y="4703040"/>
              <a:ext cx="166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72200" y="2802960"/>
              <a:ext cx="237240" cy="23760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09880" y="4227840"/>
              <a:ext cx="237240" cy="2372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72200" y="4584240"/>
              <a:ext cx="237240" cy="2372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22960" y="3274560"/>
              <a:ext cx="237240" cy="2372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28600" y="2684160"/>
              <a:ext cx="593640" cy="23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U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9920" y="2208960"/>
              <a:ext cx="237240" cy="2372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12360" y="1972080"/>
              <a:ext cx="1428840" cy="59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entral TMVP posi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Inside LCU&amp;PU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72200" y="3515400"/>
              <a:ext cx="237240" cy="2372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78640" y="3159000"/>
              <a:ext cx="237240" cy="2372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92640" y="5177880"/>
              <a:ext cx="237600" cy="23724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16120" y="5177880"/>
              <a:ext cx="237240" cy="23724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91080" y="3159000"/>
              <a:ext cx="237600" cy="2372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78640" y="4227840"/>
              <a:ext cx="237240" cy="2372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16320" y="3397320"/>
              <a:ext cx="1344960" cy="47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ified H TMVP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i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59920" y="3430440"/>
              <a:ext cx="237240" cy="23724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28600" y="3396600"/>
              <a:ext cx="593640" cy="23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59840" y="3634200"/>
              <a:ext cx="593640" cy="23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55440" y="4500360"/>
              <a:ext cx="474120" cy="1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50600" y="3634200"/>
              <a:ext cx="593640" cy="23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3480" y="3990600"/>
              <a:ext cx="360" cy="142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05560" y="5212800"/>
              <a:ext cx="474480" cy="1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U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78640" y="4940280"/>
              <a:ext cx="237240" cy="23760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09880" y="4940280"/>
              <a:ext cx="237240" cy="23760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54200" y="5177880"/>
              <a:ext cx="237600" cy="23724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28600" y="4584240"/>
              <a:ext cx="593640" cy="23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57680" y="5204520"/>
              <a:ext cx="474120" cy="1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U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18840" y="3150720"/>
              <a:ext cx="593640" cy="2372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U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59720" y="2941920"/>
              <a:ext cx="593640" cy="2372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U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88240" y="4275360"/>
              <a:ext cx="593640" cy="2376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U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89960" y="4615920"/>
              <a:ext cx="593640" cy="2372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U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32120" y="2144880"/>
              <a:ext cx="3486960" cy="3542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U/PU partitioning of the current LC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59040" y="5399640"/>
              <a:ext cx="0" cy="6588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81840" y="5415480"/>
              <a:ext cx="83124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81840" y="5415480"/>
              <a:ext cx="720" cy="6588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50520" y="5771880"/>
              <a:ext cx="2018880" cy="2372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ottom neighboring LC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00640" y="5771880"/>
              <a:ext cx="2256120" cy="2372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ottom-right neighboring LC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07720" y="4847040"/>
              <a:ext cx="2018880" cy="2372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ight neighboring LC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67480" y="2896200"/>
              <a:ext cx="237240" cy="2372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04800" y="2830320"/>
              <a:ext cx="1428840" cy="36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 TMVP posi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07120" y="3975840"/>
              <a:ext cx="237240" cy="2372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48440" y="3982680"/>
              <a:ext cx="237240" cy="2372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1200" y="3984840"/>
              <a:ext cx="237600" cy="2372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76080" y="4694760"/>
              <a:ext cx="237240" cy="2372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64160" y="4520880"/>
              <a:ext cx="474120" cy="1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18640" y="5447160"/>
              <a:ext cx="237600" cy="2376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37640" y="5447160"/>
              <a:ext cx="237240" cy="2376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85440" y="5447160"/>
              <a:ext cx="237240" cy="2376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5305320" y="5573160"/>
              <a:ext cx="247320" cy="199800"/>
              <a:chOff x="5305320" y="5573160"/>
              <a:chExt cx="247320" cy="199800"/>
            </a:xfrm>
          </p:grpSpPr>
          <p:sp>
            <p:nvSpPr>
              <p:cNvPr id="315" name=""/>
              <p:cNvSpPr/>
              <p:nvPr/>
            </p:nvSpPr>
            <p:spPr>
              <a:xfrm flipH="1">
                <a:off x="5305320" y="5585040"/>
                <a:ext cx="247320" cy="17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17920" y="5573160"/>
                <a:ext cx="222480" cy="199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4505400" y="5563440"/>
              <a:ext cx="247680" cy="199800"/>
              <a:chOff x="4505400" y="5563440"/>
              <a:chExt cx="247680" cy="199800"/>
            </a:xfrm>
          </p:grpSpPr>
          <p:sp>
            <p:nvSpPr>
              <p:cNvPr id="318" name=""/>
              <p:cNvSpPr/>
              <p:nvPr/>
            </p:nvSpPr>
            <p:spPr>
              <a:xfrm flipH="1">
                <a:off x="4505400" y="5575320"/>
                <a:ext cx="247680" cy="17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517640" y="5563440"/>
                <a:ext cx="222840" cy="199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6125040" y="5573160"/>
              <a:ext cx="247680" cy="190080"/>
              <a:chOff x="6125040" y="5573160"/>
              <a:chExt cx="247680" cy="190080"/>
            </a:xfrm>
          </p:grpSpPr>
          <p:sp>
            <p:nvSpPr>
              <p:cNvPr id="321" name=""/>
              <p:cNvSpPr/>
              <p:nvPr/>
            </p:nvSpPr>
            <p:spPr>
              <a:xfrm flipH="1">
                <a:off x="6125040" y="5584320"/>
                <a:ext cx="247680" cy="1677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137280" y="5573160"/>
                <a:ext cx="222840" cy="190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"/>
          <p:cNvSpPr/>
          <p:nvPr/>
        </p:nvSpPr>
        <p:spPr>
          <a:xfrm>
            <a:off x="4755600" y="361764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U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554800" y="44874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U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17560" y="360648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U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29680" y="338616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88280" y="451584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U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79360" y="457020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U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8600" y="97956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H positions located in the next LCU row with the closest ones inside the current LCU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0E04-2CE2-44C1-ACC4-7CE159636CB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71631-BF2A-4CCF-9EC1-9BCFB25A90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posed modification 2 (configuration 2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403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48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537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537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37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8600" y="97956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H positions located in the next LCU row, and CR positions with CR3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444400" y="2086200"/>
            <a:ext cx="5767920" cy="4102920"/>
            <a:chOff x="2444400" y="2086200"/>
            <a:chExt cx="5767920" cy="4102920"/>
          </a:xfrm>
        </p:grpSpPr>
        <p:sp>
          <p:nvSpPr>
            <p:cNvPr id="339" name=""/>
            <p:cNvSpPr/>
            <p:nvPr/>
          </p:nvSpPr>
          <p:spPr>
            <a:xfrm>
              <a:off x="2445120" y="2679480"/>
              <a:ext cx="1662480" cy="142524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07960" y="2679480"/>
              <a:ext cx="1662480" cy="142524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45120" y="4104720"/>
              <a:ext cx="1662480" cy="142488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07960" y="4104720"/>
              <a:ext cx="1662480" cy="142488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45120" y="3392280"/>
              <a:ext cx="166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939200" y="2679480"/>
              <a:ext cx="0" cy="142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07960" y="4817160"/>
              <a:ext cx="166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00200" y="3035160"/>
              <a:ext cx="237600" cy="2372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45360" y="4422960"/>
              <a:ext cx="237240" cy="2372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00200" y="4934160"/>
              <a:ext cx="237600" cy="2372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08320" y="3389040"/>
              <a:ext cx="237240" cy="2372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13960" y="2798280"/>
              <a:ext cx="593640" cy="23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U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45640" y="2323080"/>
              <a:ext cx="237240" cy="2372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598080" y="2086200"/>
              <a:ext cx="1428840" cy="59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3 TMVP posi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Inside LCU&amp;PU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00200" y="3692520"/>
              <a:ext cx="237600" cy="2372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68760" y="3546360"/>
              <a:ext cx="237240" cy="23760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72280" y="3546360"/>
              <a:ext cx="237240" cy="23760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41840" y="4422960"/>
              <a:ext cx="237600" cy="2372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13960" y="3510720"/>
              <a:ext cx="593640" cy="23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45200" y="3748320"/>
              <a:ext cx="593640" cy="23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41160" y="4614840"/>
              <a:ext cx="474120" cy="1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35960" y="3748320"/>
              <a:ext cx="593640" cy="23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39200" y="4104720"/>
              <a:ext cx="360" cy="142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90920" y="5327280"/>
              <a:ext cx="474480" cy="1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U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1840" y="5153400"/>
              <a:ext cx="237600" cy="2372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45360" y="5153400"/>
              <a:ext cx="237240" cy="2372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13960" y="4698720"/>
              <a:ext cx="593640" cy="23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43400" y="5319000"/>
              <a:ext cx="474120" cy="1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U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004200" y="3265200"/>
              <a:ext cx="593640" cy="2372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U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45080" y="3056040"/>
              <a:ext cx="593640" cy="2372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U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73600" y="4389840"/>
              <a:ext cx="593640" cy="2376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U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675680" y="4730400"/>
              <a:ext cx="593640" cy="2372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U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517480" y="2259000"/>
              <a:ext cx="3487320" cy="3542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U/PU partitioning of the current LC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444400" y="5514120"/>
              <a:ext cx="0" cy="6591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67200" y="5529960"/>
              <a:ext cx="83124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67200" y="5529960"/>
              <a:ext cx="720" cy="6591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35880" y="5886360"/>
              <a:ext cx="2018880" cy="2372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ottom neighboring LC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86000" y="5886360"/>
              <a:ext cx="2256480" cy="2372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ottom-right neighboring LC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93440" y="4961520"/>
              <a:ext cx="2018880" cy="2372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ight neighboring LC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53200" y="3010320"/>
              <a:ext cx="237240" cy="2372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90520" y="2944440"/>
              <a:ext cx="1428840" cy="36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 TMVP posi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92480" y="4089960"/>
              <a:ext cx="237240" cy="2372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34160" y="4097160"/>
              <a:ext cx="237240" cy="2372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76920" y="4098960"/>
              <a:ext cx="237600" cy="2372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61800" y="4809240"/>
              <a:ext cx="237240" cy="2372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9880" y="4635000"/>
              <a:ext cx="474120" cy="1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04000" y="5561640"/>
              <a:ext cx="237600" cy="2376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23360" y="5561640"/>
              <a:ext cx="237240" cy="2376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71160" y="5561640"/>
              <a:ext cx="237240" cy="2376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4991040" y="5687640"/>
              <a:ext cx="247320" cy="199800"/>
              <a:chOff x="4991040" y="5687640"/>
              <a:chExt cx="247320" cy="199800"/>
            </a:xfrm>
          </p:grpSpPr>
          <p:sp>
            <p:nvSpPr>
              <p:cNvPr id="389" name=""/>
              <p:cNvSpPr/>
              <p:nvPr/>
            </p:nvSpPr>
            <p:spPr>
              <a:xfrm flipH="1">
                <a:off x="4991040" y="5699520"/>
                <a:ext cx="247320" cy="17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003640" y="5687640"/>
                <a:ext cx="222480" cy="199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4191120" y="5677920"/>
              <a:ext cx="247680" cy="199800"/>
              <a:chOff x="4191120" y="5677920"/>
              <a:chExt cx="247680" cy="199800"/>
            </a:xfrm>
          </p:grpSpPr>
          <p:sp>
            <p:nvSpPr>
              <p:cNvPr id="392" name=""/>
              <p:cNvSpPr/>
              <p:nvPr/>
            </p:nvSpPr>
            <p:spPr>
              <a:xfrm flipH="1">
                <a:off x="4191120" y="5689800"/>
                <a:ext cx="247680" cy="17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03360" y="5677920"/>
                <a:ext cx="222840" cy="199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5810400" y="5687640"/>
              <a:ext cx="247680" cy="190080"/>
              <a:chOff x="5810400" y="5687640"/>
              <a:chExt cx="247680" cy="190080"/>
            </a:xfrm>
          </p:grpSpPr>
          <p:sp>
            <p:nvSpPr>
              <p:cNvPr id="395" name=""/>
              <p:cNvSpPr/>
              <p:nvPr/>
            </p:nvSpPr>
            <p:spPr>
              <a:xfrm flipH="1">
                <a:off x="5810400" y="5698800"/>
                <a:ext cx="247680" cy="1677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822640" y="5687640"/>
                <a:ext cx="222840" cy="190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7" name=""/>
          <p:cNvSpPr/>
          <p:nvPr/>
        </p:nvSpPr>
        <p:spPr>
          <a:xfrm>
            <a:off x="4479120" y="375084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U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12080" y="458244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U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003280" y="373968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U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36280" y="350316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U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392720" y="46206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U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564720" y="467316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U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C02-B900-4238-A193-86DF40B2D78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F8171-0CD5-4773-982D-279ABC1C7F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nefits of proposed modifications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403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148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537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148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537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537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50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98600" y="979560"/>
            <a:ext cx="779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modifications co-located motion data fetch area involves in data from two LCUs in the co-located reference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motion data sliding-widow of two LCUs can eliminate the line buffer and reduce the memory bandwidth requirement for TMVP derivation by hal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50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603440" y="3394080"/>
            <a:ext cx="5849640" cy="2170440"/>
            <a:chOff x="1603440" y="3394080"/>
            <a:chExt cx="5849640" cy="2170440"/>
          </a:xfrm>
        </p:grpSpPr>
        <p:sp>
          <p:nvSpPr>
            <p:cNvPr id="415" name=""/>
            <p:cNvSpPr/>
            <p:nvPr/>
          </p:nvSpPr>
          <p:spPr>
            <a:xfrm>
              <a:off x="4897440" y="3578040"/>
              <a:ext cx="593640" cy="2372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LC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50920" y="5210280"/>
              <a:ext cx="1168200" cy="3542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HM4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78320" y="4046760"/>
              <a:ext cx="6120" cy="432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612800" y="3394080"/>
              <a:ext cx="1909800" cy="1742760"/>
              <a:chOff x="1612800" y="3394080"/>
              <a:chExt cx="1909800" cy="1742760"/>
            </a:xfrm>
          </p:grpSpPr>
          <p:sp>
            <p:nvSpPr>
              <p:cNvPr id="419" name=""/>
              <p:cNvSpPr/>
              <p:nvPr/>
            </p:nvSpPr>
            <p:spPr>
              <a:xfrm>
                <a:off x="1612800" y="3394080"/>
                <a:ext cx="954720" cy="866520"/>
              </a:xfrm>
              <a:prstGeom prst="rect">
                <a:avLst/>
              </a:prstGeom>
              <a:solidFill>
                <a:srgbClr val="ffcc99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62120" y="3394080"/>
                <a:ext cx="954720" cy="866520"/>
              </a:xfrm>
              <a:prstGeom prst="rect">
                <a:avLst/>
              </a:prstGeom>
              <a:solidFill>
                <a:srgbClr val="ffcc99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618200" y="4270320"/>
                <a:ext cx="954720" cy="866520"/>
              </a:xfrm>
              <a:prstGeom prst="rect">
                <a:avLst/>
              </a:prstGeom>
              <a:solidFill>
                <a:srgbClr val="ffcc99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567520" y="4270320"/>
                <a:ext cx="955080" cy="866520"/>
              </a:xfrm>
              <a:prstGeom prst="rect">
                <a:avLst/>
              </a:prstGeom>
              <a:solidFill>
                <a:srgbClr val="ffcc99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1603440" y="3394080"/>
              <a:ext cx="1168200" cy="8665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59800" y="3476520"/>
              <a:ext cx="516600" cy="42840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65560" y="4051080"/>
              <a:ext cx="504360" cy="4381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97440" y="4143960"/>
              <a:ext cx="2555640" cy="2372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o-located motion data fetch a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849-20EF-46F2-A7A2-F485DE04E3B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AD5DD-F914-46AA-B964-F9E3B0ECF3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D-rate penalty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403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148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537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148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537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148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537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467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22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96880" y="1046160"/>
          <a:ext cx="7421760" cy="1425600"/>
        </p:xfrm>
        <a:graphic>
          <a:graphicData uri="http://schemas.openxmlformats.org/drawingml/2006/table">
            <a:tbl>
              <a:tblPr/>
              <a:tblGrid>
                <a:gridCol w="2308320"/>
                <a:gridCol w="1068480"/>
                <a:gridCol w="1396800"/>
                <a:gridCol w="1309680"/>
                <a:gridCol w="13384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ri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-HE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-LC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B-HE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B-LC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iguration 1 vs. HM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iguration 2 vs. HM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iguration 1 vs.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0" name=""/>
          <p:cNvSpPr/>
          <p:nvPr/>
        </p:nvSpPr>
        <p:spPr>
          <a:xfrm>
            <a:off x="0" y="464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3433680"/>
            <a:ext cx="808668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commend adoption of configuration 1 or 2 for design simpl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826280" y="535140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checkers: G274 (Orange L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C3EA-3ACA-4175-8C55-48ED38AA8BD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49C84-73D1-45C8-8849-CEEC333FF9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>Eric Wand</dc:creator>
  <dc:description/>
  <dc:language>en-US</dc:language>
  <cp:lastModifiedBy>a0198101</cp:lastModifiedBy>
  <dcterms:modified xsi:type="dcterms:W3CDTF">2011-11-21T10:54:56Z</dcterms:modified>
  <cp:revision>221</cp:revision>
  <dc:subject/>
  <dc:title>Presentation Title Here</dc:title>
</cp:coreProperties>
</file>