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3684-5B06-4057-BA43-0A5FA210779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0F00-BBA9-4638-BBED-F77CB6DCCB7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RA results are lower compared with the LD as a result of the use of future pictures in B sl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2E4B-9528-4065-9342-9CFAB25604A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209E-7223-4EAF-A5A1-450944A3D32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2E19-0CEB-49EF-AF6F-F98621028A4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7535-9735-4053-832C-5A78F870092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73CF-24C6-4CA6-B82E-34850C8CC79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1823-6857-4FDD-9E44-0FBFAC46E48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AEB0-B492-4AAA-8F2D-522ED3A8ED7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RA results are lower compared with the LD as a result of the use of future pictures in B sl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E385-B72E-4954-A0B0-F0FEEBCF898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84A3-EF0C-45FA-B85E-91EF39561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9E1A-6160-4C70-A5F1-1EEAE79D257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0EF90-BA1E-462A-AE2D-73D7D07A3E9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2780-3CFA-42AA-B53B-85B0E92D265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B0D9-17AC-4798-B58C-922142D4A3A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8C0B-EEC3-46F3-8D70-4233F9752A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9DF75-A862-4564-A51D-69249D56C43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FCA2-AF50-4E94-B6CE-4029B830EF9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B1DA-2381-4F6A-B7BE-77F7F0ADE58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AF42D-F217-408E-B80D-0F48DB4C52E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E819-AAF6-4F8A-8DEB-9920E3AC73C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FD4A6D-5410-49D8-A526-EB896ABC6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F51F-998A-4470-9410-3566ECB3789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F7FA24-45F7-49F3-A2E0-E2BCBBB17A3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B857F-E721-4F94-AB38-E5124921139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D20B4-7C52-4932-BF09-130EED6E9A8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06C6A-B6D1-48B3-A88F-AB7095F4C92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07EBE8-48C0-4AF7-9911-7BFC1B7B72E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D8C977-98D9-499A-897F-FBDF02CBC06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66B9D-DDCB-44FD-A680-F57C18D726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84E25-61CF-4AD1-AAC0-294402F70E7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3557F-2CB1-4008-B541-056CB77A320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650FA-C646-4C97-9243-648F7CAFB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9BB4-AC31-4F34-8FA1-CD84480F067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BF394-0B1C-46CB-B8C7-1465F5BCF03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10465B-FD49-4352-BDF5-3AE81A17B65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DCD84-AA0C-4FAC-858C-441F1698408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CFCB6B-B64B-4FB9-887C-7DE644CC265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8E64F-2865-4580-A0B7-E8EBD51654A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496F38-BB13-452A-8BEE-8568E268AFF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16E72-D4A4-44F0-AB6B-56297EE87CC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C8051-BD18-4307-BD0A-068783A179F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1551E-60E0-41A9-B98B-F40491E90F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2718A-3149-47AD-BD71-B6402693F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D2C7-D9A4-4959-AAC7-AEF135197F2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C71020-C936-414F-9ECB-298BF971937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A70A5-BE6F-41EB-9F56-FD5D30276F1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2B181-7FD2-4FE5-A51D-8F8415E495A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B64E5-7B4A-4A23-924E-340C59DCBA0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8482-F5B1-4482-8550-54DCDF22335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FA706-6D0D-4766-81A2-D61F9FDFD2C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9A7C3-4A7E-4DA2-A0E7-8CA13928C8B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F52F7-FE38-4383-9580-6A55C9888BE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0F3B4-B71B-4DD9-BEE0-5634ECCBAEE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A32BB-364C-4811-97BB-1B3A9056A0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8C3F-BC89-4E7A-BD14-70D4725C8FE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1AB5D-D81C-4373-84FB-CDBD94D8EB1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79370-A3F0-4D00-87C9-D21FEE69249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6CB12-0190-400C-B2FE-12E0F3BAB24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7F0F1-6130-4F91-BDB8-EDE27FE7CA0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BDA9-59FC-4737-AAE8-2BE88BE8D8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07FC7-C0FA-406B-AC6A-D3D5B602F3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84CB-31F6-49EB-8659-750E179AA5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1F9A-F2B3-4CD4-B976-2C0C484962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6E54-CAA3-4A76-BFE5-629A66AA30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7539-A3E3-47CE-B24D-FAC6FACB6B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8B0F-EA19-497E-B99A-81FAE6A71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50A0B-FF38-4F1F-9BFE-C2F4078F06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D9D0-BCD6-459B-BBA0-ABC3EB7DDD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D81A-87A8-467E-A084-5B3C836AC4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3DED-8FE6-445F-9FD0-32A025D402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60A6-9E57-43A5-9EEC-062B86AF62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3AB-47BE-4191-A3B9-B0490BF24C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5A7-A223-4B2A-93AB-C6E3F6E0D7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21F-8DAF-481D-99D1-78F770ED96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2BC-BD22-4AF8-8D83-1A661F9096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B58-0225-4094-901E-BF631F5D8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2075-57AE-4F82-81C5-C182B1F24E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DCFB-09D7-43A6-9ADB-69C051B14B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EBF4-7C08-4B45-A51F-95EED2DD1B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475-04DA-4884-927E-569AD451A9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A8C-854D-4A22-AE03-759F99AB82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4A4-ED65-4EB4-9348-2FD5F5B897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2A9-93DC-493C-B44C-D3592E0ADB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88C-A5F7-40D7-B695-1F6188E95D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9FBEE-D5B5-4F63-B468-9DC77914D9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08C8A-072B-411A-BFCC-2BFC64BDE8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0816F-14AE-4AB3-B5EC-D97859B3C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4775-BEF1-4D6C-A1AD-9229CC25C5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25566-2D8C-430F-8027-16A523A040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2FD26-7130-4098-BBD8-52131E349C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4438A-DF59-4404-B5BB-0F92F5518D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09EE3-62CF-47BB-A0F1-46F790B579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12F7E-1B1B-4C2C-8DC6-BE95FAA965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4352E-8551-4E63-BC66-F8E0DF4A26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687CA-561A-4E70-BA52-31CBEFA793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B317D-1804-4190-B533-91B27C8B80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6A048-4197-4B3B-8B2C-5704B3116FC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A1CE9-8641-4824-B0FD-3C0B43DBA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9BCF-3DCF-4801-B74F-BAB0BE1FDF4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6D97B-55CC-4DEE-9E6F-56787095772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23CA7-5404-45B8-B641-02612F9D0C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DB000-A2F1-458D-81CA-B70B2749C3F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38848-433C-49D8-BF64-2D0960BC6CF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4E5D9-8E52-4389-9785-CCF7536E385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4F1E3-28F7-47DD-B474-716CDED029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178FC-BC44-4FE4-9CFB-9A912168D2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3FB40-44CE-4A68-8728-B2FBAA90B21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0020F-A5AE-432B-B16C-08239BDE889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8ADAC-4A29-4E2F-B5EC-D57574CE6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4ADF-8208-4C59-BBB9-1E62D779A5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9A008-936A-46CA-8FB1-7DAD6605033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43DD-F5B3-47DF-8AEB-8DD33DF4885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B604-750E-4171-9282-54BEE7F339C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F13F-E4E4-4983-AB33-35109920DC1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5937-ABFF-4AE7-A9DD-DDF64513C76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957C-6D39-420A-A0E0-D8859F7D61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CB23-3651-4282-A16F-93CC7F6F074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7E33-4DB1-420A-9B8E-5DE22370A34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064D-0D99-469A-9255-B8EE3AF3F21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4005-2A39-4649-9E2C-51699CC46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12BA-2CE2-4905-B9E7-D371889A993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4FD4-CF8D-4D2D-A623-961FAFFB1FB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3B06-282A-4F6F-9835-5402A7F0EE4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D556-B68B-4BC6-81F6-FBB6A70C5BD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267956-D665-4D10-B799-A9FE6B117EF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76C8B-88E8-4D73-BD77-92F7B729A6F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6878B-85A0-4FEE-AF85-F4C3361028C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42371-AB29-413C-A19D-4EBD269F8ED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95DC95-F7CE-486E-999F-DD7633B548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67907E-89CB-4164-8B1C-1146E9674D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A01F6E-F80A-4545-BEB2-24E39EACF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6758-B046-4837-9678-C88780CF2C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63DCFE-D96E-4957-8DD9-3ADB514453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22271A-7AC8-4D77-8B34-D3F3D960877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45A6FF-DF0A-4282-92FE-E2596F9F69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F1F35-E2D8-4622-85EC-E0FA6007D83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82EB02-CB5A-4E38-BEF8-8CB1963BB76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AE4A5-F782-4303-9A67-FF3ACAF52CD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D1981-900A-49EA-BFA9-EA5C1085406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A81B3-1755-46F3-9888-FC6A93986F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3E02E-6ACE-41BC-A577-B5C1A5211E2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08A2D-3A41-4A04-A354-73B46E7D9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FC21-65E8-4492-81F0-F267BEC5A97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B583E-B3B6-4E8B-9418-C0647455D62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4261E-B0AD-40A9-A7C8-970B4511453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5179A-4239-4634-9530-1FADBCD039B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22CC4-4A8F-4AD4-B81E-A35765CCBEE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37CDB-FB9D-4CAC-AF86-CA8981A2DB3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74C56-168F-4018-9889-4D495914845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0CE95-5B42-4F31-B907-8C21B909830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17C7-1559-492D-B2F6-8EA61E5F15D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5A39-90C3-4E05-8DDB-C42A566287F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C673-0CD8-45C9-B544-CE436CD9E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DD07-13FE-41D6-8BED-7064B678C2BB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0EE8-71FA-44AB-B660-7DA94D8CA3C6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49E2-2C64-4526-B405-CE965114CBF4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0DAD-92CD-40EF-8F57-71A072A3A22D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12E0-C62E-4E8D-AAA2-1038016595BD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BE0B-DF81-4281-8E14-D0C5F12DDE0B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D012-5ECC-4D2D-8CCC-00DF3E736585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988E-4D5D-4C9D-B83C-F02B7A6FC1B8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D9BB-488B-4CA1-BC94-CEDF45D168A4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3B07-8EB8-4064-9399-763C3679127A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1CA4-FA07-47F4-A911-C14762E4E4AF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1D39-33F9-4E42-A104-EE7892C64088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CD69-49CE-4FC7-BA55-C2AC9F436C27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152280" y="16002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JCTVC-G063</a:t>
            </a:r>
            <a:r>
              <a:rPr b="1" lang="en-CA" sz="3600" spc="-1" strike="noStrike">
                <a:solidFill>
                  <a:srgbClr val="3c8c93"/>
                </a:solidFill>
                <a:latin typeface="Arial"/>
                <a:ea typeface="SimHei"/>
              </a:rPr>
              <a:t> (CE3): eBrisk’s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Adaptive interpolation using different-length horizontal and vertical filters</a:t>
            </a:r>
            <a:r>
              <a:rPr b="1" lang="fr-FR" sz="3600" spc="-1" strike="noStrike">
                <a:solidFill>
                  <a:srgbClr val="3c8c93"/>
                </a:solidFill>
                <a:latin typeface="Arial"/>
                <a:ea typeface="SimHe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2133720" y="3505320"/>
            <a:ext cx="4572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Hsan Guermazi, eBrisk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7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VC Meeting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21-30 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CE9C-A4DE-4F49-BCBE-E996EF1918BC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sual Quality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380880" y="16765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han HM4.0 when SAO is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651200" cy="38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F2D6-5753-430B-88F6-304180B807AF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relative to HM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65%. 0.09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22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rage Y, U and V BD-rate reductions (respectively) compared to those of HM 4.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relative to HM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s: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verage case and worst case (respectiv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s: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6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verage case and worst case (respectiv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: almost same as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quality relative to HM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ghtly better than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han HM4.0 when SAO is disab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511B-A4EF-4B7E-BE52-3E59E35C8931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32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M 4.0 Interpo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981080" y="4267080"/>
          <a:ext cx="5257800" cy="1293840"/>
        </p:xfrm>
        <a:graphic>
          <a:graphicData uri="http://schemas.openxmlformats.org/drawingml/2006/table">
            <a:tbl>
              <a:tblPr/>
              <a:tblGrid>
                <a:gridCol w="982800"/>
                <a:gridCol w="610920"/>
                <a:gridCol w="455760"/>
                <a:gridCol w="320832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&a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3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, 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60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,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8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,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54,   16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3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5,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46,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27,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36,   36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1828800" y="2514600"/>
          <a:ext cx="5433840" cy="853920"/>
        </p:xfrm>
        <a:graphic>
          <a:graphicData uri="http://schemas.openxmlformats.org/drawingml/2006/table">
            <a:tbl>
              <a:tblPr/>
              <a:tblGrid>
                <a:gridCol w="982800"/>
                <a:gridCol w="610920"/>
                <a:gridCol w="455760"/>
                <a:gridCol w="33843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&a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4,   -10,  57,   19,  -7,   3, 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4,   -11,  40,   40, -11,   4, 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Rectangle 3"/>
          <p:cNvSpPr/>
          <p:nvPr/>
        </p:nvSpPr>
        <p:spPr>
          <a:xfrm>
            <a:off x="38088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filter set (F) is used during the horizontal and the vertical filtering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043080" y="2133000"/>
            <a:ext cx="27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: Fixed Lu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95720" y="3885480"/>
            <a:ext cx="29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2: Fixed Chro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6352-F140-406E-A469-C397622111ED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AIF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04920" y="1600200"/>
            <a:ext cx="8305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F technique based mainly on the technique in [CTVC-G05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shorter filter for vertical and longer filter for horizontal interpo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filters can be default or newly-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/newly-generated horizontal filters are 7Q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/newly-generated vertical filters are 7Q6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 default filters correspond to variant B from joint CE3 contribution on solid interpolation filter [JCTVC-G77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default filters correspond to the tested variant in CE3 as solid (non-switchable) interpolation filter [JCTVC-G775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712B-AC96-48F2-A9F7-B539C27ED8EB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Interpola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881360" y="2058840"/>
          <a:ext cx="5281560" cy="1293840"/>
        </p:xfrm>
        <a:graphic>
          <a:graphicData uri="http://schemas.openxmlformats.org/drawingml/2006/table">
            <a:tbl>
              <a:tblPr/>
              <a:tblGrid>
                <a:gridCol w="982440"/>
                <a:gridCol w="611280"/>
                <a:gridCol w="455400"/>
                <a:gridCol w="323244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3,   -8,  60,   13,  -4,   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4,  -11,  40,   40, -11,   4,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2,  5,  -11,  58,   18,  -6,   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2,   -9,  39,   39,  -9,   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"/>
          <p:cNvSpPr/>
          <p:nvPr/>
        </p:nvSpPr>
        <p:spPr>
          <a:xfrm>
            <a:off x="2813760" y="1751760"/>
            <a:ext cx="286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: Default Lu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881360" y="4192560"/>
          <a:ext cx="5281560" cy="1293840"/>
        </p:xfrm>
        <a:graphic>
          <a:graphicData uri="http://schemas.openxmlformats.org/drawingml/2006/table">
            <a:tbl>
              <a:tblPr/>
              <a:tblGrid>
                <a:gridCol w="982440"/>
                <a:gridCol w="611280"/>
                <a:gridCol w="455400"/>
                <a:gridCol w="323244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a0,  a1,  a2,  a3,  a4,  a5,  a6}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b0,  b1,  b2,  b3,  b3,  b2,  b1,  b0}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c0,  c1,  c2,  c3,  c4,  c5,  c6}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d0,  d1,  d2,  d2,  d1,   d0}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2810880" y="3885480"/>
            <a:ext cx="35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2: Newly-generated Lu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2961-91BC-4E07-95F9-419F4DC69E95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Interpola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905120" y="2441520"/>
          <a:ext cx="5257800" cy="2328840"/>
        </p:xfrm>
        <a:graphic>
          <a:graphicData uri="http://schemas.openxmlformats.org/drawingml/2006/table">
            <a:tbl>
              <a:tblPr/>
              <a:tblGrid>
                <a:gridCol w="982440"/>
                <a:gridCol w="611280"/>
                <a:gridCol w="455760"/>
                <a:gridCol w="320832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2,   61,    6, 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54,   16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3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5,   44,   29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36,   36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2,   58,   10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54,   16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3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6,   46,   28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36,   36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"/>
          <p:cNvSpPr/>
          <p:nvPr/>
        </p:nvSpPr>
        <p:spPr>
          <a:xfrm>
            <a:off x="2963880" y="2133000"/>
            <a:ext cx="29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3: Fixed Chro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1A2B-F071-4957-9086-94812E670840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600200" y="1936800"/>
          <a:ext cx="5905440" cy="377820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P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6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5C17-9CBE-4E9E-A78E-37028C5B7643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1600200" y="1936800"/>
          <a:ext cx="5905440" cy="377820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5DD0-0DE0-4A26-AD13-CA1877569682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600200" y="1936800"/>
          <a:ext cx="5905440" cy="377820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233F-BCA9-4713-B8CC-79CC659297B9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sual Quality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380880" y="16765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ghtly better relative to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095880" cy="416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Nader Mahdi</cp:lastModifiedBy>
  <cp:lastPrinted>2009-04-22T19:24:48Z</cp:lastPrinted>
  <dcterms:modified xsi:type="dcterms:W3CDTF">2011-11-20T16:55:47Z</dcterms:modified>
  <cp:revision>1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