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834C-169A-4324-97B5-E9CE9919609B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0D3A-6D6D-4F7A-81DE-AD2D35A8D09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lieve RA results are lower compared with the LD as a result of the use of future pictures in B sl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9F21-B93B-4D9E-A047-8B94CD20B91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selection occurs at the slice level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uma_filter_mode_flag is sent in slice 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C439-FCFA-479E-AF1B-BFEB752B17C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selection occurs at the slice level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uma_filter_mode_flag is sent in slice 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C45D-9961-4110-B027-7879C69A6E3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selection occurs at the slice level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uma_filter_mode_flag is sent in slice 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8619-1DAE-4F0B-BE71-3DD32653605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attention to encoder compute – down from 130+ % at the last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results in this presentation are relative to HM 3.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9BC4-3097-4936-BB14-EF5011FA9D4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attention to encoder compute – down from 130+ % at the last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results in this presentation are relative to HM 3.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9288-D20F-4788-9FB2-5A7CEFC50D9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attention to encoder compute – down from 130+ % at the last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results in this presentation are relative to HM 3.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F03E-325E-4CA7-89D6-F9FFD8C0F90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lieve RA results are lower compared with the LD as a result of the use of future pictures in B sl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424F-EDEF-4EE5-BE8D-B3C151A373A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3635A-0FA5-4A0D-8872-01C8EA16B1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47B2F-FFD1-42DF-AD03-D47AFB300D1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07030-DD9F-499B-BBD6-A80AA44B35A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EE123-558A-43BA-BCA8-701E5CF4114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EA399-B0CD-4884-A761-AAF0DEF6FDA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54725-E344-40F6-B6A0-F60492F6413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CE7CD-0D93-44B6-96B3-176D58F55F6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8FCAB-DC30-4FB6-86B9-3EEB5A2D6EB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599F1-69E4-4F98-8C80-4924D499D5E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D9ABA-BC10-4EBD-958D-083D5DC10D6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835F9-2523-46BF-99EF-7767BF754CB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C6397F-510D-4B77-98C9-0991926740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3B3F7-A802-4D7B-9D6B-49E4307AD13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CF059B-6D3E-4695-800F-A78C4A90A10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90991C-8EB5-45F5-9AFD-E8CB5E59333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541D58-7414-49F8-8149-1A99B350E44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A4437C-5202-4F4D-9E58-212B63A90C3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466A91-6DDC-46C5-A620-49EF3029EB8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B4B627-0D8D-46DD-ADBA-B9F2C662F2D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83733C-837A-4355-8954-B111FC99BF9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CD6BF2-818B-4484-A695-141FF1A7B57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61ECE6-9E75-4225-8411-7A015BAEE0F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F8BFD7-EEE1-4C56-8E5B-2EF81A1AF0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810DE-7B50-406F-9DC1-F0F1C371F88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37218A-394A-4BF5-9333-BE472C553AA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23488A-C740-42B9-A5EA-D1AE073B9E7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8336F0-A68D-407C-BA91-ABD6C9D7784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6A1E93-D571-473A-AF05-1FF45C0A357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BEF0CF-DD07-4004-8AD7-FFD909406C4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88A675-E9C4-419A-9116-C7C5394F1C1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FAB3A6-A656-4505-AE4D-F6835910C1A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E6C0ED-5BDB-4327-9111-AEE68635651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E5C530-BCE7-445D-A938-D33E9B46E23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B60574-B9EA-45E7-87FC-38FD31FE44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9EF3F-A3CF-492C-ADCD-22E91677383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676F26-1D38-4320-8F7A-8CBB0A69093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4F611F-04DC-403E-BBFC-9C65571E6C8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2C1EB6-3EF5-4128-8481-C89E3984591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74224-64D5-4AA1-B202-9C679B268D3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A9BBA-AC16-482C-AFC6-AB24F7E0F9D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A83EF-0989-47F3-B976-85F58D28534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10472-95F1-4F23-975F-586BCF35792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D57AC-8F21-4CC0-B092-2591C5D788F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CDD58-5CD2-442A-8BD6-A370849F319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7AEE4-D0FC-4F5A-A768-FD27C3FB93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BE366-8D7B-4512-A1EB-E7774CC5F06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673EF-855A-423F-AB9E-032F3DD4D49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3BCB1-AE25-44A9-90E2-B97153A9664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89D40-2791-4967-AA3B-063017EB017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C2F12-61AE-4724-AB4E-FE0EFA8113F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838A0-6D1B-4512-B3DC-CA2D1A55F0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598C0-A793-465C-A56B-0E1F136BCD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44F5B-C514-4059-8045-90F8EA20B4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A2964-5953-4425-B762-0F9AF38F55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301CA-F0D3-4EDD-82C1-28DE922CEB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5943E-9A03-4E88-8CE6-2DA5FA9DB3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1621D-F9BC-4339-84A7-A76DB29794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130F9-D7FF-4E50-A556-38488DCD59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C10F4-4ED0-4F7B-AF0F-02511E5C40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AA261-0114-43E7-B56C-1FD7ABD531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1E489-AFBC-4018-9B8A-89B723D4D8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8EB25-2843-4FA1-909E-0B88162463B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4E10-004C-476D-B141-181041CC717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8FF1-7F92-42F5-92D4-50F7F482CF2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437D-2F4F-4960-B94A-665FDDBD876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F108-CF8F-4E96-995E-13CBA13B56B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C12C-FAE7-4446-8DE4-9D4F72F692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65D5E-DCDF-4294-947D-F463E2695DB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F1AD-C732-482A-8BED-5DE316ECA08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60CC-B02F-4CE3-8A77-44A6D06EC6F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5285-BABD-4DC7-AC3E-BB9EF3BD107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B5DB-A15A-451A-9DC4-35723B6A190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28BF-F3A9-4FFC-943B-C55E15078E7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C067-FFC7-4BD3-91B1-8B48C298935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3591-549C-4DDB-A38B-2BE74E72CE2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488B7D-68AC-46DD-9351-A5B5E728519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EB3032-B2BD-4345-AAC9-6E6EA82C2E9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EA765-5A44-4CCD-95F0-3BB1537004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A17C3-56AF-4CC0-95FD-6CC8077DC23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321E1-69D3-4249-A54B-E14A916EFA5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1E98F-977F-482B-858C-5B841A8CE51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988076-B763-49ED-989F-D6C337997CF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287D7-3561-4AEE-A5E2-4FA362318C0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C2052-4CB2-4967-95A7-A6143999AF8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AEA620-C554-41B9-BE04-694673CC1F4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8C7A6-9DD7-4980-8EC4-C7EA31DADA9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DF38FC-A660-41F5-8701-8818B2C7DB6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664D04-512F-4B2C-922E-C326AE4B2FE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90A1A-2EAD-4283-B12A-75C527CFD7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32597-A425-4AB2-93E3-DD1A6681AB1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EBF24-3855-4CDA-82F6-94A69100B77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F7F39-7EB8-4241-99CE-02BCA00C5E1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69286-3868-45C0-8EA0-15EC791BF68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BC85F-E527-49F5-A2CC-A124C412D1D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2FE8E-68C5-4FF5-BD0D-183A745125B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F8BAC-8A3D-4CAB-B400-E65C0280051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2393E-0AA1-426A-9B27-2DD8F302802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E30DD-BEEC-4855-9E76-0B5E1C23C51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3E6849-92E9-4E92-8D55-73416137684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3C362-300C-4739-AE00-C5213DB52C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45C83-C2A7-4BC8-9E52-08D95A7E5C3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6B378-214B-4C50-9633-37591764A7D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11F3-0EE7-4C96-BCB7-876788BD13C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5853-41A4-4706-B675-022DA2F4803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60FA-62F6-4DF3-B779-E4F6BCF089A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4596-6BF7-4BE3-BFF3-AA14D4E78C9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3D1D-345A-4C4E-8762-08F999ACAC9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6198-F45C-452D-925F-C63E9487188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73AB-36F9-49DF-95F5-3CE320D5FEB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0CCE-D5C5-4547-97D3-B054F13E8B3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AF08-AB3D-4014-BE4F-45D0F3104A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93F55-5840-4AC3-A91F-422BD2E1F18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BC9F-683D-480D-9641-C46D3EFD973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64C2-CFE0-4921-9331-DA916CBFBBB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E1B4-F8DE-4D82-A29A-6AB3BB5A7D5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EDFD00-08A3-4077-96A9-AC5D2BCAE55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B325C6-7E79-46B0-B5A9-D084C005715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7C77C9-93BD-45A6-9900-CC3E6F5FABA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81A30F-CE04-4640-A227-09B311DBD08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849B0E-EE18-43B8-92B8-192135BECBE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2DF130-C625-4BA4-B0B8-4284F8454AF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7113EF-6378-4C61-BD4A-83BF278623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F0A26-4CCE-4A0B-B2E0-CD1E598261A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974E37-FD42-4B4E-B87D-B5EE0BF9043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69E173-5AA0-44C6-AE2F-232FE215223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5B9744-BCCE-45D5-8897-F3D66097EB4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A0F28C-544B-4B9B-8D14-8C805523F11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0E330F-E717-42AF-A411-C12A603B40E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38C86A-A55F-477F-B58E-814185D2DAF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AEEB29-766D-4431-8AE3-FE37C810D48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DDCB44-E94F-43BE-B1A3-79BE4456405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5744E7-D889-4AA5-B8AD-563D5462CD6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43B74D-3206-44B2-AF32-9B6FA52172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F98F0-D5FB-491C-9A14-C7583E5C868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598F48-B6E3-4566-8DF4-35298B8F383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6B12AC-4CF8-4E42-BBE3-03018AB30F3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3DFE47-8494-4024-AC71-5E1B9E35362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708F6A-A054-413F-B1F8-588A11E6F04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C1FF94-B5D6-42C3-BBC0-2E83CB3B0AB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2A8B8B-32B6-4DF5-A0E6-C106ABE2179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4ABB81-24EA-43F0-AA11-03377870A9C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F2399-A8AB-4F13-BCA4-0BC967460C2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2408A-3B25-4E25-A78F-1795E9CB577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96F3F-6693-43A5-8F1A-CD20544D2C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86C6-2753-4A27-8777-48ED2D4536E0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Num" idx="10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D33C-50FE-4D4E-A478-E577AD0641CD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Num" idx="11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3ECB-C3C3-40AA-AC13-CE083D373E1F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Num" idx="12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ED5A-2078-49DB-8639-55B18262E3AA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C7F4-616F-4FB9-8AEB-8D045F909FB2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Num" idx="3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052C-02E9-4B9F-9125-EE7379D0959C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Num" idx="4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775F-67B1-4C39-AF8A-5133CDA6D79B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Num" idx="5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A952-674F-4807-9F86-B3014713E728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Num" idx="6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DEB6-C7C4-4D18-8F0F-D191E2CF2896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Num" idx="7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FC06-C14C-4675-A574-9DFDBB1820ED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Num" idx="8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421B-41F8-46A1-9D6A-F24655B4C4F4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Num" idx="9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509C-AC48-4F74-9089-3B7E63DA1A5F}" type="slidenum">
              <a:rPr b="0" lang="en-U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8494-0C4B-4755-B44F-0E5B307DCDC9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6"/>
          <p:cNvSpPr/>
          <p:nvPr/>
        </p:nvSpPr>
        <p:spPr>
          <a:xfrm>
            <a:off x="0" y="2941560"/>
            <a:ext cx="91440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152280" y="160020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8c93"/>
                </a:solidFill>
                <a:latin typeface="Arial"/>
                <a:ea typeface="SimHei"/>
              </a:rPr>
              <a:t>JCTVC-G063</a:t>
            </a:r>
            <a:r>
              <a:rPr b="1" lang="en-CA" sz="3600" spc="-1" strike="noStrike">
                <a:solidFill>
                  <a:srgbClr val="3c8c93"/>
                </a:solidFill>
                <a:latin typeface="Arial"/>
                <a:ea typeface="SimHei"/>
              </a:rPr>
              <a:t> (CE3): eBrisk’s </a:t>
            </a:r>
            <a:r>
              <a:rPr b="1" lang="en-US" sz="3600" spc="-1" strike="noStrike">
                <a:solidFill>
                  <a:srgbClr val="3c8c93"/>
                </a:solidFill>
                <a:latin typeface="Arial"/>
                <a:ea typeface="SimHei"/>
              </a:rPr>
              <a:t>Adaptive interpolation using different-length horizontal and vertical filters</a:t>
            </a:r>
            <a:r>
              <a:rPr b="1" lang="fr-FR" sz="3600" spc="-1" strike="noStrike">
                <a:solidFill>
                  <a:srgbClr val="3c8c93"/>
                </a:solidFill>
                <a:latin typeface="Arial"/>
                <a:ea typeface="SimHe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2133720" y="3505320"/>
            <a:ext cx="45720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Hei"/>
              </a:rPr>
              <a:t>Hsan Guerma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SimHei"/>
              </a:rPr>
              <a:t>7</a:t>
            </a:r>
            <a:r>
              <a:rPr b="0" lang="en-CA" sz="2400" spc="-1" strike="noStrike" baseline="30000">
                <a:solidFill>
                  <a:srgbClr val="000000"/>
                </a:solidFill>
                <a:latin typeface="Arial"/>
                <a:ea typeface="SimHe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Hei"/>
              </a:rPr>
              <a:t> JCTVC Meeting in Gen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SimHei"/>
              </a:rPr>
              <a:t>21-30 November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5CAA-3E9B-43FF-A105-031792F15987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isual Quality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83"/>
          <p:cNvSpPr/>
          <p:nvPr/>
        </p:nvSpPr>
        <p:spPr>
          <a:xfrm>
            <a:off x="0" y="156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400"/>
          <p:cNvSpPr/>
          <p:nvPr/>
        </p:nvSpPr>
        <p:spPr>
          <a:xfrm>
            <a:off x="4461840" y="50335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380880" y="1676520"/>
            <a:ext cx="8458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than HM4.0 when SAO is disab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8" descr=""/>
          <p:cNvPicPr/>
          <p:nvPr/>
        </p:nvPicPr>
        <p:blipFill>
          <a:blip r:embed="rId1"/>
          <a:stretch/>
        </p:blipFill>
        <p:spPr>
          <a:xfrm>
            <a:off x="2362320" y="2057400"/>
            <a:ext cx="4651200" cy="385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4060-498F-46D5-B8AE-7F9759DA0119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-rate relative to HM 4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65%, 0.09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22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verage Y, U and V BD-rate reductions (respectively) compared to those of HM 4.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relative to HM 4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ications: 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nd 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%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verage case and worst case (respectiv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s: 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6%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verage case and worst case (respectiv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Access &amp; Bandwidth: almost same as HM4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quality relative to HM 4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ghtly better than HM4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than HM4.0 when SAO is disab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46B8-8A11-456E-B286-7D9DD13B4060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6320" y="351000"/>
            <a:ext cx="90676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M 4.0 Interpo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1981080" y="4267080"/>
          <a:ext cx="5257800" cy="1295640"/>
        </p:xfrm>
        <a:graphic>
          <a:graphicData uri="http://schemas.openxmlformats.org/drawingml/2006/table">
            <a:tbl>
              <a:tblPr/>
              <a:tblGrid>
                <a:gridCol w="982800"/>
                <a:gridCol w="611280"/>
                <a:gridCol w="455400"/>
                <a:gridCol w="320832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iltering st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il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a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ilter coeffici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orizon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&am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ertic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1/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3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,   </a:t>
                      </a: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60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,</a:t>
                      </a: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  </a:t>
                      </a: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8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,</a:t>
                      </a: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  </a:t>
                      </a: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-1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1/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4,   54,   16,   -2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3/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5,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  </a:t>
                      </a: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46,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  </a:t>
                      </a: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27,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  </a:t>
                      </a: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-4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1/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4,   36,   36,   -4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7" name=""/>
          <p:cNvGraphicFramePr/>
          <p:nvPr/>
        </p:nvGraphicFramePr>
        <p:xfrm>
          <a:off x="1828800" y="2514600"/>
          <a:ext cx="5433840" cy="853920"/>
        </p:xfrm>
        <a:graphic>
          <a:graphicData uri="http://schemas.openxmlformats.org/drawingml/2006/table">
            <a:tbl>
              <a:tblPr/>
              <a:tblGrid>
                <a:gridCol w="982800"/>
                <a:gridCol w="610920"/>
                <a:gridCol w="455760"/>
                <a:gridCol w="338436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iltering st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il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a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ilter coeffici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orizon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&am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ertic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1/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1,  4,   -10,  57,   19,  -7,   3,   -1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1/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1,  4,   -11,  40,   40, -11,   4,   -1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8" name="Rectangle 3"/>
          <p:cNvSpPr/>
          <p:nvPr/>
        </p:nvSpPr>
        <p:spPr>
          <a:xfrm>
            <a:off x="380880" y="13716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filter set (F) is used during the horizontal and the vertical filtering s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78"/>
          <p:cNvSpPr/>
          <p:nvPr/>
        </p:nvSpPr>
        <p:spPr>
          <a:xfrm>
            <a:off x="0" y="21337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xed Luma filter coefficient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79"/>
          <p:cNvSpPr/>
          <p:nvPr/>
        </p:nvSpPr>
        <p:spPr>
          <a:xfrm>
            <a:off x="0" y="389304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xed Chroma filter coefficient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FC77-17BB-43BE-AFC0-CB0382EA9323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6868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posed AIF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04920" y="1600200"/>
            <a:ext cx="83055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F technique based on the technique in JCTVC-G057, but with the default filters in JCTVC-G05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of shorter interpolation filters for vertical filte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th filters can be default or newly-gener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ault/newly-generated horizontal filters are 7Q8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ault/newly-generated vertical filters are 7Q6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horizontal default filters are those of variant B of the CE3 contribution JCTVC-G77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vertical default filters are those presented in the CE3 contribution JCTVC-G775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8FA9-AAB4-4F02-9FE7-44B9A79A3856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6868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posed Interpolation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1881360" y="2058840"/>
          <a:ext cx="5281560" cy="1295640"/>
        </p:xfrm>
        <a:graphic>
          <a:graphicData uri="http://schemas.openxmlformats.org/drawingml/2006/table">
            <a:tbl>
              <a:tblPr/>
              <a:tblGrid>
                <a:gridCol w="982440"/>
                <a:gridCol w="611280"/>
                <a:gridCol w="455400"/>
                <a:gridCol w="323244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iltering st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il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a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ilter coeffici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orizon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_F1/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1,  3,   -8,  60,   13,  -4,   1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_F1/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1,  4,  -11,  40,   40, -11,   4,  -1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ertic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_F1/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2,  5,  -11,  58,   18,  -6,   2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_F1/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2,   -9,  39,   39,  -9,   2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9" name="Rectangle 83"/>
          <p:cNvSpPr/>
          <p:nvPr/>
        </p:nvSpPr>
        <p:spPr>
          <a:xfrm>
            <a:off x="0" y="17287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ault Luma filter coefficient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881360" y="4192560"/>
          <a:ext cx="5281560" cy="1295280"/>
        </p:xfrm>
        <a:graphic>
          <a:graphicData uri="http://schemas.openxmlformats.org/drawingml/2006/table">
            <a:tbl>
              <a:tblPr/>
              <a:tblGrid>
                <a:gridCol w="982440"/>
                <a:gridCol w="611280"/>
                <a:gridCol w="455400"/>
                <a:gridCol w="323244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iltering st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il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a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ilter coeffici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orizon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_F1/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a0,  a1,  a2,  a3,  a4,  a5,  a6}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_F1/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b0,  b1,  b2,  b3,  b3,  b2,  b1,  b0}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ertic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_F1/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c0,  c1,  c2,  c3,  c4,  c5,  c6}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_F1/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d0,  d1,  d2,  d2,  d1,   d0}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Rectangle 119"/>
          <p:cNvSpPr/>
          <p:nvPr/>
        </p:nvSpPr>
        <p:spPr>
          <a:xfrm>
            <a:off x="0" y="386244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ly-generated Luma filter coefficient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F3C1-86E1-4AB7-9EED-8E4D3E7B0112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6868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posed Interpolation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1905120" y="2441520"/>
          <a:ext cx="5257800" cy="2332080"/>
        </p:xfrm>
        <a:graphic>
          <a:graphicData uri="http://schemas.openxmlformats.org/drawingml/2006/table">
            <a:tbl>
              <a:tblPr/>
              <a:tblGrid>
                <a:gridCol w="982440"/>
                <a:gridCol w="611280"/>
                <a:gridCol w="455760"/>
                <a:gridCol w="320832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iltering st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il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a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ilter coeffici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orizon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_F1/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2,   61,    6,   -1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_F1/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4,   54,   16,   -2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_F3/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5,   44,   29,   -4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_F1/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4,   36,   36,   -4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ertic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_F1/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2,   58,   10,   -2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_F1/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4,   54,   16,   -2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_F3/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6,   46,   28,   -4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_F1/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0472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urier New"/>
                          <a:ea typeface="바탕"/>
                        </a:rPr>
                        <a:t>{-4,   36,   36,   -4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6" name="Rectangle 129"/>
          <p:cNvSpPr/>
          <p:nvPr/>
        </p:nvSpPr>
        <p:spPr>
          <a:xfrm>
            <a:off x="0" y="21337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xed Chroma filter coefficient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8A34-FA7E-4ECC-A333-76B2946B745B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83"/>
          <p:cNvSpPr/>
          <p:nvPr/>
        </p:nvSpPr>
        <p:spPr>
          <a:xfrm>
            <a:off x="0" y="156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400"/>
          <p:cNvSpPr/>
          <p:nvPr/>
        </p:nvSpPr>
        <p:spPr>
          <a:xfrm>
            <a:off x="4461840" y="50335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1600200" y="1447920"/>
          <a:ext cx="5905440" cy="4692600"/>
        </p:xfrm>
        <a:graphic>
          <a:graphicData uri="http://schemas.openxmlformats.org/drawingml/2006/table">
            <a:tbl>
              <a:tblPr/>
              <a:tblGrid>
                <a:gridCol w="1371600"/>
                <a:gridCol w="838080"/>
                <a:gridCol w="838440"/>
                <a:gridCol w="838080"/>
                <a:gridCol w="673200"/>
                <a:gridCol w="672840"/>
                <a:gridCol w="6732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Low delay P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Low delay P L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1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3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1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2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6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1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2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-2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-0.9%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0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0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9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9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Mult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Adds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Access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MemBand(2D) Ave.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MemBand(2D) Max.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MemBand(1D) Ave.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MemBand(1D) Max.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15DE-2972-4836-AC69-1FAAC947C309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83"/>
          <p:cNvSpPr/>
          <p:nvPr/>
        </p:nvSpPr>
        <p:spPr>
          <a:xfrm>
            <a:off x="0" y="156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400"/>
          <p:cNvSpPr/>
          <p:nvPr/>
        </p:nvSpPr>
        <p:spPr>
          <a:xfrm>
            <a:off x="4461840" y="50335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1600200" y="1447920"/>
          <a:ext cx="5905440" cy="4692600"/>
        </p:xfrm>
        <a:graphic>
          <a:graphicData uri="http://schemas.openxmlformats.org/drawingml/2006/table">
            <a:tbl>
              <a:tblPr/>
              <a:tblGrid>
                <a:gridCol w="1371600"/>
                <a:gridCol w="838080"/>
                <a:gridCol w="838440"/>
                <a:gridCol w="838080"/>
                <a:gridCol w="673200"/>
                <a:gridCol w="672840"/>
                <a:gridCol w="6732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Low delay B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Low delay B L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1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1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0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0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9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Mult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Adds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1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1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Access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MemBand(2D) Ave.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MemBand(2D) Max.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MemBand(1D) Ave.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MemBand(1D) Max.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9733-513A-4F28-824B-FD3B0800BF63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83"/>
          <p:cNvSpPr/>
          <p:nvPr/>
        </p:nvSpPr>
        <p:spPr>
          <a:xfrm>
            <a:off x="0" y="156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00"/>
          <p:cNvSpPr/>
          <p:nvPr/>
        </p:nvSpPr>
        <p:spPr>
          <a:xfrm>
            <a:off x="4461840" y="50335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1600200" y="1447920"/>
          <a:ext cx="5905440" cy="4692600"/>
        </p:xfrm>
        <a:graphic>
          <a:graphicData uri="http://schemas.openxmlformats.org/drawingml/2006/table">
            <a:tbl>
              <a:tblPr/>
              <a:tblGrid>
                <a:gridCol w="1371600"/>
                <a:gridCol w="838080"/>
                <a:gridCol w="838440"/>
                <a:gridCol w="838080"/>
                <a:gridCol w="673200"/>
                <a:gridCol w="672840"/>
                <a:gridCol w="6732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Random Access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Random Access L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1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2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맑은 고딕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0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Mult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Adds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1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Access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MemBand(2D) Ave.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MemBand(2D) Max.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MemBand(1D) Ave.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MemBand(1D) Max.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4753-1E0A-4D34-8A79-A26A253A87B2}" type="slidenum">
              <a:rPr b="0" lang="en-US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isual Quality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83"/>
          <p:cNvSpPr/>
          <p:nvPr/>
        </p:nvSpPr>
        <p:spPr>
          <a:xfrm>
            <a:off x="0" y="156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400"/>
          <p:cNvSpPr/>
          <p:nvPr/>
        </p:nvSpPr>
        <p:spPr>
          <a:xfrm>
            <a:off x="4461840" y="50335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380880" y="1676520"/>
            <a:ext cx="8458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ghtly better relative to HM4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137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6095880" cy="416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Nader Mahdi</cp:lastModifiedBy>
  <cp:lastPrinted>2009-04-22T19:24:48Z</cp:lastPrinted>
  <dcterms:modified xsi:type="dcterms:W3CDTF">2011-11-21T15:32:44Z</dcterms:modified>
  <cp:revision>1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