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180-82DB-4D6E-A63C-F82CB12D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1680" y="387360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E57-C7EC-4356-8FC7-882C216F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820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7E6-958C-4DA1-9354-FDF883F9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924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680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168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924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680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B8C-930B-4470-8731-CC62FA96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C3A6-8B33-4EBA-A9B9-44BE5BA6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4EB2-0DC1-441D-87BB-75C6E6C9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F09B-BCA8-4885-B872-3BC89C8A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938B-C811-49A9-AB4A-4E1D0901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9C6B-94CC-4953-BF4D-EDD3AB62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F96E-FE20-4314-9DC3-AE7AF8DB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0604-511A-4C64-9C11-77CD820B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17A-5AFE-40D9-AD3D-2F81F400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820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1580-E187-4B81-8207-90A3F031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74F9-7990-4ED5-9B71-0123D937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01680" y="387360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5086-7EDC-4B32-B44B-341F7723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820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4F8E-A3E8-4BC6-8D2A-2AB4355D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8924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7680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0168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8924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7680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4DA5-D09C-4571-B7CF-F28CA20A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C0B-659A-4742-9FF6-84B240C0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39F-A788-401C-887C-E0FBC4FE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C82-4C70-4904-A047-6285D6D2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4E8-F90E-4590-B979-13D0E446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909-2D48-4509-A812-B54FF1ED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820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DD5-435A-4ABA-AE39-B8783791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1AA-1D2F-4CD7-8C7A-B6B9BA1D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919fa8"/>
              </a:gs>
              <a:gs pos="100000">
                <a:srgbClr val="ddf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943600"/>
            <a:ext cx="9144000" cy="457200"/>
          </a:xfrm>
          <a:prstGeom prst="rect">
            <a:avLst/>
          </a:prstGeom>
          <a:gradFill rotWithShape="0">
            <a:gsLst>
              <a:gs pos="0">
                <a:srgbClr val="919fa8"/>
              </a:gs>
              <a:gs pos="100000">
                <a:srgbClr val="ddf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919fa8"/>
              </a:gs>
              <a:gs pos="100000">
                <a:srgbClr val="ddf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095880"/>
            <a:ext cx="8305920" cy="3049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400800"/>
            <a:ext cx="8763120" cy="3049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76320"/>
            <a:ext cx="8534520" cy="30456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4429-5BD6-47F1-B2EF-E893B73605D6}" type="slidenum">
              <a:rPr b="0" lang="zh-CN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525780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5791320"/>
              <a:ext cx="9144000" cy="53316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72428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191120"/>
              <a:ext cx="9144000" cy="53316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65760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12408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590920"/>
              <a:ext cx="9144000" cy="53316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0"/>
              <a:ext cx="9144000" cy="2590920"/>
              <a:chOff x="0" y="0"/>
              <a:chExt cx="9144000" cy="2590920"/>
            </a:xfrm>
          </p:grpSpPr>
          <p:sp>
            <p:nvSpPr>
              <p:cNvPr id="57" name=""/>
              <p:cNvSpPr/>
              <p:nvPr/>
            </p:nvSpPr>
            <p:spPr>
              <a:xfrm>
                <a:off x="0" y="205740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52388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990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45720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9900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D7F6-C8B5-47FE-A635-23BD034A31C7}" type="slidenum">
              <a:rPr b="0" lang="zh-CN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"/>
            <p:cNvSpPr/>
            <p:nvPr/>
          </p:nvSpPr>
          <p:spPr>
            <a:xfrm>
              <a:off x="4191120" y="0"/>
              <a:ext cx="4952880" cy="4572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90720" y="1523880"/>
              <a:ext cx="8153280" cy="53352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3720" y="990720"/>
              <a:ext cx="7010280" cy="533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5791320"/>
              <a:ext cx="7467480" cy="533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4080" y="457200"/>
              <a:ext cx="6019920" cy="53352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SzPct val="8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Arial Black"/>
                <a:ea typeface="黑体"/>
              </a:rPr>
              <a:t>non-CE3: 7-tap quarter-pel luma interpolation filter with accurate phase shift</a:t>
            </a:r>
            <a:r>
              <a:rPr b="1" lang="zh-CN" sz="4400" spc="-1" strike="noStrike">
                <a:solidFill>
                  <a:srgbClr val="990099"/>
                </a:solidFill>
                <a:latin typeface="Arial Black"/>
                <a:ea typeface="黑体"/>
              </a:rPr>
              <a:t> </a:t>
            </a:r>
            <a:endParaRPr b="1" lang="en-US" sz="4400" spc="-1" strike="noStrike">
              <a:solidFill>
                <a:srgbClr val="9900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58560" y="4149720"/>
            <a:ext cx="6404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Hongbo Zhu</a:t>
            </a: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JCTVC-G062</a:t>
            </a: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CC17-4D0C-403D-A1FB-4D505553A3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947520"/>
            <a:ext cx="55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The proposed 7-tap q-pel filter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{-3, 9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-21, 117, 35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-12, 3}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863640" y="2168640"/>
                <a:ext cx="8280360" cy="34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=-3 a+9 b-21 c+117 d+35 e-12 f+3 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uld be computed using 11 additions and 5 shifts as follow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0=b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&lt;&lt;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; x1=d-c; x3=g-a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4= 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0-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lt;&lt;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x0; x5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1&lt;&lt;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x1; x6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&lt;&lt;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+x3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7=x4+x5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8=x7+x6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9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8&lt;&lt;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+x8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=x9-e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C5C-3131-4D76-B8FD-88EC44443946}" type="slidenum">
              <a:t>2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Comparison of q-pel filter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1680" y="1536840"/>
          <a:ext cx="8540640" cy="4160520"/>
        </p:xfrm>
        <a:graphic>
          <a:graphicData uri="http://schemas.openxmlformats.org/drawingml/2006/table">
            <a:tbl>
              <a:tblPr/>
              <a:tblGrid>
                <a:gridCol w="1663560"/>
                <a:gridCol w="2497320"/>
                <a:gridCol w="1201680"/>
                <a:gridCol w="1100160"/>
                <a:gridCol w="2077920"/>
              </a:tblGrid>
              <a:tr h="637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ilter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mplexit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ase shift mistak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ulti/Add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dd/shif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oposed filter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3, 9,-21,117, 35,-12, 3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/6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/5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CT-IF 8-tap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DotumChe"/>
                        </a:rPr>
                        <a:t>-1, 4,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DotumChe"/>
                        </a:rPr>
                        <a:t>-10,57,19,-7,3,-1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/4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0.015625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CT-IF 7-tap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DotumChe"/>
                        </a:rPr>
                        <a:t>-2, 5, -11, 58, 18, -6, 2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/6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/x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046875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GulimChe"/>
                        </a:rPr>
                        <a:t>-1,  4, -10, 58, 17, -5,  1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/5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0.015625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A80-AF96-4545-ABF7-65F00C00A382}" type="slidenum">
              <a:t>3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Performance of 6H7Q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411280" y="1160640"/>
          <a:ext cx="4194360" cy="1288800"/>
        </p:xfrm>
        <a:graphic>
          <a:graphicData uri="http://schemas.openxmlformats.org/drawingml/2006/table">
            <a:tbl>
              <a:tblPr/>
              <a:tblGrid>
                <a:gridCol w="1641600"/>
                <a:gridCol w="2552760"/>
              </a:tblGrid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/4-pel filter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3, 9,-21,117, 35,-12, 3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/2-pel filter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-9,39,39,-9,2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/4-pel filter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,-12,35,117,-21,9,-3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92000" y="2457360"/>
            <a:ext cx="7525080" cy="440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01D-622B-4460-8763-F0F07C37DB05}" type="slidenum">
              <a:t>4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Performance of 8H7Q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411280" y="1160640"/>
          <a:ext cx="4194360" cy="1288800"/>
        </p:xfrm>
        <a:graphic>
          <a:graphicData uri="http://schemas.openxmlformats.org/drawingml/2006/table">
            <a:tbl>
              <a:tblPr/>
              <a:tblGrid>
                <a:gridCol w="1641600"/>
                <a:gridCol w="2552760"/>
              </a:tblGrid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/4-pel filter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3, 9,-21,117, 35,-12, 3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/2-pel filter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1,4,-10,39,39,-10,4,-1 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/4-pel filter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,-12,35,117,-21,9,-3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09520" y="2457360"/>
            <a:ext cx="6991560" cy="440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518-2553-4091-843A-B547CED96702}" type="slidenum">
              <a:t>5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A88-30CD-4B43-AA08-269F47BB62AF}" type="slidenum">
              <a:t>6</a:t>
            </a:fld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80" y="152388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se the 6H7Q interpolation filter in the HM and W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clude the algorithm in CE3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4EA-95E2-479F-A18B-91A6CBCF05F2}" type="slidenum">
              <a:t>7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b</cp:lastModifiedBy>
  <dcterms:modified xsi:type="dcterms:W3CDTF">2011-11-23T22:55:48Z</dcterms:modified>
  <cp:revision>1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6</vt:r8>
  </property>
</Properties>
</file>