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5E5E-AB12-4CBB-AA79-46C9A60E456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3E70-0A12-4BB1-9FC2-115AD6DED17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selection occurs at the slice leve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ma_filter_mode_flag is sent in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966B-9A9E-4DE6-BC4A-4D652CE0D68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selection occurs at the slice leve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ma_filter_mode_flag is sent in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2699-5551-46BB-B809-EA8EAB64678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5AF9-2E00-44BB-B5D8-7A5BB7AE168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14C5-D63F-4D8B-8E9B-C6C07D5E615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5CA0-DA64-41C9-80A9-6970653C8AA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ieve RA results are lower compared with the LD as a result of the use of future pictures in B sl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9DAE-2BDC-4EDC-B3C1-2E6DD97BE2D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40B6-6A4F-47E0-AC55-0D24B6296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349F-29D8-4833-8CD6-729836AB57A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D55FC-D5AA-4C4B-BCC6-0BDD71A6312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6D1E-3884-4D65-B9D6-D08AB14F3CB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233D8-1E3C-4125-9F8A-5530F1E0A11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7248B-11C0-4BF8-B522-2934333D8CE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880C2-5AEC-442C-81B5-D8AE0F8C4F5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909AD-D40D-4FEB-AC4C-EB389BE1B19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6FF9-1B98-4C73-B2CA-177452E7EA2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65578-A566-42DC-8E5F-D6E002FE812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DBA99-469A-4932-82F9-2BC6CCB917C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179891-B0DF-4929-833A-C39ABB6D6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0926-23C6-4B6E-9F94-777E2C111D3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090FA0-830B-43DD-80AA-24B5A3DC844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0F68D6-2FC2-435A-9AF3-933FECF4131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BF3EF-1CE9-46B2-A6EA-71B32CBA745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AD811B-562A-4660-84B1-EFEE134F9F6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456598-A7AB-42E2-A844-077BBE96C03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25A1C7-2352-403C-B375-E9F03268297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2EAB85-A104-4276-AC98-38249A035D8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95AFA9-31D5-4185-82C2-F9B1E27AA6E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A6B773-1DB7-40E4-B4AE-16B4DAD0D92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E9972C-871B-46E4-8256-D0E9E78DF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D8D7-F6E7-477E-8822-7EC47B53B01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3DC923-76D3-4BB6-81F0-0462A6FFB0D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FE30A-ACA2-4829-8CCC-6F2D6AE573E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CAB8B2-1139-4DD7-B9F3-22178A2D2B6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52766A-0E15-4EEC-8AB5-E8D2DE1F7E9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E708D-64A1-4EA1-BAC8-A366A5E62CF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37C73-8713-41B3-9844-E953442996F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D0DDA9-2C34-4324-85B5-B2A5324A433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C67B0-746C-49BE-ABEA-D057DA9DBD4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BCA54-EAFA-469C-9F75-522D28E5ACD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1AB37E-93FD-437A-944E-C3CC372C3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22980-67FF-4C98-A2DA-CD2DCB82C3C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5D1B56-26EC-4EBD-8F99-6F5617942AD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3BDFE-3AC0-48E4-AB18-457B12CDD90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B959F-FB30-4956-83F8-7D35E6A0C28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3CFF1-F5B6-4FC4-9BF8-1D2F7AD79FD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58C11-F38E-4CFD-8D34-E288CACECD2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2E388-5F70-4DAC-BC47-9074CC91B3E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53586-EFBA-4B39-8DF4-028AE6CA95E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6F119-0004-47A7-A7A1-6AAE9C613FC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91E77-1D39-44E4-8A84-AC5F00B8232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5693A-E1E4-48D7-BE31-937F485BDE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F3B2F-CB81-4193-B3AC-68C0B7E5DF7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1E874-7017-4B95-B668-8AFD9D43362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D9F67-7264-4567-9F21-E72C6A718D8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02052-34A2-4769-BEFA-9B9AA826D4C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1EC9A-C74F-49C9-9AEE-D15C4D4D89F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358A5-93C0-4337-B28A-435250875E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A417-6FC4-4618-AF3D-00B6B6EC82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2DB1C-7CC9-4BFF-A81C-31534ADE38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2BF5-5129-4B2E-9764-B3CCB24926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EBB8-081E-4E97-9DED-354A383F77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276B-E582-4305-97A2-4F918CA214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C8D2-4F67-457C-B6A7-5602C2E71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478F-C5BB-496A-BD76-882225D646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34698-0F92-40A0-8454-E276CC70D5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888A-437C-4387-9B5A-11FAA6C1C5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32A3-B30A-4348-A970-8699C38B75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815E2-517C-44F5-93DC-C90F3F398D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435-ECD0-4198-A4A7-4FDEC8C5BE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603-34D5-4EA0-A71A-C5D1CAFABC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641-786C-40FB-9A7F-ABC8D3EFA1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063-27DE-44D1-8B76-E49B05F627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8CA-A551-4BB3-9971-539796D142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E0A7-552A-4426-A443-C950F54DB9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6F4-EC9B-4F81-9B90-70552570A4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7CF-E0EA-4FAD-A68F-231E9BB9BD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F4C-EED1-446B-B058-BAF7277C74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DAA-6189-4D50-8C74-61B39F351B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FC1-B7F1-4E4B-9B97-7D28C4B47D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134-E431-4C98-94CF-D0581597CE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178-91F1-4172-A49A-9FD90E9F9F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7DB6C-622C-44B1-ADC6-E36627501E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59DBB-C414-4E6A-B34C-2202DAF56F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DF3D3-3FC1-4FB9-A4A8-F91A5C310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18EC-A191-4D08-9BFE-A8751EEA14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9D4E8-D4BB-43AE-8DCF-9BBEE40984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110B2-DACA-4784-9305-AF38D2E6F4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0B91E-B395-45AF-95AE-41A9391E49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28F6B-C6D0-4C48-AB80-72433AE787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08E2A-0B51-4AEF-A245-9CB9692239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6D34F-B421-43D0-813A-F0305D3E81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355AC-E0DA-4D0F-B7C7-146E76AA35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6EDD8-39F3-40C6-9802-7837FEA9DC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B2C16-A3AF-440F-8A32-AC4D2B7797D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AC9CE-7739-449D-AAB1-908184740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E83E-6C8A-41B0-B2A3-E5B42C753B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60143-3937-4BAE-B5EF-D6BF56394E8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10BD1-E7FD-473A-B267-3BD66ADAF46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6A34C-FA78-4117-AE85-104B729E1B6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AF2CA-E92C-42AF-8901-024E2B7B765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338BA-6534-4BC6-891F-551233255CF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EBFFE-F493-4577-B40A-05B1F103E0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594E6-BA8C-43C1-80E2-7704CA706E7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AF0F0-A456-4AE6-B006-CABEEBCB858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01B5D-A5F7-4886-A40C-0C215A2076F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BF504-40DD-4E6E-A398-CF381059D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71B1-D56C-4200-882F-DAE94C8168B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1F72E-89E2-458D-BF73-06ADE973676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8342-5996-45C7-98F4-9C5F135E1E5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580E-3EDC-4F60-9F93-9DB52B74AC0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6716-B9E0-45AE-BD70-C6899852DF1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F5F6-8D28-4A79-ADB0-03B14375640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384C-D04D-42EA-9422-CD98F7EC888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7428-8CA8-4710-859E-72DD6C6364B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1D08-3144-455A-9138-7101D3766EF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00A4-E349-41DB-A1C3-C9484609433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436C-8BCF-4312-AEE7-960F3688D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3A8A-A0CF-43B8-ACF0-B2F0F9049D2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9A45-84FE-4779-8B08-406FD541F4E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903D-7FD4-48E6-A5EB-B5E5AA92022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22BF-BD93-4AFE-B227-F3DA259D0B9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9427A4-2B30-485D-B296-F58F7B14835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6F335F-D552-4DC2-9FD4-2A42AF44934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C84A91-6E88-448A-A7F1-BEAF4D29FBF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7904ED-8668-4EB9-96F6-714FB4AFB98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4D168A-0645-49DA-B611-CB206FDBC7C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38C071-8FD3-4051-B3FD-3D32975FDA6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B7F2F9-0C31-4BC9-A5DA-DC7A85EEF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5AFB-EEAF-4844-BE1E-1F0FAE68607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030AA8-802A-4390-A20E-8EF6A4C52BE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402DCC-7CDB-4169-826E-5EAC19025A7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628A88-9924-4532-BE2B-2C27FA3F249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33067C-6EC4-4752-8036-A2CE6A68A9A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50C096-264F-4AB8-ADBE-1817C5501EB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A0F50-4DB5-4E11-A6B4-5DFA48C11C6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D9B30-29B9-469D-BA52-F0E62C806AC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6ED22-6B02-43D8-B3D2-262CAC9F8CC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EA9CA-5184-45DA-90E7-4A05D3D76D6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77770-AA5E-4443-BC5A-F5ABF7503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3211-FBDE-4312-AE98-9809954A229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4FB86-C511-4715-A58D-9434C4C4FC2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67742-3DCD-47FE-8CFD-B371F5C30F2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A8511-DE93-4A93-9B1D-6FC10CD761B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C34AF-ABB2-478A-A38E-0A2905FB30E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392CD-B3FD-4124-B153-ABF07A5E9DB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B9BBB-03FE-49A4-B8B7-4AC59F5B328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A57FF-ED7C-48EF-BA47-7FF069614F8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672E-B539-4D62-B2D4-3C729C95011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6AA76-74FD-43F9-8062-92235E1767B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A4C33-9E87-44B8-9DF1-0F468339C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E7DE-5281-43D1-8432-CFE04955B1D2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Num" idx="10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6BBE-81CE-4D7E-9E1E-A3E84E9F7086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Num" idx="1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432F-AC03-425B-B943-79E95898B993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31C3-091B-46E6-BED8-5E94BCC12B02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871F-29DC-4FCC-9DFB-BE59B11277B0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2992-677D-4F0A-B74A-695EDA911AB8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4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5FB1-8F05-43FD-BBEC-91849C5B0BD3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5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5B8E-C810-4571-B01E-2B8520B8A752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5F2B-7134-4AD3-ADB8-3CEF9622B3D3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7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6B60-7668-4405-8A6B-3029A7D05BB5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Num" idx="8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EB6E-CA5C-4874-94D9-66FA7F610B33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Num" idx="9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6E43-1322-45D7-9FAA-DEAF6E7E11C4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59AE-18B7-4D97-8053-A448BEF842B3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152280" y="16002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JCTVC-G058</a:t>
            </a:r>
            <a:r>
              <a:rPr b="1" lang="en-CA" sz="3600" spc="-1" strike="noStrike">
                <a:solidFill>
                  <a:srgbClr val="3c8c93"/>
                </a:solidFill>
                <a:latin typeface="Arial"/>
                <a:ea typeface="SimHei"/>
              </a:rPr>
              <a:t> (CE3): eBrisk’s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Interpolation using different-length horizontal and vertical filters</a:t>
            </a:r>
            <a:r>
              <a:rPr b="1" lang="fr-FR" sz="3600" spc="-1" strike="noStrike">
                <a:solidFill>
                  <a:srgbClr val="3c8c93"/>
                </a:solidFill>
                <a:latin typeface="Arial"/>
                <a:ea typeface="SimHe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2133720" y="3505320"/>
            <a:ext cx="4572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Hsan Guermazi, eBrisk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7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 JCTVC Meeting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21-30 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9DF3-B63A-4FD8-9133-1850B846EC34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320" y="351000"/>
            <a:ext cx="9067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M 4.0 Interpo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981080" y="4267080"/>
          <a:ext cx="5257800" cy="1293840"/>
        </p:xfrm>
        <a:graphic>
          <a:graphicData uri="http://schemas.openxmlformats.org/drawingml/2006/table">
            <a:tbl>
              <a:tblPr/>
              <a:tblGrid>
                <a:gridCol w="982800"/>
                <a:gridCol w="610920"/>
                <a:gridCol w="455760"/>
                <a:gridCol w="320832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&am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3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, 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60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,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8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,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54,   16,   -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3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5,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46,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27,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36,   36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1828800" y="2514600"/>
          <a:ext cx="5433840" cy="853920"/>
        </p:xfrm>
        <a:graphic>
          <a:graphicData uri="http://schemas.openxmlformats.org/drawingml/2006/table">
            <a:tbl>
              <a:tblPr/>
              <a:tblGrid>
                <a:gridCol w="982800"/>
                <a:gridCol w="610920"/>
                <a:gridCol w="455760"/>
                <a:gridCol w="338436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&am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1,  4,   -10,  57,   19,  -7,   3,   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1,  4,   -11,  40,   40, -11,   4,   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Rectangle 3"/>
          <p:cNvSpPr/>
          <p:nvPr/>
        </p:nvSpPr>
        <p:spPr>
          <a:xfrm>
            <a:off x="38088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filter set (F) is used during the horizontal and the vertical filtering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043080" y="2133000"/>
            <a:ext cx="27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1: Fixed Lu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95720" y="3885480"/>
            <a:ext cx="29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2: Fixed Chro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FD8B-FEEC-49A4-9DCD-BC5B14DB16C8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Interpola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04920" y="1600200"/>
            <a:ext cx="8305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the vertical neighbor pixels is more difficult than horizontal memory ac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shorter filter for vertical and longer filter for horizontal interpol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filters are fixed (beforehand known coefficien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 filters correspond to variant B from joint CE3 contribution on solid interpolation filter [JCTVC-G778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filters correspond to the tested variant in CE3 as solid (non-switchable) interpolation filter [JCTVC-G775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7FD8-4C70-4F12-9836-F0300AACC94E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Interpola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881360" y="1754280"/>
          <a:ext cx="5281560" cy="1293840"/>
        </p:xfrm>
        <a:graphic>
          <a:graphicData uri="http://schemas.openxmlformats.org/drawingml/2006/table">
            <a:tbl>
              <a:tblPr/>
              <a:tblGrid>
                <a:gridCol w="982440"/>
                <a:gridCol w="611280"/>
                <a:gridCol w="455400"/>
                <a:gridCol w="323244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1,  3,   -8,  60,   13,  -4,   1,   0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1,  4,  -11,  40,   40, -11,   4,  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2,  5,  -11,  58,   18,  -6,   2,   0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 0,  2,   -9,  39,   39,  -9,   2,   0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1905120" y="3767040"/>
          <a:ext cx="5257800" cy="2328840"/>
        </p:xfrm>
        <a:graphic>
          <a:graphicData uri="http://schemas.openxmlformats.org/drawingml/2006/table">
            <a:tbl>
              <a:tblPr/>
              <a:tblGrid>
                <a:gridCol w="982440"/>
                <a:gridCol w="611280"/>
                <a:gridCol w="455760"/>
                <a:gridCol w="320832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2,   61,    6,   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54,   16,   -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3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5,   44,   29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36,   36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2,   58,   10,   -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54,   16,   -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3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6,   46,   28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36,   36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0" name=""/>
          <p:cNvSpPr/>
          <p:nvPr/>
        </p:nvSpPr>
        <p:spPr>
          <a:xfrm>
            <a:off x="2814480" y="1447200"/>
            <a:ext cx="27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1: Fixed Lu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811600" y="3458520"/>
            <a:ext cx="29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1: Fixed Chro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3359-8533-4C34-8801-77C88B5C4372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600200" y="1936800"/>
          <a:ext cx="5905440" cy="377820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838440"/>
                <a:gridCol w="83808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Low delay P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113C-567F-4FAD-A128-FA15521297E8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600200" y="1936800"/>
          <a:ext cx="5905440" cy="377820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838440"/>
                <a:gridCol w="83808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C550-B070-423F-94A8-36AEF6178F0B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1600200" y="1936800"/>
          <a:ext cx="5905440" cy="377820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838440"/>
                <a:gridCol w="83808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E862-3C01-465F-8D21-E7A6F172E35D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sual Quality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066680" y="2438280"/>
          <a:ext cx="6096240" cy="33577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oom on the 10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h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frame of PartyScene encoded with QP=37. LD(P)-LC. (HM4.0+SAO OF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oom on the 10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h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frame of PartyScene encoded with QP=37. LD(P)-LC. (G058 + SAO OF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Rectangle 3"/>
          <p:cNvSpPr/>
          <p:nvPr/>
        </p:nvSpPr>
        <p:spPr>
          <a:xfrm>
            <a:off x="380880" y="16765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the same as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han HM4.0 when SAO is disab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427040" y="2514600"/>
            <a:ext cx="5430960" cy="12142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409760" y="4267080"/>
            <a:ext cx="544824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17C6-5DBC-486D-9546-A03CE4C952D1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rate relative to HM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13%. 0.0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rage Y, U and V BD-rate reductions (respectively) compared to those of HM 4.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relative to HM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cations: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verage case and worst case (respectiv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s: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6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verage case and worst case (respectiv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: almost same as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quality relative to HM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the same relative to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han HM4.0 when SAO is disab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Nader Mahdi</cp:lastModifiedBy>
  <cp:lastPrinted>2009-04-22T19:24:48Z</cp:lastPrinted>
  <dcterms:modified xsi:type="dcterms:W3CDTF">2011-11-20T16:55:31Z</dcterms:modified>
  <cp:revision>1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