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E8F-2243-43EE-BE97-0A48923686B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337-101C-466A-8F69-2348FBE751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C5C-E83A-4B9E-B89F-1012DF88A2F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A568-2EF6-4328-AADD-D385ADAC40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4CD-6F48-49E9-A636-2356EDB42A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7D8-EDB1-4F3F-8F29-39D09B36A8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6D7-B567-4CEA-B719-8329E0FF2F0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866B-F06E-424A-94D5-1E2634686B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ECE-F2BF-4A42-BA8E-489C2A970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AF7D-90CF-4DE5-97F8-C5243878A4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C25E-4FF6-4D29-8C8E-3096BCEC37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9A9B-FD74-476F-B6C3-580D77B91E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C6A7-DAD6-45B7-A99E-7A85CDFE40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8D20-B083-4609-B33E-18ECB6F6A5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4FE4-8A7C-4ECF-AF4F-37BC243397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5C5A-AEAE-42EA-AEEB-25333A37DA8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3712-CCB3-49E1-9BA7-A44F104C03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C7E6-0537-44FE-84AF-687058E0EE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3FEE-154A-4AB0-AB80-060DB5890E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E4BEA-1932-465E-B587-CAD77ADF8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0470-A532-402F-8EB6-A1D2A304E8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2090E-3D5C-40D1-B73A-1C17DF7F41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F1751-4472-49B0-AC02-7078420B7D0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3E314-32EB-470D-AE88-4128D124F3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F3D72-C461-4107-86F2-5A98D5D771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80732-FCA7-43F4-9F95-126BA8D6D3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0011C-5404-4219-879F-8A38490295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52F5B-9B8E-40CA-B486-E69C0C6374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52DE0-B3CE-4106-9AEA-B2B710288E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F4FB1-AADC-49EA-A7C2-3AA8DF0828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2E1F0-44BC-49A6-96AC-B3BC53D5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BA49-B902-4828-BFB5-FC150DB5670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DE437-4244-46BD-829B-1D0C6E3D28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7F070-886D-406C-9D8C-42419F7B66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11C8C-D113-4DA8-AFEB-4132081B6B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691E4-76F6-4889-A16C-5BE7EBDA00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3FB50-9346-415E-8E18-41FFD98035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1C0A7-EA43-48BD-A899-A641D87F12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38969-B08D-4068-9C20-755AB79257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ECAE8-88CF-4CA1-9A03-B1114E0F4C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5B5F3-8AB5-4E01-816E-06612204C9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FB57F-B25A-4E9D-8C04-B1C7E3B43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3E27-1F10-4320-9470-1502D6A6434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66CD0-0604-4641-8F61-30E380EAE5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1CD85-4F96-42D7-8212-EC42D8DCA8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29CCF-96B8-478A-9B3E-76EC8C7388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FE7E-3245-4CD9-8465-EB832468F7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D7EC-E4E6-4A4C-940F-057ED2953C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B4E4-E90C-495B-B242-E5E323C0DD4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AAB1-B5EC-42D6-8528-31F71E9B83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805B-54C9-4DE2-8882-B3C4BCD3350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EF76-A3CF-40BD-9589-7FDAD4697C1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8F0E-E306-4A0A-98D4-DC61AA8A4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E5AE-842E-456D-80F3-025DC3C724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1C1F-0347-460D-AC53-CC7F3D1120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4F11-C4D7-41D7-8F4B-1DC94DB8FE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BD11-1660-4798-AA23-175417CF15D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3EA1-2635-4515-B055-E2C2732B44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2386-839B-4A32-A85D-597918F61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07D3-3A6E-4E12-8A77-C64F939874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EF72-FB1D-4BC3-9C36-7E45E5F6A0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FCA0-D5C7-4887-BD2A-E266F84CA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B525-0E2C-4CD8-B4F5-98E54B39D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8DA2-ED95-4A8A-BD12-E54DA303F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315C-7281-4FD4-904B-7C264CD6C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A961-C9B2-4457-ABED-C2FBBC45D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A3AB-0E66-45F0-9834-CB22D70B2B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1450-FC86-4064-9C6D-5315F5A663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5E53-B5FC-4697-A785-A69DA2740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0F54-7B2A-4295-894A-220CA83BBA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83F-55E8-4417-AA24-0C6B5D598B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CB0-83AC-49F2-A9DC-B2BE44831D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976-0252-4A20-A1CB-B4B0DF02C9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E38-5D89-49C8-82C4-AF0E97F03E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28E-7CB6-404E-8539-9EF88423D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5981-1B7E-4F5F-A485-EB3F5CF48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77A-C250-473D-B5B1-4290004F6A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AD5-76D7-4796-BB30-591C5808F1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F0E-362D-402F-B3D1-6E7D1BC416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455-1E28-43A8-8C78-DE348F559B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225-7D45-40BF-B84E-BA3B05B896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1F9-E9B3-48B1-9017-6FC8FA4A70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162-F178-4F29-9B2F-6D1E770258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DDC5A-C727-4A83-B070-DF88CEC9DB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9F91-3414-4A24-A340-A91C0CFB20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15CF8-71F3-4EAD-85C8-1FD17ED4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CDA4-85E8-4C0F-8045-71B0FABDFF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851BB-DD5E-4B63-AC92-A6D4B77071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1B6A7-0E9B-4B12-A2B5-3093CE2DB1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304C-7861-4E2A-96E1-D199C48481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429DF-BAEE-4D95-A8CC-2EE6BE9A0E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3BA1D-B791-469C-A009-32B69AE5A2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8EE22-EDA1-449E-A6BC-964D7DC9FC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4B06A-C6C7-4298-B452-425A747D20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FF3D0-FE24-4E70-B327-800C0DC06A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DCD44-CAAB-447D-973A-AFD4ADCE0D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FA32-AFA0-4E1C-BC0D-AE83CF746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F445-7AC8-4F0F-8819-7854786EDB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6908F-4214-4232-9432-98C9D75720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D079-263F-4F11-A861-8ACAAD4CED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74421-256A-4F9E-A5F5-B92C193BBC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001D-55CB-4059-A11F-E031631710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3938-5E79-41AF-8EB7-DE3DE96C10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08306-9D58-40C5-982B-0E763100F8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2582C-69DE-46E0-8611-EC08574B6C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2714D-AA31-4E6D-A57F-B5BE7BC8E8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B5AE-1094-4069-A08E-DE7D19D3E0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FD4A-E5E9-46A6-AD92-4896DADAD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DE81-DB92-4752-945B-CAC42038C5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D4D7F-B1F1-41C7-A612-CED9FF5D53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5F1-3505-4CB4-9E91-88484D4929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35D-6C0B-4528-BCF2-40E4714958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5520-2EF6-4008-B58C-82D244BE27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39F-7E2C-4904-94AA-C7C2332F40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FB3-5146-4E4A-91BC-052E219D03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A492-4F3E-4AD5-8983-23776A1B11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F848-5ADD-4C23-8B3C-F674E049DF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3D59-5A75-42E2-9DC4-2E101EEE2B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1593-4BE1-438F-8D04-4A280FF4F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62EF-06CA-4163-8E4D-09AFB345E7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C98B-9692-41C2-AF40-07F5A18E48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FD8-77E9-4AB6-B383-FA59FCC8AA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049-910F-4756-B013-497960FCD9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5A5CB-255B-4958-B895-57F5B8AF5C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06589-59F9-42EA-8437-6D0158D1C2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DC1C5-BD8C-477C-BBE5-16DB9374DF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1B5C2-4BF1-46A7-9577-E2D3D0C4B8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FA8EC-7FE9-4E75-871D-228DDF6BF4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9CB7C-A325-4109-9E5B-453114B0CB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17644-9FEF-484E-A5BB-467E4EA4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A1D0-882D-4BFD-9F61-4A75D25E5D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182DA-F50C-4EC6-9D26-F7073DA624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E8A3A-11E0-48E8-8FE9-706BE5F8F3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FE653-9461-4DC7-A512-08C97D33A4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CE8A2-FED8-4872-8162-97C9D4BC9D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D81DF-F4CD-4E25-84D0-749BDF8671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615AA-8B7B-4037-B122-12B623D5C7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FA108-0590-4FF7-A886-5870D18560D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10A16-24E1-46C6-9475-81C0B3243B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8A95E-D9D2-4997-A2B0-D8CD067CA3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CECD8-54FF-4869-8AC5-6A8CB360B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22AD-BF9C-48F0-8A78-CD482F4684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945B9-EF6C-43FF-875C-0D2718DE61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11786-D3B4-4BCE-9868-AA3AA3C461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60A2A-912E-4279-AA77-3678C9E86B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E6D54-92CD-45AC-90A2-D54F3044B0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0B2E7-F58E-4EA6-9EE0-03C1294241C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8763B-4DA2-4EFF-92E5-9BDD5EC540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F866E-95DC-469D-A1CD-9134341A82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8B2A-3919-46BE-9FAF-E62F032E2C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A61F-2319-44B4-8EBF-FE39399A1B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2C5E-165F-471A-B742-AFB8C7987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7F5-CE39-42E6-8B2A-E1F6D4A32291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6469-AC89-4EFF-BFAD-BD1CE1DA3BD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139-E483-47EF-899C-B8D2D99E8D9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E42-7023-4D97-B819-74E3169EE96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D789-4D70-407B-8487-D82AE61C446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D8C-F40D-467F-8A81-00283A94987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432-BF42-41D1-8499-6A0D433ECDF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495C-B74C-4A29-BC8E-072F0FCA3B8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679-2483-4AF9-A09A-773B95F7BE99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DF66-A03D-42E3-A553-970DB2634D0A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26C-3792-4468-8461-F6319094B7FE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7ED-19DE-459F-8C94-AE1B83CF43D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5DA-AC95-4979-8E69-EAA862D61451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G058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Interpolation using different-length horizontal and vertical filters</a:t>
            </a:r>
            <a:r>
              <a:rPr b="1" lang="fr-FR" sz="36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2908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Hsan Guerm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91B-6488-4AC9-B35B-0B292B563DC1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4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981080" y="4267080"/>
          <a:ext cx="5257800" cy="1295640"/>
        </p:xfrm>
        <a:graphic>
          <a:graphicData uri="http://schemas.openxmlformats.org/drawingml/2006/table">
            <a:tbl>
              <a:tblPr/>
              <a:tblGrid>
                <a:gridCol w="982800"/>
                <a:gridCol w="611280"/>
                <a:gridCol w="45540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3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60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8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46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27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1828800" y="2514600"/>
          <a:ext cx="5433840" cy="85392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384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0,  57,   19,  -7,   3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1,  40,   40, -11,   4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ilter set (F) is used during the horizontal and the vertical filtering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78"/>
          <p:cNvSpPr/>
          <p:nvPr/>
        </p:nvSpPr>
        <p:spPr>
          <a:xfrm>
            <a:off x="0" y="2133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9"/>
          <p:cNvSpPr/>
          <p:nvPr/>
        </p:nvSpPr>
        <p:spPr>
          <a:xfrm>
            <a:off x="0" y="3885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310C-8029-48A9-BC36-038A40B5E904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 number of vertical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higher-accuracy interpolation in the horizontal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horter interpolation filters in the vertical direction than in the horizontal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filters are fixed (i.e., known coeffici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horizontal filtering, we employ the variant B filters from the joint CE3 contribution JCTVC-G7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vertical filtering, we employ the filters from the CE3 contribution JCTVC-G7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739-BC2D-4330-B669-A785826CCE7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81360" y="1754280"/>
          <a:ext cx="5281560" cy="129528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3,   -8,  60,   13,  -4,   1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-11,  40,   40, -11,   4,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5,  -11,  58,   18,  -6,   2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 0,  2,   -9,  39,   39,  -9,   2,   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905120" y="3657600"/>
          <a:ext cx="5257800" cy="233208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61,    6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  44,   29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58,   10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6,   46,   28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Rectangle 83"/>
          <p:cNvSpPr/>
          <p:nvPr/>
        </p:nvSpPr>
        <p:spPr>
          <a:xfrm>
            <a:off x="0" y="1446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8"/>
          <p:cNvSpPr/>
          <p:nvPr/>
        </p:nvSpPr>
        <p:spPr>
          <a:xfrm>
            <a:off x="0" y="3305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AE1A-10E8-42C9-9892-0F31339F7D6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B571-CB33-452D-AAA5-00AE21DB41C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4C59-DFB4-4610-9902-7F5ED5EAED6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77D1-1D6B-4056-BBCC-8EC971F2A518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066680" y="2438280"/>
          <a:ext cx="6096240" cy="335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r" pos="38084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HM4.0+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oom on the 10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h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frame of PartyScene encoded with QP=37. LD(P)-LC. (G058 + SAO OF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15" descr=""/>
          <p:cNvPicPr/>
          <p:nvPr/>
        </p:nvPicPr>
        <p:blipFill>
          <a:blip r:embed="rId1"/>
          <a:stretch/>
        </p:blipFill>
        <p:spPr>
          <a:xfrm>
            <a:off x="1427040" y="2514600"/>
            <a:ext cx="5430960" cy="1214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3" descr=""/>
          <p:cNvPicPr/>
          <p:nvPr/>
        </p:nvPicPr>
        <p:blipFill>
          <a:blip r:embed="rId2"/>
          <a:stretch/>
        </p:blipFill>
        <p:spPr>
          <a:xfrm>
            <a:off x="1409760" y="4267080"/>
            <a:ext cx="544824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7FFA-5082-4B3A-AA17-DBB4DB5BE63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3%, 0.0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ccess &amp; Bandwidth: Almost the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qual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he same relative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1T15:32:12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