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8417-0FF7-40C6-863F-D98087CCC1C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9C71-7E84-4B8A-91D2-1F45DC1CB23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99CB-EEFF-4FAE-A5D4-DFF223FECE7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6156-6D8E-4496-B45D-5796ADAB1EA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efficients sent in the the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13D2-7218-4109-83FF-2DFB3FC8031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1DE6-5875-45A3-A6CE-EDAB37DD2F8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45B1-A6DB-4177-9066-F177DFD7CCE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9563-7B5B-45FE-9BD0-E5C14C7BC1C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RA results are lower compared with the LD as a result of the use of future pictures in B sl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3F9C-65B8-4593-9C38-80D8EABCC08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8ED0-D276-40CD-A706-54CE2E388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1536-12D9-4C38-9C29-2B877AC9F90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6F771-7811-4EF1-AF0D-9BEE023C1CE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A7D2-096B-4A68-8E84-E497C421AB2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23E0-C5B7-4D66-9641-399275907E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A0FB7-E41D-4198-ADBA-CE2A36E17B7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47BB-63A1-41E0-B08E-22171DF9D10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822B-867E-4FFB-835A-BF7F0C0837F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D2D28-7DF8-42F4-9F4A-77F0B9A13EC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693A1-0E0F-49DE-9633-559EE66B377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264D9-7D2D-4E53-A5B1-FAA864618EE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3BF1D-AE17-4879-A277-F40D186DF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3BA3-2EE9-482C-8BCB-409D8B6F565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402EE8-E9C9-4BE0-9504-607F422DF82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827CD9-C095-49AC-9BF2-A7F0372B46A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547D36-20B9-4C71-9914-FE4EE2D9276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123631-B071-4B74-BCC8-BD5D3124B30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79F42A-CA7E-493A-B173-0CA68C93EC4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7683F-1FD8-4BA3-8A4E-933ABF078B4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BE7FB-217A-4358-B32C-2A8F7CBAA73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C8A6EF-41D5-4552-8FBD-CA5EFDD2A57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FB288-CFE3-47DE-B9FC-2805F527686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1DD01-D3BF-4A8A-BEA4-F8985D04F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9373-AA2F-45CB-A5CC-5567F596BB5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E8CC19-FD90-44C3-8157-7E1A856813B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802F1-47B2-44E4-B704-57E6DB03BD5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312D5-9379-4433-95D4-FB6A3B19FA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958358-4EFC-4E04-8F4C-F5FBBFA9DD2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404A2-3870-47DD-B4BA-5300EAC6DB6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86F64-4AEB-4904-A984-29F5B739C11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F8390D-0B1B-4E4F-A8E7-28B9F1A855E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7DCE2-9066-4F03-94F1-6DF5B6A7778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05404-5804-4C91-94D5-D0B41FDA772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DAE7B8-2F3C-4A02-AB8C-63CAAB25C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E053-E670-40B4-AAEC-211EC7D2127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C7B3E-947A-48F7-8F03-C216245BAD6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7EEDD-937C-49EB-B894-FA414A0B37E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A4684-0DCF-4016-A5AD-F4D218B89BC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5CAB-2CC7-4B0E-BC0D-E84FD6E4CB6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B390B-496B-43B3-A646-303475C3774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43CE8-F9C3-48BA-8124-384BA620B0E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D265B-6631-4593-8061-CC64A287942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AFA17-71D4-4631-85E0-674A5CFBAD7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6EE49-9621-49B5-AA0B-FE1D2E9FD74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8763-2CDD-4599-BB05-E33CD441DA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B4C1-F072-4DC8-988E-14D5059D799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024EA-22F6-4054-9E62-203313DF50E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F010D-E405-40AA-873A-09A2A16CE2F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9ECA8-BBEE-4DC1-ADC6-4E39D8F88E6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18B44-6FCB-4438-805F-2908A0CF3B2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9DB7C-A344-4409-AB60-D72E11E431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B478-DEA8-4C72-B901-0A0C82DCC6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8ECC-9482-459F-A89C-1AD519262A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ABC5-A09A-4D36-BFE9-FD00C3E898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D7E9-2A2B-451F-8218-CA7C81D813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B9D4-2108-40A2-B1A5-4ED068160B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3781-DDDA-4E8A-BC9E-A392D1820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444F-8018-485F-998B-38B7A70345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E428-3690-4F7B-B605-F6ADD291AB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5F7C-7493-4CE9-8598-D15CD4BA33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8697-908E-47EE-87D5-A8A7CF2780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D2E3-E4E0-4CD4-A256-5646820E2E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CD9-9A1F-4AC5-87D7-2CD7791F87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1D8-C13F-4158-BC5D-62FC5FCD95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091-40D6-423B-8F0D-7269904ADD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08F-03C4-4CDE-A3F8-99DB027851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F52-DC40-4F48-8E0D-8ACA5BC2D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58DC-3EAC-4C1B-B856-CCB00B2E6F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A71-9EB5-4CC7-88CF-2D6A88411A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245-FE50-40C6-A079-53D6E12DE0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2BD-454A-4BF0-8028-DDE90455F8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E1C-C188-4AFE-A669-857F2C33C3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E0F-5282-4DD5-8FB2-E8323CFF70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4AC-A506-40E6-9D83-E45E81178D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35E-BD15-4EA2-B282-FB596BD06D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268F7-2625-4834-84EB-DB1D93163F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57DBB-E999-4DFE-821D-5C21D97337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B4704-BF7B-4E2E-9BA3-89C13A6D9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0966-EB21-4DFD-9EB8-EB95EDA877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1BAB7-692F-4D0C-AD56-367AECDFF4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FD1DE-49A6-4847-9AE2-0834DA74F5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D60CD-B957-47A1-B2ED-04FEAE6379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F02BE-A124-44F0-A5A3-56167941AC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6CADE-C8A9-488B-8D08-2276BF0486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6F4B0-8F53-4B25-9C14-3D4071079D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896C8-68C9-4AE8-8915-2FA73D305A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910C5-5407-45A7-A23A-D5FC6B41A2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FAE67-E02D-406C-B519-4FCC116598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F97FC-2796-470A-9D7C-A54876114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155F-4E76-4291-9E36-764B92D88AC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86FC6-EB82-4EA8-842E-05A5FA36DF6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9E3B9-69D1-4DF0-BC50-ED9BBF2D059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4DBD6-9E12-423B-9357-241EEB0E76C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FB1B1-D35D-487D-B5C2-BB103AC28BD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40AAA-AAD6-4D8F-8471-65BDE9482D9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0E1EF-3EB5-4B2B-BDB5-D7707E6B47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7D702-DDD6-475B-B663-7E36DE07585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08DAA-4026-4C5E-8201-FDB116EEC6F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326FE-40B1-41D5-A0D4-0FD7251961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60ECA-A470-4C7F-A0C9-8AE0D86AF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8E31-763D-47FB-85F1-7EE7DFD1257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24976-C4E3-4484-A75D-CFF161752C8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3D58-DBDE-439C-A50A-A52ABC05CBD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90FF-D169-4424-AAF6-B6201DF55E3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1F39-941E-409F-889A-158889FBAEF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4B7B-33FF-4D17-B504-DB9E178716D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6903-28A8-498B-B89B-F4A98D8CB89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E479-0F17-4BA7-8310-A516899613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5527-54E3-449E-B161-77322F6F090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2F43-15E5-4EB9-9B1F-A57567CA824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F0F5-1705-4CCD-8CD9-3CAD7F5F0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A328-2CD4-46F2-87E4-07B99EEEF63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5181-77E6-49F4-96D4-3B79572730A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72AE-B330-4C7E-BF26-459A660618D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DCB3-86C9-41D8-AEDE-B66437198F0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2AADA2-D9E4-46F6-BCEC-0616EDC7386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F213B7-6854-4A9A-B51C-53BBFB88A10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E496B8-4BB9-4F1E-9A5C-89333EFDFAE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9ECF7-B7AB-4FB3-A994-6203D1D61E1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3DA1A-547F-4962-BD23-1EF14E15D29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ED0594-DE82-4F28-87B6-CA5CD54739A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12829A-3050-437D-9341-D25EAFD05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1AD6-9F38-4255-8262-7C3B9365EC9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4F4787-7A90-4906-8969-D581A36664B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F15254-3AAE-4376-AE3E-00A2050061A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EB52B-B055-4486-A85B-C0B0D967C08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152DDA-ACFE-4A4C-B155-E88164E3ED0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723DB8-A504-4DB9-8AEE-2FE3C963FBB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D358D-461F-47E6-AC37-AA4C096FAAA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46CC8-BE57-4912-9098-DAA89283736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D8226-71F3-4BDD-B108-B072DA1040B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B59B6-2AB0-4B4C-81FE-649BA6E03F4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41E7C-4632-457C-9CFE-2CB59920D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EA18-0F02-4C20-B66F-05EDDE38210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3886C-1CD1-4571-9D51-F75CDE28448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B2C79-D2FA-4B01-B61F-78C5229D83E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DA983-011B-4C63-8B8C-92D91FF187A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C5DA2-5D43-4D8E-86F7-3671F09FAF2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419FB-589A-4AD3-AE6F-ECBA6F245B8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0ABF5-F2E7-4005-9D13-F6CD4894D65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1F498-455D-493A-83AA-E3BD793BBB0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A216-AD08-41A0-9ACD-31056702242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1C0CC-6742-45F5-B7DC-264E8E7FED2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90018-94C0-4AC6-A43B-4B12E9BA9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1B2A-9877-4931-BFEB-C973FDEF052D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45E1-EBF0-4B9F-B68B-153EAA6633CE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23F1-6B72-4715-B809-ED4775F95CDE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FE8A-ADED-4736-B7E5-7B9DA19F22BA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73B1-DB54-4FD1-A4AE-F68D05C00AFE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1753-2758-4FF2-B3B0-521AE9992D32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4ED9-2DF4-48F9-9A8A-D4B30FBF37ED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836D-520E-4405-995D-ACC7BA429891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59A3-01D6-4F81-9E79-0068E5CF8179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1A22-B3BD-41C7-8BC3-5DBF2B8C601C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966E-2C53-4BF7-BC6E-A8EF1DD9886F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BB7F-56AA-4B66-B280-E4477D7187AF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505A-9F7D-42A6-8AAA-DCB6CF33C7FB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152280" y="1600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JCTVC-G057</a:t>
            </a:r>
            <a:r>
              <a:rPr b="1" lang="en-CA" sz="3600" spc="-1" strike="noStrike">
                <a:solidFill>
                  <a:srgbClr val="3c8c93"/>
                </a:solidFill>
                <a:latin typeface="Arial"/>
                <a:ea typeface="SimHei"/>
              </a:rPr>
              <a:t> (CE3): eBrisk’s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Adaptive Interpolation Filtering Techn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2133720" y="3505320"/>
            <a:ext cx="4572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Hsan Guerma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7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VC Meeting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21-30 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9063-DCB1-4B5A-87ED-3FA8484D45D8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32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M 4.0 Interpo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743200" y="1523880"/>
          <a:ext cx="4280040" cy="609840"/>
        </p:xfrm>
        <a:graphic>
          <a:graphicData uri="http://schemas.openxmlformats.org/drawingml/2006/table">
            <a:tbl>
              <a:tblPr/>
              <a:tblGrid>
                <a:gridCol w="814320"/>
                <a:gridCol w="3465720"/>
              </a:tblGrid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   4,  -10,  57,   19,   -7,   3,   -1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   4,  -11,  40,   40,  -11,   4,  -1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981080" y="2273400"/>
          <a:ext cx="5943600" cy="3746520"/>
        </p:xfrm>
        <a:graphic>
          <a:graphicData uri="http://schemas.openxmlformats.org/drawingml/2006/table">
            <a:tbl>
              <a:tblPr/>
              <a:tblGrid>
                <a:gridCol w="1886040"/>
                <a:gridCol w="2000160"/>
                <a:gridCol w="2057400"/>
              </a:tblGrid>
              <a:tr h="23436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-sample posi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t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izon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4961-7094-44C3-895A-FAAAA655634E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AIF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380880" y="25146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feren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deo slice, select between the ½-pel default and new filters. and between the ¼-pel default and new fil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y selected filters thr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ma_filter_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905120" y="1866960"/>
          <a:ext cx="4572000" cy="571320"/>
        </p:xfrm>
        <a:graphic>
          <a:graphicData uri="http://schemas.openxmlformats.org/drawingml/2006/table">
            <a:tbl>
              <a:tblPr/>
              <a:tblGrid>
                <a:gridCol w="936360"/>
                <a:gridCol w="3635640"/>
              </a:tblGrid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a0,   a1,   a2,   a3,   a4,   a5,   a6,   a7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b0,   b1,   b2,   b3,  b3,   b2,   b1,  b0}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523880" y="3809880"/>
          <a:ext cx="5867640" cy="1293840"/>
        </p:xfrm>
        <a:graphic>
          <a:graphicData uri="http://schemas.openxmlformats.org/drawingml/2006/table">
            <a:tbl>
              <a:tblPr/>
              <a:tblGrid>
                <a:gridCol w="2760840"/>
                <a:gridCol w="1554120"/>
                <a:gridCol w="1552680"/>
              </a:tblGrid>
              <a:tr h="2588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ma_filter_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_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F (New)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Rectangle 3"/>
          <p:cNvSpPr/>
          <p:nvPr/>
        </p:nvSpPr>
        <p:spPr>
          <a:xfrm>
            <a:off x="38088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HM 4.0 Filtering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27C2-A75B-4476-AC7B-5E38C41C05B0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F Filter Gen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 Estimate MVs using HM 4.0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Estimate filter coefficient values by minimizing the energy of prediction errors after performing MC using MVs from 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F Filter Trans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differences between the filter coefficient values and the corresponding HM 4.0 filter coefficien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AIF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4567-4EE4-44F5-B449-F256E32B70AD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600200" y="1447920"/>
          <a:ext cx="5905440" cy="469404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Low delay P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3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6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2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-2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9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mBand(2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mBand(2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mBand(1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mBand(1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A32F-606A-4573-8A44-B7D1721B6ABB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600200" y="1447920"/>
          <a:ext cx="5905440" cy="469404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mBand(2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mBand(2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mBand(1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mBand(1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3488-5806-41BB-9CCF-9928ED04A5C6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600200" y="1447920"/>
          <a:ext cx="5905440" cy="469404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mBand(2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mBand(2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mBand(1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mBand(1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7B13-D851-44AD-94DC-D0429B2ADB8F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sual Quality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066680" y="2895480"/>
          <a:ext cx="6639120" cy="2546640"/>
        </p:xfrm>
        <a:graphic>
          <a:graphicData uri="http://schemas.openxmlformats.org/drawingml/2006/table">
            <a:tbl>
              <a:tblPr/>
              <a:tblGrid>
                <a:gridCol w="3308400"/>
                <a:gridCol w="3330720"/>
              </a:tblGrid>
              <a:tr h="21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oom on the 10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h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frame of PartyScene encoded with QP=37. LD(P)-LC. (HM4.0+SAO OF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oom on the 10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h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frame of PartyScene encoded with QP=37. LD(P)-LC. (G057 + SAO OF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8" name="Picture 106" descr="HM40_ZOOM"/>
          <p:cNvPicPr/>
          <p:nvPr/>
        </p:nvPicPr>
        <p:blipFill>
          <a:blip r:embed="rId1"/>
          <a:srcRect l="4086" t="0" r="7150" b="5425"/>
          <a:stretch/>
        </p:blipFill>
        <p:spPr>
          <a:xfrm>
            <a:off x="1143000" y="2971800"/>
            <a:ext cx="3122640" cy="1889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07" descr="G057_ZOOM"/>
          <p:cNvPicPr/>
          <p:nvPr/>
        </p:nvPicPr>
        <p:blipFill>
          <a:blip r:embed="rId2"/>
          <a:srcRect l="6962" t="0" r="5968" b="7031"/>
          <a:stretch/>
        </p:blipFill>
        <p:spPr>
          <a:xfrm>
            <a:off x="4462560" y="2971800"/>
            <a:ext cx="3157560" cy="18986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"/>
          <p:cNvSpPr/>
          <p:nvPr/>
        </p:nvSpPr>
        <p:spPr>
          <a:xfrm>
            <a:off x="380880" y="16765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the same as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han HM4.0 when SAO is disab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10D0-043E-43BC-97D8-9A009CA76213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relative to HM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70%, 0.1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verage Y, U and V BD-rate reductions (respectively) compared to those of HM 4.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relative to HM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ime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9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4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decoder and encoder (respectiv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cations: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verage case and worst case (respectiv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s: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verage case and worst case (respectiv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Access &amp; Bandwidth: same as HM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quality relative to HM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the same relative to HM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than HM4.0 when SAO is dis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Nader Mahdi</cp:lastModifiedBy>
  <cp:lastPrinted>2009-04-22T19:24:48Z</cp:lastPrinted>
  <dcterms:modified xsi:type="dcterms:W3CDTF">2011-11-21T15:29:43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