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366-B92F-4A8B-8ECC-DBEF784D11E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ntribution presents a technique for the Adaptive Loop Filtering (ALF) of chrominance samples that employs the map used in ALF of the luminance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HM4.0, (1) ALF of the chrominance samples is applied only when ALF filtering is applied to the luminance samples and (2) CU-adaptive filtering is not applied for chrominance samples (i.e. ALF is applied to a whole frame of the chrominance samples, or it is not applied at a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posed technique, we apply either frame-based or CU-based ALF for chrominance samples as follows (see Figure 1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39A0-567C-421E-9817-EDE95C710DC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LF is not applied to the luminance samples, (a) it is also not applied to the chrominance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rame-based ALF is applied to the luminance samples, either (b) ALF is not applied at all, or (c) frame-based ALF is also applied to the chrominance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CU-based ALF is applied to the luminance samples, either (d) ALF is not applied at all, or (e) frame-based ALF is applied, or (f) CU-based ALF is also applied to the chrominance samples. When CU-based ALF is applied to the chrominance samples, we apply the same CU filter map generated for the luminance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65D-B5FF-4D6C-AA62-5B46E57558E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proposed technique reduces the average decoding time (~1%) while also achieving better U/V BD-Rate (0.21%-0.19%) performance than those of HM4.0 [1]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2D6E-3FB1-4210-896C-499C98DE57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D1EF-33AF-47FE-983D-00651E3CA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CB9A-B8DF-4107-AA21-9DD5FAC3C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15D5-2CE1-4E67-AD3E-426EEB07C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BDA6-9D8F-4034-9CAD-EF2613CCA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40DB-FDF3-4F01-A7D5-A86F76944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F410-2C1C-4BE2-90E9-C042F50864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1822-663A-48DF-96B6-82AA6436E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6D49-428B-4292-84EF-F27AB72EC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9E55-7262-4F23-88CC-D55629104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FE5A-CC05-48F8-AF25-70109F624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3818-0249-4975-AA81-CE499F9F7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F01-14E4-4A74-911C-A2E7BFB3F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E3C9-0123-453F-98DC-480EA4183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D9B9-E3FB-4814-8951-B9BBA1DD0C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93CE-A8DC-4E86-B77B-F77FEA4E3D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6659-D2AB-492A-8972-C6740F518B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B7B5-3906-480E-9551-54D89860E0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2B9-2265-4B9D-BD2B-09D315A534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A97-427E-43ED-8820-946959AC2F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AB9-F74C-4CFA-923A-51A29787F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C94-DC5C-4C23-A5EC-ABA5E9333B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828-0AD6-4A39-B83A-E0A1B0BBC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0146-2C81-4E60-842C-840B17BB79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6AD-4AC5-4EBC-B8CE-7E6A109F96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847-079B-458D-BE1A-9EFE22109C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520-D867-4C4A-B324-D97E7D8B97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BBE-66F1-4BB7-9341-8CEB002D09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44D-C1A0-4D6E-A284-372B8E82E5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279-A8B4-4902-AD8E-6AD0A9AF4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01D-AE02-4C43-90E0-18AB106AE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3005-0DD3-4096-B6D4-C40996C7E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BF62-1777-41EF-8927-699521BA8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F2A1-B0EB-453E-9E17-9D1FE26AA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1B8B-3814-4E60-8F01-6A063716E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7EDE-71F9-4AAF-9D70-2344F02D7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A0DF-C494-4230-BFB2-72A125FC4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DE5-4398-4A67-AD4E-F9C8E43C9F9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F5E4-072A-4B68-A2C4-F469C655983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11C-DF19-4547-A999-94EB3E4CEA8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640A-9B05-4D9F-B70A-7EB3218C89A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1D0-648D-4352-81F3-3BC5BF29561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1523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JCTVC-G056 (CE8 Subtest G)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Adaptive Loop Filtering of Chrominance Samples Using Luma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05120" y="3809880"/>
            <a:ext cx="53337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Hsan Guerm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 Meeting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va, November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DA0C-CAFB-4A9A-AA18-6E9301D3EB1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F7F-F354-42D9-9FA8-2EC3E2EC558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1752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osed ALF of Chroma Samp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1"/>
          <p:cNvGraphicFramePr/>
          <p:nvPr/>
        </p:nvGraphicFramePr>
        <p:xfrm>
          <a:off x="380880" y="1752480"/>
          <a:ext cx="84837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483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EF18-EC4D-4EAB-B060-EB6D7728914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90720" y="1371600"/>
          <a:ext cx="6933960" cy="495792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–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945-D9C3-4E5A-817A-FCD495FD5C9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371600"/>
          <a:ext cx="6933960" cy="50529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–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4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C808-BB82-4B9A-9523-433CFD202BD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295280"/>
          <a:ext cx="6933960" cy="507204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–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08A-10D3-4C5D-BC34-A284F4E32E7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(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90720" y="1371600"/>
          <a:ext cx="6933960" cy="507204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–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hroma BD-rate gai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decoder complexity reduc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2870280"/>
          <a:ext cx="6781680" cy="1473120"/>
        </p:xfrm>
        <a:graphic>
          <a:graphicData uri="http://schemas.openxmlformats.org/drawingml/2006/table">
            <a:tbl>
              <a:tblPr/>
              <a:tblGrid>
                <a:gridCol w="1981080"/>
                <a:gridCol w="1447920"/>
                <a:gridCol w="1676520"/>
                <a:gridCol w="1676160"/>
              </a:tblGrid>
              <a:tr h="392040"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541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– Class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209680" y="4800600"/>
          <a:ext cx="4496040" cy="841320"/>
        </p:xfrm>
        <a:graphic>
          <a:graphicData uri="http://schemas.openxmlformats.org/drawingml/2006/table">
            <a:tbl>
              <a:tblPr/>
              <a:tblGrid>
                <a:gridCol w="2079720"/>
                <a:gridCol w="2416320"/>
              </a:tblGrid>
              <a:tr h="4208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 Time[%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2048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c Time[%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2T11:02:01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