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C52EC-CD92-44E5-816E-D2AD8EB1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A7603-2392-46AC-8AB9-FCEC69FC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105A-1AE7-4278-8A23-4E399DB6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CC672-700E-432B-9EA8-FDBAE37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F4CA3-9D7E-402F-8B0E-7665532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D6E24-3E3C-4858-9962-5FF6BBD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570B3-6A20-4D12-AD64-4EB8BA8B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87CA-8058-41A8-B610-F49F628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745F2-77EF-40F5-B3B8-CBF97D9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14DFC-A804-4FEF-9CD3-90DE93C3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659C-6C24-48DB-B12C-A0A887C6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3F96F-F7BE-4944-AC54-930F2A46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074-0E2F-4703-8C54-96E97BE67947}" type="slidenum">
              <a:rPr b="1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5240" y="1844640"/>
            <a:ext cx="750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cccc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C16-FD3F-4A63-BF09-E744889A1CC4}" type="slidenum">
              <a:rPr b="0" lang="ja-JP" sz="1100" spc="-1" strike="noStrike">
                <a:solidFill>
                  <a:srgbClr val="cccccc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ctr"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8960" algn="ctr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1560" algn="ctr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2744280"/>
            <a:ext cx="8893080" cy="14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8: Results of informal subjective viewing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4717800"/>
            <a:ext cx="75027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viewing was conduc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om 16:50 to 17:3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Nov. 25 2011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 room T07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EE09E-38D1-45F6-817F-BD1A197BB6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71280"/>
            <a:ext cx="83836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back: Dell Optiplex 790 (Core-i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: Dell 3008 LC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inches, 2560x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playback capability of the PC, resolution was set to 1920x1080 (dot-by-dot display on center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62560" y="335772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440" y="198000"/>
            <a:ext cx="8383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: Slice boundary arti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vs JCTVC-G207 (played back random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ono; HE-LDB, Qp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: Line buffer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vs JCTVC-G212_option1 (played back random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Mall, Cactus, Vidyo3, Vidyo4; HE-LDB, Qp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o 6 persons per viewing session, sitting on two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volunte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ipated in the 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on “A” if A looks bet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2 points 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on “B” if B looks bet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2 points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85000"/>
              </a:lnSpc>
              <a:spcBef>
                <a:spcPts val="15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on both “A” and “B” if A and B looks simil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1 point to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9440" y="43920"/>
            <a:ext cx="8383680" cy="6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Sc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A: SAO slice boundary artif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(JCTVC-G207):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lice boundary artifact is likely to be recognized. </a:t>
            </a:r>
            <a:r>
              <a:rPr b="0" lang="en-US" sz="24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ommend to conduct CE to address this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B: SAO and ALF line buffer re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o difference between the anchor and the proposal.  </a:t>
            </a:r>
            <a:r>
              <a:rPr b="0" lang="en-US" sz="24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Recommend for adoption of JCTVC-G212 as tentatively agreed on at sess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038, CE8 informal subjective viewing resul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2:51:22Z</dcterms:created>
  <dc:creator>RDC</dc:creator>
  <dc:description/>
  <dc:language>en-US</dc:language>
  <cp:lastModifiedBy>yamakage</cp:lastModifiedBy>
  <dcterms:modified xsi:type="dcterms:W3CDTF">2011-11-26T22:16:20Z</dcterms:modified>
  <cp:revision>165</cp:revision>
  <dc:subject/>
  <dc:title>[MML]2009年度下期期初方針</dc:title>
</cp:coreProperties>
</file>