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8973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1CFAB-400C-429F-A1D9-7367199B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30D56-A1B9-4EBE-89B2-A718F53D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3F175-A180-4263-AB9D-B14C73CF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E304D-4548-44B8-81D6-4D8DFFEB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4E132-4936-4352-988B-1F2A5203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79440" y="0"/>
            <a:ext cx="83836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B43D3-3349-4566-BB65-6EBE21A8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AA1F4-70E6-4A45-84EF-CBA68B69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0933C-3423-4810-97B5-AE248055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EB222-5CA1-415F-806B-460A86B8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1A783-723A-411C-B69A-F1D9EE0B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5FE4E-D41C-49A8-B90C-0D1DF3FB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516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944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516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944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50FF3-4627-43C2-B16F-D3C7FFA3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79440" y="0"/>
            <a:ext cx="83836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4520" y="6419880"/>
            <a:ext cx="1297080" cy="419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778440" y="6477120"/>
            <a:ext cx="1322280" cy="3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1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23520" y="6477120"/>
            <a:ext cx="5254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4520" y="6431040"/>
            <a:ext cx="1224000" cy="395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8172360" y="6477120"/>
            <a:ext cx="382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2228-2E79-4401-8343-F1820ED742EF}" type="slidenum">
              <a:rPr b="1" lang="ja-JP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80880" y="692280"/>
            <a:ext cx="8382240" cy="0"/>
          </a:xfrm>
          <a:prstGeom prst="line">
            <a:avLst/>
          </a:prstGeom>
          <a:ln w="284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79440" y="184320"/>
            <a:ext cx="3201840" cy="103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5240" y="1844640"/>
            <a:ext cx="750240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1065240" y="5524560"/>
            <a:ext cx="7502400" cy="6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21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9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ts val="21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4780080" y="6477120"/>
            <a:ext cx="3752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1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-360" y="6477120"/>
            <a:ext cx="1066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100" spc="-1" strike="noStrike">
                <a:solidFill>
                  <a:srgbClr val="cccc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B14E-DA2D-40CB-B5B1-607962FA6E4D}" type="slidenum">
              <a:rPr b="0" lang="ja-JP" sz="1100" spc="-1" strike="noStrike">
                <a:solidFill>
                  <a:srgbClr val="cccccc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50920" y="103320"/>
            <a:ext cx="3313080" cy="1069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0" algn="ctr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4560" algn="ctr">
              <a:spcAft>
                <a:spcPts val="624"/>
              </a:spcAft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58960" algn="ctr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141560" algn="ctr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141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141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7640" y="2744280"/>
            <a:ext cx="8893080" cy="14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8: Results of informal subjective viewing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26560" y="4717800"/>
            <a:ext cx="75027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viewing was conduc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om 16:50 to 17:30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 Nov. 25 2011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 room T07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CTVC-G038, CE8 informal subjective viewing resul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08813-C84A-44C6-82D0-AE1F6D9CFB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9440" y="71280"/>
            <a:ext cx="83836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85000"/>
              </a:lnSpc>
              <a:spcBef>
                <a:spcPts val="1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yback: Dell Optiplex 790 (Core-i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5000"/>
              </a:lnSpc>
              <a:spcBef>
                <a:spcPts val="15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1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: Dell 3008 LC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5000"/>
              </a:lnSpc>
              <a:spcBef>
                <a:spcPts val="15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inches, 2560x1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5000"/>
              </a:lnSpc>
              <a:spcBef>
                <a:spcPts val="15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playback capability of the PC, resolution was set to 1920x1080 (dot-by-dot display on center a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62560" y="3357720"/>
            <a:ext cx="2268720" cy="3024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3357720"/>
            <a:ext cx="4032360" cy="30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038, CE8 informal subjective viewing resul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79440" y="198000"/>
            <a:ext cx="83836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85000"/>
              </a:lnSpc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5000"/>
              </a:lnSpc>
              <a:spcBef>
                <a:spcPts val="15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: Slice boundary arti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ct val="85000"/>
              </a:lnSpc>
              <a:spcBef>
                <a:spcPts val="150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hor vs JCTVC-G207 (played back random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ct val="85000"/>
              </a:lnSpc>
              <a:spcBef>
                <a:spcPts val="150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mono; HE-LDB, Qp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5000"/>
              </a:lnSpc>
              <a:spcBef>
                <a:spcPts val="15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B: Line buffer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ct val="85000"/>
              </a:lnSpc>
              <a:spcBef>
                <a:spcPts val="150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hor vs JCTVC-G212_option1 (played back random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ct val="85000"/>
              </a:lnSpc>
              <a:spcBef>
                <a:spcPts val="150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QMall, Cactus, Vidyo3, Vidyo4; HE-LDB, Qp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5000"/>
              </a:lnSpc>
              <a:spcBef>
                <a:spcPts val="15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to 6 persons per viewing session, sitting on two 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5000"/>
              </a:lnSpc>
              <a:spcBef>
                <a:spcPts val="150"/>
              </a:spcBef>
              <a:spcAft>
                <a:spcPts val="300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 volunte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ticipated in the vie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5000"/>
              </a:lnSpc>
              <a:spcBef>
                <a:spcPts val="15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on “A” if A looks bett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 2 points t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5000"/>
              </a:lnSpc>
              <a:spcBef>
                <a:spcPts val="15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on “B” if B looks bett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 2 points 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5000"/>
              </a:lnSpc>
              <a:spcBef>
                <a:spcPts val="15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on both “A” and “B” if A and B looks simila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 1 point to both A an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038, CE8 informal subjective viewing resul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79440" y="43920"/>
            <a:ext cx="8383680" cy="6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Sc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56908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A: SAO slice boundary artif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0000"/>
              </a:lnSpc>
              <a:spcBef>
                <a:spcPts val="249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hor: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0000"/>
              </a:lnSpc>
              <a:spcBef>
                <a:spcPts val="249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 (JCTVC-G207):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0000"/>
              </a:lnSpc>
              <a:spcBef>
                <a:spcPts val="249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ct val="80000"/>
              </a:lnSpc>
              <a:spcBef>
                <a:spcPts val="249"/>
              </a:spcBef>
              <a:spcAft>
                <a:spcPts val="374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: 6, anchor: 5, test: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0000"/>
              </a:lnSpc>
              <a:spcBef>
                <a:spcPts val="249"/>
              </a:spcBef>
              <a:spcAft>
                <a:spcPts val="374"/>
              </a:spcAft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Slice boundary artifact on anchor is likely to be recognized. </a:t>
            </a:r>
            <a:r>
              <a:rPr b="0" lang="en-US" sz="2000" spc="-1" strike="noStrike">
                <a:solidFill>
                  <a:srgbClr val="0066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commend to conduct CE to address this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25600" indent="0">
              <a:lnSpc>
                <a:spcPct val="8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B: SAO and ALF line buffer re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0000"/>
              </a:lnSpc>
              <a:spcBef>
                <a:spcPts val="249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ho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0000"/>
              </a:lnSpc>
              <a:spcBef>
                <a:spcPts val="249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0000"/>
              </a:lnSpc>
              <a:spcBef>
                <a:spcPts val="249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 analysis (anchor/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ct val="80000"/>
              </a:lnSpc>
              <a:spcBef>
                <a:spcPts val="249"/>
              </a:spcBef>
              <a:spcAft>
                <a:spcPts val="374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QM: 18/22, Cactus 22/18, Vidyo3 15/25, Vidyo4 20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0000"/>
              </a:lnSpc>
              <a:spcBef>
                <a:spcPts val="249"/>
              </a:spcBef>
              <a:spcAft>
                <a:spcPts val="374"/>
              </a:spcAft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No difference between the anchor and the proposal.  </a:t>
            </a:r>
            <a:r>
              <a:rPr b="0" lang="en-US" sz="2000" spc="-1" strike="noStrike">
                <a:solidFill>
                  <a:srgbClr val="0066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Recommend for adoption of JCTVC-G212 as tentatively agreed on at sess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038, CE8 informal subjective viewing resul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2:51:22Z</dcterms:created>
  <dc:creator>RDC</dc:creator>
  <dc:description/>
  <dc:language>en-US</dc:language>
  <cp:lastModifiedBy>yamakage</cp:lastModifiedBy>
  <dcterms:modified xsi:type="dcterms:W3CDTF">2011-11-28T08:02:04Z</dcterms:modified>
  <cp:revision>170</cp:revision>
  <dc:subject/>
  <dc:title>[MML]2009年度下期期初方針</dc:title>
</cp:coreProperties>
</file>