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RaceHorses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FV 11d 4u</c:v>
                </c:pt>
              </c:strCache>
            </c:strRef>
          </c:tx>
          <c:spPr>
            <a:solidFill>
              <a:srgbClr val="004586"/>
            </a:solidFill>
            <a:ln w="3168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4"/>
                <c:pt idx="0">
                  <c:v>22</c:v>
                </c:pt>
                <c:pt idx="1">
                  <c:v>27</c:v>
                </c:pt>
                <c:pt idx="2">
                  <c:v>32</c:v>
                </c:pt>
                <c:pt idx="3">
                  <c:v>37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4"/>
                <c:pt idx="0">
                  <c:v>34.50725</c:v>
                </c:pt>
                <c:pt idx="1">
                  <c:v>33.46575</c:v>
                </c:pt>
                <c:pt idx="2">
                  <c:v>32.05775</c:v>
                </c:pt>
                <c:pt idx="3">
                  <c:v>30.2655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3</c:f>
              <c:strCache>
                <c:ptCount val="1"/>
                <c:pt idx="0">
                  <c:v>SVC 13d 4u</c:v>
                </c:pt>
              </c:strCache>
            </c:strRef>
          </c:tx>
          <c:spPr>
            <a:solidFill>
              <a:srgbClr val="ff420e"/>
            </a:solidFill>
            <a:ln w="3168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2</c:f>
              <c:numCache>
                <c:formatCode>General</c:formatCode>
                <c:ptCount val="4"/>
                <c:pt idx="0">
                  <c:v>22</c:v>
                </c:pt>
                <c:pt idx="1">
                  <c:v>27</c:v>
                </c:pt>
                <c:pt idx="2">
                  <c:v>32</c:v>
                </c:pt>
                <c:pt idx="3">
                  <c:v>37</c:v>
                </c:pt>
              </c:numCache>
            </c:numRef>
          </c:xVal>
          <c:yVal>
            <c:numRef>
              <c:f>3</c:f>
              <c:numCache>
                <c:formatCode>General</c:formatCode>
                <c:ptCount val="4"/>
                <c:pt idx="0">
                  <c:v>33.56675</c:v>
                </c:pt>
                <c:pt idx="1">
                  <c:v>32.72725</c:v>
                </c:pt>
                <c:pt idx="2">
                  <c:v>31.56425</c:v>
                </c:pt>
                <c:pt idx="3">
                  <c:v>30.037</c:v>
                </c:pt>
              </c:numCache>
            </c:numRef>
          </c:yVal>
          <c:smooth val="0"/>
        </c:ser>
        <c:axId val="50697466"/>
        <c:axId val="5347648"/>
      </c:scatterChart>
      <c:valAx>
        <c:axId val="50697466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QP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7648"/>
        <c:crosses val="autoZero"/>
        <c:crossBetween val="midCat"/>
      </c:valAx>
      <c:valAx>
        <c:axId val="5347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Average PSNR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97466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span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BasketballDrill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FV 11d 4u</c:v>
                </c:pt>
              </c:strCache>
            </c:strRef>
          </c:tx>
          <c:spPr>
            <a:solidFill>
              <a:srgbClr val="004586"/>
            </a:solidFill>
            <a:ln w="31680">
              <a:solidFill>
                <a:srgbClr val="004586"/>
              </a:solidFill>
              <a:round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4"/>
                <c:pt idx="0">
                  <c:v>22</c:v>
                </c:pt>
                <c:pt idx="1">
                  <c:v>27</c:v>
                </c:pt>
                <c:pt idx="2">
                  <c:v>32</c:v>
                </c:pt>
                <c:pt idx="3">
                  <c:v>37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4"/>
                <c:pt idx="0">
                  <c:v>34.845</c:v>
                </c:pt>
                <c:pt idx="1">
                  <c:v>33.9075</c:v>
                </c:pt>
                <c:pt idx="2">
                  <c:v>32.6325</c:v>
                </c:pt>
                <c:pt idx="3">
                  <c:v>31.0175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3</c:f>
              <c:strCache>
                <c:ptCount val="1"/>
                <c:pt idx="0">
                  <c:v>SVC 13d 4u</c:v>
                </c:pt>
              </c:strCache>
            </c:strRef>
          </c:tx>
          <c:spPr>
            <a:solidFill>
              <a:srgbClr val="ff420e"/>
            </a:solidFill>
            <a:ln w="31680">
              <a:solidFill>
                <a:srgbClr val="ff420e"/>
              </a:solidFill>
              <a:round/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2</c:f>
              <c:numCache>
                <c:formatCode>General</c:formatCode>
                <c:ptCount val="4"/>
                <c:pt idx="0">
                  <c:v>22</c:v>
                </c:pt>
                <c:pt idx="1">
                  <c:v>27</c:v>
                </c:pt>
                <c:pt idx="2">
                  <c:v>32</c:v>
                </c:pt>
                <c:pt idx="3">
                  <c:v>37</c:v>
                </c:pt>
              </c:numCache>
            </c:numRef>
          </c:xVal>
          <c:yVal>
            <c:numRef>
              <c:f>3</c:f>
              <c:numCache>
                <c:formatCode>General</c:formatCode>
                <c:ptCount val="4"/>
                <c:pt idx="0">
                  <c:v>34.0525</c:v>
                </c:pt>
                <c:pt idx="1">
                  <c:v>33.2925</c:v>
                </c:pt>
                <c:pt idx="2">
                  <c:v>32.2025</c:v>
                </c:pt>
                <c:pt idx="3">
                  <c:v>30.7475</c:v>
                </c:pt>
              </c:numCache>
            </c:numRef>
          </c:yVal>
          <c:smooth val="0"/>
        </c:ser>
        <c:axId val="33949435"/>
        <c:axId val="52369053"/>
      </c:scatterChart>
      <c:valAx>
        <c:axId val="33949435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QP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69053"/>
        <c:crosses val="autoZero"/>
        <c:crossBetween val="midCat"/>
      </c:valAx>
      <c:valAx>
        <c:axId val="52369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Average PSNR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49435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span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9392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4113360" y="0"/>
            <a:ext cx="319392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18960" y="685800"/>
            <a:ext cx="4870440" cy="36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90720" y="4571640"/>
            <a:ext cx="532584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142560"/>
            <a:ext cx="319392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4113360" y="9142560"/>
            <a:ext cx="319392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8DCA3-5EA4-4C4E-B7D4-3EA36826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9320" y="68580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90360" y="4571640"/>
            <a:ext cx="532764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7308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65400"/>
            <a:ext cx="7308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6540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680" y="396540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3000" y="160452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4400" y="160452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6540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3000" y="396540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4400" y="396540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604520"/>
            <a:ext cx="73087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73087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28800" y="685440"/>
            <a:ext cx="68515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396540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04520"/>
            <a:ext cx="73087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16680" y="396540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3965400"/>
            <a:ext cx="7308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7308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3965400"/>
            <a:ext cx="7308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6540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16680" y="396540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43000" y="160452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4400" y="160452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396540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43000" y="396540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4400" y="3965400"/>
            <a:ext cx="23533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73087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685440"/>
            <a:ext cx="68515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6540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680" y="396540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604520"/>
            <a:ext cx="3566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65400"/>
            <a:ext cx="7308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858000" y="6402240"/>
            <a:ext cx="2286000" cy="4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15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71600" y="1604520"/>
            <a:ext cx="73087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066320" y="6552720"/>
            <a:ext cx="16700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066320" y="6552720"/>
            <a:ext cx="1670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ww.fastvdo.c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6402240"/>
            <a:ext cx="228600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tral Response (Downsampl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0" y="938160"/>
            <a:ext cx="1333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b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46080"/>
          <a:ext cx="9144000" cy="6811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roma Samp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spatial and chroma sampling are treated very differently (and very different filters are used), in principle they are quite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not optimized for this application, we will show that these filters are also effective in chroma sam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V="1">
            <a:off x="7664400" y="2970000"/>
            <a:ext cx="1800" cy="1603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3160" y="2971800"/>
            <a:ext cx="1800" cy="1600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GB 4:4:4 to YUV 4:2:0 and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has color conversion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introduce advanced color trans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4506840"/>
            <a:ext cx="5715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4179960"/>
            <a:ext cx="685800" cy="7617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4408560"/>
            <a:ext cx="1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4257720"/>
            <a:ext cx="5335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560840"/>
            <a:ext cx="28195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4179960"/>
            <a:ext cx="685800" cy="7617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4408560"/>
            <a:ext cx="144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4257720"/>
            <a:ext cx="5335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514600"/>
            <a:ext cx="6858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3343320"/>
            <a:ext cx="6858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9480" y="2514600"/>
            <a:ext cx="6858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61280" y="3343320"/>
            <a:ext cx="6858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228600"/>
          <a:ext cx="13716000" cy="81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3716000" cy="81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 on Crowd Run, No Com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46440" y="5943600"/>
            <a:ext cx="5468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YcrCb. 2. YcoCg. 3. YfbFr. 4. YFbFrv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 on Duck, No Com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943600" cy="4114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846440" y="5943600"/>
            <a:ext cx="5468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YcrCb. 2. YcoCg. 3. YfbFr. 4. YFbFrv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or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101600" y="5029200"/>
                <a:ext cx="415620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01600" y="1371600"/>
                <a:ext cx="41562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01600" y="3429000"/>
                <a:ext cx="4156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31960" y="838080"/>
            <a:ext cx="4114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2529000"/>
            <a:ext cx="42991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c5000b"/>
                </a:solidFill>
                <a:latin typeface="Times New Roman"/>
              </a:rPr>
              <a:t>Advanced Sampling Filters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c5000b"/>
                </a:solidFill>
                <a:latin typeface="Times New Roman"/>
              </a:rPr>
              <a:t>Spatial Scalability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c5000b"/>
                </a:solidFill>
                <a:latin typeface="Times New Roman"/>
              </a:rPr>
              <a:t>Chroma Sampl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kaj Topiw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V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CTVC-6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57400" y="3911760"/>
            <a:ext cx="32004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440" y="639720"/>
            <a:ext cx="68547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c5000b"/>
                </a:solidFill>
                <a:latin typeface="Times New Roman"/>
              </a:rPr>
              <a:t>Down Samp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03880" y="4191120"/>
            <a:ext cx="2771640" cy="1796400"/>
            <a:chOff x="5303880" y="4191120"/>
            <a:chExt cx="2771640" cy="1796400"/>
          </a:xfrm>
        </p:grpSpPr>
        <p:sp>
          <p:nvSpPr>
            <p:cNvPr id="96" name=""/>
            <p:cNvSpPr/>
            <p:nvPr/>
          </p:nvSpPr>
          <p:spPr>
            <a:xfrm>
              <a:off x="5546880" y="4191120"/>
              <a:ext cx="236196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46880" y="4724280"/>
              <a:ext cx="121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65840" y="4724280"/>
              <a:ext cx="180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03880" y="5527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1/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38480" y="3200400"/>
            <a:ext cx="180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604520"/>
            <a:ext cx="73119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bsence of other information,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downsampler is a half-band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45456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4545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1560" y="36831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34290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548640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8862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3886200"/>
            <a:ext cx="1440" cy="1600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5715000"/>
            <a:ext cx="2924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        ½   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7400" y="3911760"/>
            <a:ext cx="32004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639720"/>
            <a:ext cx="68547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c5000b"/>
                </a:solidFill>
                <a:latin typeface="Times New Roman"/>
              </a:rPr>
              <a:t>Up Samp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03880" y="4191120"/>
            <a:ext cx="2771640" cy="1796400"/>
            <a:chOff x="5303880" y="4191120"/>
            <a:chExt cx="2771640" cy="1796400"/>
          </a:xfrm>
        </p:grpSpPr>
        <p:sp>
          <p:nvSpPr>
            <p:cNvPr id="113" name=""/>
            <p:cNvSpPr/>
            <p:nvPr/>
          </p:nvSpPr>
          <p:spPr>
            <a:xfrm>
              <a:off x="5546880" y="4191120"/>
              <a:ext cx="236196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46880" y="4724280"/>
              <a:ext cx="121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65840" y="4724280"/>
              <a:ext cx="180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03880" y="5527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1/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038480" y="3200400"/>
            <a:ext cx="180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604520"/>
            <a:ext cx="73119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in the absence of other information, a typical upsampler is also half-band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3840" y="3429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4290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43200" y="3656160"/>
            <a:ext cx="1440" cy="460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4290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548640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8862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3886200"/>
            <a:ext cx="1440" cy="1600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5715000"/>
            <a:ext cx="2924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        ½   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00200" y="399420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atial Scal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05740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942480"/>
                <a:tab algn="l" pos="10399680"/>
                <a:tab algn="l" pos="1085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ted in both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05740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942480"/>
                <a:tab algn="l" pos="10399680"/>
                <a:tab algn="l" pos="1085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Concatenation of optimal filters may not be optim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049640"/>
            <a:ext cx="28195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3668760"/>
            <a:ext cx="68580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389736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745080"/>
            <a:ext cx="5335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049640"/>
            <a:ext cx="281916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3668760"/>
            <a:ext cx="68580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89736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745080"/>
            <a:ext cx="5335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36800" y="3668760"/>
            <a:ext cx="86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80400" y="3657600"/>
            <a:ext cx="86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gnor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hannel 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ect Rec Filter Ba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0880" y="2602080"/>
            <a:ext cx="8461080" cy="2122200"/>
            <a:chOff x="380880" y="2602080"/>
            <a:chExt cx="8461080" cy="2122200"/>
          </a:xfrm>
        </p:grpSpPr>
        <p:sp>
          <p:nvSpPr>
            <p:cNvPr id="142" name=""/>
            <p:cNvSpPr/>
            <p:nvPr/>
          </p:nvSpPr>
          <p:spPr>
            <a:xfrm>
              <a:off x="1447920" y="2971800"/>
              <a:ext cx="2514600" cy="11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2602080"/>
              <a:ext cx="685800" cy="76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00400" y="2830680"/>
              <a:ext cx="1440" cy="3045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57400" y="2678040"/>
              <a:ext cx="5335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876920" y="2968200"/>
              <a:ext cx="2438280" cy="176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05520" y="2602080"/>
              <a:ext cx="685800" cy="76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2830680"/>
              <a:ext cx="1440" cy="3045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2678040"/>
              <a:ext cx="5335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880" y="3276720"/>
              <a:ext cx="867960" cy="70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ide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4680" y="3352680"/>
              <a:ext cx="867960" cy="70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ide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76720" y="2678040"/>
              <a:ext cx="56196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7920" y="4343400"/>
              <a:ext cx="2544480" cy="1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02040" y="3962520"/>
              <a:ext cx="685800" cy="76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30640" y="4191120"/>
              <a:ext cx="1440" cy="3045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87640" y="4038480"/>
              <a:ext cx="53316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06800" y="4343400"/>
              <a:ext cx="2408400" cy="1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35400" y="3962520"/>
              <a:ext cx="685800" cy="76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64000" y="4191120"/>
              <a:ext cx="1800" cy="3045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02440" y="4038480"/>
              <a:ext cx="53316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06960" y="4038480"/>
              <a:ext cx="56196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7920" y="2971800"/>
              <a:ext cx="1440" cy="13716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2971800"/>
              <a:ext cx="1440" cy="13716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880" y="3657600"/>
              <a:ext cx="1067040" cy="1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311600" y="3733920"/>
              <a:ext cx="1530360" cy="1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49120" y="5222880"/>
            <a:ext cx="769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 2-channel system, both at half-rate, keeping sample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 FB (e.g., wavelets), aim for max re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ust one channel (lowpass), aim for max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00200" y="399420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atial Scal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49640"/>
            <a:ext cx="28195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668760"/>
            <a:ext cx="68580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389736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3745080"/>
            <a:ext cx="5335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4049640"/>
            <a:ext cx="281916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3668760"/>
            <a:ext cx="68580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389736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3745080"/>
            <a:ext cx="5335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36800" y="3668760"/>
            <a:ext cx="86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0400" y="3657600"/>
            <a:ext cx="86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645156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 and higher channels, PR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patial scalability, have only one chann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 is impos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why the Laplace Pyramid was inven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de downsampled lowpass (¼ sample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de the upsampled difference residual (full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scalability is built on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place One 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240" y="160488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o better than the half-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ptimiz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ax energy in low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in error in recovered upsampl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h (time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440" y="729720"/>
            <a:ext cx="6853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ters Under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3105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wnsamp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 = [1  0  -3  0  10  16  10  0  -3  0  1] / 3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c13 = [ 2 0 -4 -3 5 19 26 19 5 -3 -4 0 2] /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psamp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7 = [-1     0     5     8     5     0    -1] / 8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ly a 4-tap, [-1 5 5 -1] / 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c4 = [ -3 19 19 -3] / 3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10:59:53Z</dcterms:created>
  <dc:creator>Basavaraj</dc:creator>
  <dc:description/>
  <dc:language>en-US</dc:language>
  <cp:lastModifiedBy>pankaj</cp:lastModifiedBy>
  <dcterms:modified xsi:type="dcterms:W3CDTF">2008-05-02T13:02:20Z</dcterms:modified>
  <cp:revision>92</cp:revision>
  <dc:subject/>
  <dc:title>PowerPoint Presentation</dc:title>
</cp:coreProperties>
</file>