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E90-0964-4F93-AB58-55C9357D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F73-B094-467B-A707-2AA7EA88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334-0065-40B9-87E9-838F83A3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8D9-ECF5-47D7-AC09-3A17726E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E85-BAC2-4E8D-BAE7-D4208CD0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865-FEB3-458F-8DCE-7275D4CF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922-14A7-4508-8843-83254C63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D4B-E03E-42BB-9219-2422F5FA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256-78ED-442E-98D5-9DD46CAD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8AF-C6B0-4C61-8005-AFFF3703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190-7CA0-497A-AD1E-37B179A4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3EB-89F4-4A76-981E-0FA5B6EF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BE1D-44A5-473D-8934-DA8CBFE20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CTVC-F606:Memory and Parsing Friendly CABAC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44953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-Jung Chien, Marta Karczewicz, and Xianglin Wa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com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ABAC, information from neighboring blocks are often used in designing the context for certain syntax ele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e buffer is required for context mo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roposal is to reduce line buffer size while keeping similar coding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Object 2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2306520" cy="210024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4876920" y="2743200"/>
            <a:ext cx="3324240" cy="2076480"/>
            <a:chOff x="4876920" y="2743200"/>
            <a:chExt cx="3324240" cy="2076480"/>
          </a:xfrm>
        </p:grpSpPr>
        <p:pic>
          <p:nvPicPr>
            <p:cNvPr id="47" name="Picture 3" descr=""/>
            <p:cNvPicPr/>
            <p:nvPr/>
          </p:nvPicPr>
          <p:blipFill>
            <a:blip r:embed="rId2"/>
            <a:stretch/>
          </p:blipFill>
          <p:spPr>
            <a:xfrm>
              <a:off x="4876920" y="2743200"/>
              <a:ext cx="332424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5562720" y="3676680"/>
              <a:ext cx="473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PMingLiU"/>
                </a:rPr>
                <a:t>LCU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xts using neighboring information (HM3.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219320" y="1600200"/>
          <a:ext cx="7010280" cy="3978360"/>
        </p:xfrm>
        <a:graphic>
          <a:graphicData uri="http://schemas.openxmlformats.org/drawingml/2006/table">
            <a:tbl>
              <a:tblPr/>
              <a:tblGrid>
                <a:gridCol w="2628720"/>
                <a:gridCol w="1562040"/>
                <a:gridCol w="2819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ntax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contex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mory requirement (every 4x4 bloc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it_coding_unit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bits (every 16x16 bloc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p 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b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_residual_data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bit (every 8x8 bloc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p of luma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b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p of intra chroma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b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ge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b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_pred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b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_idx (bin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d(bin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bi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752480"/>
          <a:ext cx="8381880" cy="3978360"/>
        </p:xfrm>
        <a:graphic>
          <a:graphicData uri="http://schemas.openxmlformats.org/drawingml/2006/table">
            <a:tbl>
              <a:tblPr/>
              <a:tblGrid>
                <a:gridCol w="2971800"/>
                <a:gridCol w="5410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ntax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it_coding_unit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p 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_residual_data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con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p of luma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p of intra chroma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gned with cbp of inter chroma block, 1 context for each transform dep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ge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con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_pred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context for each CU dep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_idx (bin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con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d(bin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con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0" y="1905120"/>
          <a:ext cx="4343400" cy="2057400"/>
        </p:xfrm>
        <a:graphic>
          <a:graphicData uri="http://schemas.openxmlformats.org/drawingml/2006/table">
            <a:tbl>
              <a:tblPr/>
              <a:tblGrid>
                <a:gridCol w="1106640"/>
                <a:gridCol w="1079280"/>
                <a:gridCol w="1077840"/>
                <a:gridCol w="1079640"/>
              </a:tblGrid>
              <a:tr h="4111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ory requirement 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1752480"/>
          <a:ext cx="8229600" cy="4073760"/>
        </p:xfrm>
        <a:graphic>
          <a:graphicData uri="http://schemas.openxmlformats.org/drawingml/2006/table">
            <a:tbl>
              <a:tblPr/>
              <a:tblGrid>
                <a:gridCol w="2768400"/>
                <a:gridCol w="3154320"/>
                <a:gridCol w="230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ntax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iginal memory needed (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(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it_coding_unit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(1920+64)/16-1)*2 = 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p 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20+64)/4 - 1 = 4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_residual_data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20+64)/8 – 1 = 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p of luma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20+64)/4 - 1 = 4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p of intra chroma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(1920+64)/4 – 1)*2 = 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ge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20+64)/4 - 1 = 4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_pred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20+64)/4 - 1 = 4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_idx (bin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(1920+64)/4 – 1)*2= 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d(bin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(1920+64)/4 – 1)*4 = 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7" name="TextBox 5"/>
          <p:cNvSpPr/>
          <p:nvPr/>
        </p:nvSpPr>
        <p:spPr>
          <a:xfrm>
            <a:off x="5335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a 1080p 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533520" y="60958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emory requirement reduced by over 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04:08:34Z</dcterms:created>
  <dc:creator>Qualcomm User</dc:creator>
  <dc:description/>
  <dc:language>en-US</dc:language>
  <cp:lastModifiedBy>Qualcomm User</cp:lastModifiedBy>
  <dcterms:modified xsi:type="dcterms:W3CDTF">2011-07-16T07:08:14Z</dcterms:modified>
  <cp:revision>7</cp:revision>
  <dc:subject/>
  <dc:title>Memory and Parsing Friendly CABAC Context</dc:title>
</cp:coreProperties>
</file>