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81C9-6BA5-4A1C-A6ED-8A389EA22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D96F-ED59-4AC9-A8F5-7D239554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87D-161B-4869-815C-A4B8404B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3CA-B2E8-441E-B608-8B179E68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E67-36DF-4CF3-97B7-449F9FF4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FF5-59ED-4185-9810-38BC5F29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887-37A5-42B7-8FB5-20B5BDE8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ACB-8395-4D59-AFD1-27810862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327-BB5A-48FF-837F-3B08E64C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464-A348-4E4C-8997-4CD94F7C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0FE-3D1F-42C0-B651-FA6F1E05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D85-1E62-4E58-A77C-7A1EEAD1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2B7-5E04-48F9-A4F5-195ED36D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1A1-4051-4633-ABA5-CBDDC68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DE54-4252-4F5B-826F-FBC9B39BE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VC-F606:Memory and Parsing Friendly CABAC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44953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-Jung Chien, Marta Karczewicz, and Xianglin W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co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a Cbf flag coding in HM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a 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aled at leaf end of RQT, neighbor blocks based contex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 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aled at each RQT level, transform depth based contex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3880" y="3505320"/>
            <a:ext cx="137160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5181480"/>
            <a:ext cx="685800" cy="68580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447920" y="5181480"/>
            <a:ext cx="68580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438280" y="5181480"/>
            <a:ext cx="685800" cy="68580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429000" y="5181480"/>
            <a:ext cx="685800" cy="68580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8"/>
          <p:cNvSpPr/>
          <p:nvPr/>
        </p:nvSpPr>
        <p:spPr>
          <a:xfrm>
            <a:off x="1523880" y="4152960"/>
            <a:ext cx="13716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9"/>
          <p:cNvSpPr/>
          <p:nvPr/>
        </p:nvSpPr>
        <p:spPr>
          <a:xfrm flipV="1">
            <a:off x="2209680" y="3505320"/>
            <a:ext cx="0" cy="1295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>
            <a:off x="1447200" y="5524560"/>
            <a:ext cx="685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 flipV="1">
            <a:off x="1790640" y="5181120"/>
            <a:ext cx="0" cy="685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57200" y="6248520"/>
            <a:ext cx="38088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990720" y="6248520"/>
            <a:ext cx="38088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1523880" y="6248520"/>
            <a:ext cx="38124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057400" y="6248520"/>
            <a:ext cx="38088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6095880" y="3505320"/>
            <a:ext cx="1371600" cy="129528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5105520" y="5181480"/>
            <a:ext cx="685800" cy="68580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6019920" y="5181480"/>
            <a:ext cx="685800" cy="68580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7010280" y="5181480"/>
            <a:ext cx="685800" cy="68580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8001000" y="5181480"/>
            <a:ext cx="685800" cy="68580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1"/>
          <p:cNvSpPr/>
          <p:nvPr/>
        </p:nvSpPr>
        <p:spPr>
          <a:xfrm>
            <a:off x="6095880" y="4152960"/>
            <a:ext cx="13716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 flipV="1">
            <a:off x="6781680" y="3505320"/>
            <a:ext cx="0" cy="1295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3"/>
          <p:cNvSpPr/>
          <p:nvPr/>
        </p:nvSpPr>
        <p:spPr>
          <a:xfrm>
            <a:off x="6019200" y="5524560"/>
            <a:ext cx="685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4"/>
          <p:cNvSpPr/>
          <p:nvPr/>
        </p:nvSpPr>
        <p:spPr>
          <a:xfrm flipV="1">
            <a:off x="6362640" y="5181120"/>
            <a:ext cx="0" cy="685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4572000" y="6248520"/>
            <a:ext cx="380880" cy="380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5105520" y="6248520"/>
            <a:ext cx="380880" cy="380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638680" y="6248520"/>
            <a:ext cx="381240" cy="380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6172200" y="6248520"/>
            <a:ext cx="380880" cy="380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9"/>
          <p:cNvSpPr/>
          <p:nvPr/>
        </p:nvSpPr>
        <p:spPr>
          <a:xfrm>
            <a:off x="15238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 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0"/>
          <p:cNvSpPr/>
          <p:nvPr/>
        </p:nvSpPr>
        <p:spPr>
          <a:xfrm>
            <a:off x="8000280" y="5562720"/>
            <a:ext cx="685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1"/>
          <p:cNvSpPr/>
          <p:nvPr/>
        </p:nvSpPr>
        <p:spPr>
          <a:xfrm flipV="1">
            <a:off x="8344080" y="5219280"/>
            <a:ext cx="0" cy="685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6934320" y="6248520"/>
            <a:ext cx="380880" cy="38088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7467480" y="6248520"/>
            <a:ext cx="381240" cy="38088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8001000" y="6248520"/>
            <a:ext cx="380880" cy="38088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8534520" y="6248520"/>
            <a:ext cx="380880" cy="38088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6"/>
          <p:cNvSpPr/>
          <p:nvPr/>
        </p:nvSpPr>
        <p:spPr>
          <a:xfrm>
            <a:off x="617220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 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a Cbf flag coding in HM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a and inter 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aled at each RQT level, transform depth based contex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3505320" y="2666880"/>
            <a:ext cx="1371600" cy="129564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2514600" y="4343400"/>
            <a:ext cx="685800" cy="68580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3429000" y="4343400"/>
            <a:ext cx="685800" cy="68580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4419720" y="4343400"/>
            <a:ext cx="685800" cy="68580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5410080" y="4343400"/>
            <a:ext cx="685800" cy="68580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1"/>
          <p:cNvSpPr/>
          <p:nvPr/>
        </p:nvSpPr>
        <p:spPr>
          <a:xfrm>
            <a:off x="3505320" y="3314880"/>
            <a:ext cx="13716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2"/>
          <p:cNvSpPr/>
          <p:nvPr/>
        </p:nvSpPr>
        <p:spPr>
          <a:xfrm flipV="1">
            <a:off x="4191120" y="2666520"/>
            <a:ext cx="0" cy="1295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3428280" y="4686480"/>
            <a:ext cx="685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4"/>
          <p:cNvSpPr/>
          <p:nvPr/>
        </p:nvSpPr>
        <p:spPr>
          <a:xfrm flipV="1">
            <a:off x="3772080" y="4343040"/>
            <a:ext cx="0" cy="685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1080" y="5410080"/>
            <a:ext cx="381240" cy="38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2514600" y="5410080"/>
            <a:ext cx="380880" cy="38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3048120" y="5410080"/>
            <a:ext cx="380880" cy="38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30"/>
          <p:cNvSpPr/>
          <p:nvPr/>
        </p:nvSpPr>
        <p:spPr>
          <a:xfrm>
            <a:off x="5409360" y="4724280"/>
            <a:ext cx="685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31"/>
          <p:cNvSpPr/>
          <p:nvPr/>
        </p:nvSpPr>
        <p:spPr>
          <a:xfrm flipV="1">
            <a:off x="5753160" y="4381200"/>
            <a:ext cx="0" cy="685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4343400" y="5410080"/>
            <a:ext cx="380880" cy="38124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4876920" y="5410080"/>
            <a:ext cx="380880" cy="38124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5410080" y="5410080"/>
            <a:ext cx="381240" cy="38124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5943600" y="5410080"/>
            <a:ext cx="380880" cy="381240"/>
          </a:xfrm>
          <a:prstGeom prst="rect">
            <a:avLst/>
          </a:prstGeom>
          <a:solidFill>
            <a:srgbClr val="4f81bd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6"/>
          <p:cNvSpPr/>
          <p:nvPr/>
        </p:nvSpPr>
        <p:spPr>
          <a:xfrm>
            <a:off x="3124080" y="2133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 or Inter 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DOQ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52480" y="2514600"/>
          <a:ext cx="5867640" cy="3276720"/>
        </p:xfrm>
        <a:graphic>
          <a:graphicData uri="http://schemas.openxmlformats.org/drawingml/2006/table">
            <a:tbl>
              <a:tblPr/>
              <a:tblGrid>
                <a:gridCol w="1862280"/>
                <a:gridCol w="1335240"/>
                <a:gridCol w="1334880"/>
                <a:gridCol w="1335240"/>
              </a:tblGrid>
              <a:tr h="42696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Text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76520" y="1219320"/>
          <a:ext cx="6476760" cy="259056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PredMode  !=  MODE_INTRA  &amp;&amp;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log2TrafoSize  &lt;=  Log2MaxTrafoSize  &amp;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tropy_coding_mode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521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irstChromaCbf = ( log2TrafoSize  = =  Log2MaxTrafoSize  | |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rafoDepth  = =  0  ?  1  : 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firstChromaCbf  | |  log2TrafoSize  &gt;  Log2MinTrafoSize ) 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xBase = x0 − ( x0 &amp; ( ( 1 &lt;&lt; log2TrafoSize ) − 1 )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yBase = y0 − ( y0 &amp; ( ( 1 &lt;&lt; log2TrafoSize ) − 1 )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firstChromaCbf  | |  cbf_cb[ xBase ][ yBase ][ trafoDepth − 1 ]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cb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[ trafoDepth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firstChromaCbf  | |  cbf_cr[ xBase ][ yBase ][ trafoDepth − 1 ]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c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[ trafoDepth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Straight Connector 5"/>
          <p:cNvSpPr/>
          <p:nvPr/>
        </p:nvSpPr>
        <p:spPr>
          <a:xfrm>
            <a:off x="2209680" y="129528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76520" y="4191120"/>
          <a:ext cx="6476760" cy="2395440"/>
        </p:xfrm>
        <a:graphic>
          <a:graphicData uri="http://schemas.openxmlformats.org/drawingml/2006/table">
            <a:tbl>
              <a:tblPr/>
              <a:tblGrid>
                <a:gridCol w="6476760"/>
              </a:tblGrid>
              <a:tr h="16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 else if( entropy_coding_mode_flag )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PredMode  = =  MODE_INTRA  | |  trafoDepth  !=  0  | |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cb[ x0 ][ y0 ][ trafoDepth ]  | |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cr[ x0 ][ y0 ][ trafoDepth ]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luma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[ trafoDepth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PredMode  = =  MODE_INTRA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log2TrafoSize  &gt;  Log2MinTrafoSize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cb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[ trafoDepth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c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[ trafoDepth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 else if( blkIdx  = =  0 ) 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cb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[ trafoDepth − 1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f_c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[ trafoDepth − 1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Straight Connector 7"/>
          <p:cNvSpPr/>
          <p:nvPr/>
        </p:nvSpPr>
        <p:spPr>
          <a:xfrm>
            <a:off x="2209680" y="441972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1"/>
          <p:cNvSpPr/>
          <p:nvPr/>
        </p:nvSpPr>
        <p:spPr>
          <a:xfrm>
            <a:off x="2209680" y="510552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2"/>
          <p:cNvSpPr/>
          <p:nvPr/>
        </p:nvSpPr>
        <p:spPr>
          <a:xfrm>
            <a:off x="2286000" y="5257800"/>
            <a:ext cx="2209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3"/>
          <p:cNvSpPr/>
          <p:nvPr/>
        </p:nvSpPr>
        <p:spPr>
          <a:xfrm>
            <a:off x="2438280" y="5486400"/>
            <a:ext cx="2133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4"/>
          <p:cNvSpPr/>
          <p:nvPr/>
        </p:nvSpPr>
        <p:spPr>
          <a:xfrm>
            <a:off x="2362320" y="5638680"/>
            <a:ext cx="2209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5"/>
          <p:cNvSpPr/>
          <p:nvPr/>
        </p:nvSpPr>
        <p:spPr>
          <a:xfrm>
            <a:off x="2438280" y="5791320"/>
            <a:ext cx="2133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6"/>
          <p:cNvSpPr/>
          <p:nvPr/>
        </p:nvSpPr>
        <p:spPr>
          <a:xfrm>
            <a:off x="2438280" y="5943600"/>
            <a:ext cx="2133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7"/>
          <p:cNvSpPr/>
          <p:nvPr/>
        </p:nvSpPr>
        <p:spPr>
          <a:xfrm>
            <a:off x="2438280" y="6095880"/>
            <a:ext cx="2133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two chroma cbp flag codings to a unified chroma cbp flag co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two checks in pars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50 lines of c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ine buffer needed for context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04:08:34Z</dcterms:created>
  <dc:creator>Qualcomm User</dc:creator>
  <dc:description/>
  <dc:language>en-US</dc:language>
  <cp:lastModifiedBy>Qualcomm User</cp:lastModifiedBy>
  <dcterms:modified xsi:type="dcterms:W3CDTF">2011-07-20T08:56:35Z</dcterms:modified>
  <cp:revision>20</cp:revision>
  <dc:subject/>
  <dc:title>Memory and Parsing Friendly CABAC Context</dc:title>
</cp:coreProperties>
</file>