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4E3B-23F9-4738-9CD2-4B851A7E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5985-5836-419C-B832-A5EE5B82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598D-2ED7-447A-950D-666AEA9C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17E8-FB61-4A7C-B256-4137CB85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C23A-B400-45AE-BC77-5B8FDBFB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5C93-9753-4471-92EF-2B45D60A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9CF7-472C-4A98-8E07-D13B1A3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C518-1AC7-4B06-A4A2-5BF281F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1C21-EA6E-4002-9439-C868A857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0DDA-B76C-42AA-9299-5C5E109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E5F4-8127-4322-8889-F61BEA6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89E2-95ED-426D-B771-8092D44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85C8-D096-4A40-B493-863CB0C3240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DFDC-6FD3-4D4F-ABD7-D67F6907DDE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044360"/>
            <a:ext cx="7604280" cy="252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E11:  Hardware complexity of large zig-zag scan for level-coding of transform coeffici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uly 14, 20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8D3-CE72-4AEF-9200-EA62B26A2B9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CTVC-F13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Level Scanning in HM3 HE Codin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914400"/>
            <a:ext cx="582948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4x4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zig-zag scan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locks larger than 4x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block in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4x4 sub-b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s in each 4x4 subblocks are scanned with zig-zag but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4x4 sub-block are scanned with forward zig-zag sca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4x4 scan patterns have lower complexity property for HW addressing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882-D329-4B4D-A553-59AF058659A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972480" y="1257480"/>
            <a:ext cx="480960" cy="487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6935760" y="3056040"/>
            <a:ext cx="18655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Level Scanning in JCTVC-E33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06668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 mode dependent scan as in significance map coding but in the reverse ord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the mode dependent scan order into subsets of 16 consecutive coefficients but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an patterns larger than 4x4 do not have lower complexity property for HW addressing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2831-0BDA-4CA0-867C-E193412F9E1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6364440" y="1143000"/>
            <a:ext cx="1865160" cy="1878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400800" y="3429000"/>
            <a:ext cx="974880" cy="950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6400800" y="4770360"/>
            <a:ext cx="9572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1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Level Coding in JCTVC-F61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800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4x4 and 8x8 block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new VLC table mapping and no changes in the CAVLC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6x16 and 32x32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Horizontal and Vertical scan order for Intra block coding based on IntraPredM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x16 and 32x32 have different mapping of IntraPredMode to Scan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vided into 4x4 sub-block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oded separately with CAVLC after the last position is se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When condition is meet, a skipped/not skipped bit is send  to indicate if a candidate 4x4 subblock is all zero or not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1D0D-3F31-4741-B675-42D59977D4B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Hardware Complexity Comparis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000320"/>
            <a:ext cx="83440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M3 CAVLC and JCTVC-E335 CABAC scan pattern is approximately twice as costly as HM3 CABAC scan patter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M3 CABAC and QualComm JCTVC-615 CAVLC level coding are based on 4x4 sub-blocks. Their scan patterns have lower gate count for hardware implementaton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C143-FC2C-4697-9F14-BBDD84E4548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143000"/>
          <a:ext cx="834408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143000"/>
                <a:gridCol w="1485720"/>
                <a:gridCol w="42292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 size of s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x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x4 s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ordering buffer 8x8x16 = 1,024bit + control logic  9k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3 CAB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 32x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x4 scan + zigz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ordering buffer 32x32x16 = 16,384bit + control logic 11kgate (+2kg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3 CAVLC and JCTVC‑E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 32x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x32 zigzag s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ordering buffer 32x32x16 = 16,384bit + control logic 19kgate (+10kg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07-15T05:08:19Z</dcterms:modified>
  <cp:revision>5092</cp:revision>
  <dc:subject/>
  <dc:title>PowerPoint Presentation</dc:title>
</cp:coreProperties>
</file>