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479-94CA-4A26-BBF7-0DCD924CF1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63F5-4043-42A9-9294-65EBF4D3622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CF0-6E9F-4AB4-BFB5-A7A48ACEFE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7235-74CC-4D79-AC35-F7CDF408DAB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losses for slices grow with decreasing LCU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ding efficiency loss results from smaller LCU sizes creating longer and narrower slices -&gt; Narrower slices have more slice boundary for a given unit of slice area -&gt; more broken dependencies per unit area -&gt; lower co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lices and Tiles losses do not  increase with decreasing LCU size (and are generally smaller than slices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347A-28AB-41CE-9F89-7D8531A7F42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7D18-BEFA-4854-8E73-257A1C8A2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981B-E589-4BB3-937C-FC0C19D16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8CD8-71C9-47FA-A4FA-8D3C728AA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FFED-880D-4F42-A976-7B68BA2AD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A2D2-4434-463A-BB44-A55F8165E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376C-51C6-4FC3-824D-551B48578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83B3-AFEE-40DD-9C0E-FF122CAC2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3779-6F51-4BA8-A5E7-CB6644910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5005-F3CE-4D67-AB44-65D3C822F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5149-1010-4B56-8015-8B1CA546C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1CAB-67B5-4D8C-83CA-822F38CC2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EA17-0DC8-4B48-8D7E-73B1518DC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399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AD3A-3E39-4209-9DC3-F611BB0893F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70102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8c93"/>
                </a:solidFill>
                <a:latin typeface="Arial"/>
              </a:rPr>
              <a:t>JCT-VC F5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AC37-A1BB-4387-A39A-53044F02E62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3505320"/>
            <a:ext cx="9144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eBrisk and InterDigital Communic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: Torino,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SimHei"/>
              </a:rPr>
              <a:t>July 14-22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2209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The effect of LCU size on coding efficiency in the context of MTU size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2377-E07A-46A4-ADB4-5EF19CB3E24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tions transport coded video on network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um transmission un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T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constrai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</a:t>
            </a: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500 bytes for Ethernet 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U siz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d slice size &gt; MTU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fragments oversize packet carrying slic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uses multiple MTU-sized packets for 1 s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cases: loss of one fragmen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ss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d slice &lt;&lt; MTU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 header overhead “steals” coding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ly: coded slice size == MTU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effect of LCU size on coding efficiency in the context of a 1500-byte MTU size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single slice per picture to 1500-byte slice par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single slice per picture to 1500-byte sli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 ti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s selected to produce square-ish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U sizes: 16x16, 32x32, and 64x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4C6-7F2A-448D-AABD-C1B7DC96207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5DFA-A865-45A5-BB8E-CB1A911E8CE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311640" y="2568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1295280" y="1447920"/>
          <a:ext cx="6813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813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to one slice per picture anc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500-byte sl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ding efficiency loss grows with decreasing LCU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500-byte slices + 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ding efficiency loss somewhat decoupled from LCU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using slices + tiles showed higher coding efficiency compared to those where only slices were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81680" y="639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50F-152F-466B-9F67-C44296EA78E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orowitz Michael</cp:lastModifiedBy>
  <cp:lastPrinted>2009-04-22T19:24:48Z</cp:lastPrinted>
  <dcterms:modified xsi:type="dcterms:W3CDTF">2011-07-16T07:35:07Z</dcterms:modified>
  <cp:revision>4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