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86DD30-F2E4-48CA-A775-1460297FD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B23C42-3690-4116-B505-07F9BC9F8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E0333CE-333C-45DC-B90D-FF7F70BD0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399E66-0E1C-4C8E-8D97-1BB8C12DC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8205-0A21-4B06-BCA1-30E1B8A0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674D-B056-4050-9CCA-37AD2A6B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6366-436D-49BF-AFD3-B6594990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2576-0348-43EB-9CDD-2AF79D96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EA44-F44C-4163-B72E-1382E219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79C5-D58A-49F3-A6AD-D27FF776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7195-D1D0-4F82-8087-F82C66BA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537E-1960-419C-A779-44B8E210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BA54-8B6B-4ED5-950A-F6BB9EBD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406A-69C8-4CB5-8FB5-0A886888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838C-7894-4979-A2A3-FC9F2437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33AA-290C-4DAC-BD92-C2D7BBD6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C44C-8BB0-4361-A2C6-B63DDC96E7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CTVC-F595: New results for guaranteeing 16-bit transform dynamic range (JCTVC-E411, JCTVC-D071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ran Misra, Louis Kerofsky, Andrew Seg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F59E-A5B9-49C0-A908-9B0E930580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ropose a method to manage the bit-depth requirements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enforce bit-depth constraints after the first inverse trans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restricts/bounds the storage needs of the transpose operation between the two trans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FD89-F7B2-48EB-87B2-764CBAA0D6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61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of 16-bit DR violation for conforming bitstream in 8x8 c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Footer Placeholder 3"/>
          <p:cNvSpPr/>
          <p:nvPr/>
        </p:nvSpPr>
        <p:spPr>
          <a:xfrm>
            <a:off x="33526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D3E7-564F-4840-A458-9BD8C27B78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-81000" y="91296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x8 inverse trans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7"/>
              <p:cNvSpPr txBox="1"/>
              <p:nvPr/>
            </p:nvSpPr>
            <p:spPr>
              <a:xfrm>
                <a:off x="380880" y="2057400"/>
                <a:ext cx="19605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1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1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1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19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1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1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1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19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1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1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1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19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1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1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1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1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" name="TextBox 8"/>
          <p:cNvSpPr/>
          <p:nvPr/>
        </p:nvSpPr>
        <p:spPr>
          <a:xfrm>
            <a:off x="296640" y="160488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ve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0"/>
              <p:cNvSpPr txBox="1"/>
              <p:nvPr/>
            </p:nvSpPr>
            <p:spPr>
              <a:xfrm>
                <a:off x="2819520" y="2041560"/>
                <a:ext cx="2743200" cy="13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276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276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276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276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276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276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276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276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276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276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276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276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276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276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276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276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TextBox 11"/>
          <p:cNvSpPr/>
          <p:nvPr/>
        </p:nvSpPr>
        <p:spPr>
          <a:xfrm>
            <a:off x="2626560" y="159084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quantized coeffici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3"/>
              <p:cNvSpPr txBox="1"/>
              <p:nvPr/>
            </p:nvSpPr>
            <p:spPr>
              <a:xfrm>
                <a:off x="1905120" y="4038480"/>
                <a:ext cx="53337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259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301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585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47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07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9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95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839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259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301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585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47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07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9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95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839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259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301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585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47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07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9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95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839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259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301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585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47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07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9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95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839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259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301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585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47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07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9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95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839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259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301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585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47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07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9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95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839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259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301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585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47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07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9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95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839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259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301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585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47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07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9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95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83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" name="TextBox 14"/>
          <p:cNvSpPr/>
          <p:nvPr/>
        </p:nvSpPr>
        <p:spPr>
          <a:xfrm>
            <a:off x="1609560" y="3581280"/>
            <a:ext cx="59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efficients after first inverse transfor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1771560" y="3962520"/>
            <a:ext cx="1657440" cy="243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Box 16"/>
          <p:cNvSpPr/>
          <p:nvPr/>
        </p:nvSpPr>
        <p:spPr>
          <a:xfrm>
            <a:off x="274680" y="4495680"/>
            <a:ext cx="175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6-bit dynamic range vi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osed approach for HM-3.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4CA2-05AD-4E5C-8866-21B5BFA680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2" name="Object 2"/>
          <p:cNvGraphicFramePr/>
          <p:nvPr/>
        </p:nvGraphicFramePr>
        <p:xfrm>
          <a:off x="0" y="1905120"/>
          <a:ext cx="91900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900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s all combinations of residue data and transform coeffic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decoder robustness to violation of dynamic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Non-conforming en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bitstream error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ding lo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solution applicable to various transform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955B-5ABC-4E88-B05A-75028993EB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FB9D-ECB4-4331-B37C-B3573206F3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6378120" y="5892840"/>
            <a:ext cx="26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oss-check document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CTVC-F561 by Qualcom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6981120" y="83808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te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990720"/>
          <a:ext cx="5181480" cy="5108400"/>
        </p:xfrm>
        <a:graphic>
          <a:graphicData uri="http://schemas.openxmlformats.org/drawingml/2006/table">
            <a:tbl>
              <a:tblPr/>
              <a:tblGrid>
                <a:gridCol w="1165320"/>
                <a:gridCol w="669960"/>
                <a:gridCol w="668160"/>
                <a:gridCol w="669960"/>
                <a:gridCol w="669960"/>
                <a:gridCol w="668160"/>
                <a:gridCol w="669960"/>
              </a:tblGrid>
              <a:tr h="201600">
                <a:tc rowSpan="2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 rowSpan="2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01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(B) 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(B) 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93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B6AE-870B-4920-AE55-3CB3F3C4FA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7026840" y="838080"/>
            <a:ext cx="213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10: Low Q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990720"/>
          <a:ext cx="5181480" cy="5108400"/>
        </p:xfrm>
        <a:graphic>
          <a:graphicData uri="http://schemas.openxmlformats.org/drawingml/2006/table">
            <a:tbl>
              <a:tblPr/>
              <a:tblGrid>
                <a:gridCol w="1165320"/>
                <a:gridCol w="669960"/>
                <a:gridCol w="668160"/>
                <a:gridCol w="669960"/>
                <a:gridCol w="669960"/>
                <a:gridCol w="668160"/>
                <a:gridCol w="669960"/>
              </a:tblGrid>
              <a:tr h="201600">
                <a:tc rowSpan="2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 rowSpan="2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01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(B) 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(B) 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93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7469-D6F9-491B-86CD-476F061E1B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6917760" y="83808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10: High Q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990720"/>
          <a:ext cx="5181480" cy="5108400"/>
        </p:xfrm>
        <a:graphic>
          <a:graphicData uri="http://schemas.openxmlformats.org/drawingml/2006/table">
            <a:tbl>
              <a:tblPr/>
              <a:tblGrid>
                <a:gridCol w="1165320"/>
                <a:gridCol w="669960"/>
                <a:gridCol w="668160"/>
                <a:gridCol w="669960"/>
                <a:gridCol w="669960"/>
                <a:gridCol w="668160"/>
                <a:gridCol w="669960"/>
              </a:tblGrid>
              <a:tr h="201600">
                <a:tc rowSpan="2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 rowSpan="2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01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(B) 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(B) 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93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ropose a method to manage the dynamic range of the invers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efit: we assert that this makes the video codec more accessible to architectures with hardware limitations on bus-width / memo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ropose adoption in 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2F23-8A6D-4173-AA14-82B462DCDE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20:05:40Z</dcterms:created>
  <dc:creator>lkerofsky</dc:creator>
  <dc:description/>
  <dc:language>en-US</dc:language>
  <cp:lastModifiedBy>Kiran Misra</cp:lastModifiedBy>
  <dcterms:modified xsi:type="dcterms:W3CDTF">2011-07-12T21:42:19Z</dcterms:modified>
  <cp:revision>847</cp:revision>
  <dc:subject/>
  <dc:title>Slide 1</dc:title>
</cp:coreProperties>
</file>