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361CDD-5399-4A74-B347-49174BDDB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FC253B-14F9-446A-836B-864DC4395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13723AD-B2CE-4201-8F95-1DDD6648B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2167BEB-9D68-4CD7-A9D6-9DFAB1A77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20DE-DF7D-4F2C-8A03-0D96DE17E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65E3-A0A0-491A-B62F-E07C9192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A2D-3464-472F-899A-A125D169D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624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7560" y="114300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624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7560" y="3769920"/>
            <a:ext cx="277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4301-F537-4592-99F2-CD75BCD1B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C0DC-C8BA-4D0E-9A97-99686204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BE1F-387A-4448-A0AF-8299BDF70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82E3-CEC9-4BEE-ABF3-59184F50F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85A9-D63B-473F-880B-B0A637B2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22320" y="142920"/>
            <a:ext cx="642132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C793-6D15-4BCB-94AA-D928A4A6B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7F5E-2681-4FE8-8614-23FB5242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17080" y="376992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86F-DE0B-450B-859E-E998EAF2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17080" y="1143000"/>
            <a:ext cx="4201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769920"/>
            <a:ext cx="86104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2B5A-0A9A-4B04-8959-D82310CC0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2679840" y="0"/>
            <a:ext cx="6476760" cy="685800"/>
          </a:xfrm>
          <a:prstGeom prst="rect">
            <a:avLst/>
          </a:prstGeom>
          <a:solidFill>
            <a:srgbClr val="d630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2600" y="685800"/>
            <a:ext cx="2667240" cy="152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Picture 4" descr="sharplogo"/>
          <p:cNvPicPr/>
          <p:nvPr/>
        </p:nvPicPr>
        <p:blipFill>
          <a:blip r:embed="rId2"/>
          <a:stretch/>
        </p:blipFill>
        <p:spPr>
          <a:xfrm>
            <a:off x="5715000" y="2970360"/>
            <a:ext cx="167652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Rectangle 5"/>
          <p:cNvSpPr/>
          <p:nvPr/>
        </p:nvSpPr>
        <p:spPr>
          <a:xfrm>
            <a:off x="2679840" y="685800"/>
            <a:ext cx="6476760" cy="15228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solidFill>
            <a:srgbClr val="d5d1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228600" y="458640"/>
            <a:ext cx="2340000" cy="2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LABORATORIES OF AMERIC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838080"/>
            <a:ext cx="9144000" cy="5715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4e6f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c0504d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4f81bd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2860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ahoma"/>
              </a:rPr>
              <a:t>Confidential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38720" y="655272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E1274-A2BA-4728-A1B6-C4601825FAE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" name="Picture 14" descr=""/>
          <p:cNvPicPr/>
          <p:nvPr/>
        </p:nvPicPr>
        <p:blipFill>
          <a:blip r:embed="rId3"/>
          <a:stretch/>
        </p:blipFill>
        <p:spPr>
          <a:xfrm>
            <a:off x="500040" y="117360"/>
            <a:ext cx="1793880" cy="324000"/>
          </a:xfrm>
          <a:prstGeom prst="rect">
            <a:avLst/>
          </a:prstGeom>
          <a:ln w="0">
            <a:noFill/>
          </a:ln>
        </p:spPr>
      </p:pic>
      <p:sp>
        <p:nvSpPr>
          <p:cNvPr id="13" name="Text Box 15"/>
          <p:cNvSpPr/>
          <p:nvPr/>
        </p:nvSpPr>
        <p:spPr>
          <a:xfrm>
            <a:off x="5181480" y="6461280"/>
            <a:ext cx="99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CTVC-F594: New results for parallel decoding of tiles (JCTVC-E412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iran Misra, Andrew Seg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D95F-7004-447A-9FAE-53C7842E5B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sion to tiles to enable parallel deco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 tile location within the bit-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#1: Lower overhead but requires buffering at enco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hod #2: Fixed overhead but friendly to low latency enco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 check by eBrisk (JCTVC-F7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propose adoption (with Tiles) into 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D9B94-72E6-4C51-980E-AD5BF4DF27E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les allows partitioning of image into rectangular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iendly for encoder paralle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ful for decoder parallelization – but there is an 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a decoder knows the locations of tiles within the reconstructed frame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t does no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now the location of tiles within the bit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r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gnal tile entry points in the bitstream to enable decoder paralle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E39F-A088-4218-97F7-6E5BD426DB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3962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olutions (both to be sup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#1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location information in slice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s buffering of bit-stream at dec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0AA8-F058-4F97-A7C5-9B33BED034C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038480" y="1204920"/>
            <a:ext cx="487548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olutions (both to be suppor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ution #2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entry markers in the bit-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rger overhead at lower r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endly to low latency enco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reserved word in bit-stream (we propose 0x0000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5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nsmit tile_idx after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156C-D4A5-4FC0-A180-96A5087B4D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422600" y="4830840"/>
            <a:ext cx="4645080" cy="96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up: JCTVC-E408 Experiment 2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228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simulation conditions of “Experiment #2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les for encoder parallel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A – 2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B – 18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C – 4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 – 1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E – 12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Slide Number Placeholder 4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3B55-870E-452C-9D78-18CA5DDF567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800600" y="2133720"/>
            <a:ext cx="40132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7039080" y="65530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AB161-14E3-4C78-A32C-9152DAA19C8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609480" y="62182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908760" cy="4673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412640" y="1378080"/>
            <a:ext cx="275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xplicit Signaling (Slice header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5271480" y="1371600"/>
            <a:ext cx="24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licit Signaling (Marker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8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ly, it is not required to signal entry locations to each t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xample, we may want higher degrees of parallelism at the encoder than the decod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may want to support a minimum level of parallelism for the decoder without penalizing the encoder for using high degrees of parallel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ults on next slid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22320" y="142920"/>
            <a:ext cx="642132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803840" y="1746360"/>
            <a:ext cx="3962160" cy="43495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533520" y="1752480"/>
            <a:ext cx="3956040" cy="43434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90680" y="1378080"/>
            <a:ext cx="25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our entry points per pic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5658840" y="1371600"/>
            <a:ext cx="254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wo entry points per pictur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20:05:40Z</dcterms:created>
  <dc:creator>lkerofsky</dc:creator>
  <dc:description/>
  <dc:language>en-US</dc:language>
  <cp:lastModifiedBy>Andrew Segall</cp:lastModifiedBy>
  <dcterms:modified xsi:type="dcterms:W3CDTF">2011-07-17T08:22:29Z</dcterms:modified>
  <cp:revision>866</cp:revision>
  <dc:subject/>
  <dc:title>Slide 1</dc:title>
</cp:coreProperties>
</file>