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3A8B5A-BE1A-46B1-A9AD-63BDCF89E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C80898-C07C-45B6-A48D-7F44B38DF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4EFCC0-2CE9-4B63-B0EB-B0BF46522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DE18-2B93-4933-A90C-4530D19E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5AA6-C051-4E14-9A66-7A30C1BF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4B5-22F7-4F55-ABF1-BBCA2825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205-7C43-4EE5-9467-3804D585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523-0F23-42DB-8752-6FA4F9FA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408-1834-4E87-9062-BD89DDAD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54BD-FA70-467B-B4BE-D24BDE1F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5F5D-5B98-46DE-AD38-E699D567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1BE-7DF5-4E5A-BACE-975B5350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BA0-19A8-42C8-936C-1F84DEEA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F699-E516-462D-A77E-499A19DF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22AA-E162-437B-ABA2-88B937AC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7F0D-61A8-4CA6-A8AF-5B7EC72C4B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CTVC-F593: Improved CABAC Context Initializ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ran Misra, Andrew Seg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A1ED-BFCF-4D55-AE77-9122D9CC3B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r improved context initialization of CAB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ment observed for luma (.1-.2%) and chroma (.8-1.8%) for 1500 byte/slice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improvement in tables appears to be add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 that impact on draft, software and complexity is negligible (reuses existing test from reference picture list constru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cross checked in JCTVC-F739 (Qualco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: Adoption of technique to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ly, we can provide improved tables to design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F892-83EC-43A5-B9CF-A38B209C39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/JCTVC low delay coding condition uses forward predicted B slices instead of P slices in LD-B and RA configu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have observed that the symbol statistics of these forward predicted B slices are more similar to a P slice than a B sl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7651-B84B-412C-AC1A-8709A1F856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forward predicted B-slices using the CABAC P-slic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a decoder already tests if a slice is a forward predicted B-slice (Section 8.2.2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When the reference picture list RefPicList1 has more than one entry and RefPicList1 is identical to the reference picture list RefPicList0, the first two entries RefPicList1[ 0 ] and RefPicList1[ 1 ] are switched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6AB3-7399-44AC-84B4-9BDC6B268B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133720" y="2133720"/>
            <a:ext cx="49528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resetEntropy           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Qp = m_pcSlice-&gt;getSliceQ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liceType eSliceType  =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_pcSlice-&gt;getSliceTyp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SliceType==B_SLICE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_pcSlice-&gt;getSliceForwardB()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liceType = P_SLIC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ld code using eSliceTyp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9C74-7502-4FCF-A974-EA48FD2750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905120" y="1752480"/>
          <a:ext cx="5181480" cy="4275000"/>
        </p:xfrm>
        <a:graphic>
          <a:graphicData uri="http://schemas.openxmlformats.org/drawingml/2006/table">
            <a:tbl>
              <a:tblPr/>
              <a:tblGrid>
                <a:gridCol w="1903320"/>
                <a:gridCol w="1092240"/>
                <a:gridCol w="1093680"/>
                <a:gridCol w="1092240"/>
              </a:tblGrid>
              <a:tr h="251280">
                <a:tc row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(B) 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Box 2"/>
          <p:cNvSpPr/>
          <p:nvPr/>
        </p:nvSpPr>
        <p:spPr>
          <a:xfrm>
            <a:off x="2023200" y="1219320"/>
            <a:ext cx="49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posed vs. HM-3.1 (1500 byte slic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osed 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9.3.1.1, fifth paragraph bec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Table 9‑4, the ctxIdxTable and the ctxIdx for which initialisation is needed for each of the slice types are listed. </a:t>
            </a:r>
            <a:r>
              <a:rPr b="0" i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When the reference picture list RefPicList1 has more than one entry, RefPicList0[0] is equal to RefPicList1[1], RefPicList0[1] is equal to RefPicList1[0], and the remainder of RefPicList1 is identical to the remainder of reference picture list RefPicList0, the slice type shall be B for initialisation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e referenced context index tables ctxIdxTable include the values of m and n needed for the initialis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ement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emental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4228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nsidered the possibility that the CABAC initialization tables for B-slices is 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new tables for P/B sl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: Approximately 47 initializations significantly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: Improvement of proposal not a result of table design fla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6480" y="1143000"/>
          <a:ext cx="4228560" cy="5028840"/>
        </p:xfrm>
        <a:graphic>
          <a:graphicData uri="http://schemas.openxmlformats.org/drawingml/2006/table">
            <a:tbl>
              <a:tblPr/>
              <a:tblGrid>
                <a:gridCol w="1342080"/>
                <a:gridCol w="961560"/>
                <a:gridCol w="961200"/>
                <a:gridCol w="963720"/>
              </a:tblGrid>
              <a:tr h="193680">
                <a:tc rowSpan="2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1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(B)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93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(P)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94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Box 2"/>
          <p:cNvSpPr/>
          <p:nvPr/>
        </p:nvSpPr>
        <p:spPr>
          <a:xfrm>
            <a:off x="4667760" y="6172200"/>
            <a:ext cx="416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mproved Tables vs. HM-3.1 (1500 byte slice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emental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4228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ly, we see that the proposal and any improvement in table design are (more than) addi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86480" y="1143000"/>
          <a:ext cx="4228560" cy="5028840"/>
        </p:xfrm>
        <a:graphic>
          <a:graphicData uri="http://schemas.openxmlformats.org/drawingml/2006/table">
            <a:tbl>
              <a:tblPr/>
              <a:tblGrid>
                <a:gridCol w="1552320"/>
                <a:gridCol w="893520"/>
                <a:gridCol w="891360"/>
                <a:gridCol w="891360"/>
              </a:tblGrid>
              <a:tr h="194040">
                <a:tc row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0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2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0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0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40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4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(B)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0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940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4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0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0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4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(P)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0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940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4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0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Box 2"/>
          <p:cNvSpPr/>
          <p:nvPr/>
        </p:nvSpPr>
        <p:spPr>
          <a:xfrm>
            <a:off x="4005000" y="6172200"/>
            <a:ext cx="50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mproved Tables+Proposal vs. HM-3.1 (1500 byte slice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emental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6009120" y="1523880"/>
            <a:ext cx="2596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Improved Tables+Proposal vs. HM-3.1 (1500 byte slices)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2679480" cy="221292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10" descr=""/>
          <p:cNvPicPr/>
          <p:nvPr/>
        </p:nvPicPr>
        <p:blipFill>
          <a:blip r:embed="rId2"/>
          <a:stretch/>
        </p:blipFill>
        <p:spPr>
          <a:xfrm>
            <a:off x="2871720" y="1833480"/>
            <a:ext cx="2949480" cy="3500640"/>
          </a:xfrm>
          <a:prstGeom prst="rect">
            <a:avLst/>
          </a:prstGeom>
          <a:ln w="0">
            <a:noFill/>
          </a:ln>
        </p:spPr>
      </p:pic>
      <p:pic>
        <p:nvPicPr>
          <p:cNvPr id="88" name="Rectangle 10" descr=""/>
          <p:cNvPicPr/>
          <p:nvPr/>
        </p:nvPicPr>
        <p:blipFill>
          <a:blip r:embed="rId3"/>
          <a:stretch/>
        </p:blipFill>
        <p:spPr>
          <a:xfrm>
            <a:off x="5867280" y="1828800"/>
            <a:ext cx="3021120" cy="350532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3274200" y="1523880"/>
            <a:ext cx="216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Improved Tables vs. HM-3.1 (1500 byte slices)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555120" y="1523880"/>
            <a:ext cx="1834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Proposed vs. HM-3.1 (1500 byte slices)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20:05:40Z</dcterms:created>
  <dc:creator>lkerofsky</dc:creator>
  <dc:description/>
  <dc:language>en-US</dc:language>
  <cp:lastModifiedBy>Andrew Segall</cp:lastModifiedBy>
  <dcterms:modified xsi:type="dcterms:W3CDTF">2011-07-16T08:44:02Z</dcterms:modified>
  <cp:revision>870</cp:revision>
  <dc:subject/>
  <dc:title>Slide 1</dc:title>
</cp:coreProperties>
</file>