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09D5-00CB-45CF-9F82-4E46FA630CE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764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B29C-B7FD-4767-B4EF-A9F4CDD88D3D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F2D9-6A7D-400C-A0A4-F0AC5235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11C2-4E03-4186-ACF2-2C373A77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049D-57AA-4E3B-87F5-955F0638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E32-6907-47D6-982E-EE8FD73E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5C06-CEF7-4C91-97C1-15DE0A5D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3282-EC64-4A0A-BA9B-EF020ED0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49F-6A62-46CC-B84E-E7C5F76F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75F6-DA5F-4A89-9969-A6D1E887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7F4-E9A1-4ABD-A4E8-239EA742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B261-DFB2-42BD-A977-02130D19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BE52-F8FC-4DB4-8B1A-1AE01520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573-627A-4931-AC54-C53B2AAD0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A401-6E08-4C50-A646-31D8C2605CA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45680" y="1932120"/>
            <a:ext cx="76042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6.c: Differential Coding of Intra Mod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971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Sony, Sharp, Panasonic, and Toshi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July. 12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C166-E972-4F84-8486-A365B775033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39640" y="37620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VTVC-F56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sult by different config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52480" y="1905120"/>
          <a:ext cx="6013440" cy="1612800"/>
        </p:xfrm>
        <a:graphic>
          <a:graphicData uri="http://schemas.openxmlformats.org/drawingml/2006/table">
            <a:tbl>
              <a:tblPr/>
              <a:tblGrid>
                <a:gridCol w="685800"/>
                <a:gridCol w="873000"/>
                <a:gridCol w="576360"/>
                <a:gridCol w="615960"/>
                <a:gridCol w="596880"/>
                <a:gridCol w="596880"/>
                <a:gridCol w="820800"/>
                <a:gridCol w="617400"/>
                <a:gridCol w="630360"/>
              </a:tblGrid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onfigu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Performance (vs HM-3.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DCI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subdi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bipr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4ta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Y Bd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Enc 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Dec 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Test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DCI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0.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Test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DCIM sdir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0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0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Test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DCIM bip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Test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DCIM 4tap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0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1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752480" y="4530600"/>
          <a:ext cx="6013440" cy="1641600"/>
        </p:xfrm>
        <a:graphic>
          <a:graphicData uri="http://schemas.openxmlformats.org/drawingml/2006/table">
            <a:tbl>
              <a:tblPr/>
              <a:tblGrid>
                <a:gridCol w="685800"/>
                <a:gridCol w="873360"/>
                <a:gridCol w="576000"/>
                <a:gridCol w="615960"/>
                <a:gridCol w="596880"/>
                <a:gridCol w="596880"/>
                <a:gridCol w="820800"/>
                <a:gridCol w="617760"/>
                <a:gridCol w="630000"/>
              </a:tblGrid>
              <a:tr h="26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Configu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Performance (vs HM-3.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DCI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subdi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bipr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4ta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Y Bd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Enc 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Dec 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Test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DCI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0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2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Test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DCIM sdir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0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0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Test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DCIM bip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1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0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Test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DCIM 4tap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-0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ＭＳ Ｐゴシック"/>
                        </a:rPr>
                        <a:t>1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itle 1"/>
          <p:cNvSpPr/>
          <p:nvPr/>
        </p:nvSpPr>
        <p:spPr>
          <a:xfrm>
            <a:off x="685800" y="1371600"/>
            <a:ext cx="3352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 Intra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itle 1"/>
          <p:cNvSpPr/>
          <p:nvPr/>
        </p:nvSpPr>
        <p:spPr>
          <a:xfrm>
            <a:off x="762120" y="3962520"/>
            <a:ext cx="3352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 Intra 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57200" y="1371600"/>
          <a:ext cx="4643280" cy="2443320"/>
        </p:xfrm>
        <a:graphic>
          <a:graphicData uri="http://schemas.openxmlformats.org/drawingml/2006/table">
            <a:tbl>
              <a:tblPr/>
              <a:tblGrid>
                <a:gridCol w="909360"/>
                <a:gridCol w="622440"/>
                <a:gridCol w="622440"/>
                <a:gridCol w="622080"/>
                <a:gridCol w="622440"/>
                <a:gridCol w="622080"/>
                <a:gridCol w="622440"/>
              </a:tblGrid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 Intra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 Intra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3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3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3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4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3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4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3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.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2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7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80880" y="53352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Information) SDIP + DC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4114800"/>
          <a:ext cx="4641840" cy="2442960"/>
        </p:xfrm>
        <a:graphic>
          <a:graphicData uri="http://schemas.openxmlformats.org/drawingml/2006/table">
            <a:tbl>
              <a:tblPr/>
              <a:tblGrid>
                <a:gridCol w="909360"/>
                <a:gridCol w="622440"/>
                <a:gridCol w="622440"/>
                <a:gridCol w="622080"/>
                <a:gridCol w="665280"/>
                <a:gridCol w="600120"/>
                <a:gridCol w="600120"/>
              </a:tblGrid>
              <a:tr h="24624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 Intra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ll Intra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0.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5715000" y="22096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M-3.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48769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ed t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D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6108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CIM: Differential Coding of Intra M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Additional luma intra modes (dcim modes, bipred mod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Luma Intra mode co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Edge derivation using reconstructed neighbor pix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Modified directional prediction … use 4-tap fil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Simplified Bidirectional predi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DCIM compared to HM-3.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HE: 0.8% gain (entT: 113%, decT: 103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LC: 0.7% gain (encT: 124%, decT: 105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Impact by changing each DCIM asp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Performance with SD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2360" y="276120"/>
            <a:ext cx="8169480" cy="7520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0680" bIns="40680" anchor="ctr">
            <a:noAutofit/>
          </a:bodyPr>
          <a:p>
            <a:pPr marL="30492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DCIM 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95280" y="1281240"/>
            <a:ext cx="26049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304920" indent="-304920">
              <a:spcBef>
                <a:spcPts val="499"/>
              </a:spcBef>
              <a:buClr>
                <a:srgbClr val="33cc33"/>
              </a:buClr>
              <a:buFont typeface="Calibri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33cc33"/>
                </a:solidFill>
                <a:latin typeface="Calibri"/>
                <a:ea typeface="ＭＳ Ｐゴシック"/>
              </a:rPr>
              <a:t>DCIM Propos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3394080" y="1413000"/>
            <a:ext cx="2427120" cy="258840"/>
          </a:xfrm>
          <a:prstGeom prst="rect">
            <a:avLst/>
          </a:prstGeom>
          <a:solidFill>
            <a:srgbClr val="002b82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Calibri"/>
                <a:ea typeface="ＭＳ Ｐゴシック"/>
              </a:rPr>
              <a:t>DCIM  Key Featur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6284880" y="1287360"/>
            <a:ext cx="242892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marL="304920" indent="-304920">
              <a:spcBef>
                <a:spcPts val="499"/>
              </a:spcBef>
              <a:buClr>
                <a:srgbClr val="00cc00"/>
              </a:buClr>
              <a:buFont typeface="Calibri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Calibri"/>
                <a:ea typeface="ＭＳ Ｐゴシック"/>
              </a:rPr>
              <a:t>HM Propos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427800" y="1905120"/>
            <a:ext cx="2174760" cy="2525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4"/>
          <p:cNvSpPr/>
          <p:nvPr/>
        </p:nvSpPr>
        <p:spPr>
          <a:xfrm>
            <a:off x="3246480" y="2206800"/>
            <a:ext cx="32655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t">
            <a:spAutoFit/>
          </a:bodyPr>
          <a:p>
            <a:pPr marL="112680" indent="-1126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s current U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2680" indent="-1126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fficient signaling of directional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2680" indent="-1126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ificant Coding &amp; Visual Improv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Object 2"/>
          <p:cNvGraphicFramePr/>
          <p:nvPr/>
        </p:nvGraphicFramePr>
        <p:xfrm>
          <a:off x="-36360" y="1436760"/>
          <a:ext cx="3200400" cy="302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6360" y="1436760"/>
                    <a:ext cx="320040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CIM -- 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mmary of 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Additional luma intra modes (dcim modes, bipred mod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Luma Intra mode co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Edge derivation using reconstructed neighbor pix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Modified directional prediction … use 4-tap fil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Simplified Bidirectional predi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uma intra mode in HM-3.0 + DC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64x64: 3 UI + 1 Plan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32x32,16x16: 34 UI + 1 planar + 5 dcim + 2 bip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8x8: 34 UI + 1 planar + 1 dcim + 2 bip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4x4: 17 UI + 1 planar + 1 dcim + 2 bip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HE: 0.8% gain (entT: 113%, decT: 103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- LC: 0.7% gain (encT: 124%, decT: 105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47320" y="1066320"/>
            <a:ext cx="4876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ge 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d neighbors’ suggested dir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lter reconstructed area to find local gradi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lculate  σ  and  ρ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e the ratio                             and a look-up table (size 32) to find the index of edge dire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s of σ and ρ  are also important in finding the index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28 values are possible for the index (all possible directions between integer locations in the boundary and the center of a 32x32 block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index of the edge direction is directly used in the function that computes the predi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is function is the same as UI prediction function for the most part (no additional computation for finding the prediction compared to UI modes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99520"/>
            <a:ext cx="84582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Edge deriv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CACF-A754-4AC3-82F9-F21BA7AC86B7}" type="slidenum">
              <a:rPr b="0" lang="zh-CN" sz="11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0" y="-130320"/>
            <a:ext cx="1843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0" y="-130320"/>
            <a:ext cx="1843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0" y="-130320"/>
            <a:ext cx="1843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Object 12"/>
          <p:cNvGraphicFramePr/>
          <p:nvPr/>
        </p:nvGraphicFramePr>
        <p:xfrm>
          <a:off x="5410080" y="2438280"/>
          <a:ext cx="300060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438280"/>
                    <a:ext cx="30006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Object 18"/>
          <p:cNvGraphicFramePr/>
          <p:nvPr/>
        </p:nvGraphicFramePr>
        <p:xfrm>
          <a:off x="5181480" y="3276720"/>
          <a:ext cx="3581640" cy="33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3276720"/>
                    <a:ext cx="358164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7" name="Straight Arrow Connector 63"/>
          <p:cNvCxnSpPr/>
          <p:nvPr/>
        </p:nvCxnSpPr>
        <p:spPr>
          <a:xfrm>
            <a:off x="5486400" y="2055960"/>
            <a:ext cx="915120" cy="2160"/>
          </a:xfrm>
          <a:prstGeom prst="straightConnector1">
            <a:avLst/>
          </a:prstGeom>
          <a:ln w="9360">
            <a:solidFill>
              <a:srgbClr val="c00000"/>
            </a:solidFill>
            <a:prstDash val="sysDash"/>
            <a:miter/>
            <a:tailEnd len="med" type="stealth" w="med"/>
          </a:ln>
        </p:spPr>
      </p:cxnSp>
      <p:cxnSp>
        <p:nvCxnSpPr>
          <p:cNvPr id="78" name="Straight Arrow Connector 66"/>
          <p:cNvCxnSpPr/>
          <p:nvPr/>
        </p:nvCxnSpPr>
        <p:spPr>
          <a:xfrm>
            <a:off x="4114800" y="2590920"/>
            <a:ext cx="915120" cy="2160"/>
          </a:xfrm>
          <a:prstGeom prst="straightConnector1">
            <a:avLst/>
          </a:prstGeom>
          <a:ln w="9360">
            <a:solidFill>
              <a:srgbClr val="c00000"/>
            </a:solidFill>
            <a:prstDash val="sysDash"/>
            <a:miter/>
            <a:tailEnd len="med" type="stealth" w="med"/>
          </a:ln>
        </p:spPr>
      </p:cxnSp>
      <p:sp>
        <p:nvSpPr>
          <p:cNvPr id="79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Object 22"/>
          <p:cNvGraphicFramePr/>
          <p:nvPr/>
        </p:nvGraphicFramePr>
        <p:xfrm>
          <a:off x="2666880" y="2978280"/>
          <a:ext cx="762120" cy="18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2978280"/>
                    <a:ext cx="76212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82" name="Straight Arrow Connector 74"/>
          <p:cNvCxnSpPr/>
          <p:nvPr/>
        </p:nvCxnSpPr>
        <p:spPr>
          <a:xfrm flipH="1">
            <a:off x="6019560" y="5486040"/>
            <a:ext cx="2160" cy="22932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sm" type="stealth" w="sm"/>
            <a:tailEnd len="sm" type="stealth" w="sm"/>
          </a:ln>
        </p:spPr>
      </p:cxnSp>
      <p:cxnSp>
        <p:nvCxnSpPr>
          <p:cNvPr id="83" name="Straight Arrow Connector 78"/>
          <p:cNvCxnSpPr/>
          <p:nvPr/>
        </p:nvCxnSpPr>
        <p:spPr>
          <a:xfrm>
            <a:off x="5714640" y="5715000"/>
            <a:ext cx="305640" cy="2160"/>
          </a:xfrm>
          <a:prstGeom prst="straightConnector1">
            <a:avLst/>
          </a:prstGeom>
          <a:ln w="9360">
            <a:solidFill>
              <a:srgbClr val="c00000"/>
            </a:solidFill>
            <a:miter/>
            <a:headEnd len="sm" type="stealth" w="sm"/>
            <a:tailEnd len="sm" type="stealth" w="sm"/>
          </a:ln>
        </p:spPr>
      </p:cxnSp>
      <p:graphicFrame>
        <p:nvGraphicFramePr>
          <p:cNvPr id="84" name="Object 26"/>
          <p:cNvGraphicFramePr/>
          <p:nvPr/>
        </p:nvGraphicFramePr>
        <p:xfrm>
          <a:off x="5816520" y="5664240"/>
          <a:ext cx="279360" cy="35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16520" y="5664240"/>
                    <a:ext cx="27936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27"/>
          <p:cNvGraphicFramePr/>
          <p:nvPr/>
        </p:nvGraphicFramePr>
        <p:xfrm>
          <a:off x="5969160" y="5410080"/>
          <a:ext cx="279360" cy="35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7" name="Object 2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69160" y="5410080"/>
                    <a:ext cx="27936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Oval 81"/>
          <p:cNvSpPr/>
          <p:nvPr/>
        </p:nvSpPr>
        <p:spPr>
          <a:xfrm>
            <a:off x="5562720" y="5257800"/>
            <a:ext cx="761760" cy="762120"/>
          </a:xfrm>
          <a:prstGeom prst="ellipse">
            <a:avLst/>
          </a:prstGeom>
          <a:solidFill>
            <a:srgbClr val="ff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Object 29"/>
          <p:cNvGraphicFramePr/>
          <p:nvPr/>
        </p:nvGraphicFramePr>
        <p:xfrm>
          <a:off x="6629400" y="1746360"/>
          <a:ext cx="885960" cy="56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29400" y="1746360"/>
                    <a:ext cx="88596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28"/>
          <p:cNvGraphicFramePr/>
          <p:nvPr/>
        </p:nvGraphicFramePr>
        <p:xfrm>
          <a:off x="7696080" y="1752480"/>
          <a:ext cx="914400" cy="505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2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96080" y="1752480"/>
                    <a:ext cx="9144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Rectangle 30"/>
          <p:cNvSpPr/>
          <p:nvPr/>
        </p:nvSpPr>
        <p:spPr>
          <a:xfrm>
            <a:off x="1800" y="97920"/>
            <a:ext cx="1095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1"/>
          <p:cNvSpPr/>
          <p:nvPr/>
        </p:nvSpPr>
        <p:spPr>
          <a:xfrm>
            <a:off x="1440" y="1841040"/>
            <a:ext cx="250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ctr" pos="2971800"/>
                <a:tab algn="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8505720" y="3429000"/>
            <a:ext cx="38124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CIM modes sign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06668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ge I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code the actual prediction direction differentially with respect to </a:t>
            </a:r>
            <a:r>
              <a:rPr b="0" lang="en-US" sz="2400" spc="-1" strike="noStrike">
                <a:solidFill>
                  <a:srgbClr val="008000"/>
                </a:solidFill>
                <a:latin typeface="Calibri"/>
                <a:ea typeface="ＭＳ Ｐゴシック"/>
              </a:rPr>
              <a:t>neighbors’ suggested dir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at is, code the sign and magnitude of the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F84B-0E22-48BD-B9C2-7D1F2FBD177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6934320" y="3048120"/>
            <a:ext cx="1847880" cy="1428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Object 2"/>
          <p:cNvGraphicFramePr/>
          <p:nvPr/>
        </p:nvGraphicFramePr>
        <p:xfrm>
          <a:off x="8229600" y="3962520"/>
          <a:ext cx="177840" cy="20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29600" y="3962520"/>
                    <a:ext cx="1778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3"/>
          <p:cNvGraphicFramePr/>
          <p:nvPr/>
        </p:nvGraphicFramePr>
        <p:xfrm>
          <a:off x="4191120" y="2438280"/>
          <a:ext cx="333360" cy="3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91120" y="2438280"/>
                    <a:ext cx="33336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4"/>
          <p:cNvGraphicFramePr/>
          <p:nvPr/>
        </p:nvGraphicFramePr>
        <p:xfrm>
          <a:off x="2895480" y="3733920"/>
          <a:ext cx="152640" cy="330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95480" y="3733920"/>
                    <a:ext cx="15264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uma intra mode sign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77556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ediction Interpo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5715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terpo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nce DCIM modes generally have higher precision they perform better when used with Cubic interpo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-tap interpolation filters are generated based on Cubic interpo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ＭＳ Ｐゴシック"/>
              </a:rPr>
              <a:t>Main DCIM mode always uses the 4-tap filt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8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ＭＳ Ｐゴシック"/>
              </a:rPr>
              <a:t>The rest of the modes switch between 4-tap filters and 2-tap (linear) interpolation based on the mode dir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00"/>
              </a:spcBef>
              <a:buClr>
                <a:srgbClr val="e46c0a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  <a:ea typeface="ＭＳ Ｐゴシック"/>
              </a:rPr>
              <a:t>Decision is based on a table (currently based on mode Intra smoothing tabl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477120" y="2286000"/>
          <a:ext cx="2408040" cy="3689280"/>
        </p:xfrm>
        <a:graphic>
          <a:graphicData uri="http://schemas.openxmlformats.org/drawingml/2006/table">
            <a:tbl>
              <a:tblPr/>
              <a:tblGrid>
                <a:gridCol w="844560"/>
                <a:gridCol w="390240"/>
                <a:gridCol w="390600"/>
                <a:gridCol w="392040"/>
                <a:gridCol w="390600"/>
              </a:tblGrid>
              <a:tr h="30492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ractional-pel 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ilter coeffici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/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/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/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/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/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/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/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/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/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/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/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/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/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/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/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/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7680" rIns="67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6/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680" rIns="676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-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5"/>
          <p:cNvSpPr/>
          <p:nvPr/>
        </p:nvSpPr>
        <p:spPr>
          <a:xfrm>
            <a:off x="6629400" y="2016000"/>
            <a:ext cx="2057400" cy="228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Interpolation  Fil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46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D-Rate Compared to HM 3.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861F-F95A-4375-BF32-889A10D528A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81080" y="1752480"/>
          <a:ext cx="5181840" cy="2667240"/>
        </p:xfrm>
        <a:graphic>
          <a:graphicData uri="http://schemas.openxmlformats.org/drawingml/2006/table">
            <a:tbl>
              <a:tblPr/>
              <a:tblGrid>
                <a:gridCol w="1121040"/>
                <a:gridCol w="679320"/>
                <a:gridCol w="676440"/>
                <a:gridCol w="676080"/>
                <a:gridCol w="676440"/>
                <a:gridCol w="676080"/>
                <a:gridCol w="676440"/>
              </a:tblGrid>
              <a:tr h="279360">
                <a:tc rowSpan="2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l Intra 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ll Intra L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Class 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Class 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2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Class 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14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Class 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Class 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Overa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En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ec Time[%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1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760400"/>
            <a:ext cx="7238880" cy="3802320"/>
          </a:xfrm>
          <a:prstGeom prst="rect">
            <a:avLst/>
          </a:prstGeom>
          <a:ln w="0">
            <a:noFill/>
          </a:ln>
        </p:spPr>
      </p:pic>
      <p:sp>
        <p:nvSpPr>
          <p:cNvPr id="116" name="Title 1"/>
          <p:cNvSpPr/>
          <p:nvPr/>
        </p:nvSpPr>
        <p:spPr>
          <a:xfrm>
            <a:off x="685800" y="36504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D-Rate Compared to HM 3.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tle 1"/>
          <p:cNvSpPr/>
          <p:nvPr/>
        </p:nvSpPr>
        <p:spPr>
          <a:xfrm>
            <a:off x="685800" y="106668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 Intra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06:01:53Z</dcterms:created>
  <dc:creator>Ali Tabatabai</dc:creator>
  <dc:description/>
  <dc:language>en-US</dc:language>
  <cp:lastModifiedBy>s127342</cp:lastModifiedBy>
  <dcterms:modified xsi:type="dcterms:W3CDTF">2011-07-15T06:14:40Z</dcterms:modified>
  <cp:revision>107</cp:revision>
  <dc:subject/>
  <dc:title>CE6.c: Experiment I</dc:title>
</cp:coreProperties>
</file>