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AutoShape 1"/>
          <p:cNvSpPr/>
          <p:nvPr/>
        </p:nvSpPr>
        <p:spPr>
          <a:xfrm>
            <a:off x="0" y="0"/>
            <a:ext cx="6781680" cy="992520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12">
                <a:moveTo>
                  <a:pt x="5" y="0"/>
                </a:moveTo>
                <a:arcTo wR="5" hR="5" stAng="16200000" swAng="-5400000"/>
                <a:lnTo>
                  <a:pt x="0" y="31607"/>
                </a:lnTo>
                <a:arcTo wR="5" hR="5" stAng="10800000" swAng="-5400000"/>
                <a:lnTo>
                  <a:pt x="21595" y="3161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2"/>
          <p:cNvSpPr/>
          <p:nvPr/>
        </p:nvSpPr>
        <p:spPr>
          <a:xfrm>
            <a:off x="0" y="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05040" y="4714920"/>
            <a:ext cx="4970160" cy="446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6"/>
          <p:cNvSpPr/>
          <p:nvPr/>
        </p:nvSpPr>
        <p:spPr>
          <a:xfrm>
            <a:off x="0" y="942984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sldNum" idx="4"/>
          </p:nvPr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5690D-EC32-4B6A-BAE2-57ABE335F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AA1AE-BEE8-4E48-BB44-9090CD31AC54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1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92D957-995D-4F60-B0FB-075C254B302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80012-FE25-4C2E-B095-C98D30EAA842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48216-EC88-485C-8D97-74A087230817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AA74A-40AA-48D8-8BB4-67F6FFF94956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CFE6E-85FA-4977-9379-DDA3DC3F76EB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1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0262BE-617E-4A14-A29B-6352763E05E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ABF45-EF2F-428B-8B85-4C63E579571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EC0B9-38D1-4E05-B423-3BD8E2C021E1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36F11-CEF2-4C3C-9B1A-CCF759DFE84D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0635C-E470-418C-8019-D116016F2FED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43533-CCCA-40E4-876C-6A00D388C5BF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AB726-98E6-4DDC-9E8E-07780D8C8130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94D08-063E-42F0-A0B6-E66E2783E09C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DFA0C-CE5D-4F5F-9C1C-A591FC4F54A6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DD24CB-48E2-48B1-8EA5-62609925921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EFE34-5219-4387-8C00-AA07AB1E335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2C907E-3F5B-4712-9DCA-8EA7DDB25535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59746A-627F-44A4-9720-80EBBADCE4E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7CA580-43D6-4440-9302-F32412F7CC40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4A7F50-9351-4D2D-BB0E-35672391CF9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BEF8BA-A647-448C-BCD8-C6E2B1FF3B5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75EBD-6157-4F6A-8D4C-DAF1A1993BBF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B7163-74AF-4457-BD0E-3EF83D72CF9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1" descr="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" descr="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06" name="Text Box 3"/>
          <p:cNvSpPr/>
          <p:nvPr/>
        </p:nvSpPr>
        <p:spPr>
          <a:xfrm>
            <a:off x="7092000" y="4070520"/>
            <a:ext cx="17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626040" y="6202440"/>
            <a:ext cx="268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1" descr="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" descr="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3"/>
          <p:cNvSpPr/>
          <p:nvPr/>
        </p:nvSpPr>
        <p:spPr>
          <a:xfrm>
            <a:off x="7092000" y="4070520"/>
            <a:ext cx="17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6614280" y="247680"/>
            <a:ext cx="224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  <a:ea typeface="MS PGothic"/>
              </a:rPr>
              <a:t>Security Level:  Confidenti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626040" y="6202440"/>
            <a:ext cx="268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4158360" y="6202440"/>
            <a:ext cx="174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5" name="Text Box 9"/>
          <p:cNvSpPr/>
          <p:nvPr/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639360" y="6435720"/>
            <a:ext cx="277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D430B5A3-429D-4313-ADA1-A7215F87542D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1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94" name="Text Box 3"/>
          <p:cNvSpPr/>
          <p:nvPr/>
        </p:nvSpPr>
        <p:spPr>
          <a:xfrm>
            <a:off x="595800" y="6207120"/>
            <a:ext cx="2732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7128000" y="4094280"/>
            <a:ext cx="15253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5"/>
          <p:cNvSpPr/>
          <p:nvPr/>
        </p:nvSpPr>
        <p:spPr>
          <a:xfrm>
            <a:off x="3921480" y="6207120"/>
            <a:ext cx="1753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6"/>
          <p:cNvSpPr/>
          <p:nvPr/>
        </p:nvSpPr>
        <p:spPr>
          <a:xfrm>
            <a:off x="6829560" y="247680"/>
            <a:ext cx="13964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Security Level: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7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39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8280" cy="4192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8280" cy="8683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8280" cy="41925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-1844640" y="89856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199440" y="4726080"/>
            <a:ext cx="925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新建目录页请在选定目录页的前提下新建；内页同理。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3124800" y="2131920"/>
            <a:ext cx="2836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242880" y="3330720"/>
            <a:ext cx="25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639360" y="6435720"/>
            <a:ext cx="277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2"/>
          </p:nvPr>
        </p:nvSpPr>
        <p:spPr>
          <a:xfrm>
            <a:off x="6360840" y="648972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E539FC91-CBEC-4719-93FE-C63CF17E4753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836880" y="6435720"/>
            <a:ext cx="16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"/>
          <p:cNvSpPr/>
          <p:nvPr/>
        </p:nvSpPr>
        <p:spPr>
          <a:xfrm>
            <a:off x="595800" y="6438960"/>
            <a:ext cx="2732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3"/>
          </p:nvPr>
        </p:nvSpPr>
        <p:spPr>
          <a:xfrm>
            <a:off x="6360840" y="6489360"/>
            <a:ext cx="209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59E187FA-39C5-4863-B2B9-87BD554D1346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39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829320" y="6438960"/>
            <a:ext cx="1753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英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32-35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FrutigerNext LT Mediu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中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30-32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英文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20-22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子目录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) :18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FrutigerNext LT Regula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中文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18-2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子目录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):18pt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细黑体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配色参考方案：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建议同一页面内不超过四种颜色，以下是</a:t>
            </a:r>
            <a:r>
              <a:rPr b="1" lang="en-US" sz="1100" spc="-1" strike="noStrike">
                <a:solidFill>
                  <a:srgbClr val="ffffff"/>
                </a:solidFill>
                <a:latin typeface="华文细黑"/>
              </a:rPr>
              <a:t>13</a:t>
            </a: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组配色方案，同一页面内只选择一组使用。（仅供参考）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客户或者合作伙伴的标志放在右上角</a:t>
            </a:r>
            <a:r>
              <a:rPr b="1" lang="en-US" sz="1100" spc="-1" strike="noStrike">
                <a:solidFill>
                  <a:srgbClr val="ffffff"/>
                </a:solidFill>
                <a:latin typeface="华文细黑"/>
              </a:rPr>
              <a:t>.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8280" cy="4192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Group 12"/>
          <p:cNvGrpSpPr/>
          <p:nvPr/>
        </p:nvGrpSpPr>
        <p:grpSpPr>
          <a:xfrm>
            <a:off x="9354960" y="3789000"/>
            <a:ext cx="738360" cy="181080"/>
            <a:chOff x="9354960" y="3789000"/>
            <a:chExt cx="738360" cy="181080"/>
          </a:xfrm>
        </p:grpSpPr>
        <p:sp>
          <p:nvSpPr>
            <p:cNvPr id="220" name="Rectangle 13"/>
            <p:cNvSpPr/>
            <p:nvPr/>
          </p:nvSpPr>
          <p:spPr>
            <a:xfrm flipV="1">
              <a:off x="9540720" y="3788640"/>
              <a:ext cx="18288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 flipV="1">
              <a:off x="9725040" y="3788640"/>
              <a:ext cx="18252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5"/>
            <p:cNvSpPr/>
            <p:nvPr/>
          </p:nvSpPr>
          <p:spPr>
            <a:xfrm flipV="1">
              <a:off x="9909000" y="3788640"/>
              <a:ext cx="184320" cy="18108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6"/>
            <p:cNvSpPr/>
            <p:nvPr/>
          </p:nvSpPr>
          <p:spPr>
            <a:xfrm flipV="1">
              <a:off x="9354960" y="3788640"/>
              <a:ext cx="1843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17"/>
          <p:cNvGrpSpPr/>
          <p:nvPr/>
        </p:nvGrpSpPr>
        <p:grpSpPr>
          <a:xfrm>
            <a:off x="9354960" y="4005360"/>
            <a:ext cx="738360" cy="180720"/>
            <a:chOff x="9354960" y="4005360"/>
            <a:chExt cx="738360" cy="180720"/>
          </a:xfrm>
        </p:grpSpPr>
        <p:sp>
          <p:nvSpPr>
            <p:cNvPr id="225" name="Rectangle 18"/>
            <p:cNvSpPr/>
            <p:nvPr/>
          </p:nvSpPr>
          <p:spPr>
            <a:xfrm flipV="1">
              <a:off x="9540720" y="4005360"/>
              <a:ext cx="182880" cy="18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9"/>
            <p:cNvSpPr/>
            <p:nvPr/>
          </p:nvSpPr>
          <p:spPr>
            <a:xfrm flipV="1">
              <a:off x="9725040" y="4005360"/>
              <a:ext cx="182520" cy="180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0"/>
            <p:cNvSpPr/>
            <p:nvPr/>
          </p:nvSpPr>
          <p:spPr>
            <a:xfrm flipV="1">
              <a:off x="9909000" y="4005360"/>
              <a:ext cx="184320" cy="180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 flipV="1">
              <a:off x="9354960" y="4005360"/>
              <a:ext cx="184320" cy="180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22"/>
          <p:cNvGrpSpPr/>
          <p:nvPr/>
        </p:nvGrpSpPr>
        <p:grpSpPr>
          <a:xfrm>
            <a:off x="9354960" y="4220640"/>
            <a:ext cx="738360" cy="181080"/>
            <a:chOff x="9354960" y="4220640"/>
            <a:chExt cx="738360" cy="181080"/>
          </a:xfrm>
        </p:grpSpPr>
        <p:sp>
          <p:nvSpPr>
            <p:cNvPr id="230" name="Rectangle 23"/>
            <p:cNvSpPr/>
            <p:nvPr/>
          </p:nvSpPr>
          <p:spPr>
            <a:xfrm flipV="1">
              <a:off x="9540720" y="4220280"/>
              <a:ext cx="182880" cy="181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 flipV="1">
              <a:off x="9725040" y="4220280"/>
              <a:ext cx="182520" cy="1810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 flipV="1">
              <a:off x="9909000" y="4220280"/>
              <a:ext cx="184320" cy="181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26"/>
            <p:cNvSpPr/>
            <p:nvPr/>
          </p:nvSpPr>
          <p:spPr>
            <a:xfrm flipV="1">
              <a:off x="9354960" y="4220280"/>
              <a:ext cx="184320" cy="181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7"/>
          <p:cNvGrpSpPr/>
          <p:nvPr/>
        </p:nvGrpSpPr>
        <p:grpSpPr>
          <a:xfrm>
            <a:off x="9354960" y="3573360"/>
            <a:ext cx="738360" cy="187200"/>
            <a:chOff x="9354960" y="3573360"/>
            <a:chExt cx="738360" cy="187200"/>
          </a:xfrm>
        </p:grpSpPr>
        <p:sp>
          <p:nvSpPr>
            <p:cNvPr id="235" name="Rectangle 28"/>
            <p:cNvSpPr/>
            <p:nvPr/>
          </p:nvSpPr>
          <p:spPr>
            <a:xfrm flipV="1">
              <a:off x="9725040" y="3573360"/>
              <a:ext cx="182520" cy="18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29"/>
            <p:cNvSpPr/>
            <p:nvPr/>
          </p:nvSpPr>
          <p:spPr>
            <a:xfrm flipV="1">
              <a:off x="9909000" y="3573360"/>
              <a:ext cx="184320" cy="187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30"/>
            <p:cNvSpPr/>
            <p:nvPr/>
          </p:nvSpPr>
          <p:spPr>
            <a:xfrm flipV="1">
              <a:off x="9354960" y="3573360"/>
              <a:ext cx="184320" cy="18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31"/>
            <p:cNvSpPr/>
            <p:nvPr/>
          </p:nvSpPr>
          <p:spPr>
            <a:xfrm flipV="1">
              <a:off x="9540720" y="3573360"/>
              <a:ext cx="182880" cy="1872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32"/>
          <p:cNvGrpSpPr/>
          <p:nvPr/>
        </p:nvGrpSpPr>
        <p:grpSpPr>
          <a:xfrm>
            <a:off x="9354960" y="4581000"/>
            <a:ext cx="738360" cy="181080"/>
            <a:chOff x="9354960" y="4581000"/>
            <a:chExt cx="738360" cy="181080"/>
          </a:xfrm>
        </p:grpSpPr>
        <p:sp>
          <p:nvSpPr>
            <p:cNvPr id="240" name="Rectangle 33"/>
            <p:cNvSpPr/>
            <p:nvPr/>
          </p:nvSpPr>
          <p:spPr>
            <a:xfrm flipV="1">
              <a:off x="9540720" y="458064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34"/>
            <p:cNvSpPr/>
            <p:nvPr/>
          </p:nvSpPr>
          <p:spPr>
            <a:xfrm flipV="1">
              <a:off x="9725040" y="4580640"/>
              <a:ext cx="1825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35"/>
            <p:cNvSpPr/>
            <p:nvPr/>
          </p:nvSpPr>
          <p:spPr>
            <a:xfrm flipV="1">
              <a:off x="9909000" y="4580640"/>
              <a:ext cx="1843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36"/>
            <p:cNvSpPr/>
            <p:nvPr/>
          </p:nvSpPr>
          <p:spPr>
            <a:xfrm flipV="1">
              <a:off x="9354960" y="4580640"/>
              <a:ext cx="184320" cy="181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Group 37"/>
          <p:cNvGrpSpPr/>
          <p:nvPr/>
        </p:nvGrpSpPr>
        <p:grpSpPr>
          <a:xfrm>
            <a:off x="9354960" y="4797000"/>
            <a:ext cx="738360" cy="181080"/>
            <a:chOff x="9354960" y="4797000"/>
            <a:chExt cx="738360" cy="181080"/>
          </a:xfrm>
        </p:grpSpPr>
        <p:sp>
          <p:nvSpPr>
            <p:cNvPr id="245" name="Rectangle 38"/>
            <p:cNvSpPr/>
            <p:nvPr/>
          </p:nvSpPr>
          <p:spPr>
            <a:xfrm flipV="1">
              <a:off x="9540720" y="4796640"/>
              <a:ext cx="182880" cy="181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39"/>
            <p:cNvSpPr/>
            <p:nvPr/>
          </p:nvSpPr>
          <p:spPr>
            <a:xfrm flipV="1">
              <a:off x="9725040" y="4796640"/>
              <a:ext cx="182520" cy="181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0"/>
            <p:cNvSpPr/>
            <p:nvPr/>
          </p:nvSpPr>
          <p:spPr>
            <a:xfrm flipV="1">
              <a:off x="9909000" y="4796640"/>
              <a:ext cx="184320" cy="181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41"/>
            <p:cNvSpPr/>
            <p:nvPr/>
          </p:nvSpPr>
          <p:spPr>
            <a:xfrm flipV="1">
              <a:off x="9354960" y="4796640"/>
              <a:ext cx="184320" cy="181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Group 42"/>
          <p:cNvGrpSpPr/>
          <p:nvPr/>
        </p:nvGrpSpPr>
        <p:grpSpPr>
          <a:xfrm>
            <a:off x="9354960" y="5013000"/>
            <a:ext cx="738360" cy="181080"/>
            <a:chOff x="9354960" y="5013000"/>
            <a:chExt cx="738360" cy="181080"/>
          </a:xfrm>
        </p:grpSpPr>
        <p:sp>
          <p:nvSpPr>
            <p:cNvPr id="250" name="Rectangle 43"/>
            <p:cNvSpPr/>
            <p:nvPr/>
          </p:nvSpPr>
          <p:spPr>
            <a:xfrm flipV="1">
              <a:off x="9540720" y="5012640"/>
              <a:ext cx="182880" cy="181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44"/>
            <p:cNvSpPr/>
            <p:nvPr/>
          </p:nvSpPr>
          <p:spPr>
            <a:xfrm flipV="1">
              <a:off x="9725040" y="5012640"/>
              <a:ext cx="182520" cy="181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45"/>
            <p:cNvSpPr/>
            <p:nvPr/>
          </p:nvSpPr>
          <p:spPr>
            <a:xfrm flipV="1">
              <a:off x="9909000" y="5012640"/>
              <a:ext cx="184320" cy="181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46"/>
            <p:cNvSpPr/>
            <p:nvPr/>
          </p:nvSpPr>
          <p:spPr>
            <a:xfrm flipV="1">
              <a:off x="9354960" y="5012640"/>
              <a:ext cx="184320" cy="181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Group 47"/>
          <p:cNvGrpSpPr/>
          <p:nvPr/>
        </p:nvGrpSpPr>
        <p:grpSpPr>
          <a:xfrm>
            <a:off x="9354960" y="5373360"/>
            <a:ext cx="738360" cy="181080"/>
            <a:chOff x="9354960" y="5373360"/>
            <a:chExt cx="738360" cy="181080"/>
          </a:xfrm>
        </p:grpSpPr>
        <p:sp>
          <p:nvSpPr>
            <p:cNvPr id="255" name="Rectangle 48"/>
            <p:cNvSpPr/>
            <p:nvPr/>
          </p:nvSpPr>
          <p:spPr>
            <a:xfrm flipV="1">
              <a:off x="9540720" y="537300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49"/>
            <p:cNvSpPr/>
            <p:nvPr/>
          </p:nvSpPr>
          <p:spPr>
            <a:xfrm flipV="1">
              <a:off x="9725040" y="5373000"/>
              <a:ext cx="1825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50"/>
            <p:cNvSpPr/>
            <p:nvPr/>
          </p:nvSpPr>
          <p:spPr>
            <a:xfrm flipV="1">
              <a:off x="9909000" y="5373000"/>
              <a:ext cx="1843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51"/>
            <p:cNvSpPr/>
            <p:nvPr/>
          </p:nvSpPr>
          <p:spPr>
            <a:xfrm flipV="1">
              <a:off x="9354960" y="5373000"/>
              <a:ext cx="184320" cy="1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52"/>
          <p:cNvGrpSpPr/>
          <p:nvPr/>
        </p:nvGrpSpPr>
        <p:grpSpPr>
          <a:xfrm>
            <a:off x="9354960" y="5589720"/>
            <a:ext cx="738360" cy="180720"/>
            <a:chOff x="9354960" y="5589720"/>
            <a:chExt cx="738360" cy="180720"/>
          </a:xfrm>
        </p:grpSpPr>
        <p:sp>
          <p:nvSpPr>
            <p:cNvPr id="260" name="Rectangle 53"/>
            <p:cNvSpPr/>
            <p:nvPr/>
          </p:nvSpPr>
          <p:spPr>
            <a:xfrm flipV="1">
              <a:off x="9540720" y="5589720"/>
              <a:ext cx="182880" cy="180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54"/>
            <p:cNvSpPr/>
            <p:nvPr/>
          </p:nvSpPr>
          <p:spPr>
            <a:xfrm flipV="1">
              <a:off x="9725040" y="5589720"/>
              <a:ext cx="182520" cy="18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5"/>
            <p:cNvSpPr/>
            <p:nvPr/>
          </p:nvSpPr>
          <p:spPr>
            <a:xfrm flipV="1">
              <a:off x="9909000" y="5589720"/>
              <a:ext cx="184320" cy="180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56"/>
            <p:cNvSpPr/>
            <p:nvPr/>
          </p:nvSpPr>
          <p:spPr>
            <a:xfrm flipV="1">
              <a:off x="9354960" y="5589720"/>
              <a:ext cx="184320" cy="18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9354960" y="5805000"/>
            <a:ext cx="738360" cy="181080"/>
            <a:chOff x="9354960" y="5805000"/>
            <a:chExt cx="738360" cy="181080"/>
          </a:xfrm>
        </p:grpSpPr>
        <p:sp>
          <p:nvSpPr>
            <p:cNvPr id="265" name="Rectangle 58"/>
            <p:cNvSpPr/>
            <p:nvPr/>
          </p:nvSpPr>
          <p:spPr>
            <a:xfrm flipV="1">
              <a:off x="9540720" y="5804640"/>
              <a:ext cx="182880" cy="181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 flipV="1">
              <a:off x="9725040" y="5804640"/>
              <a:ext cx="182520" cy="181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60"/>
            <p:cNvSpPr/>
            <p:nvPr/>
          </p:nvSpPr>
          <p:spPr>
            <a:xfrm flipV="1">
              <a:off x="9909000" y="5804640"/>
              <a:ext cx="184320" cy="181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61"/>
            <p:cNvSpPr/>
            <p:nvPr/>
          </p:nvSpPr>
          <p:spPr>
            <a:xfrm flipV="1">
              <a:off x="9354960" y="5804640"/>
              <a:ext cx="184320" cy="1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62"/>
          <p:cNvGrpSpPr/>
          <p:nvPr/>
        </p:nvGrpSpPr>
        <p:grpSpPr>
          <a:xfrm>
            <a:off x="9354960" y="6165360"/>
            <a:ext cx="738360" cy="181080"/>
            <a:chOff x="9354960" y="6165360"/>
            <a:chExt cx="738360" cy="181080"/>
          </a:xfrm>
        </p:grpSpPr>
        <p:sp>
          <p:nvSpPr>
            <p:cNvPr id="270" name="Rectangle 63"/>
            <p:cNvSpPr/>
            <p:nvPr/>
          </p:nvSpPr>
          <p:spPr>
            <a:xfrm flipV="1">
              <a:off x="9540720" y="616500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64"/>
            <p:cNvSpPr/>
            <p:nvPr/>
          </p:nvSpPr>
          <p:spPr>
            <a:xfrm flipV="1">
              <a:off x="9725040" y="6165000"/>
              <a:ext cx="1825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65"/>
            <p:cNvSpPr/>
            <p:nvPr/>
          </p:nvSpPr>
          <p:spPr>
            <a:xfrm flipV="1">
              <a:off x="9909000" y="6165000"/>
              <a:ext cx="1843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6"/>
            <p:cNvSpPr/>
            <p:nvPr/>
          </p:nvSpPr>
          <p:spPr>
            <a:xfrm flipV="1">
              <a:off x="9354960" y="6165000"/>
              <a:ext cx="184320" cy="1810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67"/>
          <p:cNvGrpSpPr/>
          <p:nvPr/>
        </p:nvGrpSpPr>
        <p:grpSpPr>
          <a:xfrm>
            <a:off x="9354960" y="6391440"/>
            <a:ext cx="738360" cy="180720"/>
            <a:chOff x="9354960" y="6391440"/>
            <a:chExt cx="738360" cy="180720"/>
          </a:xfrm>
        </p:grpSpPr>
        <p:sp>
          <p:nvSpPr>
            <p:cNvPr id="275" name="Rectangle 68"/>
            <p:cNvSpPr/>
            <p:nvPr/>
          </p:nvSpPr>
          <p:spPr>
            <a:xfrm flipV="1">
              <a:off x="9540720" y="6391440"/>
              <a:ext cx="182880" cy="180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69"/>
            <p:cNvSpPr/>
            <p:nvPr/>
          </p:nvSpPr>
          <p:spPr>
            <a:xfrm flipV="1">
              <a:off x="9725040" y="6391440"/>
              <a:ext cx="182520" cy="18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70"/>
            <p:cNvSpPr/>
            <p:nvPr/>
          </p:nvSpPr>
          <p:spPr>
            <a:xfrm flipV="1">
              <a:off x="9909000" y="6391440"/>
              <a:ext cx="184320" cy="180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71"/>
            <p:cNvSpPr/>
            <p:nvPr/>
          </p:nvSpPr>
          <p:spPr>
            <a:xfrm flipV="1">
              <a:off x="9354960" y="6391440"/>
              <a:ext cx="184320" cy="180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72"/>
          <p:cNvGrpSpPr/>
          <p:nvPr/>
        </p:nvGrpSpPr>
        <p:grpSpPr>
          <a:xfrm>
            <a:off x="9354960" y="6614640"/>
            <a:ext cx="738360" cy="181080"/>
            <a:chOff x="9354960" y="6614640"/>
            <a:chExt cx="738360" cy="181080"/>
          </a:xfrm>
        </p:grpSpPr>
        <p:sp>
          <p:nvSpPr>
            <p:cNvPr id="280" name="Rectangle 73"/>
            <p:cNvSpPr/>
            <p:nvPr/>
          </p:nvSpPr>
          <p:spPr>
            <a:xfrm flipV="1">
              <a:off x="9540720" y="661428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74"/>
            <p:cNvSpPr/>
            <p:nvPr/>
          </p:nvSpPr>
          <p:spPr>
            <a:xfrm flipV="1">
              <a:off x="9725040" y="6614280"/>
              <a:ext cx="1825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75"/>
            <p:cNvSpPr/>
            <p:nvPr/>
          </p:nvSpPr>
          <p:spPr>
            <a:xfrm flipV="1">
              <a:off x="9909000" y="6614280"/>
              <a:ext cx="1843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76"/>
            <p:cNvSpPr/>
            <p:nvPr/>
          </p:nvSpPr>
          <p:spPr>
            <a:xfrm flipV="1">
              <a:off x="9354960" y="6614280"/>
              <a:ext cx="184320" cy="1810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52E6C-2FC1-4B91-BE4E-9BFAF32567F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EA8900-6F3F-4450-8C47-D328DDF81B8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0E9E8-05AA-4135-B900-67A576AE5F84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1"/>
          <p:cNvSpPr/>
          <p:nvPr/>
        </p:nvSpPr>
        <p:spPr>
          <a:xfrm>
            <a:off x="0" y="1011240"/>
            <a:ext cx="71928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Near Lossless Coding for Screen Content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2"/>
          <p:cNvSpPr/>
          <p:nvPr/>
        </p:nvSpPr>
        <p:spPr>
          <a:xfrm>
            <a:off x="228600" y="2798640"/>
            <a:ext cx="577836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细黑"/>
              </a:rPr>
              <a:t>July 14,20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华文细黑"/>
              </a:rPr>
              <a:t>Wen Gao, Gregory Cook, Mingyuan Yang, Jin Song, Haoping Yu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Freeform 3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Test Results (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2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6C0E8FEF-2A2B-4328-8B48-A62ADF91A454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Chart 2" descr=""/>
          <p:cNvPicPr/>
          <p:nvPr/>
        </p:nvPicPr>
        <p:blipFill>
          <a:blip r:embed="rId1"/>
          <a:srcRect l="0" t="0" r="0" b="-27"/>
          <a:stretch/>
        </p:blipFill>
        <p:spPr>
          <a:xfrm>
            <a:off x="914400" y="1143000"/>
            <a:ext cx="70866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989" name="Group 10"/>
          <p:cNvGrpSpPr/>
          <p:nvPr/>
        </p:nvGrpSpPr>
        <p:grpSpPr>
          <a:xfrm>
            <a:off x="2666880" y="1905120"/>
            <a:ext cx="1296000" cy="3429000"/>
            <a:chOff x="2666880" y="1905120"/>
            <a:chExt cx="1296000" cy="3429000"/>
          </a:xfrm>
        </p:grpSpPr>
        <p:sp>
          <p:nvSpPr>
            <p:cNvPr id="990" name="TextBox 4"/>
            <p:cNvSpPr/>
            <p:nvPr/>
          </p:nvSpPr>
          <p:spPr>
            <a:xfrm>
              <a:off x="2666880" y="312444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P=9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Straight Connector 6"/>
            <p:cNvSpPr/>
            <p:nvPr/>
          </p:nvSpPr>
          <p:spPr>
            <a:xfrm>
              <a:off x="3962520" y="19051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92" name="Straight Arrow Connector 8"/>
            <p:cNvCxnSpPr>
              <a:stCxn id="990" idx="3"/>
            </p:cNvCxnSpPr>
            <p:nvPr/>
          </p:nvCxnSpPr>
          <p:spPr>
            <a:xfrm>
              <a:off x="3505320" y="3293280"/>
              <a:ext cx="45792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Test Results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2"/>
          <p:cNvSpPr/>
          <p:nvPr/>
        </p:nvSpPr>
        <p:spPr>
          <a:xfrm>
            <a:off x="652320" y="955800"/>
            <a:ext cx="79297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Use HM3.0 as the anchor, BD performance of HM3.0-dev-SDIP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BDDB5ECC-4C10-4816-B87B-50C416DA889E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738360" y="3386160"/>
            <a:ext cx="792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51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Use HM3.0-dev-SDIP QP=0 as the anchor, rate performancee of near lossless coding software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762120" y="1541520"/>
          <a:ext cx="7696080" cy="1650960"/>
        </p:xfrm>
        <a:graphic>
          <a:graphicData uri="http://schemas.openxmlformats.org/drawingml/2006/table">
            <a:tbl>
              <a:tblPr/>
              <a:tblGrid>
                <a:gridCol w="3695760"/>
                <a:gridCol w="1333440"/>
                <a:gridCol w="1333440"/>
                <a:gridCol w="1333440"/>
              </a:tblGrid>
              <a:tr h="317520"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Sequenc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BD-Y ra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BD-U ra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BD-V ra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0" rIns="0" tIns="1224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ScreenCaptureWinMoving_1280x720_30.yuv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3.5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2.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1.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33600">
                <a:tc>
                  <a:txBody>
                    <a:bodyPr lIns="0" rIns="0" tIns="1224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ScreenCaptureSlideEditing_1280x720_30.yuv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3.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0.8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0.6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8" name=""/>
          <p:cNvGraphicFramePr/>
          <p:nvPr/>
        </p:nvGraphicFramePr>
        <p:xfrm>
          <a:off x="762120" y="4371840"/>
          <a:ext cx="6305400" cy="1663920"/>
        </p:xfrm>
        <a:graphic>
          <a:graphicData uri="http://schemas.openxmlformats.org/drawingml/2006/table">
            <a:tbl>
              <a:tblPr/>
              <a:tblGrid>
                <a:gridCol w="4292640"/>
                <a:gridCol w="2012760"/>
              </a:tblGrid>
              <a:tr h="319320"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Sequenc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total ra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0" rIns="0" tIns="1224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ScreenCaptureWinMoving_1280x720_30.yuv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53.0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0" rIns="0" tIns="1224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ScreenCaptureSlideEditing_1280x720_30.yuv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1224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41.7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 Box 2"/>
          <p:cNvSpPr/>
          <p:nvPr/>
        </p:nvSpPr>
        <p:spPr>
          <a:xfrm>
            <a:off x="652320" y="955800"/>
            <a:ext cx="79297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ecommend to create a CE group to exam this (near) lossless coding m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D0ABDA7E-9546-41D0-A7A6-3FF621EE2BCA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2d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1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0110EC82-542C-4A43-B556-5F15314E9605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2"/>
          <p:cNvSpPr/>
          <p:nvPr/>
        </p:nvSpPr>
        <p:spPr>
          <a:xfrm>
            <a:off x="2523960" y="2346480"/>
            <a:ext cx="441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 Box 3"/>
          <p:cNvSpPr/>
          <p:nvPr/>
        </p:nvSpPr>
        <p:spPr>
          <a:xfrm>
            <a:off x="3096000" y="2131920"/>
            <a:ext cx="2836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 Box 4"/>
          <p:cNvSpPr/>
          <p:nvPr/>
        </p:nvSpPr>
        <p:spPr>
          <a:xfrm>
            <a:off x="3257280" y="3330720"/>
            <a:ext cx="25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otiv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2"/>
          <p:cNvSpPr/>
          <p:nvPr/>
        </p:nvSpPr>
        <p:spPr>
          <a:xfrm>
            <a:off x="65232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active video communications are becoming a major feature in many application scenario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E-Conference or web-conference: Screen Shar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irtual desktop infrastructure (VDI), and Online Gam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tentially new major application for HEV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ommon requirements related to video incl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igh compression efficienc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Low de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igh quality texts and graphic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prevent eye fatig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ajor issues in existing Solut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Non-standard proprietary solu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or qual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5CD6454D-3085-4D6F-84A1-1EF7BDB4BBCB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State of HEVC WD/HM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2"/>
          <p:cNvSpPr/>
          <p:nvPr/>
        </p:nvSpPr>
        <p:spPr>
          <a:xfrm>
            <a:off x="652320" y="955800"/>
            <a:ext cx="792972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any tests have been done by using HM for screen content co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e observed the following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ather efficient inter-frame encoding: Skip and direct mo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Less efficient  intra-frame encoding  at low QP, such as QP=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Unique characteristics of screen conte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ompound video: mixture of cameral captured contents, computer generated graphics, texts, et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ontents are either static or contain fast motion but without optical motion blurring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77760" indent="-1936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  <a:ea typeface="华文细黑"/>
              </a:rPr>
              <a:t>Such as identical content with simple displace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t’s desirable to have (near) lossless encoding to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void eye fatigu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facilitate efficient inter cod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3B76E843-80F7-46DA-97FF-A8F11B9D3746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urrent HEVC Architectu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2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6C5E2895-267D-48F8-ADED-0A0D4F43E449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8" name="Object 4"/>
          <p:cNvGraphicFramePr/>
          <p:nvPr/>
        </p:nvGraphicFramePr>
        <p:xfrm>
          <a:off x="609480" y="1131840"/>
          <a:ext cx="792504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31840"/>
                    <a:ext cx="792504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Near Lossless Encod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2"/>
          <p:cNvSpPr/>
          <p:nvPr/>
        </p:nvSpPr>
        <p:spPr>
          <a:xfrm>
            <a:off x="65232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ransform bypass lossless 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emove the transform and quantization modu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Use DPCM when horizontal or vertical intra prediction mode is u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7760" indent="-1936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Light"/>
                <a:ea typeface="华文细黑"/>
              </a:rPr>
              <a:t>Prediction based on adjacent pixel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lightly modify the CABAC coding due to the new characteristics of the prediction residu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ransform without quantization (near) lossless 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Only the quantization module is remo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an achieve near lossless coding due to the nature of existing transfor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7760" indent="-1936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Light"/>
                <a:ea typeface="华文细黑"/>
              </a:rPr>
              <a:t>We observe +1 or -1 difference in original and reconstructed pix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3FB43F2E-FF12-48D1-9096-85E95CBCB958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Syntax modification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2"/>
          <p:cNvSpPr/>
          <p:nvPr/>
        </p:nvSpPr>
        <p:spPr>
          <a:xfrm>
            <a:off x="652320" y="955800"/>
            <a:ext cx="792972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dd luma and chroma transform bypass flags at PU leve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Flag =1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transform bypass cod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Flag =0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transform without quantization cod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odify vertical and horizontal intra prediction m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rediction based on previous lines in vertical or horizontal direc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For example, in vertical prediction mo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77760" indent="-1936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  <a:ea typeface="华文细黑"/>
              </a:rPr>
              <a:t>Denote P(I,J) as prediction version of Z(I,J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77760" indent="-1936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  <a:ea typeface="华文细黑"/>
              </a:rPr>
              <a:t>P(0,J) = X(J) for J=0..,3 and  P(I,J)=Z(I-1,J) for I=1,2,3 and J=0,..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DF9767AF-DD11-4B71-AA40-EF94EE83AC65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7" name="Object 5"/>
          <p:cNvGraphicFramePr/>
          <p:nvPr/>
        </p:nvGraphicFramePr>
        <p:xfrm>
          <a:off x="2925720" y="4191120"/>
          <a:ext cx="2637000" cy="20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5720" y="4191120"/>
                    <a:ext cx="2637000" cy="20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Syntax modification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652320" y="955800"/>
            <a:ext cx="7929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Luma prediction residual encod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ignificant portion of  luma prediction residuals has large lev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hange the binarization scheme for level-3 to Fixed length coding: B0 and B1 are CABAC coded while bypass CABAC coding for B2-B9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5CEC0160-48EE-4E38-8856-AC0321F5BAAD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1905120" y="3276720"/>
          <a:ext cx="5138640" cy="2028600"/>
        </p:xfrm>
        <a:graphic>
          <a:graphicData uri="http://schemas.openxmlformats.org/drawingml/2006/table">
            <a:tbl>
              <a:tblPr/>
              <a:tblGrid>
                <a:gridCol w="468360"/>
                <a:gridCol w="465120"/>
                <a:gridCol w="466560"/>
                <a:gridCol w="466920"/>
                <a:gridCol w="465120"/>
                <a:gridCol w="468000"/>
                <a:gridCol w="466920"/>
                <a:gridCol w="466560"/>
                <a:gridCol w="465120"/>
                <a:gridCol w="466920"/>
                <a:gridCol w="473040"/>
              </a:tblGrid>
              <a:tr h="253800"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ve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0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4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5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7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8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9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4" name="Text Box 289"/>
          <p:cNvSpPr/>
          <p:nvPr/>
        </p:nvSpPr>
        <p:spPr>
          <a:xfrm>
            <a:off x="762120" y="5351400"/>
            <a:ext cx="79293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igns of luma and chroma prediction residuals enco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Use CABAC coding to replace the bypass cod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Test Results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2"/>
          <p:cNvSpPr/>
          <p:nvPr/>
        </p:nvSpPr>
        <p:spPr>
          <a:xfrm>
            <a:off x="652320" y="955800"/>
            <a:ext cx="792972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Baseline: HM3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Near lossless coding modifications are integrated into HM3.0-SDIP bran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est Condition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ll Intra, 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8-bit internal dep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DOQ, De-blocking filtering, Alf and SAO are all turned o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est Sequences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creenCaptureWinMoving_1280x720_30.yu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creenCaptureSlideEditing_1280x720_30.yu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91A7BA15-79CC-4201-9E6C-82ACA1038A73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Test Results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2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92BC7EBC-D4F1-4A29-A6C2-7DFFDBC920F2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0" name="Chart 1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162920" cy="5029200"/>
          </a:xfrm>
          <a:prstGeom prst="rect">
            <a:avLst/>
          </a:prstGeom>
          <a:ln w="0">
            <a:noFill/>
          </a:ln>
        </p:spPr>
      </p:pic>
      <p:grpSp>
        <p:nvGrpSpPr>
          <p:cNvPr id="981" name="Group 16"/>
          <p:cNvGrpSpPr/>
          <p:nvPr/>
        </p:nvGrpSpPr>
        <p:grpSpPr>
          <a:xfrm>
            <a:off x="2286000" y="1981080"/>
            <a:ext cx="1219680" cy="3276720"/>
            <a:chOff x="2286000" y="1981080"/>
            <a:chExt cx="1219680" cy="3276720"/>
          </a:xfrm>
        </p:grpSpPr>
        <p:sp>
          <p:nvSpPr>
            <p:cNvPr id="982" name="Straight Connector 10"/>
            <p:cNvSpPr/>
            <p:nvPr/>
          </p:nvSpPr>
          <p:spPr>
            <a:xfrm>
              <a:off x="3505320" y="19810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3" name="Group 15"/>
            <p:cNvGrpSpPr/>
            <p:nvPr/>
          </p:nvGrpSpPr>
          <p:grpSpPr>
            <a:xfrm>
              <a:off x="2286000" y="3200400"/>
              <a:ext cx="1219680" cy="533520"/>
              <a:chOff x="2286000" y="3200400"/>
              <a:chExt cx="1219680" cy="533520"/>
            </a:xfrm>
          </p:grpSpPr>
          <p:cxnSp>
            <p:nvCxnSpPr>
              <p:cNvPr id="984" name="Straight Arrow Connector 13"/>
              <p:cNvCxnSpPr/>
              <p:nvPr/>
            </p:nvCxnSpPr>
            <p:spPr>
              <a:xfrm>
                <a:off x="3048120" y="3429000"/>
                <a:ext cx="457920" cy="305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85" name="TextBox 14"/>
              <p:cNvSpPr/>
              <p:nvPr/>
            </p:nvSpPr>
            <p:spPr>
              <a:xfrm>
                <a:off x="2286000" y="3200400"/>
                <a:ext cx="83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QP=14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09:41:22Z</dcterms:created>
  <dc:creator>章李铭 24498</dc:creator>
  <dc:description/>
  <dc:language>en-US</dc:language>
  <cp:lastModifiedBy>gaow02</cp:lastModifiedBy>
  <cp:lastPrinted>2002-09-26T02:29:13Z</cp:lastPrinted>
  <dcterms:modified xsi:type="dcterms:W3CDTF">2011-07-18T22:01:14Z</dcterms:modified>
  <cp:revision>1702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91683318</vt:lpwstr>
  </property>
</Properties>
</file>