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932960" y="6597720"/>
            <a:ext cx="104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F52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83B6-991A-4F95-BB28-A0401E232E7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2069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160200"/>
            <a:ext cx="119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F5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1480" algn="ctr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60520" algn="ctr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79560" algn="ctr">
              <a:spcBef>
                <a:spcPts val="176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920" y="285228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E5: Results on modified inter mode coding and joint coding of split flags for CAVLC 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58560" y="3568680"/>
            <a:ext cx="6435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irginie Drugeon, Anand Kotra, 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78280" y="6497640"/>
            <a:ext cx="432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6th JCT-VC meeting, Torino 14.-22. July 201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ed inter mode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ed split flags coding for I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ment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Proposed inter mode cod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4345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urrent HM3.0 inter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 each C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aptive mapp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5080" y="685440"/>
            <a:ext cx="43466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posal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dditional mapping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exts based on split flag and skip flag (same as CAB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aptive mapping table depending on depth and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76240" y="4606920"/>
          <a:ext cx="1247760" cy="1701720"/>
        </p:xfrm>
        <a:graphic>
          <a:graphicData uri="http://schemas.openxmlformats.org/drawingml/2006/table">
            <a:tbl>
              <a:tblPr/>
              <a:tblGrid>
                <a:gridCol w="124776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word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900000" y="1628640"/>
          <a:ext cx="2703240" cy="1914480"/>
        </p:xfrm>
        <a:graphic>
          <a:graphicData uri="http://schemas.openxmlformats.org/drawingml/2006/table">
            <a:tbl>
              <a:tblPr/>
              <a:tblGrid>
                <a:gridCol w="2703240"/>
              </a:tblGrid>
              <a:tr h="426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 of syntax element cu_split_pred_part_mod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LIT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P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 2Nx2N MERG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 2Nx2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 2Nx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 NX2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 / INTER Nx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543240" y="4076640"/>
            <a:ext cx="307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plitPredPartModeTable [ cuDepth ]</a:t>
            </a:r>
            <a:r>
              <a:rPr b="1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03600" y="3762360"/>
            <a:ext cx="0" cy="2043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340000" y="5805360"/>
            <a:ext cx="1263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60880" y="2130480"/>
            <a:ext cx="3471840" cy="1369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603600" y="5805360"/>
            <a:ext cx="31291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211880" y="4606920"/>
          <a:ext cx="1247760" cy="1701720"/>
        </p:xfrm>
        <a:graphic>
          <a:graphicData uri="http://schemas.openxmlformats.org/drawingml/2006/table">
            <a:tbl>
              <a:tblPr/>
              <a:tblGrid>
                <a:gridCol w="124776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word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08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4503960" y="4803840"/>
            <a:ext cx="2090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plitPredPartModeTable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[ cuDepth ] [ context ]</a:t>
            </a:r>
            <a:r>
              <a:rPr b="1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Proposed joint coding of split flags in I fram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7600" y="620280"/>
            <a:ext cx="8672400" cy="564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urrent HM3.0: One split flag for each CU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he sequence 0110 corresponds to partition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roposal: code jointly the split flags of 4 CUs in Zscan 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odewords have been designed using statistics from the test set and the Huffmann algorith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ontexts introduced for better adaptation of the tables to the CU 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015320" y="620640"/>
            <a:ext cx="1085040" cy="1085040"/>
            <a:chOff x="7015320" y="620640"/>
            <a:chExt cx="1085040" cy="1085040"/>
          </a:xfrm>
        </p:grpSpPr>
        <p:sp>
          <p:nvSpPr>
            <p:cNvPr id="104" name=""/>
            <p:cNvSpPr/>
            <p:nvPr/>
          </p:nvSpPr>
          <p:spPr>
            <a:xfrm>
              <a:off x="7015320" y="620640"/>
              <a:ext cx="542520" cy="54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57840" y="1163160"/>
              <a:ext cx="542520" cy="54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57840" y="620640"/>
              <a:ext cx="270000" cy="27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7840" y="620640"/>
              <a:ext cx="270000" cy="27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57840" y="891000"/>
              <a:ext cx="27000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27840" y="891000"/>
              <a:ext cx="27000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15320" y="1163160"/>
              <a:ext cx="270000" cy="27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85320" y="1163160"/>
              <a:ext cx="270000" cy="27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15320" y="1433880"/>
              <a:ext cx="27000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85320" y="1433880"/>
              <a:ext cx="27000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114" name=""/>
          <p:cNvGraphicFramePr/>
          <p:nvPr/>
        </p:nvGraphicFramePr>
        <p:xfrm>
          <a:off x="1116000" y="2522520"/>
          <a:ext cx="1608120" cy="1914480"/>
        </p:xfrm>
        <a:graphic>
          <a:graphicData uri="http://schemas.openxmlformats.org/drawingml/2006/table">
            <a:tbl>
              <a:tblPr/>
              <a:tblGrid>
                <a:gridCol w="160812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Partition mode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916600" y="2522520"/>
          <a:ext cx="1608120" cy="1914480"/>
        </p:xfrm>
        <a:graphic>
          <a:graphicData uri="http://schemas.openxmlformats.org/drawingml/2006/table">
            <a:tbl>
              <a:tblPr/>
              <a:tblGrid>
                <a:gridCol w="160812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word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3498840" y="3746520"/>
            <a:ext cx="165564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17840" y="3098880"/>
            <a:ext cx="18828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splitModeTable </a:t>
            </a:r>
            <a:br>
              <a:rPr sz="1400"/>
            </a:b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[ cuDepth ] [ context ]</a:t>
            </a:r>
            <a:r>
              <a:rPr b="1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47640" y="1484280"/>
            <a:ext cx="7812000" cy="1627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s using three tables per depth for inter mode co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s of joint coding of split flags for higher QPs 45, 46, 48, 4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343320" y="4129200"/>
            <a:ext cx="2457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ifications of CAVLC coding of the syntax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u_split_pred_part_mode: context dependant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lit_coding_unit_flag: joint coding of split fl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s of experi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proximately 0,1% gain for all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 significant impact on runtime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ins are sm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cause of new counter based adaptation of the mapping tables (which was a part of previous contribution JCTVC-E25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cause the amount of bits for split flags coding is not very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Virginie Drugeon</dc:creator>
  <dc:description/>
  <dc:language>en-US</dc:language>
  <cp:lastModifiedBy>Virginie Drugeon</cp:lastModifiedBy>
  <dcterms:modified xsi:type="dcterms:W3CDTF">2011-07-14T15:56:18Z</dcterms:modified>
  <cp:revision>1670</cp:revision>
  <dc:subject/>
  <dc:title>JCTVC-E258</dc:title>
</cp:coreProperties>
</file>