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932960" y="6597720"/>
            <a:ext cx="1047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F52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576F-CD96-433E-BBF6-EB2744645DC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2069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160200"/>
            <a:ext cx="119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F5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1480" algn="ctr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60520" algn="ctr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79560" algn="ctr">
              <a:spcBef>
                <a:spcPts val="176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920" y="220464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mprovements of SPS syntax 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58560" y="3141720"/>
            <a:ext cx="6435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irginie Drugeon, 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78280" y="6497640"/>
            <a:ext cx="432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6th JCT-VC meeting, Torino 14.-22. July 201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on Sequence Parameter Set syntax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nsmission of pictures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Problems in Sequence Parameter Set syntax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SPS syntax in the working draft and in the software needs to be harmonised:</a:t>
            </a:r>
            <a:br>
              <a:rPr sz="2400"/>
            </a:b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D section 7.3.2.1                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ncCavlc::codeSP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TDecCavlc::parse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following types of differences between working draft and software can be obser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ntax elements present in the working draft, but not in the soft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ntax elements present in the software, but not in the working dra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ntax elements present both in working draft and software, but coded diffe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ntax elements present both in working draft and software, but coded in another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lementation to solve third and fourth types of problems is very easy and can b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213372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0000" y="1693800"/>
            <a:ext cx="126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ared 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Transmission of picture size: current statu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4345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6200" indent="-37620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HEVC, the size of the coded pictures must be a multiple of the minimum coding uni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working draft: no syntax element to signal padding / cr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HM3.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3704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 number of padding pixels is present in SPS to enable coding of all picture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3704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 values are provided in number of luma samples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cc00ff"/>
                </a:solidFill>
                <a:latin typeface="Arial"/>
              </a:rPr>
              <a:t>confusing and redunda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because only some values of picture size and padding pixels are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5080" y="912960"/>
            <a:ext cx="4346640" cy="244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4686480" y="3860640"/>
          <a:ext cx="4062240" cy="914400"/>
        </p:xfrm>
        <a:graphic>
          <a:graphicData uri="http://schemas.openxmlformats.org/drawingml/2006/table">
            <a:tbl>
              <a:tblPr/>
              <a:tblGrid>
                <a:gridCol w="3436920"/>
                <a:gridCol w="625320"/>
              </a:tblGrid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eq_parameter_set_rbsp( ) {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맑은 고딕"/>
                        </a:rPr>
                        <a:t>Descriptor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Gulim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Gulim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ic_width_in_luma_samples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맑은 고딕"/>
                        </a:rPr>
                        <a:t>u(16)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ic_height_in_luma_samples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맑은 고딕"/>
                        </a:rPr>
                        <a:t>u(16)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659480" y="4923000"/>
          <a:ext cx="4101480" cy="1066680"/>
        </p:xfrm>
        <a:graphic>
          <a:graphicData uri="http://schemas.openxmlformats.org/drawingml/2006/table">
            <a:tbl>
              <a:tblPr/>
              <a:tblGrid>
                <a:gridCol w="3417120"/>
                <a:gridCol w="684360"/>
              </a:tblGrid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oding_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Gulim"/>
                        </a:rPr>
                        <a:t>tree( x0, y0, log2CUSize ) {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맑은 고딕"/>
                        </a:rPr>
                        <a:t>Descriptor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f( x0 + ( 1 &lt;&lt; log2CUSize )  &lt;=  </a:t>
                      </a:r>
                      <a:r>
                        <a:rPr b="0" lang="en-GB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icWidthInSamples</a:t>
                      </a:r>
                      <a:r>
                        <a:rPr b="0" lang="en-GB" sz="1000" spc="-1" strike="noStrike" baseline="-30000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&amp;&amp;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y0 + ( 1 &lt;&lt; log2CUSize )  &lt;=  </a:t>
                      </a:r>
                      <a:r>
                        <a:rPr b="0" lang="en-GB" sz="1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icHeightInSamples</a:t>
                      </a:r>
                      <a:r>
                        <a:rPr b="0" lang="en-GB" sz="1000" spc="-1" strike="noStrike" baseline="-30000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Gulim"/>
                        </a:rPr>
                        <a:t>&amp;&amp;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Gulim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Gulim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Gulim"/>
                        </a:rPr>
                        <a:t>cuAddress(</a:t>
                      </a: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Gulim"/>
                        </a:rPr>
                        <a:t> 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Gulim"/>
                        </a:rPr>
                        <a:t>x0,</a:t>
                      </a: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Gulim"/>
                        </a:rPr>
                        <a:t> 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Gulim"/>
                        </a:rPr>
                        <a:t>y0</a:t>
                      </a: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Gulim"/>
                        </a:rPr>
                        <a:t> 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Gulim"/>
                        </a:rPr>
                        <a:t>)  &gt;=  SliceAddress ) {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Gulim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Gulim"/>
                        </a:rPr>
                        <a:t>     …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Gulim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Gulim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Transmission of picture size: proposed solu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tomatic calculation of necessary number of padding pixels in order to have a coded picture size that is a multiple of the minimum CU si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ve a number of additional padding minimum CUs at bounda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ep current software possibility to pad more tha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able the best trade-off between padding and size of CUs at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4390920"/>
            <a:ext cx="6985080" cy="220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20600" y="1419120"/>
                <a:ext cx="8844120" cy="15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CUWidth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og2_min_coding_block_size_minus3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icWidthInSample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i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idth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um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mples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CUWidth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i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idth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um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mples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SCUWidth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rizontal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adding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umber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of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SCU</m:t>
                                            </m:r>
                                          </m:sub>
                                        </m:sSub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SCUWidt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 an example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 sequence of size 1908x1076 with minimum CU size 8x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least two bytes are sa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th additional clean-up work, three of four bytes can be saved in SPS depending on the amount of padding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55560" y="1631880"/>
          <a:ext cx="7948800" cy="3021120"/>
        </p:xfrm>
        <a:graphic>
          <a:graphicData uri="http://schemas.openxmlformats.org/drawingml/2006/table">
            <a:tbl>
              <a:tblPr/>
              <a:tblGrid>
                <a:gridCol w="2160720"/>
                <a:gridCol w="858600"/>
                <a:gridCol w="993960"/>
                <a:gridCol w="2236680"/>
                <a:gridCol w="696960"/>
                <a:gridCol w="1001880"/>
              </a:tblGrid>
              <a:tr h="27468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M3.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 solu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it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it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_width_in_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a_sampl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_width_in_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a_sampl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_height_in_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a_sampl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_height_in_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a_sampl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X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zontal_padding_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_number_of_SCU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Y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tical_padding_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_number_of_SCU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SPS syntax in the working draft and the software needs to be harmo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rst harmonization work is proposed in this con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urthermore, this contribution proposes to solve the current problems for transmission of picture size in the S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mission of input/output picture size in number of luma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mission of additional padding in number of minimum CU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tomatic calculation of coded pictures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: integrate changes in next software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Virginie Drugeon</dc:creator>
  <dc:description/>
  <dc:language>en-US</dc:language>
  <cp:lastModifiedBy>virginie.drugeon</cp:lastModifiedBy>
  <dcterms:modified xsi:type="dcterms:W3CDTF">2011-07-13T13:42:20Z</dcterms:modified>
  <cp:revision>1690</cp:revision>
  <dc:subject/>
  <dc:title>JCTVC-E258</dc:title>
</cp:coreProperties>
</file>