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</p:sldMasterIdLst>
  <p:notesMasterIdLst>
    <p:notesMasterId r:id="rId37"/>
  </p:notes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notesMaster" Target="notesMasters/notesMaster1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dt" idx="9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 type="ftr" idx="9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 type="sldNum" idx="9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5814-8AE1-4074-85FD-C322053B0F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4B64-214C-467C-936D-7DF2C81637F3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C441-5E70-4EFD-80E5-CA6D5A477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6DC02-FF20-4C68-94DE-9704BE97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495C4-CB1E-443C-AEB9-BEE620AD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D899A-2336-44F9-A5A0-70B8923C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42454-D9A4-40F8-8BD4-20B26278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57FC2-4B57-4B0B-B1B2-4E0B21DC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F846E-721B-4297-8189-88F04A30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7C5B2-44CF-47C0-9413-C4318666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8E7D7-09D9-4A85-9CDF-F2A0B4FB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B464C-DBD7-4870-8B32-BA652FE3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28977-FBDD-42D4-916B-09059EBB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66EF1-CF2C-40A5-BBB1-8BB7B9D3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95A24-75F6-403F-8108-E5F83F21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45A1E-3AAF-432A-9915-0A6EDFF6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577B3-A2C5-4BD8-A0BF-009CA9E7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1F0CA-BBE7-4A6A-9EF1-814A11A1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283F1-FBD6-42C5-A590-C918A881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0054E-7AFC-488D-99E5-B82A4221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60E6F-BD8D-4CEF-B91E-DF3C820E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85C5B-B1D2-481F-A40A-5DCD2A5B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C94C2-7529-4F42-A353-EC899A08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66535-9A2E-49E3-845F-293C017C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5BA0D-E48E-4EF0-9DE1-D803EE14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F528D-0796-4CBD-B791-CE22F045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8C1AF-3266-4FB8-9B9B-0BA8DBA8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B229B-8804-464D-9DC5-B32838EA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3BA1A-6D5E-44F8-8254-2E760A89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32765-B03E-4F5C-9155-C3BC4E2E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A1A91-BD09-4001-A830-6B9D97C3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711A6-1ADD-4E63-9818-452737ED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6433F-3363-4D3B-AC2F-A9AE92F3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841F9-3D95-460A-8638-8ABCACEB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2DD99-6248-4C3A-A40E-CE4DFC7B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23D6F-2C77-4A36-8E89-DC580218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07B86-3AF4-4C6C-A20B-0C70AAF6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D0589-C783-4B82-B3E0-E44F6DB0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57CAA-8F6C-4477-A10F-2C5203A0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AC796-7333-4813-9CA5-8AC20A71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1C3E2-8170-4981-A443-CC486DF2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31771-88ED-48A6-ABDF-A48B3009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0E17F-F284-43E1-B1A0-93FB9ACD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FD583-C9F6-413B-AF26-67908945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4E2CA-40D3-4FB9-AAA5-BD35D8B7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A3095-E601-4279-B2E5-F4F34010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70816-2AA7-46B1-B371-0AB9A7B0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E6877-CB6A-46B2-BE30-2311F6C3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BE7CB-6989-4D52-8CAE-7BD7F813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509F0-1FDB-4284-B000-3ACF4EDA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A84E3-5157-4A45-A825-33D3E938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EC5E4-DC40-4AE5-95B2-E509D4D8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0EC00-1902-4318-A2D3-A4DFC9AA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94B4F-9B51-42E4-863C-838FD13F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C90C3-18A2-4571-8788-BDF4B30D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43A62-22D0-47A6-8D6B-CE4945F7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A8D07-194C-43D3-97F8-78B01E32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2A09D-5C47-4A5F-AFFF-BE385B34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69EF9-9898-45CC-81A5-51F734DA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B5755-572A-4BB0-BC21-75474759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492A0-4DA5-483A-B58A-5E02F144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D2820-F05F-45EE-91BE-5E14F580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D1D7B-ABCC-4310-9C9E-3FC0BBD2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E86CF-CCFF-42CE-BAFB-EB5426E2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AA46C-9197-4CA5-901D-AF8E348B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E2693-344A-4C04-9311-F5D6B7D7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88AB7-F929-466E-AD19-7BC6A25A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3EEDB-0827-4EB9-A864-91774F0F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7BEA0-5BC2-4775-B58B-C8934EC1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64B80-3F08-4D6B-933F-9771AA12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4255A-4C1B-4A95-BC60-8489F39F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C8F92-3B5E-40F9-82FD-124FA72F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4A642-9DE8-4758-97C4-20BF1613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AF622-49C4-4C42-95D8-868BC19A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78797-F925-4566-8371-477A7311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60356-FEBD-486C-A942-B2820357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9EB5A-A552-4ADE-9D90-64383432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47B84-37E9-4CAB-93DB-D207A2F9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8416C-F31F-45F0-8342-9659482E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C4376-3D41-4971-9532-37699B2F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FC02E-EFCF-4028-BFA2-136E0DBB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146EB-BFC0-4213-99C5-955FD9E5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1CC69-00D6-4FB7-A04C-7AD0793D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C3801-0BE2-45A5-B2A3-E5BD60A4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1E15F-4999-42F1-9639-78172FD8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A5A4A-585B-4BD5-82C7-AF6A07CB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646CA-747A-4DBF-8922-778D7F66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9FE82-70C0-4461-AB8A-C9B283FC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D6826-0D2B-40DF-950F-3C0DE095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F94DD-843F-41B5-B4B2-C33F7626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DD948-D0D2-44C4-A2C6-21538573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72132-2A51-4494-9010-3F2A68C8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707A6-1803-40F0-A794-A98AC3DA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0E6BC-41BF-4BF6-B868-9F840566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351C1-3648-478A-8D00-C74B8CCA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74CB2-F6F1-49CE-81D0-691AC73F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6BAAA9-DA5D-462F-AB2A-E2E867CE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E36283-CF58-4E80-87A0-0AE67BF8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2C5BF-7004-440B-80F5-1E0F00EB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B830E-7626-4394-97A6-C5A79866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C5B64B-B1CC-478C-A1FE-9F1ADB3E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E8094-563B-48D0-98B7-321A7F82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19C89E-59C4-4B2E-A1C0-0A757758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C7798-9093-41E4-8B82-43EF5140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13439F-FF57-4613-B252-2229AF49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5BF67B-D59C-437D-BCEB-02A7BA44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FD7DB4-A51F-4785-BBA7-2FC8D1E6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FA50A-C23E-46C7-9054-6BA312E6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3531C-3D87-4FAA-8EAA-2104B8BE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684CA4-AA44-41B8-A9B2-9F3B8FCD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F13827-D155-4A86-9F11-76C6628A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874D26-CF68-42E6-8171-645E9963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1A65ED-B754-4489-A0C3-CAD78C12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0D51E1-3ABB-440E-A4AF-4C02D37F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0777E7-824F-4B21-B95D-9652EB28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0BA930-9DFA-4361-89A9-B2992A70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43BEA0-7C78-40CE-BDDA-AC7E6FA3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59E459-989F-438A-9884-DCA33BE6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FCD5EB-1F84-462D-AA70-5CAF64AF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D20F5F-9FB3-44E4-ABF1-4FF6A435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90032A-F734-4063-94BD-3B1DAADE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3835DB-913A-4995-9092-1E7608F7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3EE62C-F1F6-4621-8CB6-DFD6841E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84A27F-77AF-4FF1-8931-07A7FB09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8FE133-6119-40FC-A90D-724F6086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456B12-7B20-4272-8426-ACE2EF37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2222B5-B41D-4CEE-9881-8A3A939B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551E90-AFCC-42E6-BC28-F2E6A97F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08DC56-5918-41DA-9EE4-3FBE3558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CB0B4A-9E59-4706-B028-B464ACC0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69727A-4AE1-4C4C-8004-320A9B4A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F482F2-0D08-4C1B-8754-37077A10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A4902E-ED8D-438E-9EDE-97DADDCE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D27E3E-B126-475F-BD59-771F2F60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09AB0B-39AC-4275-ACB7-D42E2856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825605-DE28-4931-A6A7-EA9D7F86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EBD390-0433-4429-80A9-149C9B9D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C311F2-6BAE-4D51-A825-94DD2043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EDA33A-5FB4-4798-894E-B0AD722D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0231C6-DA07-49FD-BFAD-B1C9ED2F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CA4192-A822-43DC-BF3A-CCDFEA91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0E8492-C893-41B7-8E6D-D7FDBC8F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A01E77-E705-41B0-B431-42B95FFF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D2FBBF-1666-43F1-BE52-EFAAEA32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D2336E-35F7-4133-A7DA-5395BC63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F6B61D-7E7A-46B5-B156-784D569D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D2DFAB-C32A-4266-BC5F-BE4B8D61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B5F480-EF71-41AB-8899-754D58BE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D09353-D573-4B69-B010-AF023033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212D6A-F519-4634-B00B-0EC53237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970342-03EA-4893-9F31-F87856CD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B6FA27-44A7-4A29-A9E3-2C3DECC8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6C67BE-3784-4408-A6A6-506C40BF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4C4A50-92DF-4D84-AB75-4C40DC77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00B47C-E811-4ACD-9546-F5362CEF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5FDEC7-F675-4A19-8EF1-46329762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3773E1-4D85-46CA-B1E2-F9D67770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9AF8B2-120D-4B62-B2A6-2AAC8BD2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5A4A76-4BED-4BDF-BB57-C6B878E9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A1FDFB-2FE7-4A01-A2B0-DA7CF2DB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4F703C-A0BB-4187-A9C1-618AEE3C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C3AF9B-C136-4469-B3B4-177283E0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E537AD-3F3D-487D-8CF0-52E5624D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55550C-5F9E-4D2B-B588-2A3CDAFD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72D67D-11D1-4381-ABCB-8A730586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E3CEF8-AE88-4FF6-ABB4-DB80EA6D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0FE5E5-2011-423D-9566-C4FC0415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A3148C-35C0-437B-B3A8-842730CB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3848C2-B714-4630-B7BE-D27F4AEF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1DECC3-7D0E-4D6B-A9F5-1D92BEF1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FC99D2-B89E-4F91-9060-3E2BF368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4A256E-F65A-4469-975F-64C27346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48C5AB-AEE0-43DC-BE28-8EED5930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4AACC6-C846-4202-BC3C-15AE9B72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CC2813-CD66-45DA-8667-CDC69B24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25DD2E-350C-4A5A-ADB0-128DC080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E34BC7-4425-416F-A96A-8A7098AF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01D020-05A7-49B1-94FE-00ADFDE0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CA7DA-B7F7-4646-8694-37314899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D3BDB7-1B58-466B-AF82-AF29068C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1D1D24-6300-4E8B-9A1D-B4FF22EE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B7C1D7-1995-4C16-BBFB-75FA9A27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B92F6F-3680-48FC-9E4D-D3BC4FEE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2291FB-2CB2-42C8-BFB3-565A654E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EFFCFA-E2D7-452C-A3D9-4FFDAE07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71A7EC-6E35-46DD-BB4F-125C3EF6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92D738-B789-4F6C-AFC6-0B8F638A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B175A3-A3D0-4019-96FE-CE7E8ABE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641BEE-0DFA-4D82-A679-5AC33C28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FE9769-D9FD-47FA-BD13-C854FD56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5BDA56-EEEE-4DAC-986D-99FEDACB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277EE9-7CFD-4737-962E-A59FF5AF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EE38F8-13CA-4317-A210-4DD2B731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B66A11-98B5-493C-ACA9-E3D96EA7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728C34-1E66-4785-A22F-CDC21933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4F5BA5-53FD-4B0D-8E10-63667895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B38CAB-931B-4134-B1D2-3467D345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D2389C-2F37-47B6-B583-0252EAF0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7AA145-37AD-46F3-8C77-28E6CDA4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884E2F-DA64-4451-8338-EE09DC41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08494E-604E-487F-A329-8D6C0355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DEC44D-8238-4F9C-8E7D-70CA8742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01CADF-B73D-4399-BD2A-61AFA01D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D19AB5-EDED-4CBD-BC07-A8FBCA34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5DFFB8-101B-4A76-8161-64FEADFA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16CB4C-AEA6-46A2-A18E-26D1C4C8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E1CE3C-4E2D-4D68-B75C-AFEE561A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F44CED-EF7C-480E-8B49-949F9C53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A29976-F5BF-45D4-8C3C-F8515B98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101439-7F14-439F-AC77-EF849DB0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0027AC-2AC2-4B63-8B4C-0391E49F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7993C4-B649-48E2-8903-B727D219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9C41D9-0C2C-4CCC-AB41-CC1832C5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EA4C98-EC65-4CEC-88FF-E555EC3C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8F09AA-12DD-4CF0-B10D-719EE2B7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9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0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348408-A12F-4AC5-A5C5-460B4430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71A67D-51D2-4410-B0A8-82BF3885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890D43-BDD3-417B-ADB2-BFDDF939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67EDDC-1180-4A65-9CEE-D2FE6DA8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2E01C1-BAF5-497B-8019-2E3FC232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740F6B-9611-4F87-9156-2B3E2E17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BFEE30-EB87-4940-9C60-C8B7DC76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FAAE21-8B31-42BC-B707-EB9F5CA8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3F9391-9239-4CE4-95DB-B03FB441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AF9E3A-6533-4F02-938A-75BC1930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8F5EE2-FA07-463C-95CB-1F7812E3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86E151-7E50-4927-AB77-B01D18A3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0C4524-B950-41B5-B14E-8EF1BAE5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A7AF0E-9407-4B25-8949-A1036ADF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74A70E-A931-4B88-BEC1-AF545797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7EEB10-3D87-4447-A7CF-6F7A2187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E6B888-83B5-4CE2-AD22-47C69B76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54446F-C177-416E-A194-DCF8C881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FF78DC-69F6-43F5-8BCF-7A0EA6C6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B3254D-A923-4BC7-B67B-79FBBAD5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6C1066-300F-4FC6-91BE-83422EA1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EA571E-DD09-44AF-A9DD-900A01E8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8278F0-3B10-4C5A-A055-E7063EAE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5FEE42-05CF-4B38-A414-E59D6692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3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4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8344EA-2AA3-4855-9B8F-17989D99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E20E8A-4323-4C42-90B6-EF32F10F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7C7A8E-569E-453B-AAD5-68749262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29CA86-4955-445C-ACA4-CE31B75E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C06FFE-9463-49B8-9CF5-37212959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034397-556D-4909-8D82-49791A5A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BD5F2E-8711-492E-A767-9C8BDC62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3F2B17-26A1-4498-98DD-0053CAA5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FFDAD2-6E5D-4E96-BD26-99BA289D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566B13-384B-475B-8FDA-7F2B1DED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1E4CB8-FC3E-453E-8E47-ECB3B8DF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6884A8-23E2-491E-83C7-38561724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5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6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0AA1B8-42FE-4DCA-8D05-E8010862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66B1B9-7C48-4BC8-813E-E1192867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ECFA60-904D-4032-879D-071D043C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1A97DE-7F7F-4C40-B0A0-82484F8B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4E846C-F5DA-4E73-8440-9EA03766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CAAD4C-0673-4AB9-A57B-18C571E2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97B16F-558D-4EB4-BED6-FEF4B006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3952A2-FEBE-4056-998F-C45BB208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2A8AA6-1E9E-41D5-BB49-32EE2E37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35BD63-A18C-4BDA-B271-10F5E666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4D746A-0EA4-4A2C-8919-14C77D37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66F056-582C-4BB2-97E3-EE2BA4CD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B1C811-FE20-4FCD-9D86-B68587FF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F2CCF1-7677-46CD-87C1-85C4A75B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0A221D-2E9F-4B68-A693-EFA81332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9E05C3-E190-4529-948C-E2B20160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72D82D-361C-475F-838F-46F8F386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7A2B32-1BF8-48E6-A041-B9C95E33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70F311-D3AD-4796-A59E-DBACBF2F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518958-8738-47F1-ACF5-54F3A0EC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DC3033-04EA-4CE4-B008-74FFA714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443BB1-62A4-427B-90B0-EA007B2B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F29520-93A4-4CAD-AF86-1AF6ED0E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3AE3BB-755F-434B-B479-59DD6E89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BF2487-0AB8-4CA9-BB13-FF89957A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D56A05-9064-44F9-AE54-5233FAA2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A4011C-2510-4BE5-BAF4-71AD41B2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A920BE-1020-4857-B9D3-A8E20075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8FDEB2-4FC6-41BC-92FA-82C544BB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C71866-11F1-4B8B-B6D9-0766D7A2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E3CE03-EF17-4209-8BDB-B9FA1EF6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F79015-F1F3-4435-950A-4D0ACFC9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356EE6-4246-4581-AFC8-E9430861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0B0F12-3394-4A10-B9A8-6130AC1B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9C44DF-8BE7-43E7-94DE-06D2FB07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44E5B1-C8B4-45D8-A04C-E61AEBCF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11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12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70C272-9BAA-4748-86CD-22C2CF00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8940D3-7686-48D3-A4AC-0B29B88C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2A80D7-A40E-4311-8B7B-E703FFB4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A46336-3E00-478B-9816-3BC97519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E58C2A-A1C9-47BC-B5E0-F65C398D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4D8707-96EB-403D-AF72-BB325F95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061630-8C15-478D-8B61-0643F9DE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610913-7B1F-4DBF-9FC5-BAA9F405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D49C27-0935-46DB-9AEC-2F804C7B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07334C-748C-401C-B51B-2D9059B4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22B680-F5ED-4604-810E-1BA00D2E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B0831D-C4A0-46C3-B301-6693D5A1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30363A-8C8D-48AD-9120-7F5C6CFD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B258EA-DDFF-4C36-82F2-78582BE1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953A7A-D164-4F65-BB1B-55C4FC5A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900C53-5568-4C1C-B76D-56C62AA5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A6BF60-2F1D-489C-AF0D-CB9BD604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8571DE-C051-4E63-94CA-5B3F2BCD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44DCA4-B5FE-41C6-AE9F-AFC434B9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82B10E-8E6A-457E-A8B3-D1F409F4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A178B2-FCB4-46DE-9573-116835E8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291562-FBC8-4F48-A388-4D77C084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6DDA2F-C7E3-4E30-8D12-FDE24A12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FED22B-D3D4-4513-A745-8D80E734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95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96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479DB1-08F9-4900-8CB5-2ED4CB6B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8A52-E9F7-4B2B-97EF-2F132064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1A5-8B58-4A7A-8496-4326BA39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FE71-6834-4B71-A57C-439B610B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9A9-4A5D-4514-A5E9-D113FDA1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529-0981-4A1A-92F2-0041A5DD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DDD8-51D6-49AE-87EA-4BB10064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806D-8E86-4C1D-8D88-3A363DD5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F15-83EE-4058-A00A-EC03404C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964-752F-467F-9C2B-E282C913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051-D10A-4FF6-9F6D-772E84CD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44B-784A-4889-A702-6C306831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A5F-5067-4913-B659-9B83CCAB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46FF-3315-412D-9A6A-F86BB5F1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A856-1479-4A3A-9609-09CB1F3C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54D5-4669-41AA-9E1C-4382E34F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D7B2-CA39-4BAB-AAB0-DB964101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7F38-BA09-4227-87CF-1B754FD9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A90D-C263-4A5B-A588-833357B8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4390-F567-408E-8432-F670D10D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BEDC-54ED-41FA-90C3-930A4EC6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C5D1-05F7-4440-B5B3-B5B6A63C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8465-5DBA-4D7D-95F2-A32C205F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CCDE-F6BE-44CD-AC1A-16852DCD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3A06-04FE-44B7-8460-D508C434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76D94-E817-4BB1-A0E3-1F8906AF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E0989-2AE3-4466-8E81-40412406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274FB-2CA3-4D18-B11B-1864FA5E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5376D-1E61-4F1F-A2E6-1CCA9EB4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F6C5C-5F40-422D-B609-94EEC290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DDB02-082E-46E0-9EF0-DE47D7B6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BB15B-7C34-4F0C-A957-36F3D35E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A6B48-3237-48E6-B0EF-CFF4489B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B1B66-E78E-48D1-860C-0D09645D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DC061-4CB5-4A42-87DE-73DDF057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54EA2-68E3-4E61-879C-BE048EA7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F1127-B77C-407A-8AA9-7AE379DC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D32D7-6CEB-42A1-9CDD-B09023BC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3D534-8633-4DC7-A087-84F63319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C71BA-6FD5-4E91-B9C4-565DE60A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AFA0D-7A01-44F3-A34C-F7CAD8F5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BAFF9-232D-416E-ACD6-709FD124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7B0D9-B63A-4A8E-9DAB-7589922D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0264C-E60E-4AD3-AD23-C9EF3CDC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84CD1-A631-4A37-B75C-826C2B26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0A53B-20BF-4737-BBC1-3A4DE752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57F75-1F66-447B-8471-B34BCE3E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AAB88-7390-4786-BFCA-07FCC07F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0B8F2-6663-4601-B4E6-B4D21098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82F14-0708-49C1-B700-7D9F8E5B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8CFD3-2D90-4424-A322-8AD98F2C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E5798-D581-45AD-8C1B-888284C8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5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1D819990-4716-418D-A8D6-6E66CE8B2960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92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1F73DD2E-D62A-4EDD-BAE0-27F76463D2C4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0E0A-573A-4398-B8F8-5A7ED5B53BFA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C81730C9-1397-48C3-AAAE-1740D952A914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19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098F-19CA-4CF0-8002-94E9FB084B1E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9280EF88-E990-4DF4-B001-E61475577770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2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A45F-D1DD-4339-B3A5-7A6F9691ECC9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527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91DB9551-B075-4660-8CED-C395D5F6447D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5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5D3C-2479-455D-B5DD-3DC3C104AF8E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572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E7795F61-1646-4B9D-9AAE-D9F7B433A64D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28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4958-1FB8-40F0-9290-92EEB23B5B20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Logo"/>
          <p:cNvPicPr/>
          <p:nvPr/>
        </p:nvPicPr>
        <p:blipFill>
          <a:blip r:embed="rId2"/>
          <a:stretch/>
        </p:blipFill>
        <p:spPr>
          <a:xfrm>
            <a:off x="7508880" y="5578560"/>
            <a:ext cx="820800" cy="8222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2"/>
          <p:cNvPicPr/>
          <p:nvPr/>
        </p:nvPicPr>
        <p:blipFill>
          <a:blip r:embed="rId3"/>
          <a:stretch/>
        </p:blipFill>
        <p:spPr>
          <a:xfrm>
            <a:off x="1440" y="784080"/>
            <a:ext cx="9142560" cy="38102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4"/>
          <p:cNvSpPr/>
          <p:nvPr/>
        </p:nvSpPr>
        <p:spPr>
          <a:xfrm>
            <a:off x="626400" y="326880"/>
            <a:ext cx="13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06.April 200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582480" y="6205680"/>
            <a:ext cx="280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6"/>
          <p:cNvSpPr/>
          <p:nvPr/>
        </p:nvSpPr>
        <p:spPr>
          <a:xfrm>
            <a:off x="7246800" y="3984480"/>
            <a:ext cx="1503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ww.huawe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8E3D-6DA1-4CFF-B11B-70681DF6112B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6FCE-CAB9-4F79-BF4E-ADA2A6E258A8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5AC7-7AF1-4F48-810D-041FBBA3E082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0811-1C46-44D8-8A9B-8B185B958B82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1007-FFBA-48C4-BC8E-19D0B9A4F960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3183-893F-4BB8-94B3-C615099E8BFB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FF60-745E-434E-99EC-F26AEF2E0AFD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3EC1-4EC2-4FA7-A20C-18966142B5EB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7BC9-95A1-419F-965E-0F0F98A407C1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052D-2BEC-4EB2-A950-F122E6766D75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080" name="PlaceHolder 1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4757-6DCA-45A3-9066-3116BAC5D602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122" name="PlaceHolder 1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5C75-BB97-421A-9F21-DFCE1D6C2A65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3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164" name="PlaceHolder 1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25E5-B5C2-4A9B-99BB-20A06D095B16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206" name="PlaceHolder 1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7B1B-C623-475D-909D-51F2C05591F8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7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248" name="PlaceHolder 1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7DE0-7DA8-438E-BE8C-A959A4A152C8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9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3A6A-1179-4F86-9654-E7B4ABC93166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1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332" name="PlaceHolder 1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F8CA-2B37-462E-A674-79144F6E48A7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374" name="PlaceHolder 1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ED8D-8492-4362-BFA3-41F205BFA8E8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5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416" name="PlaceHolder 1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3440-7E42-45CF-9269-D6F5B864EA01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458" name="PlaceHolder 1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FC90-7366-4B3B-B584-D88B7C002693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" descr="2"/>
          <p:cNvPicPr/>
          <p:nvPr/>
        </p:nvPicPr>
        <p:blipFill>
          <a:blip r:embed="rId2"/>
          <a:stretch/>
        </p:blipFill>
        <p:spPr>
          <a:xfrm>
            <a:off x="0" y="78120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5"/>
          <p:cNvSpPr/>
          <p:nvPr/>
        </p:nvSpPr>
        <p:spPr>
          <a:xfrm>
            <a:off x="6746040" y="247680"/>
            <a:ext cx="14972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666666"/>
                </a:solidFill>
                <a:latin typeface="FrutigerNext LT Regular"/>
                <a:ea typeface="华文细黑"/>
              </a:rPr>
              <a:t>Security Level: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华文细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5C66-828D-4A59-A07E-3DE50EA16462}" type="datetime">
              <a:rPr b="0" lang="zh-CN" sz="1200" spc="-1" strike="noStrike">
                <a:solidFill>
                  <a:srgbClr val="898989"/>
                </a:solidFill>
                <a:latin typeface="MS PGothic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7188840" y="407664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555480" y="620712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Logo"/>
          <p:cNvPicPr/>
          <p:nvPr/>
        </p:nvPicPr>
        <p:blipFill>
          <a:blip r:embed="rId3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877FFBCA-2116-4D1F-BE08-A8A507C7107E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6387-2C7B-4D08-A464-673D8C17CBC4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530D970A-52DA-4A8D-ADBB-0299B51D71BD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67DE-1958-4F4C-A284-DAAB1041627F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ECD4CD6A-9B49-43F9-BCB5-916A11DB35FB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7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3D7E-D441-494C-AB54-718FB5CFD3BB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02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3419E0D4-423B-4AD7-9B69-39A3B2CAEEC9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0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5A9D-D4F4-4BFB-AB36-534A31A4727B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47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9A2F2BC0-AB7A-4086-AF55-BC6AEF2C717D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3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8916-D077-4F3C-82E1-8C0339FF9273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6"/>
          <p:cNvSpPr/>
          <p:nvPr/>
        </p:nvSpPr>
        <p:spPr>
          <a:xfrm>
            <a:off x="0" y="1989000"/>
            <a:ext cx="6727680" cy="10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6.b: Harmonization of SDIP and MDDT </a:t>
            </a:r>
            <a:r>
              <a:rPr b="1" lang="en-US" sz="3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(JCTVC-F5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Box 6"/>
          <p:cNvSpPr/>
          <p:nvPr/>
        </p:nvSpPr>
        <p:spPr>
          <a:xfrm>
            <a:off x="684360" y="4797360"/>
            <a:ext cx="53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Haitao Yang, Jiantong Zhou, Haoping Yu, and Changcai L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onclusion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53928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 fontScale="98000"/>
          </a:bodyPr>
          <a:p>
            <a:pPr marL="292320" indent="-29232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Based on the results of test case 1 and 2, most of the coding gain of MDDT can be retained when SDIP is enabled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2320" indent="-29232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e proposed harmonization  (test case 4) is a straightforward extension of HM3.0 MDDT to SDIP, and show consistent coding performance improvement though not very big 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2320" indent="-29232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est case 5 and 6 show provide the information that combined with 8x8 MDDT, further coding gain can be obtained.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2320" indent="-29232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2320" indent="-29232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Based on the above conclusions, we suggest adopting the proposed harmonization (case 4) along with SDIP.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 Box 3"/>
          <p:cNvSpPr/>
          <p:nvPr/>
        </p:nvSpPr>
        <p:spPr>
          <a:xfrm>
            <a:off x="3221280" y="2131920"/>
            <a:ext cx="26632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 Box 4"/>
          <p:cNvSpPr/>
          <p:nvPr/>
        </p:nvSpPr>
        <p:spPr>
          <a:xfrm>
            <a:off x="3357000" y="3330720"/>
            <a:ext cx="23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71600" y="431280"/>
            <a:ext cx="84931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Background &amp; proposed harmonization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539280" y="981000"/>
            <a:ext cx="8425080" cy="5184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 fontScale="99000"/>
          </a:bodyPr>
          <a:p>
            <a:pPr marL="295200" indent="-295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MDDT in HM3.0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44040" indent="-2484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pplied to luma component of 4x4 blocks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1" marL="644040" indent="-2484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or each one dimensional transform, either DCT or DST is selection according to the intra prediction direction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295200" indent="-295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ransforms in the issued SDIP software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44040" indent="-2484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or the MxN TU, M-point and N-point DCT are applied to the row and the column vector, respectively.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295200" indent="-295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Proposed harmonization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44040" indent="-2484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MDDT is applied as either the row transform or the column transform if the dimension of the non-square TU in row or column direction equals 4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1" marL="644040" indent="-2484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The dependency of intra prediction mode and transform mode is the same as that for MDDT in HM3.0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Simulation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53928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est case 1: SDIP OFF, MDDT_4x4 OFF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The RD data of this test case is compared with HM3.0 anchor data to see the performance of MDDT in HM3.0.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graphicFrame>
        <p:nvGraphicFramePr>
          <p:cNvPr id="1510" name="Object 5"/>
          <p:cNvGraphicFramePr/>
          <p:nvPr/>
        </p:nvGraphicFramePr>
        <p:xfrm>
          <a:off x="847800" y="2565360"/>
          <a:ext cx="7827840" cy="260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2565360"/>
                    <a:ext cx="78278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Simulation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53928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est case 2: SDIP ON, MDDT_4x4 OFF 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The RD data of this test case is compared with SDIP anchor data to see the performance of MDDT on top of SDIP.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graphicFrame>
        <p:nvGraphicFramePr>
          <p:cNvPr id="1514" name="Object 3"/>
          <p:cNvGraphicFramePr/>
          <p:nvPr/>
        </p:nvGraphicFramePr>
        <p:xfrm>
          <a:off x="826920" y="2565360"/>
          <a:ext cx="7829640" cy="260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565360"/>
                    <a:ext cx="78296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Simulation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53928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est case 3: SDIP ON, MDDT_4x4 ON 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This test case is actually the SDIP anchor. The SDIP anchor data is compared with HM3.0 anchor data to see the performance of SDIP on top of MDDT.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graphicFrame>
        <p:nvGraphicFramePr>
          <p:cNvPr id="1518" name="Object 3"/>
          <p:cNvGraphicFramePr/>
          <p:nvPr/>
        </p:nvGraphicFramePr>
        <p:xfrm>
          <a:off x="934920" y="2751120"/>
          <a:ext cx="7669440" cy="254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2751120"/>
                    <a:ext cx="766944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Simulation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53928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est case 4: SDIP ON, MDDT_4x4 ON, HARMONIZATION_4x4 ON 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The RD data of this test case is compared with SDIP anchor data to see the performance of the harmonization solution.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graphicFrame>
        <p:nvGraphicFramePr>
          <p:cNvPr id="1522" name="Object 3"/>
          <p:cNvGraphicFramePr/>
          <p:nvPr/>
        </p:nvGraphicFramePr>
        <p:xfrm>
          <a:off x="847800" y="2492280"/>
          <a:ext cx="7827840" cy="260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2492280"/>
                    <a:ext cx="78278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Simulation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53928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est case 5 (additional): SDIP OFF, MDDT_8x8 ON 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The RD data of this test case is compared with HM anchor data to see the performance of additional 8x8 MDDT for square TUs.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7" name="Object 3"/>
          <p:cNvGraphicFramePr/>
          <p:nvPr/>
        </p:nvGraphicFramePr>
        <p:xfrm>
          <a:off x="826920" y="2421000"/>
          <a:ext cx="7777440" cy="25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21000"/>
                    <a:ext cx="77774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Simulation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53928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est case 6 (additional): SDIP ON, MDDT_8x8 ON, HARMONIZATION_8x8 ON 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The RD data of this test case is compared with test case 4 to see the performance of additional 8x8 MDDT for both square and non-square TUs.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graphicFrame>
        <p:nvGraphicFramePr>
          <p:cNvPr id="1531" name="Object 3"/>
          <p:cNvGraphicFramePr/>
          <p:nvPr/>
        </p:nvGraphicFramePr>
        <p:xfrm>
          <a:off x="826920" y="3170160"/>
          <a:ext cx="7705800" cy="25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170160"/>
                    <a:ext cx="7705800" cy="25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Simulation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53928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est case 3 is the RD performance of the issued SDIP software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est case 1, 2, 4 are specified in CE description JCTVC-E706, and are crosschecked by BBC, NEC, Orange Lab, and TI in JCTVC-F630, JCTVC-F349, JCTVC-F139, JCTVC-F239.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est 5 and 6 are provided for information, and they are crosschecked by I2R in . JCTVC-F155.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2:17:19Z</dcterms:created>
  <dc:creator>s00107188</dc:creator>
  <dc:description/>
  <dc:language>en-US</dc:language>
  <cp:lastModifiedBy>Haitao Yang</cp:lastModifiedBy>
  <dcterms:modified xsi:type="dcterms:W3CDTF">2011-07-13T17:20:30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ZC3eBm+IzOq0/3c8vw+YY+YJNOa0TlkopcLA4hXmoNp7/JFQnruYBPfl95D+JCrfW9RdD+B3
/b02jKtMYn49OdPcEcMe/ooldQIfcYMPAcEMM18A0h6lqKaRbuV69pcKeBuKT0vpjPnJe95M
yWzLJmgmJ43268THGFOqWpBLRtptv6eKXHSbbK+8Mmp/FyGwsduyu2+V+Kpp1BkByEzAwJOc
RPS7WykhuWMZYRnwK8+9/</vt:lpwstr>
  </property>
  <property fmtid="{D5CDD505-2E9C-101B-9397-08002B2CF9AE}" pid="3" name="_ms_pID_7253431">
    <vt:lpwstr>fO68IPsSoLeY3Yi0j+L09rJoZc/Hd3s3AvzIUrUHsg5NfynTNh6
gYW3zsnxL8BmppOlK6OoVq2GeMIrvwleekPodNCG3rw1ynIQj+RTjCyLLJSrivVz6HazDfgI
/C0=</vt:lpwstr>
  </property>
  <property fmtid="{D5CDD505-2E9C-101B-9397-08002B2CF9AE}" pid="4" name="sflag">
    <vt:lpwstr>1310574931</vt:lpwstr>
  </property>
</Properties>
</file>