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12.xml" ContentType="application/vnd.openxmlformats-officedocument.theme+xml"/>
  <Override PartName="/ppt/theme/theme36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1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9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</p:sldMasterIdLst>
  <p:notesMasterIdLst>
    <p:notesMasterId r:id="rId37"/>
  </p:notesMasterIdLst>
  <p:sldIdLst>
    <p:sldId id="256" r:id="rId38"/>
    <p:sldId id="257" r:id="rId39"/>
    <p:sldId id="258" r:id="rId40"/>
    <p:sldId id="259" r:id="rId41"/>
    <p:sldId id="260" r:id="rId42"/>
    <p:sldId id="261" r:id="rId43"/>
    <p:sldId id="262" r:id="rId44"/>
    <p:sldId id="263" r:id="rId45"/>
    <p:sldId id="264" r:id="rId46"/>
    <p:sldId id="265" r:id="rId47"/>
    <p:sldId id="266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notesMaster" Target="notesMasters/notesMaster1.xml"/><Relationship Id="rId38" Type="http://schemas.openxmlformats.org/officeDocument/2006/relationships/slide" Target="slides/slide1.xml"/><Relationship Id="rId39" Type="http://schemas.openxmlformats.org/officeDocument/2006/relationships/slide" Target="slides/slide2.xml"/><Relationship Id="rId40" Type="http://schemas.openxmlformats.org/officeDocument/2006/relationships/slide" Target="slides/slide3.xml"/><Relationship Id="rId41" Type="http://schemas.openxmlformats.org/officeDocument/2006/relationships/slide" Target="slides/slide4.xml"/><Relationship Id="rId42" Type="http://schemas.openxmlformats.org/officeDocument/2006/relationships/slide" Target="slides/slide5.xml"/><Relationship Id="rId43" Type="http://schemas.openxmlformats.org/officeDocument/2006/relationships/slide" Target="slides/slide6.xml"/><Relationship Id="rId44" Type="http://schemas.openxmlformats.org/officeDocument/2006/relationships/slide" Target="slides/slide7.xml"/><Relationship Id="rId45" Type="http://schemas.openxmlformats.org/officeDocument/2006/relationships/slide" Target="slides/slide8.xml"/><Relationship Id="rId46" Type="http://schemas.openxmlformats.org/officeDocument/2006/relationships/slide" Target="slides/slide9.xml"/><Relationship Id="rId47" Type="http://schemas.openxmlformats.org/officeDocument/2006/relationships/slide" Target="slides/slide10.xml"/><Relationship Id="rId48" Type="http://schemas.openxmlformats.org/officeDocument/2006/relationships/slide" Target="slides/slide11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 type="dt" idx="9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黑体 (标题)"/>
              </a:rPr>
              <a:t>Click to move the slide</a:t>
            </a: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5"/>
          <p:cNvSpPr>
            <a:spLocks noGrp="1"/>
          </p:cNvSpPr>
          <p:nvPr>
            <p:ph type="ftr" idx="9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PlaceHolder 6"/>
          <p:cNvSpPr>
            <a:spLocks noGrp="1"/>
          </p:cNvSpPr>
          <p:nvPr>
            <p:ph type="sldNum" idx="9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3AB85-7289-43E5-8332-784A4D045F7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A55A1-3953-485F-BB06-E946651D0E20}" type="datetime">
              <a:rPr b="0" lang="zh-CN" sz="12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566E5-D215-4DF7-AFD3-E19B4572BC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565AD-5185-443A-804C-EB9E4E0CC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805F4-53C5-47D0-ABBC-57A0C744D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B0F1A-6531-484B-ADF9-F9D2DB008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9503E-C883-4DB9-B153-01FB8993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965DF-023B-465F-A71A-FB4B4EB1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221F2-AC39-4137-B7B9-60206FB2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649AB-94AB-4A51-88E2-72BB776FB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596E5-08D4-4357-B70F-B798314C3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D422C-ED4A-4FF7-8F5E-6CF8A63C0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70AA9-AE8C-4EC1-B8D8-E01282B54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C7998-B284-4BED-AFC2-26A2F5F29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30EE8-8C62-4FDF-AC62-CA0C18DBA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10BD8-77FC-4046-8E12-DBF79C79B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F4C27-57AD-43C0-982E-6F25CF45E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A9C18-DD94-4CA8-ABD2-652D7C58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0A0AA0-A884-47A0-9951-01C940B6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7AA2E-F6AF-4B27-96CA-D44BEFF6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7657A-DB98-4438-87B9-FEBF2ED6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D7B7D-3570-42F8-AA7C-412E782C6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EBC5A-D66F-47F7-9742-E4F491F0D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2DD34-D419-46A2-BCE3-360281952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40A713-443C-4094-A7E1-402CA8D81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B061C-20F3-448B-A9AA-1863E960C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96EB9-707D-4C09-9049-2E292CCC7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D4565-5EAD-48AF-B76E-CC3160B32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CF4DBD-0869-40A4-8427-2AD7763CF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61464C-9C3F-4674-A719-0C9284A2D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6C0C2-1E44-4466-BAA1-225027A9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A11D9-068F-4B03-BE32-E52DFD8C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AA754-0F6E-477E-BB3A-69F0A827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70C21A-F2B9-46E2-B898-03B905A4F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37F9CC-76CB-40B3-9634-782677813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2E3C4E-A0CC-4BED-94EE-7F4871DDA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1623B8-4424-435F-BFB5-C6AB8BBBF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8BE17D-FE3E-4D67-8582-A3E798F9F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210EDC-6537-4C28-9DD9-BBE49B9D3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F733CB-9380-4EA2-B1DE-19C67FD8F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DC600F-98B6-4DE3-BBF9-68071DFA7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6A76CE-2D14-4B57-9C56-8F6FB9770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137F03-C869-4278-A661-14B2D3DD0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00C0FB-0037-42C9-B54B-1D705F44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38C357-FA84-4076-BC70-A770B647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1D79A2-2FAD-4F71-99BE-D4EE24298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DE5D24-551F-4015-8186-66A5C8FF7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C30EAE-0756-4781-A2C4-A63099DF3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32CAFF-C0BE-41CC-B8D7-745529050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E99C79-BBAA-48D4-8668-9EE029F9A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1D49ED-FD51-4321-926C-AB513E005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A12178-D91F-4D11-A819-073759B98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2511B0-08D4-4EF2-8926-067BBC6D8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9CE245-0F46-49EC-AC40-72ACE3769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2A52AC-E141-465C-ADF7-84B1076F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8455C5-4CF7-4C1A-A9A4-A305720C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4A9FB9-D1F1-46DB-9029-578C721F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3ABA0B-C474-4089-A09C-8B608A79A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F83C76-0848-41A9-B3DA-5F55B0EEA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CE68F4-FB2C-4C68-B746-C7A088D71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ABD479-E766-4BF5-82C3-83887A909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983646-BA9E-4797-BB40-769037604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23CB93-3347-49CA-A7A8-1866DE4F0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309392-3257-4076-AD58-8F62EFB0E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B4DA56-7E03-4716-B45A-E37B6FEDB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979B0F-0337-4BD6-9BA4-D46EBB63B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3B832D-5023-4899-A0FE-53AA878A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D5DD2A-5786-4B50-BE7F-819FF2B8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7974FE-F13F-4301-A340-804E5778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16C5D8-6B64-496D-9C75-E83DA659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70F997-1AC5-457E-9E8E-589A76E47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B0E265-84E4-4FDE-918E-63CE087D6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599467-6A1A-414E-8C5C-8F8EF609C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866179-A0C9-4CBB-9377-327B2129C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6AA3E6-4276-416C-9666-1401805EA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4A58E4-37AA-45ED-A247-20DBDD617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E1532C-A09B-46AF-8895-CE4E2253D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6B37D3-CC51-4B2D-BFCB-FA9EF4BF4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B038E5-7068-487B-A600-346FA9CE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74C3AA-66CD-42C5-8260-A2297420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13ACA5-210C-4C21-9FD9-6D28B46D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674B29-4109-496B-9D27-735CA3EE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E9DED6-CD91-4559-AD2F-CBC164757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4D9798-212D-4787-ABAD-9843F75AA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57D992-A642-4795-83EC-B093AD049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5DA6B5-21C2-45DB-A5DF-0E0498750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767500-CCB8-4BF2-9793-9DC59B02C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A59669-5C75-45E1-849B-00E4945D0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CD7CC7-E1A0-4657-8B52-2FB6F2147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C15E2A-9114-4A17-AB10-B7B972927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763DAD-ECAF-4836-9E74-D5E7593D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5568E5-F0A5-40DC-BCC3-568A1CBE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74FA60-C22F-4F91-B314-8A93D083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18DFEF-B283-4C3D-9D1D-9CC7372B7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7A4430-9072-451F-B8AC-2EA0CA701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A1DB07-BC51-40A9-B0E6-08724C168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39EE5F-30A3-42C9-A0F7-44CF7DC03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37BB09-B698-4D6D-962B-EA02873E4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146F28-CF72-4556-B2FD-0AB752ABA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902D4D-CC05-4D91-8B06-9A1639648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D56EFB-9003-41CF-9D38-A6C813D60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E56EA3-DBDC-42F1-BA03-055BB872D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32284B-D41D-4000-B284-3BEF74B5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A0835D-6E04-49FB-93F6-B935C0A6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DC6347-E5AF-41BC-B5F1-F08F46A6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24D477-1092-43C5-BD3D-715345FD0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05827E-8F07-44A9-8ED2-705D723C6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81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82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CA7048-F2F2-4885-A3B4-F5277939A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659801-5AEB-42DA-B80A-9D1B735C8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79E7D3-8985-4760-8149-A9595BB3A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97BE40-CE23-43C3-97E1-AA678C297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AA1496-7431-4C37-8093-5B9D9F659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E25F9A-5EC7-4C28-A73A-D8B171615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31B2B6-4905-47CC-8B23-E6CE75D5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6794A2-E156-4BB6-8038-79ABD556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1F0BC7-CCBF-48E7-AFF1-974840BB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E2CD18-5893-4E0E-AC0A-E228AE8E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2DC7FA-C8BD-4FBE-81ED-DB3BB1926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58C86C-9517-4DCD-8249-C166370BF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021E95-628E-42F8-B772-1CB23BA15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245D5C-4D1C-4ABB-9249-17A23290C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8005EB-6957-4DF2-BB0A-8DBF0F396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30C8C6-2394-4A66-9353-915F7450B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7CD59A-548C-42F4-BD94-E61ACACAE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CDD3BC-3ECC-4AD4-BD51-7886A8B95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D39854-85E5-4222-887A-DDBF68562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CD2831-8F65-42CE-B04F-94EA573A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C97869-37CD-40DB-A88E-D171F937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5E7B8A-1A27-44B8-B6EF-6D222E62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2E5B46-C212-49B2-A740-94FA5A9E3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53931E-5FA1-4F27-B9EE-B407D37AB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1234B8-32A4-4991-97B1-E34E5D785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32C66C-685E-4CB3-9559-EFD5867AF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62016E-CB49-40EC-93F6-098C9751D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A51265-85BA-4BC3-A0BA-1758DAB96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492E05-AC05-4BC0-B6AB-0C57514ED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5E4839-225C-4DF8-829F-7C167BCE3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146E41-01D9-4CC4-B7DF-BAAD4F229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D0CBB9-0B59-4E01-A55C-4A018454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19E1A9-D7AF-4369-944A-74DEC044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45F728-9307-45B7-BC3E-850A143B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571DE3-A2FD-424C-B4C0-B6D64877F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A412BB-2D75-4FC2-B299-DFC3B3646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07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08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6562F7-87FC-4E14-8DC9-81B685B48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642D9C-C1F4-409E-A1E1-422E816FF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A74754-90ED-4F3C-AA30-2740846AB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7CEE57-4BA3-4CBE-BFD9-36232CD11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3456D0-BED7-4C48-B98B-27D6827C4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4B64AE-1A65-4500-AC52-42698D8D8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4393FC-3C78-4B59-A8B3-E7D09F4AF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373945-2EFE-4590-8FEC-339B7638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9B6A99-DB74-48A4-A3F6-95A1C387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54C460-A4BF-4B73-9B7F-EB270DC5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5AAFFF-FC9B-4C12-AE8A-9D5AFA767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27DF2B-F478-4FDA-82E8-B7449BACF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49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50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9A51C9-63A0-4522-B505-38C0453FE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84720F-C2C3-4B37-AE39-B6AC90F0C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2EDC65-1419-4E84-BB1F-8A1323E51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5A7197-8CD7-4B99-9788-0BE330FDA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9B0C23-E9A4-4B2A-9E6C-52084C1F0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92224D-488E-4607-96B4-35E291217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A8840D-2247-4151-8FEC-03D8701DA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B4DD05-64B1-4A94-A2A4-82CE2DB5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DF0F69-F0DB-4940-9C60-B4B62CED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E9B6FD-F264-49EA-8285-1FBCE65F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0B213C-98A8-4E14-AA9C-854F92649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A042C7-D648-4CDE-AC0F-6D5C91404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91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92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3C8695-EBAA-4954-B329-D508BA3FE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138ADD-2ADA-4239-8532-12EA53CBD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5C0659-9149-4567-90B8-8B2989A7D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A984BF-372D-4EAB-9F52-78C3E2217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6DE2EE-16B4-44B5-A86F-805D9810D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62DBFD-7DB3-4E1F-BACB-9D81CA192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09D250-25CD-4AEC-938A-4BD69E066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930696-8DEE-4A19-99AA-6444C03D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130251-AA20-4E6C-A81A-1101B3DB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1E1957-447D-40A4-847B-0654A729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E45B05-CF16-4F4D-B441-5B53B39F3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AFB96D-1623-4018-8E24-2AC39DB8F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33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34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59DBC2-6E58-4A7B-B35F-DA6027996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4F4665-5340-4B63-94FA-E180051DA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DF4FDD-12C2-4011-9A68-2113641AF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6C9D7C-0062-4A08-BD8B-A69AEEA0D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15BBA6-BC57-4FA3-8DCC-1002D3872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149362-6AE9-4201-A90F-73236CB21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0F3C6A-FB1D-4FD4-9454-7B79FA447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F95C49-A7B0-422A-B70F-CFC37201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FC9866-C7DF-4E3F-8274-39955D0F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5041DC-6A69-4878-840E-A7672AF1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7889F3-CE21-4DF3-A070-AB97035D0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6269FA-7153-4EEE-B366-0362260CD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42D688-BB11-414F-A814-6575EF00C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F1E6F1-A7A8-42A6-88E7-38E552E66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505DAF-EE86-4B60-8BC2-644C0E073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C9EE4E-2EEC-49AE-844C-C40794B29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41C062-355B-4A3D-87A6-A8524311D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CD0843-E5D3-47CA-8955-25276EBC2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251E1C-D0C9-4A62-AB4E-C59C9BCCF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5A1684-7F16-4EBE-A44D-6C5B3B3E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2D9936-B4D2-42BC-8A07-ADE92446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5B7EDF-9451-4DD3-8B9F-ABA770C6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68A250-7838-4A18-97FC-B89537A60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C80474-60E8-4595-B73D-C3D771713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17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18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9DD388-76BF-4558-BEF0-2E178EDF2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7B209F-6A15-43E9-9B2B-34852F0D0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13FA7C7-E6F7-4FA7-8C33-D03B472CF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7BF9D96-48DB-4572-963B-5C51ABB51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52E1500-CAA7-447A-B13D-85D0E61B6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01D1E5E-E006-4DAC-8200-E4419819E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C7FD7C6-698D-412F-A78D-8B1998067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A692DC3-94A5-44E8-8900-B128471C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EE0CAF3-81C2-41A5-971A-31D8A653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5B8969C-8F66-4EA3-8546-0895161C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1CFC40C-A787-475C-A82A-BED835046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53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7967BC-3A8D-4D44-9E3E-DB4F93DE5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59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60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0A43B8C-113C-454E-86D7-7953E6789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7F9AFA5-33B2-4D67-9573-75ED0BE89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4F0F2EB-FCC3-47F8-A1B0-97946463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832677C-08DD-4937-AD4C-E39BFE784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7D12DD5-ACFD-496C-A7CD-08F505A5E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7640811-5387-4745-8CC4-39D1A0F7B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B7CCD83-241D-48BD-AD3F-0F2000BB6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DF92E21-7C5A-4555-AD08-764C82EA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C52379F-283D-4B58-A607-8EA15C9A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31ED638-D5AD-444E-8F05-C85D77C2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9A8F34D-40BB-4C5E-B001-F4BBB5D78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95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05420DA-1D5C-41B5-9D66-3ECE5C0BD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00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01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02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627050E-BFC3-4181-999F-D753E5AE7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34AE4FA-34F0-450D-B592-0F3D90A89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D817E8E-563F-4266-A252-CF33C7042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C261C65-0F45-493F-9B73-C801BB2B1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A64925C-A631-4043-808E-466CD4D8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2F954AA-4968-4810-9D77-F9004B520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D3E6B77-A335-4590-AF6A-2EFB16E0E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22A1F9F-CF22-45BF-A58C-08F603C8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BA5D11A-AE68-457D-88C3-0DE77FBB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479529F-BC2C-4431-97E5-37A2E3DE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5E8FB78-D369-4CA9-8758-E940ABA49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37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49DFE0A-A60B-47A9-97C7-7E4F5DA4C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42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43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44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645878E-9EA8-4FA9-A533-ADB769EEF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75F3359-2D66-4370-A9AE-44DB62AB9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006DBC9-1FA1-4731-9885-B4D2ABD06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CA5A8E7-4F18-4EDD-B31C-AC8219B41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CCA9118-54D5-4F61-8DCF-4765190A0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82FC5C3-369D-4001-95FB-77402A7EF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2BD8FD0-42D3-4710-A8EA-ADF9C67DE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14444E2-CA68-4EB5-A390-0821185F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9E66E36-DB02-45D8-9840-E73FB656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FEAC06B-BC5E-462B-8DAF-A6643AF2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7341BF0-25F7-40DE-AC9A-55AA86368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79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ACF004C-7EA5-4A91-8981-CA4825A09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84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85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86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1155A3D-5D41-49FA-AD04-9B1C4FC53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77F7D99-714D-42E4-BE56-897BC3A25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AF6D289-A738-49B0-8109-482545FD6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2CE9CE7-323D-4672-BC2D-E9D136B1E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3F4BAB7-7805-46BB-8351-729AEB85D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6FC38F2-7B3A-42D1-85F9-49282277E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3A14F51-2813-45FC-844E-305BBE063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5DAD1D1-122C-48D0-8E4F-AD677591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1D4606D-10AF-440E-8BB8-22412D4C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5A8CA9D-2981-4800-B9F9-A4152ED2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9BC2EDC-7D5E-4E04-88C4-E4A610AE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21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8D4D927-35A0-4012-9560-6428D5C43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26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27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28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9B22503-3410-448B-B5A0-8BF9237B6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36D2403-1161-41B6-AD9D-F7C8FEC4C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024F801-D60E-4DE1-A7A1-EDB111A1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D6A75D3-5B50-4062-B846-452C18EC4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50E5E95-ACAD-4C3C-A408-A7A74EEA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3C428BD-0E1B-4B05-873F-870596D45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484D3D8-4182-47BC-A0D9-9B89E301C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C7BF606-7D61-48D9-B24B-7D9874FC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EFB3533-D05D-4D44-955B-FF14ED43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9F5B17E-8B1B-464E-9366-06F49CDE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6AA90BB-6FE5-4B7E-8B59-79387B85C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63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99278F9-FD7E-4AB6-8503-CBEE0E265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68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69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70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B88BCD4-D497-443C-9339-467A36CDB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32E4DC3-506B-4A76-A18D-4F8E8D8E7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1D767A5-1E04-489F-9836-3658E720E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8278842-F0F6-464C-B3EC-EC4F69BC7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EFBE029-5EB7-4865-9F28-0BA16507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023CD1C-EDB3-49BA-9BF5-5A4D76E00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A85C170-E8C6-418E-B67D-E69D43484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4333201-75C8-43FA-98BF-A250686C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93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ADBC626-883E-40F2-A0AD-BAFEDDD9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E8B96FC-E343-45F6-B068-20455702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3582FE9-5F0E-43CE-85BC-0E9D38FCE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04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05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235180C-8A46-4EB2-B0A5-FC0518728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10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11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12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374EA53-1B9C-431D-8454-CA8265C04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38491B0-8B8B-4EFB-9C73-DAEDCF610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2E24E17-21EC-4C65-8D3D-DA5DAF39B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B91FFBF-BCB6-43AF-A08F-AE57773C7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657D683-618B-43DA-B160-8969220FF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E75824A-83D5-4F33-9DBA-0BFD09A22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D8CD2ED-445B-4457-8538-53ED1873E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7664693-DBFF-415F-BB69-5116CA48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781A884-9CF5-4586-8CCF-DFA06980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3ECD3D6-EAF6-4F63-85BA-79C2685D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0A6D163-2E76-4097-A0C7-50FC2F5DB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47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03028CE-3855-40DF-B7DD-ADE126985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52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53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54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A0E38AA-05AA-4DB1-8814-E5370FBE7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F7A8DD8-5F65-4AB6-A66F-DD47AD189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1C8B7EE-05A3-4C47-9F86-4CE54D929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BAD757B-ED36-4531-9714-FEB79D7D2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07140C5-6F12-4DC7-A66D-C20387505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130EF68-4566-4424-9076-1D83673DB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0B0097D-F247-4F4A-8AC9-76EB519DA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73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45BEF55-87D6-4162-8ED3-8A4197E6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77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6613CAE-C5F8-454E-8E71-22B382CD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77AF4E3-CDD8-42A2-BE20-43F82F59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4CA9D79-3C62-43C4-8AA0-AD1115E52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89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487855D-0675-4E39-A6F5-B6B212B6A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94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95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96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013D5DF-B975-42CC-9062-D5078DBA8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F4BE-3AD5-40ED-9CA7-558C6E9FC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523C-7CC9-431A-8320-334164B09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76A8-9E8B-45FE-90E8-7C05350B7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AFD5-0F45-4A90-A1FC-FFF0F3B93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CEA8-FF19-4869-B382-40E81FEDC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4537-2C4E-40CC-8EFF-D258FD9DF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F8E9-C030-4978-B247-767398DD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9E96-AE32-47F6-B11A-5B4BF451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74FF-B730-4A71-9DA6-E14AFD1D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7CFB-42FC-489F-8A8A-2E8BB6866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4C5D-844E-4C8D-B462-02FED3C38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2F5E-FF92-4320-80B9-1B6CB330D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16D54-DEC9-44C9-B520-87EFE015C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8D7C9-5874-46F0-842B-45BFE6259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83C97-6581-47FA-96BB-ECD261764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71AA7-6826-4007-AF82-2F22178D6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078F0-857B-4463-B4A4-2D5DFBF0A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22B68-2F51-4E7D-B25B-F15764C7A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D8BBC-86A9-4204-B8FE-D6D3930B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01578-A266-4B9E-974D-A10315AB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783EE-64BA-43E0-9E77-04A5125E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4E80E-BFBF-4FD5-912F-5A430B7DA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7E6C8-6937-4D37-B3A8-3AA1B0B0D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BA733-2E0B-43BE-93CC-99E0E94A8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D736A-8AEE-47B6-8A8A-F8008086D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8BA74-C357-40C0-9B4F-F831209CC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0E2B4-16A4-4224-BCCD-CFE295AB5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CA287-1CD2-4048-AF56-D33E10329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D360E-37C3-4CC1-982B-C4B7CA382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72587-F4FC-4EEB-8E74-C14390CB0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58A4D-D4B6-45BE-97F7-9D6B2F75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3231B-2377-41C1-AB59-1D7993E3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7E876-82D2-49F0-B22F-D57C6C11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2C071-762E-4E05-A1FB-CE28FD8AF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1CD61-6E8D-482E-9CAD-B9495141B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07629-5EFD-443E-A585-E5D46D1AC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290DB-22AF-4BB0-9635-D7E9F1E6F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D0B37-66FC-46A1-BFE1-99B352A29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59A6E-16DF-45CE-9CD9-608E53395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01ADE-8B17-4F3A-8212-F38E646B0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97E98-54E1-445F-B07B-FC8366463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650880" y="431280"/>
            <a:ext cx="774864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0EF7F-7103-420C-B642-7B52D137B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C023E-54EB-4AE9-87EE-B03D15C4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5E549-98DE-4911-952D-5E58EEF3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00134-35A7-4DA6-A15D-03205FE9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50520" y="3832560"/>
            <a:ext cx="79311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1A0D5-BCBE-48FF-9C7E-98A6AF03D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714920" y="164160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505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714920" y="3832560"/>
            <a:ext cx="387036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94A40-5D3B-49C0-9DCE-6DCE4B0CE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3216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13440" y="164160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5052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3216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13440" y="3832560"/>
            <a:ext cx="2553480" cy="2000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B0FBD-F609-42F0-8DFD-BE208E6BB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AEF3D-DF8F-4053-B5AD-0DDCC2783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1CD2A-FDF2-4EA7-9DF8-86818029F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2CB35-3A17-4549-81C9-236AC5B4B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9" descr="dd"/>
          <p:cNvPicPr/>
          <p:nvPr/>
        </p:nvPicPr>
        <p:blipFill>
          <a:blip r:embed="rId2"/>
          <a:stretch/>
        </p:blipFill>
        <p:spPr>
          <a:xfrm>
            <a:off x="0" y="6224760"/>
            <a:ext cx="9150480" cy="63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黑体 (标题)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650880" indent="-25092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003320" indent="-2001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400040" indent="-199800">
              <a:lnSpc>
                <a:spcPct val="140000"/>
              </a:lnSpc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Text Box 8"/>
          <p:cNvSpPr/>
          <p:nvPr/>
        </p:nvSpPr>
        <p:spPr>
          <a:xfrm>
            <a:off x="555480" y="6438960"/>
            <a:ext cx="28130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  <a:ea typeface="华文细黑"/>
              </a:rPr>
              <a:t>HUAWEI TECHNOLOGIES CO.,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9" descr="8"/>
          <p:cNvPicPr/>
          <p:nvPr/>
        </p:nvPicPr>
        <p:blipFill>
          <a:blip r:embed="rId3"/>
          <a:stretch/>
        </p:blipFill>
        <p:spPr>
          <a:xfrm>
            <a:off x="7508880" y="6399360"/>
            <a:ext cx="1311120" cy="312480"/>
          </a:xfrm>
          <a:prstGeom prst="rect">
            <a:avLst/>
          </a:prstGeom>
          <a:ln w="0">
            <a:noFill/>
          </a:ln>
        </p:spPr>
      </p:pic>
      <p:sp>
        <p:nvSpPr>
          <p:cNvPr id="5" name="TextBox 13"/>
          <p:cNvSpPr/>
          <p:nvPr/>
        </p:nvSpPr>
        <p:spPr>
          <a:xfrm>
            <a:off x="6364440" y="6491160"/>
            <a:ext cx="20984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Page </a:t>
            </a:r>
            <a:fld id="{1F96F843-BF88-4B04-A4BB-DF96F38528D9}" type="slidenum">
              <a:rPr b="0" lang="de-DE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79" descr="dd"/>
          <p:cNvPicPr/>
          <p:nvPr/>
        </p:nvPicPr>
        <p:blipFill>
          <a:blip r:embed="rId2"/>
          <a:stretch/>
        </p:blipFill>
        <p:spPr>
          <a:xfrm>
            <a:off x="0" y="6224760"/>
            <a:ext cx="9150480" cy="63648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8"/>
          <p:cNvSpPr/>
          <p:nvPr/>
        </p:nvSpPr>
        <p:spPr>
          <a:xfrm>
            <a:off x="555480" y="6438960"/>
            <a:ext cx="28130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  <a:ea typeface="华文细黑"/>
              </a:rPr>
              <a:t>HUAWEI TECHNOLOGIES CO.,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9" descr="8"/>
          <p:cNvPicPr/>
          <p:nvPr/>
        </p:nvPicPr>
        <p:blipFill>
          <a:blip r:embed="rId3"/>
          <a:stretch/>
        </p:blipFill>
        <p:spPr>
          <a:xfrm>
            <a:off x="7508880" y="6399360"/>
            <a:ext cx="1311120" cy="312480"/>
          </a:xfrm>
          <a:prstGeom prst="rect">
            <a:avLst/>
          </a:prstGeom>
          <a:ln w="0">
            <a:noFill/>
          </a:ln>
        </p:spPr>
      </p:pic>
      <p:sp>
        <p:nvSpPr>
          <p:cNvPr id="392" name="TextBox 13"/>
          <p:cNvSpPr/>
          <p:nvPr/>
        </p:nvSpPr>
        <p:spPr>
          <a:xfrm>
            <a:off x="6364440" y="6491160"/>
            <a:ext cx="20984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Page </a:t>
            </a:r>
            <a:fld id="{05A21DC9-5A3C-42CB-A36E-89E3DF5A299F}" type="slidenum">
              <a:rPr b="0" lang="de-DE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黑体 (标题)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650880" indent="-25092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003320" indent="-2001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400040" indent="-199800">
              <a:lnSpc>
                <a:spcPct val="140000"/>
              </a:lnSpc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16"/>
          </p:nvPr>
        </p:nvSpPr>
        <p:spPr>
          <a:xfrm>
            <a:off x="324000" y="6356520"/>
            <a:ext cx="2519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2B225-89AF-4131-9F21-36C1E36B7C61}" type="slidenum">
              <a: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79" descr="dd"/>
          <p:cNvPicPr/>
          <p:nvPr/>
        </p:nvPicPr>
        <p:blipFill>
          <a:blip r:embed="rId2"/>
          <a:stretch/>
        </p:blipFill>
        <p:spPr>
          <a:xfrm>
            <a:off x="0" y="6224760"/>
            <a:ext cx="9150480" cy="63648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8"/>
          <p:cNvSpPr/>
          <p:nvPr/>
        </p:nvSpPr>
        <p:spPr>
          <a:xfrm>
            <a:off x="555480" y="6438960"/>
            <a:ext cx="28130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  <a:ea typeface="华文细黑"/>
              </a:rPr>
              <a:t>HUAWEI TECHNOLOGIES CO.,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9" descr="8"/>
          <p:cNvPicPr/>
          <p:nvPr/>
        </p:nvPicPr>
        <p:blipFill>
          <a:blip r:embed="rId3"/>
          <a:stretch/>
        </p:blipFill>
        <p:spPr>
          <a:xfrm>
            <a:off x="7508880" y="6399360"/>
            <a:ext cx="1311120" cy="312480"/>
          </a:xfrm>
          <a:prstGeom prst="rect">
            <a:avLst/>
          </a:prstGeom>
          <a:ln w="0">
            <a:noFill/>
          </a:ln>
        </p:spPr>
      </p:pic>
      <p:sp>
        <p:nvSpPr>
          <p:cNvPr id="437" name="TextBox 13"/>
          <p:cNvSpPr/>
          <p:nvPr/>
        </p:nvSpPr>
        <p:spPr>
          <a:xfrm>
            <a:off x="6364440" y="6491160"/>
            <a:ext cx="20984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Page </a:t>
            </a:r>
            <a:fld id="{784A67A0-DA71-41AC-B945-2E18DAB912B2}" type="slidenum">
              <a:rPr b="0" lang="de-DE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黑体 (标题)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650880" indent="-25092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003320" indent="-2001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400040" indent="-199800">
              <a:lnSpc>
                <a:spcPct val="140000"/>
              </a:lnSpc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19"/>
          </p:nvPr>
        </p:nvSpPr>
        <p:spPr>
          <a:xfrm>
            <a:off x="324000" y="6356520"/>
            <a:ext cx="2519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1C375-254D-4D61-8BF7-D0A90BB60640}" type="slidenum">
              <a: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Picture 79" descr="dd"/>
          <p:cNvPicPr/>
          <p:nvPr/>
        </p:nvPicPr>
        <p:blipFill>
          <a:blip r:embed="rId2"/>
          <a:stretch/>
        </p:blipFill>
        <p:spPr>
          <a:xfrm>
            <a:off x="0" y="6224760"/>
            <a:ext cx="9150480" cy="636480"/>
          </a:xfrm>
          <a:prstGeom prst="rect">
            <a:avLst/>
          </a:prstGeom>
          <a:ln w="0">
            <a:noFill/>
          </a:ln>
        </p:spPr>
      </p:pic>
      <p:sp>
        <p:nvSpPr>
          <p:cNvPr id="480" name="Text Box 8"/>
          <p:cNvSpPr/>
          <p:nvPr/>
        </p:nvSpPr>
        <p:spPr>
          <a:xfrm>
            <a:off x="555480" y="6438960"/>
            <a:ext cx="28130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  <a:ea typeface="华文细黑"/>
              </a:rPr>
              <a:t>HUAWEI TECHNOLOGIES CO.,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9" descr="8"/>
          <p:cNvPicPr/>
          <p:nvPr/>
        </p:nvPicPr>
        <p:blipFill>
          <a:blip r:embed="rId3"/>
          <a:stretch/>
        </p:blipFill>
        <p:spPr>
          <a:xfrm>
            <a:off x="7508880" y="6399360"/>
            <a:ext cx="1311120" cy="312480"/>
          </a:xfrm>
          <a:prstGeom prst="rect">
            <a:avLst/>
          </a:prstGeom>
          <a:ln w="0">
            <a:noFill/>
          </a:ln>
        </p:spPr>
      </p:pic>
      <p:sp>
        <p:nvSpPr>
          <p:cNvPr id="482" name="TextBox 13"/>
          <p:cNvSpPr/>
          <p:nvPr/>
        </p:nvSpPr>
        <p:spPr>
          <a:xfrm>
            <a:off x="6364440" y="6491160"/>
            <a:ext cx="20984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Page </a:t>
            </a:r>
            <a:fld id="{67E892A3-7A0A-45D0-BE06-CC1AA9151CDA}" type="slidenum">
              <a:rPr b="0" lang="de-DE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黑体 (标题)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650880" indent="-25092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003320" indent="-2001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400040" indent="-199800">
              <a:lnSpc>
                <a:spcPct val="140000"/>
              </a:lnSpc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2"/>
          </p:nvPr>
        </p:nvSpPr>
        <p:spPr>
          <a:xfrm>
            <a:off x="324000" y="6356520"/>
            <a:ext cx="2519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B2908-1039-4EBA-B6BD-71D0F815E43F}" type="slidenum">
              <a: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79" descr="dd"/>
          <p:cNvPicPr/>
          <p:nvPr/>
        </p:nvPicPr>
        <p:blipFill>
          <a:blip r:embed="rId2"/>
          <a:stretch/>
        </p:blipFill>
        <p:spPr>
          <a:xfrm>
            <a:off x="0" y="6224760"/>
            <a:ext cx="9150480" cy="636480"/>
          </a:xfrm>
          <a:prstGeom prst="rect">
            <a:avLst/>
          </a:prstGeom>
          <a:ln w="0">
            <a:noFill/>
          </a:ln>
        </p:spPr>
      </p:pic>
      <p:sp>
        <p:nvSpPr>
          <p:cNvPr id="525" name="Text Box 8"/>
          <p:cNvSpPr/>
          <p:nvPr/>
        </p:nvSpPr>
        <p:spPr>
          <a:xfrm>
            <a:off x="555480" y="6438960"/>
            <a:ext cx="28130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  <a:ea typeface="华文细黑"/>
              </a:rPr>
              <a:t>HUAWEI TECHNOLOGIES CO.,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9" descr="8"/>
          <p:cNvPicPr/>
          <p:nvPr/>
        </p:nvPicPr>
        <p:blipFill>
          <a:blip r:embed="rId3"/>
          <a:stretch/>
        </p:blipFill>
        <p:spPr>
          <a:xfrm>
            <a:off x="7508880" y="6399360"/>
            <a:ext cx="1311120" cy="312480"/>
          </a:xfrm>
          <a:prstGeom prst="rect">
            <a:avLst/>
          </a:prstGeom>
          <a:ln w="0">
            <a:noFill/>
          </a:ln>
        </p:spPr>
      </p:pic>
      <p:sp>
        <p:nvSpPr>
          <p:cNvPr id="527" name="TextBox 13"/>
          <p:cNvSpPr/>
          <p:nvPr/>
        </p:nvSpPr>
        <p:spPr>
          <a:xfrm>
            <a:off x="6364440" y="6491160"/>
            <a:ext cx="20984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Page </a:t>
            </a:r>
            <a:fld id="{0A9CB891-FD8B-4E75-90AD-8FF67DDD9C9D}" type="slidenum">
              <a:rPr b="0" lang="de-DE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黑体 (标题)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650880" indent="-25092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003320" indent="-2001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400040" indent="-199800">
              <a:lnSpc>
                <a:spcPct val="140000"/>
              </a:lnSpc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25"/>
          </p:nvPr>
        </p:nvSpPr>
        <p:spPr>
          <a:xfrm>
            <a:off x="324000" y="6356520"/>
            <a:ext cx="2519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DFFF5-BB03-4936-BF9C-7E08C839FA2E}" type="slidenum">
              <a: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79" descr="dd"/>
          <p:cNvPicPr/>
          <p:nvPr/>
        </p:nvPicPr>
        <p:blipFill>
          <a:blip r:embed="rId2"/>
          <a:stretch/>
        </p:blipFill>
        <p:spPr>
          <a:xfrm>
            <a:off x="0" y="6224760"/>
            <a:ext cx="9150480" cy="636480"/>
          </a:xfrm>
          <a:prstGeom prst="rect">
            <a:avLst/>
          </a:prstGeom>
          <a:ln w="0">
            <a:noFill/>
          </a:ln>
        </p:spPr>
      </p:pic>
      <p:sp>
        <p:nvSpPr>
          <p:cNvPr id="570" name="Text Box 8"/>
          <p:cNvSpPr/>
          <p:nvPr/>
        </p:nvSpPr>
        <p:spPr>
          <a:xfrm>
            <a:off x="555480" y="6438960"/>
            <a:ext cx="28130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  <a:ea typeface="华文细黑"/>
              </a:rPr>
              <a:t>HUAWEI TECHNOLOGIES CO.,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9" descr="8"/>
          <p:cNvPicPr/>
          <p:nvPr/>
        </p:nvPicPr>
        <p:blipFill>
          <a:blip r:embed="rId3"/>
          <a:stretch/>
        </p:blipFill>
        <p:spPr>
          <a:xfrm>
            <a:off x="7508880" y="6399360"/>
            <a:ext cx="1311120" cy="312480"/>
          </a:xfrm>
          <a:prstGeom prst="rect">
            <a:avLst/>
          </a:prstGeom>
          <a:ln w="0">
            <a:noFill/>
          </a:ln>
        </p:spPr>
      </p:pic>
      <p:sp>
        <p:nvSpPr>
          <p:cNvPr id="572" name="TextBox 13"/>
          <p:cNvSpPr/>
          <p:nvPr/>
        </p:nvSpPr>
        <p:spPr>
          <a:xfrm>
            <a:off x="6364440" y="6491160"/>
            <a:ext cx="20984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Page </a:t>
            </a:r>
            <a:fld id="{F371203B-F969-4CF8-96E4-6FBF460EC24D}" type="slidenum">
              <a:rPr b="0" lang="de-DE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黑体 (标题)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650880" indent="-25092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003320" indent="-2001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400040" indent="-199800">
              <a:lnSpc>
                <a:spcPct val="140000"/>
              </a:lnSpc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dt" idx="28"/>
          </p:nvPr>
        </p:nvSpPr>
        <p:spPr>
          <a:xfrm>
            <a:off x="324000" y="6356520"/>
            <a:ext cx="2519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2F6CF-3D52-4649-B682-DCB8BF7C8629}" type="slidenum">
              <a: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2" descr="Logo"/>
          <p:cNvPicPr/>
          <p:nvPr/>
        </p:nvPicPr>
        <p:blipFill>
          <a:blip r:embed="rId2"/>
          <a:stretch/>
        </p:blipFill>
        <p:spPr>
          <a:xfrm>
            <a:off x="7508880" y="5578560"/>
            <a:ext cx="820800" cy="82224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3" descr="2"/>
          <p:cNvPicPr/>
          <p:nvPr/>
        </p:nvPicPr>
        <p:blipFill>
          <a:blip r:embed="rId3"/>
          <a:stretch/>
        </p:blipFill>
        <p:spPr>
          <a:xfrm>
            <a:off x="1440" y="784080"/>
            <a:ext cx="9142560" cy="3810240"/>
          </a:xfrm>
          <a:prstGeom prst="rect">
            <a:avLst/>
          </a:prstGeom>
          <a:ln w="0">
            <a:noFill/>
          </a:ln>
        </p:spPr>
      </p:pic>
      <p:sp>
        <p:nvSpPr>
          <p:cNvPr id="616" name="Text Box 4"/>
          <p:cNvSpPr/>
          <p:nvPr/>
        </p:nvSpPr>
        <p:spPr>
          <a:xfrm>
            <a:off x="626400" y="326880"/>
            <a:ext cx="133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500" spc="-1" strike="noStrike">
                <a:solidFill>
                  <a:srgbClr val="666666"/>
                </a:solidFill>
                <a:latin typeface="FrutigerNext LT Regular"/>
                <a:ea typeface="MS PGothic"/>
              </a:rPr>
              <a:t>06.April 200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5"/>
          <p:cNvSpPr/>
          <p:nvPr/>
        </p:nvSpPr>
        <p:spPr>
          <a:xfrm>
            <a:off x="582480" y="6205680"/>
            <a:ext cx="280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HUAWEI TECHNOLOGIES CO.,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6"/>
          <p:cNvSpPr/>
          <p:nvPr/>
        </p:nvSpPr>
        <p:spPr>
          <a:xfrm>
            <a:off x="7246800" y="3984480"/>
            <a:ext cx="15033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www.huawei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黑体 (标题)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650880" indent="-25092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003320" indent="-2001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400040" indent="-199800">
              <a:lnSpc>
                <a:spcPct val="140000"/>
              </a:lnSpc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50520" y="636120"/>
            <a:ext cx="793116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黑体"/>
              </a:rPr>
              <a:t>Click to edit the title text format</a:t>
            </a:r>
            <a:endParaRPr b="0" lang="en-US" sz="3500" spc="-1" strike="noStrike">
              <a:solidFill>
                <a:srgbClr val="990000"/>
              </a:solidFill>
              <a:latin typeface="黑体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1" marL="971640" indent="-51444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3" marL="1400040" indent="-199800">
              <a:lnSpc>
                <a:spcPct val="140000"/>
              </a:lnSpc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4" marL="1803240" indent="-199800">
              <a:lnSpc>
                <a:spcPct val="140000"/>
              </a:lnSpc>
              <a:buClr>
                <a:srgbClr val="000000"/>
              </a:buClr>
              <a:buSzPct val="50000"/>
              <a:buFont typeface="FrutigerNext LT LightC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5" marL="1803240" indent="-199800">
              <a:lnSpc>
                <a:spcPct val="140000"/>
              </a:lnSpc>
              <a:buClr>
                <a:srgbClr val="000000"/>
              </a:buClr>
              <a:buSzPct val="50000"/>
              <a:buFont typeface="FrutigerNext LT LightC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6" marL="1803240" indent="-199800">
              <a:lnSpc>
                <a:spcPct val="140000"/>
              </a:lnSpc>
              <a:buClr>
                <a:srgbClr val="000000"/>
              </a:buClr>
              <a:buSzPct val="50000"/>
              <a:buFont typeface="FrutigerNext LT LightC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9C09C-39CB-419D-A041-CA937AE5695A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50520" y="636120"/>
            <a:ext cx="793116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黑体"/>
              </a:rPr>
              <a:t>Click to edit the title text format</a:t>
            </a:r>
            <a:endParaRPr b="0" lang="en-US" sz="3500" spc="-1" strike="noStrike">
              <a:solidFill>
                <a:srgbClr val="990000"/>
              </a:solidFill>
              <a:latin typeface="黑体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1" marL="971640" indent="-51444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3" marL="1400040" indent="-199800">
              <a:lnSpc>
                <a:spcPct val="140000"/>
              </a:lnSpc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4" marL="1803240" indent="-199800">
              <a:lnSpc>
                <a:spcPct val="140000"/>
              </a:lnSpc>
              <a:buClr>
                <a:srgbClr val="000000"/>
              </a:buClr>
              <a:buSzPct val="50000"/>
              <a:buFont typeface="FrutigerNext LT LightC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5" marL="1803240" indent="-199800">
              <a:lnSpc>
                <a:spcPct val="140000"/>
              </a:lnSpc>
              <a:buClr>
                <a:srgbClr val="000000"/>
              </a:buClr>
              <a:buSzPct val="50000"/>
              <a:buFont typeface="FrutigerNext LT LightC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6" marL="1803240" indent="-199800">
              <a:lnSpc>
                <a:spcPct val="140000"/>
              </a:lnSpc>
              <a:buClr>
                <a:srgbClr val="000000"/>
              </a:buClr>
              <a:buSzPct val="50000"/>
              <a:buFont typeface="FrutigerNext LT LightC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CF766-D5B2-4F4F-ADE6-72FE07D4A665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50520" y="636120"/>
            <a:ext cx="793116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黑体"/>
              </a:rPr>
              <a:t>Click to edit the title text format</a:t>
            </a:r>
            <a:endParaRPr b="0" lang="en-US" sz="3500" spc="-1" strike="noStrike">
              <a:solidFill>
                <a:srgbClr val="990000"/>
              </a:solidFill>
              <a:latin typeface="黑体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1" marL="971640" indent="-51444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3" marL="1400040" indent="-199800">
              <a:lnSpc>
                <a:spcPct val="140000"/>
              </a:lnSpc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4" marL="1803240" indent="-199800">
              <a:lnSpc>
                <a:spcPct val="140000"/>
              </a:lnSpc>
              <a:buClr>
                <a:srgbClr val="000000"/>
              </a:buClr>
              <a:buSzPct val="50000"/>
              <a:buFont typeface="FrutigerNext LT LightC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5" marL="1803240" indent="-199800">
              <a:lnSpc>
                <a:spcPct val="140000"/>
              </a:lnSpc>
              <a:buClr>
                <a:srgbClr val="000000"/>
              </a:buClr>
              <a:buSzPct val="50000"/>
              <a:buFont typeface="FrutigerNext LT LightC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6" marL="1803240" indent="-199800">
              <a:lnSpc>
                <a:spcPct val="140000"/>
              </a:lnSpc>
              <a:buClr>
                <a:srgbClr val="000000"/>
              </a:buClr>
              <a:buSzPct val="50000"/>
              <a:buFont typeface="FrutigerNext LT LightC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12F5F-E09E-4E74-8BC0-331DCC99C08D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50520" y="636120"/>
            <a:ext cx="793116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黑体"/>
              </a:rPr>
              <a:t>Click to edit the title text format</a:t>
            </a:r>
            <a:endParaRPr b="0" lang="en-US" sz="3500" spc="-1" strike="noStrike">
              <a:solidFill>
                <a:srgbClr val="990000"/>
              </a:solidFill>
              <a:latin typeface="黑体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1" marL="971640" indent="-51444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3" marL="1400040" indent="-199800">
              <a:lnSpc>
                <a:spcPct val="140000"/>
              </a:lnSpc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4" marL="1803240" indent="-199800">
              <a:lnSpc>
                <a:spcPct val="140000"/>
              </a:lnSpc>
              <a:buClr>
                <a:srgbClr val="000000"/>
              </a:buClr>
              <a:buSzPct val="50000"/>
              <a:buFont typeface="FrutigerNext LT LightC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5" marL="1803240" indent="-199800">
              <a:lnSpc>
                <a:spcPct val="140000"/>
              </a:lnSpc>
              <a:buClr>
                <a:srgbClr val="000000"/>
              </a:buClr>
              <a:buSzPct val="50000"/>
              <a:buFont typeface="FrutigerNext LT LightC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6" marL="1803240" indent="-199800">
              <a:lnSpc>
                <a:spcPct val="140000"/>
              </a:lnSpc>
              <a:buClr>
                <a:srgbClr val="000000"/>
              </a:buClr>
              <a:buSzPct val="50000"/>
              <a:buFont typeface="FrutigerNext LT LightC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3C1A6-8799-43F8-93BC-DF1BE1854F85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0520" y="636120"/>
            <a:ext cx="793116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黑体"/>
              </a:rPr>
              <a:t>Click to edit the title text format</a:t>
            </a:r>
            <a:endParaRPr b="0" lang="en-US" sz="3500" spc="-1" strike="noStrike">
              <a:solidFill>
                <a:srgbClr val="990000"/>
              </a:solidFill>
              <a:latin typeface="黑体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1" marL="971640" indent="-51444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3" marL="1400040" indent="-199800">
              <a:lnSpc>
                <a:spcPct val="140000"/>
              </a:lnSpc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4" marL="1803240" indent="-199800">
              <a:lnSpc>
                <a:spcPct val="140000"/>
              </a:lnSpc>
              <a:buClr>
                <a:srgbClr val="000000"/>
              </a:buClr>
              <a:buSzPct val="50000"/>
              <a:buFont typeface="FrutigerNext LT LightC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5" marL="1803240" indent="-199800">
              <a:lnSpc>
                <a:spcPct val="140000"/>
              </a:lnSpc>
              <a:buClr>
                <a:srgbClr val="000000"/>
              </a:buClr>
              <a:buSzPct val="50000"/>
              <a:buFont typeface="FrutigerNext LT LightC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6" marL="1803240" indent="-199800">
              <a:lnSpc>
                <a:spcPct val="140000"/>
              </a:lnSpc>
              <a:buClr>
                <a:srgbClr val="000000"/>
              </a:buClr>
              <a:buSzPct val="50000"/>
              <a:buFont typeface="FrutigerNext LT LightC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50520" y="636120"/>
            <a:ext cx="793116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黑体"/>
              </a:rPr>
              <a:t>Click to edit the title text format</a:t>
            </a:r>
            <a:endParaRPr b="0" lang="en-US" sz="3500" spc="-1" strike="noStrike">
              <a:solidFill>
                <a:srgbClr val="990000"/>
              </a:solidFill>
              <a:latin typeface="黑体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1" marL="971640" indent="-51444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3" marL="1400040" indent="-199800">
              <a:lnSpc>
                <a:spcPct val="140000"/>
              </a:lnSpc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4" marL="1803240" indent="-199800">
              <a:lnSpc>
                <a:spcPct val="140000"/>
              </a:lnSpc>
              <a:buClr>
                <a:srgbClr val="000000"/>
              </a:buClr>
              <a:buSzPct val="50000"/>
              <a:buFont typeface="FrutigerNext LT LightC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5" marL="1803240" indent="-199800">
              <a:lnSpc>
                <a:spcPct val="140000"/>
              </a:lnSpc>
              <a:buClr>
                <a:srgbClr val="000000"/>
              </a:buClr>
              <a:buSzPct val="50000"/>
              <a:buFont typeface="FrutigerNext LT LightC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6" marL="1803240" indent="-199800">
              <a:lnSpc>
                <a:spcPct val="140000"/>
              </a:lnSpc>
              <a:buClr>
                <a:srgbClr val="000000"/>
              </a:buClr>
              <a:buSzPct val="50000"/>
              <a:buFont typeface="FrutigerNext LT LightC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1DC4E-1DBB-4C12-80C7-0CC12CAB85D3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50520" y="636120"/>
            <a:ext cx="793116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黑体"/>
              </a:rPr>
              <a:t>Click to edit the title text format</a:t>
            </a:r>
            <a:endParaRPr b="0" lang="en-US" sz="3500" spc="-1" strike="noStrike">
              <a:solidFill>
                <a:srgbClr val="990000"/>
              </a:solidFill>
              <a:latin typeface="黑体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1" marL="971640" indent="-51444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3" marL="1400040" indent="-199800">
              <a:lnSpc>
                <a:spcPct val="140000"/>
              </a:lnSpc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4" marL="1803240" indent="-199800">
              <a:lnSpc>
                <a:spcPct val="140000"/>
              </a:lnSpc>
              <a:buClr>
                <a:srgbClr val="000000"/>
              </a:buClr>
              <a:buSzPct val="50000"/>
              <a:buFont typeface="FrutigerNext LT LightC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5" marL="1803240" indent="-199800">
              <a:lnSpc>
                <a:spcPct val="140000"/>
              </a:lnSpc>
              <a:buClr>
                <a:srgbClr val="000000"/>
              </a:buClr>
              <a:buSzPct val="50000"/>
              <a:buFont typeface="FrutigerNext LT LightC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6" marL="1803240" indent="-199800">
              <a:lnSpc>
                <a:spcPct val="140000"/>
              </a:lnSpc>
              <a:buClr>
                <a:srgbClr val="000000"/>
              </a:buClr>
              <a:buSzPct val="50000"/>
              <a:buFont typeface="FrutigerNext LT LightC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E159F-1F78-4987-B6C0-6326C517508D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50520" y="636120"/>
            <a:ext cx="793116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黑体"/>
              </a:rPr>
              <a:t>Click to edit the title text format</a:t>
            </a:r>
            <a:endParaRPr b="0" lang="en-US" sz="3500" spc="-1" strike="noStrike">
              <a:solidFill>
                <a:srgbClr val="990000"/>
              </a:solidFill>
              <a:latin typeface="黑体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1" marL="971640" indent="-51444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3" marL="1400040" indent="-199800">
              <a:lnSpc>
                <a:spcPct val="140000"/>
              </a:lnSpc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4" marL="1803240" indent="-199800">
              <a:lnSpc>
                <a:spcPct val="140000"/>
              </a:lnSpc>
              <a:buClr>
                <a:srgbClr val="000000"/>
              </a:buClr>
              <a:buSzPct val="50000"/>
              <a:buFont typeface="FrutigerNext LT LightC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5" marL="1803240" indent="-199800">
              <a:lnSpc>
                <a:spcPct val="140000"/>
              </a:lnSpc>
              <a:buClr>
                <a:srgbClr val="000000"/>
              </a:buClr>
              <a:buSzPct val="50000"/>
              <a:buFont typeface="FrutigerNext LT LightC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6" marL="1803240" indent="-199800">
              <a:lnSpc>
                <a:spcPct val="140000"/>
              </a:lnSpc>
              <a:buClr>
                <a:srgbClr val="000000"/>
              </a:buClr>
              <a:buSzPct val="50000"/>
              <a:buFont typeface="FrutigerNext LT LightC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28044-B3EF-4144-B8BC-C8219C804766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50520" y="636120"/>
            <a:ext cx="793116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黑体"/>
              </a:rPr>
              <a:t>Click to edit the title text format</a:t>
            </a:r>
            <a:endParaRPr b="0" lang="en-US" sz="3500" spc="-1" strike="noStrike">
              <a:solidFill>
                <a:srgbClr val="990000"/>
              </a:solidFill>
              <a:latin typeface="黑体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1" marL="971640" indent="-51444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3" marL="1400040" indent="-199800">
              <a:lnSpc>
                <a:spcPct val="140000"/>
              </a:lnSpc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4" marL="1803240" indent="-199800">
              <a:lnSpc>
                <a:spcPct val="140000"/>
              </a:lnSpc>
              <a:buClr>
                <a:srgbClr val="000000"/>
              </a:buClr>
              <a:buSzPct val="50000"/>
              <a:buFont typeface="FrutigerNext LT LightC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5" marL="1803240" indent="-199800">
              <a:lnSpc>
                <a:spcPct val="140000"/>
              </a:lnSpc>
              <a:buClr>
                <a:srgbClr val="000000"/>
              </a:buClr>
              <a:buSzPct val="50000"/>
              <a:buFont typeface="FrutigerNext LT LightC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6" marL="1803240" indent="-199800">
              <a:lnSpc>
                <a:spcPct val="140000"/>
              </a:lnSpc>
              <a:buClr>
                <a:srgbClr val="000000"/>
              </a:buClr>
              <a:buSzPct val="50000"/>
              <a:buFont typeface="FrutigerNext LT LightC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731A6-CE3F-4169-8D47-43AF26FD268E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50520" y="636120"/>
            <a:ext cx="793116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黑体"/>
              </a:rPr>
              <a:t>Click to edit the title text format</a:t>
            </a:r>
            <a:endParaRPr b="0" lang="en-US" sz="3500" spc="-1" strike="noStrike">
              <a:solidFill>
                <a:srgbClr val="990000"/>
              </a:solidFill>
              <a:latin typeface="黑体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1" marL="971640" indent="-51444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3" marL="1400040" indent="-199800">
              <a:lnSpc>
                <a:spcPct val="140000"/>
              </a:lnSpc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4" marL="1803240" indent="-199800">
              <a:lnSpc>
                <a:spcPct val="140000"/>
              </a:lnSpc>
              <a:buClr>
                <a:srgbClr val="000000"/>
              </a:buClr>
              <a:buSzPct val="50000"/>
              <a:buFont typeface="FrutigerNext LT LightC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5" marL="1803240" indent="-199800">
              <a:lnSpc>
                <a:spcPct val="140000"/>
              </a:lnSpc>
              <a:buClr>
                <a:srgbClr val="000000"/>
              </a:buClr>
              <a:buSzPct val="50000"/>
              <a:buFont typeface="FrutigerNext LT LightC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6" marL="1803240" indent="-199800">
              <a:lnSpc>
                <a:spcPct val="140000"/>
              </a:lnSpc>
              <a:buClr>
                <a:srgbClr val="000000"/>
              </a:buClr>
              <a:buSzPct val="50000"/>
              <a:buFont typeface="FrutigerNext LT LightC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2F058-258C-43A7-B6C3-3A354C7AC29C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650520" y="636120"/>
            <a:ext cx="793116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黑体"/>
              </a:rPr>
              <a:t>Click to edit the title text format</a:t>
            </a:r>
            <a:endParaRPr b="0" lang="en-US" sz="3500" spc="-1" strike="noStrike">
              <a:solidFill>
                <a:srgbClr val="990000"/>
              </a:solidFill>
              <a:latin typeface="黑体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1" marL="971640" indent="-51444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3" marL="1400040" indent="-199800">
              <a:lnSpc>
                <a:spcPct val="140000"/>
              </a:lnSpc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4" marL="1803240" indent="-199800">
              <a:lnSpc>
                <a:spcPct val="140000"/>
              </a:lnSpc>
              <a:buClr>
                <a:srgbClr val="000000"/>
              </a:buClr>
              <a:buSzPct val="50000"/>
              <a:buFont typeface="FrutigerNext LT LightC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5" marL="1803240" indent="-199800">
              <a:lnSpc>
                <a:spcPct val="140000"/>
              </a:lnSpc>
              <a:buClr>
                <a:srgbClr val="000000"/>
              </a:buClr>
              <a:buSzPct val="50000"/>
              <a:buFont typeface="FrutigerNext LT LightC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  <a:p>
            <a:pPr lvl="6" marL="1803240" indent="-199800">
              <a:lnSpc>
                <a:spcPct val="140000"/>
              </a:lnSpc>
              <a:buClr>
                <a:srgbClr val="000000"/>
              </a:buClr>
              <a:buSzPct val="50000"/>
              <a:buFont typeface="FrutigerNext LT LightC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67523-404C-4122-BA2E-19AF506814F4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Text Box 7"/>
          <p:cNvSpPr/>
          <p:nvPr/>
        </p:nvSpPr>
        <p:spPr>
          <a:xfrm>
            <a:off x="3233880" y="2674800"/>
            <a:ext cx="27799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Text Box 8"/>
          <p:cNvSpPr/>
          <p:nvPr/>
        </p:nvSpPr>
        <p:spPr>
          <a:xfrm>
            <a:off x="3273480" y="3435480"/>
            <a:ext cx="2745000" cy="4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600" spc="-1" strike="noStrike">
                <a:solidFill>
                  <a:srgbClr val="666666"/>
                </a:solidFill>
                <a:latin typeface="Arial"/>
              </a:rPr>
              <a:t>www.huawei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9" name="Picture 6" descr="5"/>
          <p:cNvPicPr/>
          <p:nvPr/>
        </p:nvPicPr>
        <p:blipFill>
          <a:blip r:embed="rId2"/>
          <a:stretch/>
        </p:blipFill>
        <p:spPr>
          <a:xfrm>
            <a:off x="0" y="5897520"/>
            <a:ext cx="9144000" cy="1003320"/>
          </a:xfrm>
          <a:prstGeom prst="rect">
            <a:avLst/>
          </a:prstGeom>
          <a:ln w="0">
            <a:noFill/>
          </a:ln>
        </p:spPr>
      </p:pic>
      <p:sp>
        <p:nvSpPr>
          <p:cNvPr id="1080" name="PlaceHolder 1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5AB3-168B-4A76-AF50-43ACA9B3AEF6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Text Box 7"/>
          <p:cNvSpPr/>
          <p:nvPr/>
        </p:nvSpPr>
        <p:spPr>
          <a:xfrm>
            <a:off x="3233880" y="2674800"/>
            <a:ext cx="27799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Text Box 8"/>
          <p:cNvSpPr/>
          <p:nvPr/>
        </p:nvSpPr>
        <p:spPr>
          <a:xfrm>
            <a:off x="3273480" y="3435480"/>
            <a:ext cx="2745000" cy="4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600" spc="-1" strike="noStrike">
                <a:solidFill>
                  <a:srgbClr val="666666"/>
                </a:solidFill>
                <a:latin typeface="Arial"/>
              </a:rPr>
              <a:t>www.huawei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1" name="Picture 6" descr="5"/>
          <p:cNvPicPr/>
          <p:nvPr/>
        </p:nvPicPr>
        <p:blipFill>
          <a:blip r:embed="rId2"/>
          <a:stretch/>
        </p:blipFill>
        <p:spPr>
          <a:xfrm>
            <a:off x="0" y="5897520"/>
            <a:ext cx="9144000" cy="1003320"/>
          </a:xfrm>
          <a:prstGeom prst="rect">
            <a:avLst/>
          </a:prstGeom>
          <a:ln w="0">
            <a:noFill/>
          </a:ln>
        </p:spPr>
      </p:pic>
      <p:sp>
        <p:nvSpPr>
          <p:cNvPr id="1122" name="PlaceHolder 1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FC06C-5178-4482-B126-C69195CBFAE1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Text Box 7"/>
          <p:cNvSpPr/>
          <p:nvPr/>
        </p:nvSpPr>
        <p:spPr>
          <a:xfrm>
            <a:off x="3233880" y="2674800"/>
            <a:ext cx="27799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ext Box 8"/>
          <p:cNvSpPr/>
          <p:nvPr/>
        </p:nvSpPr>
        <p:spPr>
          <a:xfrm>
            <a:off x="3273480" y="3435480"/>
            <a:ext cx="2745000" cy="4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600" spc="-1" strike="noStrike">
                <a:solidFill>
                  <a:srgbClr val="666666"/>
                </a:solidFill>
                <a:latin typeface="Arial"/>
              </a:rPr>
              <a:t>www.huawei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3" name="Picture 6" descr="5"/>
          <p:cNvPicPr/>
          <p:nvPr/>
        </p:nvPicPr>
        <p:blipFill>
          <a:blip r:embed="rId2"/>
          <a:stretch/>
        </p:blipFill>
        <p:spPr>
          <a:xfrm>
            <a:off x="0" y="5897520"/>
            <a:ext cx="9144000" cy="1003320"/>
          </a:xfrm>
          <a:prstGeom prst="rect">
            <a:avLst/>
          </a:prstGeom>
          <a:ln w="0">
            <a:noFill/>
          </a:ln>
        </p:spPr>
      </p:pic>
      <p:sp>
        <p:nvSpPr>
          <p:cNvPr id="1164" name="PlaceHolder 1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B1ECE-911A-40A4-80C3-0D9FD65A0BAF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Text Box 7"/>
          <p:cNvSpPr/>
          <p:nvPr/>
        </p:nvSpPr>
        <p:spPr>
          <a:xfrm>
            <a:off x="3233880" y="2674800"/>
            <a:ext cx="27799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Text Box 8"/>
          <p:cNvSpPr/>
          <p:nvPr/>
        </p:nvSpPr>
        <p:spPr>
          <a:xfrm>
            <a:off x="3273480" y="3435480"/>
            <a:ext cx="2745000" cy="4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600" spc="-1" strike="noStrike">
                <a:solidFill>
                  <a:srgbClr val="666666"/>
                </a:solidFill>
                <a:latin typeface="Arial"/>
              </a:rPr>
              <a:t>www.huawei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5" name="Picture 6" descr="5"/>
          <p:cNvPicPr/>
          <p:nvPr/>
        </p:nvPicPr>
        <p:blipFill>
          <a:blip r:embed="rId2"/>
          <a:stretch/>
        </p:blipFill>
        <p:spPr>
          <a:xfrm>
            <a:off x="0" y="5897520"/>
            <a:ext cx="9144000" cy="1003320"/>
          </a:xfrm>
          <a:prstGeom prst="rect">
            <a:avLst/>
          </a:prstGeom>
          <a:ln w="0">
            <a:noFill/>
          </a:ln>
        </p:spPr>
      </p:pic>
      <p:sp>
        <p:nvSpPr>
          <p:cNvPr id="1206" name="PlaceHolder 1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75CDB-585F-4D75-84EA-9EA5F15ACBF8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7"/>
          <p:cNvSpPr/>
          <p:nvPr/>
        </p:nvSpPr>
        <p:spPr>
          <a:xfrm>
            <a:off x="3233880" y="2674800"/>
            <a:ext cx="27799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3273480" y="3435480"/>
            <a:ext cx="2745000" cy="4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600" spc="-1" strike="noStrike">
                <a:solidFill>
                  <a:srgbClr val="666666"/>
                </a:solidFill>
                <a:latin typeface="Arial"/>
              </a:rPr>
              <a:t>www.huawei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5"/>
          <p:cNvPicPr/>
          <p:nvPr/>
        </p:nvPicPr>
        <p:blipFill>
          <a:blip r:embed="rId2"/>
          <a:stretch/>
        </p:blipFill>
        <p:spPr>
          <a:xfrm>
            <a:off x="0" y="5897520"/>
            <a:ext cx="9144000" cy="1003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Text Box 7"/>
          <p:cNvSpPr/>
          <p:nvPr/>
        </p:nvSpPr>
        <p:spPr>
          <a:xfrm>
            <a:off x="3233880" y="2674800"/>
            <a:ext cx="27799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Text Box 8"/>
          <p:cNvSpPr/>
          <p:nvPr/>
        </p:nvSpPr>
        <p:spPr>
          <a:xfrm>
            <a:off x="3273480" y="3435480"/>
            <a:ext cx="2745000" cy="4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600" spc="-1" strike="noStrike">
                <a:solidFill>
                  <a:srgbClr val="666666"/>
                </a:solidFill>
                <a:latin typeface="Arial"/>
              </a:rPr>
              <a:t>www.huawei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7" name="Picture 6" descr="5"/>
          <p:cNvPicPr/>
          <p:nvPr/>
        </p:nvPicPr>
        <p:blipFill>
          <a:blip r:embed="rId2"/>
          <a:stretch/>
        </p:blipFill>
        <p:spPr>
          <a:xfrm>
            <a:off x="0" y="5897520"/>
            <a:ext cx="9144000" cy="1003320"/>
          </a:xfrm>
          <a:prstGeom prst="rect">
            <a:avLst/>
          </a:prstGeom>
          <a:ln w="0">
            <a:noFill/>
          </a:ln>
        </p:spPr>
      </p:pic>
      <p:sp>
        <p:nvSpPr>
          <p:cNvPr id="1248" name="PlaceHolder 1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E3CD2-0E87-44FF-B729-00F282472FA7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Text Box 7"/>
          <p:cNvSpPr/>
          <p:nvPr/>
        </p:nvSpPr>
        <p:spPr>
          <a:xfrm>
            <a:off x="3233880" y="2674800"/>
            <a:ext cx="27799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Text Box 8"/>
          <p:cNvSpPr/>
          <p:nvPr/>
        </p:nvSpPr>
        <p:spPr>
          <a:xfrm>
            <a:off x="3273480" y="3435480"/>
            <a:ext cx="2745000" cy="4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600" spc="-1" strike="noStrike">
                <a:solidFill>
                  <a:srgbClr val="666666"/>
                </a:solidFill>
                <a:latin typeface="Arial"/>
              </a:rPr>
              <a:t>www.huawei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9" name="Picture 6" descr="5"/>
          <p:cNvPicPr/>
          <p:nvPr/>
        </p:nvPicPr>
        <p:blipFill>
          <a:blip r:embed="rId2"/>
          <a:stretch/>
        </p:blipFill>
        <p:spPr>
          <a:xfrm>
            <a:off x="0" y="5897520"/>
            <a:ext cx="9144000" cy="1003320"/>
          </a:xfrm>
          <a:prstGeom prst="rect">
            <a:avLst/>
          </a:prstGeom>
          <a:ln w="0">
            <a:noFill/>
          </a:ln>
        </p:spPr>
      </p:pic>
      <p:sp>
        <p:nvSpPr>
          <p:cNvPr id="1290" name="PlaceHolder 1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D17AC-255F-4C6C-88D9-DDB667DFE191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Text Box 7"/>
          <p:cNvSpPr/>
          <p:nvPr/>
        </p:nvSpPr>
        <p:spPr>
          <a:xfrm>
            <a:off x="3233880" y="2674800"/>
            <a:ext cx="27799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Text Box 8"/>
          <p:cNvSpPr/>
          <p:nvPr/>
        </p:nvSpPr>
        <p:spPr>
          <a:xfrm>
            <a:off x="3273480" y="3435480"/>
            <a:ext cx="2745000" cy="4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600" spc="-1" strike="noStrike">
                <a:solidFill>
                  <a:srgbClr val="666666"/>
                </a:solidFill>
                <a:latin typeface="Arial"/>
              </a:rPr>
              <a:t>www.huawei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1" name="Picture 6" descr="5"/>
          <p:cNvPicPr/>
          <p:nvPr/>
        </p:nvPicPr>
        <p:blipFill>
          <a:blip r:embed="rId2"/>
          <a:stretch/>
        </p:blipFill>
        <p:spPr>
          <a:xfrm>
            <a:off x="0" y="5897520"/>
            <a:ext cx="9144000" cy="1003320"/>
          </a:xfrm>
          <a:prstGeom prst="rect">
            <a:avLst/>
          </a:prstGeom>
          <a:ln w="0">
            <a:noFill/>
          </a:ln>
        </p:spPr>
      </p:pic>
      <p:sp>
        <p:nvSpPr>
          <p:cNvPr id="1332" name="PlaceHolder 1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E949C-B9CE-468C-A899-597BEF8917DF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Text Box 7"/>
          <p:cNvSpPr/>
          <p:nvPr/>
        </p:nvSpPr>
        <p:spPr>
          <a:xfrm>
            <a:off x="3233880" y="2674800"/>
            <a:ext cx="27799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Text Box 8"/>
          <p:cNvSpPr/>
          <p:nvPr/>
        </p:nvSpPr>
        <p:spPr>
          <a:xfrm>
            <a:off x="3273480" y="3435480"/>
            <a:ext cx="2745000" cy="4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600" spc="-1" strike="noStrike">
                <a:solidFill>
                  <a:srgbClr val="666666"/>
                </a:solidFill>
                <a:latin typeface="Arial"/>
              </a:rPr>
              <a:t>www.huawei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3" name="Picture 6" descr="5"/>
          <p:cNvPicPr/>
          <p:nvPr/>
        </p:nvPicPr>
        <p:blipFill>
          <a:blip r:embed="rId2"/>
          <a:stretch/>
        </p:blipFill>
        <p:spPr>
          <a:xfrm>
            <a:off x="0" y="5897520"/>
            <a:ext cx="9144000" cy="1003320"/>
          </a:xfrm>
          <a:prstGeom prst="rect">
            <a:avLst/>
          </a:prstGeom>
          <a:ln w="0">
            <a:noFill/>
          </a:ln>
        </p:spPr>
      </p:pic>
      <p:sp>
        <p:nvSpPr>
          <p:cNvPr id="1374" name="PlaceHolder 1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EE903-B4D5-42A7-B237-135A00CAB9D7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Text Box 7"/>
          <p:cNvSpPr/>
          <p:nvPr/>
        </p:nvSpPr>
        <p:spPr>
          <a:xfrm>
            <a:off x="3233880" y="2674800"/>
            <a:ext cx="27799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Text Box 8"/>
          <p:cNvSpPr/>
          <p:nvPr/>
        </p:nvSpPr>
        <p:spPr>
          <a:xfrm>
            <a:off x="3273480" y="3435480"/>
            <a:ext cx="2745000" cy="4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600" spc="-1" strike="noStrike">
                <a:solidFill>
                  <a:srgbClr val="666666"/>
                </a:solidFill>
                <a:latin typeface="Arial"/>
              </a:rPr>
              <a:t>www.huawei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5" name="Picture 6" descr="5"/>
          <p:cNvPicPr/>
          <p:nvPr/>
        </p:nvPicPr>
        <p:blipFill>
          <a:blip r:embed="rId2"/>
          <a:stretch/>
        </p:blipFill>
        <p:spPr>
          <a:xfrm>
            <a:off x="0" y="5897520"/>
            <a:ext cx="9144000" cy="1003320"/>
          </a:xfrm>
          <a:prstGeom prst="rect">
            <a:avLst/>
          </a:prstGeom>
          <a:ln w="0">
            <a:noFill/>
          </a:ln>
        </p:spPr>
      </p:pic>
      <p:sp>
        <p:nvSpPr>
          <p:cNvPr id="1416" name="PlaceHolder 1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07C78-1ABD-43C5-967A-591AB58C4583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Text Box 7"/>
          <p:cNvSpPr/>
          <p:nvPr/>
        </p:nvSpPr>
        <p:spPr>
          <a:xfrm>
            <a:off x="3233880" y="2674800"/>
            <a:ext cx="27799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Text Box 8"/>
          <p:cNvSpPr/>
          <p:nvPr/>
        </p:nvSpPr>
        <p:spPr>
          <a:xfrm>
            <a:off x="3273480" y="3435480"/>
            <a:ext cx="2745000" cy="4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600" spc="-1" strike="noStrike">
                <a:solidFill>
                  <a:srgbClr val="666666"/>
                </a:solidFill>
                <a:latin typeface="Arial"/>
              </a:rPr>
              <a:t>www.huawei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7" name="Picture 6" descr="5"/>
          <p:cNvPicPr/>
          <p:nvPr/>
        </p:nvPicPr>
        <p:blipFill>
          <a:blip r:embed="rId2"/>
          <a:stretch/>
        </p:blipFill>
        <p:spPr>
          <a:xfrm>
            <a:off x="0" y="5897520"/>
            <a:ext cx="9144000" cy="1003320"/>
          </a:xfrm>
          <a:prstGeom prst="rect">
            <a:avLst/>
          </a:prstGeom>
          <a:ln w="0">
            <a:noFill/>
          </a:ln>
        </p:spPr>
      </p:pic>
      <p:sp>
        <p:nvSpPr>
          <p:cNvPr id="1458" name="PlaceHolder 1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 type="ftr" idx="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 type="sldNum" idx="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D1108-E884-427B-A84F-9A4CAB8AB2DD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0" descr="2"/>
          <p:cNvPicPr/>
          <p:nvPr/>
        </p:nvPicPr>
        <p:blipFill>
          <a:blip r:embed="rId2"/>
          <a:stretch/>
        </p:blipFill>
        <p:spPr>
          <a:xfrm>
            <a:off x="0" y="78120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5"/>
          <p:cNvSpPr/>
          <p:nvPr/>
        </p:nvSpPr>
        <p:spPr>
          <a:xfrm>
            <a:off x="6746040" y="247680"/>
            <a:ext cx="149724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666666"/>
                </a:solidFill>
                <a:latin typeface="FrutigerNext LT Regular"/>
                <a:ea typeface="华文细黑"/>
              </a:rPr>
              <a:t>Security Level:</a:t>
            </a:r>
            <a:r>
              <a:rPr b="1" lang="zh-CN" sz="1400" spc="-1" strike="noStrike">
                <a:solidFill>
                  <a:srgbClr val="666666"/>
                </a:solidFill>
                <a:latin typeface="FrutigerNext LT Regular"/>
                <a:ea typeface="华文细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6"/>
          <p:cNvSpPr/>
          <p:nvPr/>
        </p:nvSpPr>
        <p:spPr>
          <a:xfrm>
            <a:off x="684360" y="282600"/>
            <a:ext cx="21333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A3CDE-3E24-49E1-B55E-278A86F72839}" type="datetime">
              <a:rPr b="0" lang="zh-CN" sz="1200" spc="-1" strike="noStrike">
                <a:solidFill>
                  <a:srgbClr val="898989"/>
                </a:solidFill>
                <a:latin typeface="MS PGothic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2"/>
          <p:cNvSpPr/>
          <p:nvPr/>
        </p:nvSpPr>
        <p:spPr>
          <a:xfrm>
            <a:off x="7188840" y="4076640"/>
            <a:ext cx="143388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www.huawei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0"/>
          <p:cNvSpPr/>
          <p:nvPr/>
        </p:nvSpPr>
        <p:spPr>
          <a:xfrm>
            <a:off x="555480" y="6207120"/>
            <a:ext cx="28130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  <a:ea typeface="华文细黑"/>
              </a:rPr>
              <a:t>HUAWEI TECHNOLOGIES CO.,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9" descr="Logo"/>
          <p:cNvPicPr/>
          <p:nvPr/>
        </p:nvPicPr>
        <p:blipFill>
          <a:blip r:embed="rId3"/>
          <a:stretch/>
        </p:blipFill>
        <p:spPr>
          <a:xfrm>
            <a:off x="7508880" y="5589720"/>
            <a:ext cx="763560" cy="7635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黑体 (标题)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650880" indent="-25092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003320" indent="-2001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400040" indent="-199800">
              <a:lnSpc>
                <a:spcPct val="140000"/>
              </a:lnSpc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9" descr="dd"/>
          <p:cNvPicPr/>
          <p:nvPr/>
        </p:nvPicPr>
        <p:blipFill>
          <a:blip r:embed="rId2"/>
          <a:stretch/>
        </p:blipFill>
        <p:spPr>
          <a:xfrm>
            <a:off x="0" y="6224760"/>
            <a:ext cx="9150480" cy="6364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555480" y="6438960"/>
            <a:ext cx="28130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  <a:ea typeface="华文细黑"/>
              </a:rPr>
              <a:t>HUAWEI TECHNOLOGIES CO.,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9" descr="8"/>
          <p:cNvPicPr/>
          <p:nvPr/>
        </p:nvPicPr>
        <p:blipFill>
          <a:blip r:embed="rId3"/>
          <a:stretch/>
        </p:blipFill>
        <p:spPr>
          <a:xfrm>
            <a:off x="7508880" y="6399360"/>
            <a:ext cx="1311120" cy="312480"/>
          </a:xfrm>
          <a:prstGeom prst="rect">
            <a:avLst/>
          </a:prstGeom>
          <a:ln w="0">
            <a:noFill/>
          </a:ln>
        </p:spPr>
      </p:pic>
      <p:sp>
        <p:nvSpPr>
          <p:cNvPr id="167" name="TextBox 13"/>
          <p:cNvSpPr/>
          <p:nvPr/>
        </p:nvSpPr>
        <p:spPr>
          <a:xfrm>
            <a:off x="6364440" y="6491160"/>
            <a:ext cx="20984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Page </a:t>
            </a:r>
            <a:fld id="{4EF46993-2CCB-4312-8D2F-318C9C1EF862}" type="slidenum">
              <a:rPr b="0" lang="de-DE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黑体 (标题)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650880" indent="-25092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003320" indent="-2001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400040" indent="-199800">
              <a:lnSpc>
                <a:spcPct val="140000"/>
              </a:lnSpc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"/>
          </p:nvPr>
        </p:nvSpPr>
        <p:spPr>
          <a:xfrm>
            <a:off x="324000" y="6356520"/>
            <a:ext cx="2519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56D02-02A8-4146-B47E-8FCA29731E9F}" type="slidenum">
              <a: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79" descr="dd"/>
          <p:cNvPicPr/>
          <p:nvPr/>
        </p:nvPicPr>
        <p:blipFill>
          <a:blip r:embed="rId2"/>
          <a:stretch/>
        </p:blipFill>
        <p:spPr>
          <a:xfrm>
            <a:off x="0" y="6224760"/>
            <a:ext cx="9150480" cy="63648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8"/>
          <p:cNvSpPr/>
          <p:nvPr/>
        </p:nvSpPr>
        <p:spPr>
          <a:xfrm>
            <a:off x="555480" y="6438960"/>
            <a:ext cx="28130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  <a:ea typeface="华文细黑"/>
              </a:rPr>
              <a:t>HUAWEI TECHNOLOGIES CO.,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9" descr="8"/>
          <p:cNvPicPr/>
          <p:nvPr/>
        </p:nvPicPr>
        <p:blipFill>
          <a:blip r:embed="rId3"/>
          <a:stretch/>
        </p:blipFill>
        <p:spPr>
          <a:xfrm>
            <a:off x="7508880" y="6399360"/>
            <a:ext cx="1311120" cy="312480"/>
          </a:xfrm>
          <a:prstGeom prst="rect">
            <a:avLst/>
          </a:prstGeom>
          <a:ln w="0">
            <a:noFill/>
          </a:ln>
        </p:spPr>
      </p:pic>
      <p:sp>
        <p:nvSpPr>
          <p:cNvPr id="212" name="TextBox 13"/>
          <p:cNvSpPr/>
          <p:nvPr/>
        </p:nvSpPr>
        <p:spPr>
          <a:xfrm>
            <a:off x="6364440" y="6491160"/>
            <a:ext cx="20984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Page </a:t>
            </a:r>
            <a:fld id="{1C54F6F7-9A41-4D29-9AAE-8D2B52ECCB63}" type="slidenum">
              <a:rPr b="0" lang="de-DE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黑体 (标题)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650880" indent="-25092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003320" indent="-2001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400040" indent="-199800">
              <a:lnSpc>
                <a:spcPct val="140000"/>
              </a:lnSpc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4"/>
          </p:nvPr>
        </p:nvSpPr>
        <p:spPr>
          <a:xfrm>
            <a:off x="324000" y="6356520"/>
            <a:ext cx="2519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5EE2-EA12-4C9F-9270-BDAD1B93B9E8}" type="slidenum">
              <a: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79" descr="dd"/>
          <p:cNvPicPr/>
          <p:nvPr/>
        </p:nvPicPr>
        <p:blipFill>
          <a:blip r:embed="rId2"/>
          <a:stretch/>
        </p:blipFill>
        <p:spPr>
          <a:xfrm>
            <a:off x="0" y="6224760"/>
            <a:ext cx="9150480" cy="63648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8"/>
          <p:cNvSpPr/>
          <p:nvPr/>
        </p:nvSpPr>
        <p:spPr>
          <a:xfrm>
            <a:off x="555480" y="6438960"/>
            <a:ext cx="28130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  <a:ea typeface="华文细黑"/>
              </a:rPr>
              <a:t>HUAWEI TECHNOLOGIES CO.,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9" descr="8"/>
          <p:cNvPicPr/>
          <p:nvPr/>
        </p:nvPicPr>
        <p:blipFill>
          <a:blip r:embed="rId3"/>
          <a:stretch/>
        </p:blipFill>
        <p:spPr>
          <a:xfrm>
            <a:off x="7508880" y="6399360"/>
            <a:ext cx="1311120" cy="312480"/>
          </a:xfrm>
          <a:prstGeom prst="rect">
            <a:avLst/>
          </a:prstGeom>
          <a:ln w="0">
            <a:noFill/>
          </a:ln>
        </p:spPr>
      </p:pic>
      <p:sp>
        <p:nvSpPr>
          <p:cNvPr id="257" name="TextBox 13"/>
          <p:cNvSpPr/>
          <p:nvPr/>
        </p:nvSpPr>
        <p:spPr>
          <a:xfrm>
            <a:off x="6364440" y="6491160"/>
            <a:ext cx="20984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Page </a:t>
            </a:r>
            <a:fld id="{EF1B4817-63FA-45AA-96FA-F3742C81A42A}" type="slidenum">
              <a:rPr b="0" lang="de-DE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黑体 (标题)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650880" indent="-25092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003320" indent="-2001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400040" indent="-199800">
              <a:lnSpc>
                <a:spcPct val="140000"/>
              </a:lnSpc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7"/>
          </p:nvPr>
        </p:nvSpPr>
        <p:spPr>
          <a:xfrm>
            <a:off x="324000" y="6356520"/>
            <a:ext cx="2519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BB007-3625-4609-B6F7-A454EB6E6354}" type="slidenum">
              <a: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79" descr="dd"/>
          <p:cNvPicPr/>
          <p:nvPr/>
        </p:nvPicPr>
        <p:blipFill>
          <a:blip r:embed="rId2"/>
          <a:stretch/>
        </p:blipFill>
        <p:spPr>
          <a:xfrm>
            <a:off x="0" y="6224760"/>
            <a:ext cx="9150480" cy="63648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8"/>
          <p:cNvSpPr/>
          <p:nvPr/>
        </p:nvSpPr>
        <p:spPr>
          <a:xfrm>
            <a:off x="555480" y="6438960"/>
            <a:ext cx="28130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  <a:ea typeface="华文细黑"/>
              </a:rPr>
              <a:t>HUAWEI TECHNOLOGIES CO.,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9" descr="8"/>
          <p:cNvPicPr/>
          <p:nvPr/>
        </p:nvPicPr>
        <p:blipFill>
          <a:blip r:embed="rId3"/>
          <a:stretch/>
        </p:blipFill>
        <p:spPr>
          <a:xfrm>
            <a:off x="7508880" y="6399360"/>
            <a:ext cx="1311120" cy="312480"/>
          </a:xfrm>
          <a:prstGeom prst="rect">
            <a:avLst/>
          </a:prstGeom>
          <a:ln w="0">
            <a:noFill/>
          </a:ln>
        </p:spPr>
      </p:pic>
      <p:sp>
        <p:nvSpPr>
          <p:cNvPr id="302" name="TextBox 13"/>
          <p:cNvSpPr/>
          <p:nvPr/>
        </p:nvSpPr>
        <p:spPr>
          <a:xfrm>
            <a:off x="6364440" y="6491160"/>
            <a:ext cx="20984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Page </a:t>
            </a:r>
            <a:fld id="{8718C49F-1DA4-45F5-91EB-FB4893FF673B}" type="slidenum">
              <a:rPr b="0" lang="de-DE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黑体 (标题)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650880" indent="-25092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003320" indent="-2001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400040" indent="-199800">
              <a:lnSpc>
                <a:spcPct val="140000"/>
              </a:lnSpc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0"/>
          </p:nvPr>
        </p:nvSpPr>
        <p:spPr>
          <a:xfrm>
            <a:off x="324000" y="6356520"/>
            <a:ext cx="2519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DCBB3-0699-4E25-9048-DE750F83AE8B}" type="slidenum">
              <a: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79" descr="dd"/>
          <p:cNvPicPr/>
          <p:nvPr/>
        </p:nvPicPr>
        <p:blipFill>
          <a:blip r:embed="rId2"/>
          <a:stretch/>
        </p:blipFill>
        <p:spPr>
          <a:xfrm>
            <a:off x="0" y="6224760"/>
            <a:ext cx="9150480" cy="63648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8"/>
          <p:cNvSpPr/>
          <p:nvPr/>
        </p:nvSpPr>
        <p:spPr>
          <a:xfrm>
            <a:off x="555480" y="6438960"/>
            <a:ext cx="281304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  <a:ea typeface="华文细黑"/>
              </a:rPr>
              <a:t>HUAWEI TECHNOLOGIES CO., L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9" descr="8"/>
          <p:cNvPicPr/>
          <p:nvPr/>
        </p:nvPicPr>
        <p:blipFill>
          <a:blip r:embed="rId3"/>
          <a:stretch/>
        </p:blipFill>
        <p:spPr>
          <a:xfrm>
            <a:off x="7508880" y="6399360"/>
            <a:ext cx="1311120" cy="312480"/>
          </a:xfrm>
          <a:prstGeom prst="rect">
            <a:avLst/>
          </a:prstGeom>
          <a:ln w="0">
            <a:noFill/>
          </a:ln>
        </p:spPr>
      </p:pic>
      <p:sp>
        <p:nvSpPr>
          <p:cNvPr id="347" name="TextBox 13"/>
          <p:cNvSpPr/>
          <p:nvPr/>
        </p:nvSpPr>
        <p:spPr>
          <a:xfrm>
            <a:off x="6364440" y="6491160"/>
            <a:ext cx="20984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Page </a:t>
            </a:r>
            <a:fld id="{FC505510-443F-44AB-874B-2363A5FEC7E9}" type="slidenum">
              <a:rPr b="0" lang="de-DE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8715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黑体 (标题)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50520" y="1641600"/>
            <a:ext cx="7931160" cy="4194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650880" indent="-25092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003320" indent="-2001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400040" indent="-199800">
              <a:lnSpc>
                <a:spcPct val="140000"/>
              </a:lnSpc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1803240" indent="-1998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13"/>
          </p:nvPr>
        </p:nvSpPr>
        <p:spPr>
          <a:xfrm>
            <a:off x="324000" y="6356520"/>
            <a:ext cx="2519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591FE-67C5-4848-AA5F-2DF786B9E13C}" type="slidenum">
              <a: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Rectangle 6"/>
          <p:cNvSpPr/>
          <p:nvPr/>
        </p:nvSpPr>
        <p:spPr>
          <a:xfrm>
            <a:off x="0" y="1989000"/>
            <a:ext cx="6727680" cy="10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chroma coding scheme for SDIP mode </a:t>
            </a:r>
            <a:r>
              <a:rPr b="1" lang="en-US" sz="3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(JCTVC-F50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TextBox 6"/>
          <p:cNvSpPr/>
          <p:nvPr/>
        </p:nvSpPr>
        <p:spPr>
          <a:xfrm>
            <a:off x="684360" y="4797360"/>
            <a:ext cx="568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Jin Song, Haitao Yang, Mingyuan Yang, Haoping Yu, Changcai Lai (Huawe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Jizheng Xu (Microsof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黑体 (标题)"/>
              </a:rPr>
              <a:t>Conclusion</a:t>
            </a: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536" name=""/>
          <p:cNvSpPr txBox="1"/>
          <p:nvPr/>
        </p:nvSpPr>
        <p:spPr>
          <a:xfrm>
            <a:off x="539280" y="98064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The RD performance of the three parts are additive in Intra-HE case, and are almost additive in Intra-LC case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The proposed new chroma intra prediction mode, SDM contributes most of the coding gain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The whole scheme can achieve U/V component BD-rate of -0.9%/-0.9% and -1.5%/-1.3% under AI_HE and AI_LC conditions (Thanks Samsung for the crosschecking efforts, JCTVC-F629)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Based on the above conclusions, we suggest adopting the proposed prediction scheme along with SDIP.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Text Box 3"/>
          <p:cNvSpPr/>
          <p:nvPr/>
        </p:nvSpPr>
        <p:spPr>
          <a:xfrm>
            <a:off x="3221280" y="2131920"/>
            <a:ext cx="266328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utigerNext LT Medium"/>
                <a:ea typeface="MS PGothic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Text Box 4"/>
          <p:cNvSpPr/>
          <p:nvPr/>
        </p:nvSpPr>
        <p:spPr>
          <a:xfrm>
            <a:off x="3357000" y="3330720"/>
            <a:ext cx="237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FrutigerNext LT Regular"/>
                <a:ea typeface="MS PGothic"/>
              </a:rPr>
              <a:t>www.huawei.co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黑体 (标题)"/>
              </a:rPr>
              <a:t>Proposed scheme - overview</a:t>
            </a: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507" name=""/>
          <p:cNvSpPr txBox="1"/>
          <p:nvPr/>
        </p:nvSpPr>
        <p:spPr>
          <a:xfrm>
            <a:off x="539280" y="98064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Part 1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Assign LM with the shortest codeword in SDIP case, which is the same as the method in JCTVC-F110.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Part 2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Introduce a new prediction mode, SDM (SDIP Direct Mode) as a candidate mode for chroma component in SDIP case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Part 3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Prune candidate mode set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黑体 (标题)"/>
              </a:rPr>
              <a:t>Proposed scheme – Part 2</a:t>
            </a: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509" name=""/>
          <p:cNvSpPr txBox="1"/>
          <p:nvPr/>
        </p:nvSpPr>
        <p:spPr>
          <a:xfrm>
            <a:off x="539280" y="98064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SDM (SDIP Direct Mode)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650880" indent="-25092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the chroma component share the same PU partition of the luma component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lvl="1" marL="650880" indent="-25092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The prediction mode of each chroma partition is the same as the mode of the corresponding luma partition.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1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1" name="Object 5"/>
          <p:cNvGraphicFramePr/>
          <p:nvPr/>
        </p:nvGraphicFramePr>
        <p:xfrm>
          <a:off x="2050920" y="3141720"/>
          <a:ext cx="4897440" cy="308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3141720"/>
                    <a:ext cx="4897440" cy="30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黑体 (标题)"/>
              </a:rPr>
              <a:t>Proposed scheme – Part 3</a:t>
            </a: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514" name=""/>
          <p:cNvSpPr txBox="1"/>
          <p:nvPr/>
        </p:nvSpPr>
        <p:spPr>
          <a:xfrm>
            <a:off x="539280" y="98064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Prune candidate mode set : prediction mode used by only one of the four SDIP luma partitions is excluded from the candidate mode set of chroma component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黑体 (标题)"/>
              </a:rPr>
              <a:t>Proposed scheme – codeword table</a:t>
            </a: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516" name=""/>
          <p:cNvSpPr txBox="1"/>
          <p:nvPr/>
        </p:nvSpPr>
        <p:spPr>
          <a:xfrm>
            <a:off x="539280" y="98064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LumaModeNum denotes the number of different prediction modes of the four SDIP luma partitions, for example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650880" indent="-25092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LumaModeNum equals 1 means that all four SDIP luma partitions use the same prediction mode. 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lvl="1" marL="650880" indent="-25092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LumaModeNum equals 4 means that the prediction modes of the four SDIP luma partitions are different from each other.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LumaMode(x) denotes the prediction mode that is selected by x out of the four luma partitions.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With different LumaModeNum, all possible candidate chroma mode sets and corresponding codeword assignment are shown in the next slides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黑体 (标题)"/>
              </a:rPr>
              <a:t>Proposed scheme – codeword table</a:t>
            </a: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51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9" name=""/>
          <p:cNvGraphicFramePr/>
          <p:nvPr/>
        </p:nvGraphicFramePr>
        <p:xfrm>
          <a:off x="6297480" y="1557360"/>
          <a:ext cx="2595600" cy="1873080"/>
        </p:xfrm>
        <a:graphic>
          <a:graphicData uri="http://schemas.openxmlformats.org/drawingml/2006/table">
            <a:tbl>
              <a:tblPr/>
              <a:tblGrid>
                <a:gridCol w="1297080"/>
                <a:gridCol w="1298520"/>
              </a:tblGrid>
              <a:tr h="461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ndidiate chroma prediction mod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dewor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umaMode(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D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/plan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0" name="Rectangle 1"/>
          <p:cNvSpPr/>
          <p:nvPr/>
        </p:nvSpPr>
        <p:spPr>
          <a:xfrm>
            <a:off x="6443640" y="3429360"/>
            <a:ext cx="2262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LumaModeNum is 2 (3 + 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1" name=""/>
          <p:cNvGraphicFramePr/>
          <p:nvPr/>
        </p:nvGraphicFramePr>
        <p:xfrm>
          <a:off x="1619280" y="3778200"/>
          <a:ext cx="2595600" cy="1873440"/>
        </p:xfrm>
        <a:graphic>
          <a:graphicData uri="http://schemas.openxmlformats.org/drawingml/2006/table">
            <a:tbl>
              <a:tblPr/>
              <a:tblGrid>
                <a:gridCol w="1297080"/>
                <a:gridCol w="1298520"/>
              </a:tblGrid>
              <a:tr h="461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ndidiate chroma prediction mod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dewor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umaMode(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D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/plan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2" name="Rectangle 1"/>
          <p:cNvSpPr/>
          <p:nvPr/>
        </p:nvSpPr>
        <p:spPr>
          <a:xfrm>
            <a:off x="2050920" y="5661360"/>
            <a:ext cx="1873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LumaModeNum is 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3" name=""/>
          <p:cNvGraphicFramePr/>
          <p:nvPr/>
        </p:nvGraphicFramePr>
        <p:xfrm>
          <a:off x="4716360" y="3778200"/>
          <a:ext cx="2595600" cy="1882800"/>
        </p:xfrm>
        <a:graphic>
          <a:graphicData uri="http://schemas.openxmlformats.org/drawingml/2006/table">
            <a:tbl>
              <a:tblPr/>
              <a:tblGrid>
                <a:gridCol w="1297080"/>
                <a:gridCol w="1298520"/>
              </a:tblGrid>
              <a:tr h="479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ndidiate chroma prediction mod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dewor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D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tic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izon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/plan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4" name="Rectangle 1"/>
          <p:cNvSpPr/>
          <p:nvPr/>
        </p:nvSpPr>
        <p:spPr>
          <a:xfrm>
            <a:off x="5148360" y="5661360"/>
            <a:ext cx="1871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LumaModeNum is 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5" name=""/>
          <p:cNvGraphicFramePr/>
          <p:nvPr/>
        </p:nvGraphicFramePr>
        <p:xfrm>
          <a:off x="395280" y="1557360"/>
          <a:ext cx="2595600" cy="1873080"/>
        </p:xfrm>
        <a:graphic>
          <a:graphicData uri="http://schemas.openxmlformats.org/drawingml/2006/table">
            <a:tbl>
              <a:tblPr/>
              <a:tblGrid>
                <a:gridCol w="1297080"/>
                <a:gridCol w="1298520"/>
              </a:tblGrid>
              <a:tr h="461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ndidiate chroma prediction mod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dewor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umaMode(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D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/plan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6" name="Rectangle 1"/>
          <p:cNvSpPr/>
          <p:nvPr/>
        </p:nvSpPr>
        <p:spPr>
          <a:xfrm>
            <a:off x="900000" y="3429360"/>
            <a:ext cx="1871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LumaModeNum is 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7" name=""/>
          <p:cNvGraphicFramePr/>
          <p:nvPr/>
        </p:nvGraphicFramePr>
        <p:xfrm>
          <a:off x="3348000" y="1557360"/>
          <a:ext cx="2595600" cy="1879560"/>
        </p:xfrm>
        <a:graphic>
          <a:graphicData uri="http://schemas.openxmlformats.org/drawingml/2006/table">
            <a:tbl>
              <a:tblPr/>
              <a:tblGrid>
                <a:gridCol w="1297080"/>
                <a:gridCol w="1298520"/>
              </a:tblGrid>
              <a:tr h="461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ndidiate chroma prediction mod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dewor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umaMode(2)-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umaMode(2)-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D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/plan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8" name="Rectangle 1"/>
          <p:cNvSpPr/>
          <p:nvPr/>
        </p:nvSpPr>
        <p:spPr>
          <a:xfrm>
            <a:off x="3492360" y="3429360"/>
            <a:ext cx="2262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LumaModeNum is 2 (2 + 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黑体 (标题)"/>
              </a:rPr>
              <a:t>Simulation</a:t>
            </a: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sp>
        <p:nvSpPr>
          <p:cNvPr id="1530" name=""/>
          <p:cNvSpPr txBox="1"/>
          <p:nvPr/>
        </p:nvSpPr>
        <p:spPr>
          <a:xfrm>
            <a:off x="539280" y="98064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Based on issued SDIP software with revision number 866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The performance of the proposed scheme is evaluated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The performance of just the SDM technique is also evaluated</a:t>
            </a: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298440" indent="-29844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黑体 (标题)"/>
              </a:rPr>
              <a:t>Performance – SDM</a:t>
            </a: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graphicFrame>
        <p:nvGraphicFramePr>
          <p:cNvPr id="1532" name=""/>
          <p:cNvGraphicFramePr/>
          <p:nvPr/>
        </p:nvGraphicFramePr>
        <p:xfrm>
          <a:off x="539640" y="1700280"/>
          <a:ext cx="7704360" cy="2448000"/>
        </p:xfrm>
        <a:graphic>
          <a:graphicData uri="http://schemas.openxmlformats.org/drawingml/2006/table">
            <a:tbl>
              <a:tblPr/>
              <a:tblGrid>
                <a:gridCol w="1376640"/>
                <a:gridCol w="1055520"/>
                <a:gridCol w="1054080"/>
                <a:gridCol w="1054080"/>
                <a:gridCol w="1055880"/>
                <a:gridCol w="1054080"/>
                <a:gridCol w="1054080"/>
              </a:tblGrid>
              <a:tr h="318960">
                <a:tc row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 Intra 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 Intra L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1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650880" y="431280"/>
            <a:ext cx="774864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黑体 (标题)"/>
              </a:rPr>
              <a:t>Performance – whole scheme</a:t>
            </a:r>
            <a:endParaRPr b="0" lang="en-US" sz="3400" spc="-1" strike="noStrike">
              <a:solidFill>
                <a:srgbClr val="990000"/>
              </a:solidFill>
              <a:latin typeface="黑体 (标题)"/>
            </a:endParaRPr>
          </a:p>
        </p:txBody>
      </p:sp>
      <p:graphicFrame>
        <p:nvGraphicFramePr>
          <p:cNvPr id="1534" name=""/>
          <p:cNvGraphicFramePr/>
          <p:nvPr/>
        </p:nvGraphicFramePr>
        <p:xfrm>
          <a:off x="1042920" y="981000"/>
          <a:ext cx="7201080" cy="5392800"/>
        </p:xfrm>
        <a:graphic>
          <a:graphicData uri="http://schemas.openxmlformats.org/drawingml/2006/table">
            <a:tbl>
              <a:tblPr/>
              <a:tblGrid>
                <a:gridCol w="1352520"/>
                <a:gridCol w="974880"/>
                <a:gridCol w="974520"/>
                <a:gridCol w="974880"/>
                <a:gridCol w="974880"/>
                <a:gridCol w="974520"/>
                <a:gridCol w="974880"/>
              </a:tblGrid>
              <a:tr h="169200">
                <a:tc rowSpan="2"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 Intra H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 Intra L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9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120"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al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9200"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840"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200">
                <a:tc rowSpan="2"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dom Access H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dom Access L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9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120"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69200"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al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840"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9200"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200"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B H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B L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9200"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67760"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120"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.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.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3.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200"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al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>
                  <a:txBody>
                    <a:bodyPr lIns="52560" rIns="525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2560" rIns="525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02:17:19Z</dcterms:created>
  <dc:creator>s00107188</dc:creator>
  <dc:description/>
  <dc:language>en-US</dc:language>
  <cp:lastModifiedBy>Haitao Yang</cp:lastModifiedBy>
  <dcterms:modified xsi:type="dcterms:W3CDTF">2011-07-16T05:08:00Z</dcterms:modified>
  <cp:revision>5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s_pID_725343">
    <vt:lpwstr>(2)dbuKGsoPkc6/LYmHeZ2m7ouPu2cvy+2fLnbaAaqsnu/dg66g5RghAqeoD7+qD+YsehRVBfUJ
vXmmxkB9f2WjXAgT1BrL6ptrPtEAu/g6ZJqaaMNSG1l8LCB36BDCTKmOramgmXizcLdrmQGJ
ewn9w02dUZJ0G91srYKYxiBk6WdbpRuVQLtNGhny5bHxbTkmA9pen57iumDmDBqkmrrdorHJ
himg/7IdKcVn9vuMye77R</vt:lpwstr>
  </property>
  <property fmtid="{D5CDD505-2E9C-101B-9397-08002B2CF9AE}" pid="3" name="_ms_pID_7253431">
    <vt:lpwstr>w02jr4oWMgozUCoFkRghpY84BWD9+DqmkoBsPobIYcnhqxei4b1
HOrKyR5/EP21sww9NpqLNaLOrlhOvdvpMqIReaT8DRIU+0zTZ8T+S1LIcSO/v1Zdon8ju/5k
rA4gR56feirQafl+XIr+whqSbKX6f7IPJQhc5e0LBu3FrpOn+DTyamE38gFmVyD81Sva+NHE
Rqfpn/jRSOLAn7cK</vt:lpwstr>
  </property>
  <property fmtid="{D5CDD505-2E9C-101B-9397-08002B2CF9AE}" pid="4" name="sflag">
    <vt:lpwstr>1310792632</vt:lpwstr>
  </property>
</Properties>
</file>