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0c30"/>
                </a:solidFill>
                <a:latin typeface="DendaNew"/>
              </a:rPr>
              <a:t>Click to move the slide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nda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6F5D-89AE-4FC4-85A7-2375581B9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D140-50CB-4E65-BCF1-24A0F64D9F50}" type="slidenum">
              <a:rPr b="0" lang="en-US" sz="1200" spc="-1" strike="noStrike">
                <a:solidFill>
                  <a:srgbClr val="000000"/>
                </a:solidFill>
                <a:latin typeface="Denda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enda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707B-06D0-4DE2-811B-E1E7EFF240FC}" type="slidenum">
              <a:rPr b="0" lang="en-US" sz="1200" spc="-1" strike="noStrike">
                <a:solidFill>
                  <a:srgbClr val="000000"/>
                </a:solidFill>
                <a:latin typeface="Denda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nda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418-3549-448C-A515-A0555EFC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67201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2960" y="3835440"/>
            <a:ext cx="67201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4CF-71DE-4B63-985A-5F3AF1FC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720" y="159840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2960" y="383544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46720" y="383544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FEA-4DBE-416B-AF32-C8116F2A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21636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75280" y="1598400"/>
            <a:ext cx="21636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47240" y="1598400"/>
            <a:ext cx="21636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2960" y="3835440"/>
            <a:ext cx="21636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75280" y="3835440"/>
            <a:ext cx="21636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47240" y="3835440"/>
            <a:ext cx="21636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9E7-C5C4-4E5B-9F08-DD38A6A4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76CC0-BCE6-4871-8D21-2B5EADF3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2960" y="1598400"/>
            <a:ext cx="67201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6B1C6-70AF-4853-BB98-42D12E0D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67201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078B0-D324-4B96-9700-09C5C4D2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32792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6720" y="1598400"/>
            <a:ext cx="32792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A699A-4E86-4B70-B9CA-232E841F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590C2-501F-40DE-8F6B-10C741A6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2960" y="222120"/>
            <a:ext cx="67201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A0A38-7CCB-474F-B2B9-249BE4CC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46720" y="1598400"/>
            <a:ext cx="32792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2960" y="383544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23E67-A51A-4109-B2F0-D73172A4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2960" y="1598400"/>
            <a:ext cx="67201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F54-211C-4429-985B-D545E6B6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32792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6720" y="159840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46720" y="383544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069FC-303F-430C-9BCE-C8D360E1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46720" y="159840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2960" y="3835440"/>
            <a:ext cx="67201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4C55C-3F96-4698-B817-661C71E8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67201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2960" y="3835440"/>
            <a:ext cx="67201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FD614-37FA-4EC9-B67C-8EC9B415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46720" y="159840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2960" y="383544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46720" y="383544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A25C0-6F3A-4B8D-9490-A419B455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21636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75280" y="1598400"/>
            <a:ext cx="21636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47240" y="1598400"/>
            <a:ext cx="21636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2960" y="3835440"/>
            <a:ext cx="21636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75280" y="3835440"/>
            <a:ext cx="21636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47240" y="3835440"/>
            <a:ext cx="216360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2FE10-AB01-469E-B4A5-CF0A48C0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67201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A44-4282-42C6-9840-4F754EA9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32792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46720" y="1598400"/>
            <a:ext cx="32792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B4D-BE28-4265-8887-B6F35DDA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DDC-EB6D-40A5-8F98-E1F57B46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2960" y="222120"/>
            <a:ext cx="67201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FE5-B10D-4750-B895-59FE32A9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46720" y="1598400"/>
            <a:ext cx="32792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2960" y="383544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6E2-9E56-4133-AE1E-FA24A169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32792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46720" y="159840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46720" y="383544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BF0-700C-4AA5-A8A5-EEFE6FE9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2960" y="159840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46720" y="1598400"/>
            <a:ext cx="32792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2960" y="3835440"/>
            <a:ext cx="67201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EC9-1F35-46C2-B46C-D769E881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flipH="1" flipV="1">
            <a:off x="523080" y="5982480"/>
            <a:ext cx="8099640" cy="492120"/>
          </a:xfrm>
          <a:custGeom>
            <a:avLst/>
            <a:gdLst>
              <a:gd name="textAreaLeft" fmla="*/ -360 w 8099640"/>
              <a:gd name="textAreaRight" fmla="*/ 8099640 w 809964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523800" y="379440"/>
            <a:ext cx="809964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0c30"/>
                </a:solidFill>
                <a:latin typeface="DendaNew"/>
              </a:rPr>
              <a:t>Click to edit the title text format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902960" y="1598400"/>
            <a:ext cx="67201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134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2" marL="717480" indent="-207720">
              <a:lnSpc>
                <a:spcPct val="95000"/>
              </a:lnSpc>
              <a:spcBef>
                <a:spcPts val="1349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3" marL="947880" indent="-219240">
              <a:lnSpc>
                <a:spcPct val="95000"/>
              </a:lnSpc>
              <a:spcBef>
                <a:spcPts val="134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4" marL="1181160" indent="-209520">
              <a:lnSpc>
                <a:spcPct val="95000"/>
              </a:lnSpc>
              <a:spcBef>
                <a:spcPts val="1349"/>
              </a:spcBef>
              <a:buClr>
                <a:srgbClr val="000000"/>
              </a:buClr>
              <a:buFont typeface="Denda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5" marL="1181160" indent="-209520">
              <a:lnSpc>
                <a:spcPct val="95000"/>
              </a:lnSpc>
              <a:spcBef>
                <a:spcPts val="1349"/>
              </a:spcBef>
              <a:buClr>
                <a:srgbClr val="000000"/>
              </a:buClr>
              <a:buFont typeface="Denda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6" marL="1181160" indent="-209520">
              <a:lnSpc>
                <a:spcPct val="95000"/>
              </a:lnSpc>
              <a:spcBef>
                <a:spcPts val="1349"/>
              </a:spcBef>
              <a:buClr>
                <a:srgbClr val="000000"/>
              </a:buClr>
              <a:buFont typeface="Denda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2380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a9b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0F86-3DAB-4637-AB54-0A6F368AE4B6}" type="datetime">
              <a:rPr b="0" lang="en-US" sz="800" spc="-1" strike="noStrike">
                <a:solidFill>
                  <a:srgbClr val="9a9b9c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27600" y="525240"/>
            <a:ext cx="289584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9a9b9c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a9b9c"/>
                </a:solidFill>
                <a:latin typeface="Times New Roman"/>
                <a:ea typeface="ＭＳ Ｐゴシック"/>
              </a:rPr>
              <a:t>For internal use only. Select your 'R' leve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832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4CCB-0E95-40EC-8337-817345269C2E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canon_logo_new.jpg"/>
          <p:cNvPicPr/>
          <p:nvPr/>
        </p:nvPicPr>
        <p:blipFill>
          <a:blip r:embed="rId2"/>
          <a:stretch/>
        </p:blipFill>
        <p:spPr>
          <a:xfrm>
            <a:off x="765000" y="6070680"/>
            <a:ext cx="110664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2"/>
          <p:cNvSpPr/>
          <p:nvPr/>
        </p:nvSpPr>
        <p:spPr>
          <a:xfrm>
            <a:off x="519120" y="5816520"/>
            <a:ext cx="8104320" cy="720720"/>
          </a:xfrm>
          <a:custGeom>
            <a:avLst/>
            <a:gdLst/>
            <a:ahLst/>
            <a:rect l="l" t="t" r="r" b="b"/>
            <a:pathLst>
              <a:path w="5105" h="454">
                <a:moveTo>
                  <a:pt x="5105" y="43"/>
                </a:moveTo>
                <a:cubicBezTo>
                  <a:pt x="5105" y="63"/>
                  <a:pt x="5105" y="385"/>
                  <a:pt x="5105" y="385"/>
                </a:cubicBezTo>
                <a:cubicBezTo>
                  <a:pt x="5104" y="440"/>
                  <a:pt x="5079" y="454"/>
                  <a:pt x="5035" y="451"/>
                </a:cubicBezTo>
                <a:cubicBezTo>
                  <a:pt x="5034" y="451"/>
                  <a:pt x="63" y="452"/>
                  <a:pt x="63" y="451"/>
                </a:cubicBezTo>
                <a:cubicBezTo>
                  <a:pt x="24" y="451"/>
                  <a:pt x="0" y="431"/>
                  <a:pt x="0" y="382"/>
                </a:cubicBezTo>
                <a:cubicBezTo>
                  <a:pt x="0" y="384"/>
                  <a:pt x="0" y="109"/>
                  <a:pt x="0" y="106"/>
                </a:cubicBezTo>
                <a:cubicBezTo>
                  <a:pt x="0" y="42"/>
                  <a:pt x="26" y="32"/>
                  <a:pt x="65" y="32"/>
                </a:cubicBezTo>
                <a:cubicBezTo>
                  <a:pt x="72" y="31"/>
                  <a:pt x="957" y="32"/>
                  <a:pt x="957" y="31"/>
                </a:cubicBezTo>
                <a:cubicBezTo>
                  <a:pt x="1002" y="31"/>
                  <a:pt x="1011" y="58"/>
                  <a:pt x="1010" y="103"/>
                </a:cubicBezTo>
                <a:cubicBezTo>
                  <a:pt x="1010" y="101"/>
                  <a:pt x="1010" y="296"/>
                  <a:pt x="1010" y="298"/>
                </a:cubicBezTo>
                <a:cubicBezTo>
                  <a:pt x="1011" y="340"/>
                  <a:pt x="1028" y="362"/>
                  <a:pt x="1077" y="362"/>
                </a:cubicBezTo>
                <a:cubicBezTo>
                  <a:pt x="1077" y="362"/>
                  <a:pt x="4910" y="361"/>
                  <a:pt x="4908" y="361"/>
                </a:cubicBezTo>
                <a:cubicBezTo>
                  <a:pt x="4953" y="361"/>
                  <a:pt x="4974" y="355"/>
                  <a:pt x="5000" y="284"/>
                </a:cubicBezTo>
                <a:cubicBezTo>
                  <a:pt x="5048" y="153"/>
                  <a:pt x="5079" y="59"/>
                  <a:pt x="5084" y="47"/>
                </a:cubicBezTo>
                <a:cubicBezTo>
                  <a:pt x="5099" y="0"/>
                  <a:pt x="5103" y="23"/>
                  <a:pt x="5105" y="43"/>
                </a:cubicBez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pic>
        <p:nvPicPr>
          <p:cNvPr id="45" name="Picture 11" descr="canon_logo_new.jpg"/>
          <p:cNvPicPr/>
          <p:nvPr/>
        </p:nvPicPr>
        <p:blipFill>
          <a:blip r:embed="rId2"/>
          <a:stretch/>
        </p:blipFill>
        <p:spPr>
          <a:xfrm>
            <a:off x="765000" y="6070680"/>
            <a:ext cx="1106640" cy="237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2960" y="222120"/>
            <a:ext cx="67201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0c30"/>
                </a:solidFill>
                <a:latin typeface="DendaNew"/>
              </a:rPr>
              <a:t>Click to edit the title text format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902960" y="1598400"/>
            <a:ext cx="672012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134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2" marL="717480" indent="-207720">
              <a:lnSpc>
                <a:spcPct val="95000"/>
              </a:lnSpc>
              <a:spcBef>
                <a:spcPts val="1349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3" marL="947880" indent="-219240">
              <a:lnSpc>
                <a:spcPct val="95000"/>
              </a:lnSpc>
              <a:spcBef>
                <a:spcPts val="134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4" marL="1181160" indent="-209520">
              <a:lnSpc>
                <a:spcPct val="95000"/>
              </a:lnSpc>
              <a:spcBef>
                <a:spcPts val="1349"/>
              </a:spcBef>
              <a:buClr>
                <a:srgbClr val="000000"/>
              </a:buClr>
              <a:buFont typeface="Denda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5" marL="1181160" indent="-209520">
              <a:lnSpc>
                <a:spcPct val="95000"/>
              </a:lnSpc>
              <a:spcBef>
                <a:spcPts val="1349"/>
              </a:spcBef>
              <a:buClr>
                <a:srgbClr val="000000"/>
              </a:buClr>
              <a:buFont typeface="Denda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6" marL="1181160" indent="-209520">
              <a:lnSpc>
                <a:spcPct val="95000"/>
              </a:lnSpc>
              <a:spcBef>
                <a:spcPts val="1349"/>
              </a:spcBef>
              <a:buClr>
                <a:srgbClr val="000000"/>
              </a:buClr>
              <a:buFont typeface="Denda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5727600" y="525240"/>
            <a:ext cx="289584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9a9b9c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a9b9c"/>
                </a:solidFill>
                <a:latin typeface="Times New Roman"/>
                <a:ea typeface="ＭＳ Ｐゴシック"/>
              </a:rPr>
              <a:t>For internal use only. Select your 'R' leve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7832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CCB9-EA70-4594-95C7-0FA717104A82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dt" idx="6"/>
          </p:nvPr>
        </p:nvSpPr>
        <p:spPr>
          <a:xfrm>
            <a:off x="52380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a9b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2700-55A1-4FF7-A73E-788F77E4598F}" type="datetime">
              <a:rPr b="0" lang="en-US" sz="800" spc="-1" strike="noStrike">
                <a:solidFill>
                  <a:srgbClr val="9a9b9c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7"/>
          <p:cNvSpPr/>
          <p:nvPr/>
        </p:nvSpPr>
        <p:spPr>
          <a:xfrm>
            <a:off x="519120" y="5816520"/>
            <a:ext cx="8104320" cy="720720"/>
          </a:xfrm>
          <a:custGeom>
            <a:avLst/>
            <a:gdLst>
              <a:gd name="textAreaLeft" fmla="*/ 0 w 8104320"/>
              <a:gd name="textAreaRight" fmla="*/ 8104680 w 81043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5105" h="454">
                <a:moveTo>
                  <a:pt x="5105" y="43"/>
                </a:moveTo>
                <a:cubicBezTo>
                  <a:pt x="5105" y="63"/>
                  <a:pt x="5105" y="385"/>
                  <a:pt x="5105" y="385"/>
                </a:cubicBezTo>
                <a:cubicBezTo>
                  <a:pt x="5104" y="440"/>
                  <a:pt x="5079" y="454"/>
                  <a:pt x="5035" y="451"/>
                </a:cubicBezTo>
                <a:cubicBezTo>
                  <a:pt x="5034" y="451"/>
                  <a:pt x="63" y="452"/>
                  <a:pt x="63" y="451"/>
                </a:cubicBezTo>
                <a:cubicBezTo>
                  <a:pt x="24" y="451"/>
                  <a:pt x="0" y="431"/>
                  <a:pt x="0" y="382"/>
                </a:cubicBezTo>
                <a:cubicBezTo>
                  <a:pt x="0" y="384"/>
                  <a:pt x="0" y="109"/>
                  <a:pt x="0" y="106"/>
                </a:cubicBezTo>
                <a:cubicBezTo>
                  <a:pt x="0" y="42"/>
                  <a:pt x="26" y="32"/>
                  <a:pt x="65" y="32"/>
                </a:cubicBezTo>
                <a:cubicBezTo>
                  <a:pt x="72" y="31"/>
                  <a:pt x="957" y="32"/>
                  <a:pt x="957" y="31"/>
                </a:cubicBezTo>
                <a:cubicBezTo>
                  <a:pt x="1002" y="31"/>
                  <a:pt x="1011" y="58"/>
                  <a:pt x="1010" y="103"/>
                </a:cubicBezTo>
                <a:cubicBezTo>
                  <a:pt x="1010" y="101"/>
                  <a:pt x="1010" y="296"/>
                  <a:pt x="1010" y="298"/>
                </a:cubicBezTo>
                <a:cubicBezTo>
                  <a:pt x="1011" y="340"/>
                  <a:pt x="1028" y="362"/>
                  <a:pt x="1077" y="362"/>
                </a:cubicBezTo>
                <a:cubicBezTo>
                  <a:pt x="1077" y="362"/>
                  <a:pt x="4910" y="361"/>
                  <a:pt x="4908" y="361"/>
                </a:cubicBezTo>
                <a:cubicBezTo>
                  <a:pt x="4953" y="361"/>
                  <a:pt x="4974" y="355"/>
                  <a:pt x="5000" y="284"/>
                </a:cubicBezTo>
                <a:cubicBezTo>
                  <a:pt x="5048" y="153"/>
                  <a:pt x="5079" y="59"/>
                  <a:pt x="5084" y="47"/>
                </a:cubicBezTo>
                <a:cubicBezTo>
                  <a:pt x="5099" y="0"/>
                  <a:pt x="5103" y="23"/>
                  <a:pt x="5105" y="43"/>
                </a:cubicBez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3840" y="1568160"/>
            <a:ext cx="73483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60c30"/>
                </a:solidFill>
                <a:latin typeface="DendaNew"/>
              </a:rPr>
              <a:t>JCTVC-F503</a:t>
            </a:r>
            <a:br>
              <a:rPr sz="3800"/>
            </a:br>
            <a:r>
              <a:rPr b="0" lang="en-US" sz="3800" spc="-1" strike="noStrike">
                <a:solidFill>
                  <a:srgbClr val="c60c30"/>
                </a:solidFill>
                <a:latin typeface="DendaNew"/>
              </a:rPr>
              <a:t>Results on slice header modification</a:t>
            </a:r>
            <a:endParaRPr b="0" lang="en-US" sz="38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57360" y="3187800"/>
            <a:ext cx="6027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9b9c"/>
                </a:solidFill>
                <a:latin typeface="DendaNew"/>
              </a:rPr>
              <a:t>N.Ouedraogo, P.Onno</a:t>
            </a:r>
            <a:endParaRPr b="0" lang="en-US" sz="2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97" name="Slide Number Placeholder 10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E40E-0644-434A-9906-155E48E60526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98" name="Date Placeholder 19"/>
          <p:cNvSpPr/>
          <p:nvPr/>
        </p:nvSpPr>
        <p:spPr>
          <a:xfrm>
            <a:off x="523800" y="6483240"/>
            <a:ext cx="171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A2E2-7F34-4693-94E1-0ECF691EB24E}" type="datetime5">
              <a:rPr b="0" lang="en-US" sz="800" spc="-1" strike="noStrike">
                <a:solidFill>
                  <a:srgbClr val="9a9b9c"/>
                </a:solidFill>
                <a:latin typeface="DendaNew"/>
              </a:rPr>
              <a:t>Jul 30, 2026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563840" y="4253040"/>
            <a:ext cx="4830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JCT-VC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DendaNew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 Meeting, Torino 14-22 July, 2011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517680" y="366840"/>
            <a:ext cx="8121600" cy="736560"/>
          </a:xfrm>
          <a:custGeom>
            <a:avLst/>
            <a:gdLst>
              <a:gd name="textAreaLeft" fmla="*/ 0 w 8121600"/>
              <a:gd name="textAreaRight" fmla="*/ 8121960 w 81216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5116" h="464">
                <a:moveTo>
                  <a:pt x="3" y="417"/>
                </a:moveTo>
                <a:cubicBezTo>
                  <a:pt x="1" y="415"/>
                  <a:pt x="1" y="69"/>
                  <a:pt x="0" y="70"/>
                </a:cubicBezTo>
                <a:cubicBezTo>
                  <a:pt x="1" y="15"/>
                  <a:pt x="31" y="0"/>
                  <a:pt x="70" y="4"/>
                </a:cubicBezTo>
                <a:cubicBezTo>
                  <a:pt x="2557" y="0"/>
                  <a:pt x="5068" y="4"/>
                  <a:pt x="5067" y="6"/>
                </a:cubicBezTo>
                <a:cubicBezTo>
                  <a:pt x="5116" y="6"/>
                  <a:pt x="5113" y="94"/>
                  <a:pt x="5067" y="94"/>
                </a:cubicBezTo>
                <a:cubicBezTo>
                  <a:pt x="5065" y="91"/>
                  <a:pt x="207" y="93"/>
                  <a:pt x="205" y="94"/>
                </a:cubicBezTo>
                <a:cubicBezTo>
                  <a:pt x="160" y="94"/>
                  <a:pt x="138" y="103"/>
                  <a:pt x="114" y="154"/>
                </a:cubicBezTo>
                <a:cubicBezTo>
                  <a:pt x="66" y="285"/>
                  <a:pt x="24" y="405"/>
                  <a:pt x="19" y="417"/>
                </a:cubicBezTo>
                <a:cubicBezTo>
                  <a:pt x="4" y="464"/>
                  <a:pt x="3" y="417"/>
                  <a:pt x="3" y="417"/>
                </a:cubicBezTo>
                <a:close/>
              </a:path>
            </a:pathLst>
          </a:custGeom>
          <a:solidFill>
            <a:srgbClr val="c60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pic>
        <p:nvPicPr>
          <p:cNvPr id="101" name="Picture 7" descr="canon_logo_new.jpg"/>
          <p:cNvPicPr/>
          <p:nvPr/>
        </p:nvPicPr>
        <p:blipFill>
          <a:blip r:embed="rId1"/>
          <a:stretch/>
        </p:blipFill>
        <p:spPr>
          <a:xfrm>
            <a:off x="765000" y="6070680"/>
            <a:ext cx="110664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06400" y="414000"/>
            <a:ext cx="671976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0c30"/>
                </a:solidFill>
                <a:latin typeface="DendaNew"/>
              </a:rPr>
              <a:t>Comparison with HM3.1 without slices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523800" y="6483240"/>
            <a:ext cx="171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1251-45A2-4769-971D-FD622104E21D}" type="datetime">
              <a:rPr b="0" lang="en-US" sz="800" spc="-1" strike="noStrike">
                <a:solidFill>
                  <a:srgbClr val="9a9b9c"/>
                </a:solidFill>
                <a:latin typeface="DendaNew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74" name="Slide Number Placeholder 6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4838-5E27-4970-8E2D-DA0A8CD55374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06400" y="1303200"/>
            <a:ext cx="753264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5000"/>
              </a:lnSpc>
              <a:spcBef>
                <a:spcPts val="119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Low coding loss is observed for class E and D. 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19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No loss for other classe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19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When a single slice is used within each frame, SCP NAL unit is not very efficient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19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A flag at PPS or SPS level could be defined to disable SCP NAL unit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521000" y="3798720"/>
            <a:ext cx="631188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1600" y="222120"/>
            <a:ext cx="779148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60c30"/>
                </a:solidFill>
                <a:latin typeface="DendaNew"/>
              </a:rPr>
              <a:t>Loop filter slices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1600" y="1598400"/>
            <a:ext cx="7791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JCTVC-E045 proposes to move ALF parameters to PPS and defines activation flags for each CU at the beginning of slice.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Other contributions, such as JCTVC-F143, define deblocking filter parameters in slice headers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Thus, these parameters may change at each slice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A complex encoder may be able to adapt these parameters within a frame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It seems reasonable that defining independent slices for Deblocking filter provide gains in comparison of creating new reconstruction slice with new parameters 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Defining loop filter slices independently of slice or entropy slices seems advantageous 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79" name="Espace réservé de la date 4"/>
          <p:cNvSpPr/>
          <p:nvPr/>
        </p:nvSpPr>
        <p:spPr>
          <a:xfrm>
            <a:off x="523800" y="6483240"/>
            <a:ext cx="171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C6EC-4DD0-4F5F-A223-8CAF381AC812}" type="datetime">
              <a:rPr b="0" lang="en-US" sz="800" spc="-1" strike="noStrike">
                <a:solidFill>
                  <a:srgbClr val="9a9b9c"/>
                </a:solidFill>
                <a:latin typeface="DendaNew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80" name="Espace réservé du numéro de diapositive 6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3960-7D10-410D-A685-052CCB352785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1600" y="222120"/>
            <a:ext cx="779148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0c30"/>
                </a:solidFill>
                <a:latin typeface="DendaNew"/>
              </a:rPr>
              <a:t>Benefits of the proposal for streaming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1600" y="1598400"/>
            <a:ext cx="7791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Slices partitioning for network requirements and coding efficiency is separately defined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The slice partitioning process can be adapted according to the network characteristic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2" marL="717480" indent="-20772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ndaNew"/>
              </a:rPr>
              <a:t>Entropy slices partitioning for network transport</a:t>
            </a:r>
            <a:endParaRPr b="0" lang="en-US" sz="1400" spc="-1" strike="noStrike">
              <a:solidFill>
                <a:srgbClr val="000000"/>
              </a:solidFill>
              <a:latin typeface="DendaNew"/>
            </a:endParaRPr>
          </a:p>
          <a:p>
            <a:pPr lvl="2" marL="717480" indent="-20772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ndaNew"/>
              </a:rPr>
              <a:t>Reconstruction virtual slices for error propagations limitation</a:t>
            </a:r>
            <a:endParaRPr b="0" lang="en-US" sz="1400" spc="-1" strike="noStrike">
              <a:solidFill>
                <a:srgbClr val="000000"/>
              </a:solidFill>
              <a:latin typeface="DendaNew"/>
            </a:endParaRPr>
          </a:p>
          <a:p>
            <a:pPr lvl="2" marL="717480" indent="-20772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ndaNew"/>
              </a:rPr>
              <a:t>Loop filter virtual slices for accurate loop filtering</a:t>
            </a:r>
            <a:endParaRPr b="0" lang="en-US" sz="14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Same partitioning as with slices and entropy slices is permitted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Availability of Slice Common Parameters prior to slice data enables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Identification of coding boundaries even in case of slice los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Adaptation of error concealment and video quality estimation strategy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Adaptation of slice parameter redundancy in function of the network reliability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0D25-EBE0-44E4-8C85-3370A8F4E837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1600" y="222120"/>
            <a:ext cx="779148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0c30"/>
                </a:solidFill>
                <a:latin typeface="DendaNew"/>
              </a:rPr>
              <a:t>Conclusion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1600" y="1346040"/>
            <a:ext cx="779148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Goal of this proposa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Validate the benefits of concept introduced in JCTVC-E222 for streaming environment.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Main points of this proposal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Creation of a Slice Common Parameter NAL unit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Introduction of coding dependencies and filtering boundaries/parameters in the proposed Slice Parameter Set.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Main advantages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Coding efficiency is improved for streaming environment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Redundancy of Slice parameters can be adapted to the network reliability .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Recommendation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We propose to consider this proposition in a “Slice/High level syntax” Ad-Hoc Group or in a CE.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523800" y="6483240"/>
            <a:ext cx="171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776C-1D9B-410E-B54A-55A834372052}" type="datetime">
              <a:rPr b="0" lang="en-US" sz="800" spc="-1" strike="noStrike">
                <a:solidFill>
                  <a:srgbClr val="9a9b9c"/>
                </a:solidFill>
                <a:latin typeface="DendaNew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8941-B542-4A64-BE36-2F9EBAF5FBD5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523800" y="6483240"/>
            <a:ext cx="171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0191-D624-464B-A8D0-40E9C5B549CC}" type="datetime">
              <a:rPr b="0" lang="en-US" sz="800" spc="-1" strike="noStrike">
                <a:solidFill>
                  <a:srgbClr val="9a9b9c"/>
                </a:solidFill>
                <a:latin typeface="DendaNew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DA4F-6D4C-43FC-9687-89CE70DB45E3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8640" y="759960"/>
            <a:ext cx="303048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0c30"/>
                </a:solidFill>
                <a:latin typeface="DendaNew"/>
              </a:rPr>
              <a:t>Slice Common Parameter Syntax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555480" y="2182680"/>
            <a:ext cx="274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Former slice header syntax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78440" y="4854600"/>
            <a:ext cx="327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Inter/intra boundaries signalling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syntax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cxnSp>
        <p:nvCxnSpPr>
          <p:cNvPr id="193" name="Straight Arrow Connector 14"/>
          <p:cNvCxnSpPr/>
          <p:nvPr/>
        </p:nvCxnSpPr>
        <p:spPr>
          <a:xfrm>
            <a:off x="2130120" y="5392440"/>
            <a:ext cx="16786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Straight Arrow Connector 18"/>
          <p:cNvCxnSpPr>
            <a:stCxn id="191" idx="2"/>
          </p:cNvCxnSpPr>
          <p:nvPr/>
        </p:nvCxnSpPr>
        <p:spPr>
          <a:xfrm>
            <a:off x="1929960" y="2520720"/>
            <a:ext cx="1640520" cy="108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pic>
        <p:nvPicPr>
          <p:cNvPr id="195" name="Tableau 16" descr=""/>
          <p:cNvPicPr/>
          <p:nvPr/>
        </p:nvPicPr>
        <p:blipFill>
          <a:blip r:embed="rId1"/>
          <a:stretch/>
        </p:blipFill>
        <p:spPr>
          <a:xfrm>
            <a:off x="3803760" y="774720"/>
            <a:ext cx="3432240" cy="4992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3808440" y="4854600"/>
            <a:ext cx="3424320" cy="907920"/>
          </a:xfrm>
          <a:prstGeom prst="rect">
            <a:avLst/>
          </a:prstGeom>
          <a:noFill/>
          <a:ln w="15840">
            <a:solidFill>
              <a:srgbClr val="c60c30"/>
            </a:solidFill>
            <a:prstDash val="dash"/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3805200" y="804960"/>
            <a:ext cx="3424320" cy="4049640"/>
          </a:xfrm>
          <a:prstGeom prst="rect">
            <a:avLst/>
          </a:prstGeom>
          <a:noFill/>
          <a:ln w="15840">
            <a:solidFill>
              <a:srgbClr val="ffc000"/>
            </a:solidFill>
            <a:prstDash val="dash"/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6400" y="252000"/>
            <a:ext cx="671976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0c30"/>
                </a:solidFill>
                <a:latin typeface="DendaNew"/>
              </a:rPr>
              <a:t>Concept introduced in </a:t>
            </a:r>
            <a:br>
              <a:rPr sz="3000"/>
            </a:br>
            <a:r>
              <a:rPr b="0" lang="en-US" sz="3000" spc="-1" strike="noStrike">
                <a:solidFill>
                  <a:srgbClr val="c60c30"/>
                </a:solidFill>
                <a:latin typeface="DendaNew"/>
              </a:rPr>
              <a:t>JCTVC-E222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06040" y="1588680"/>
            <a:ext cx="37846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5000"/>
              </a:lnSpc>
              <a:spcBef>
                <a:spcPts val="1500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DendaNew"/>
              </a:rPr>
              <a:t>Concept proposed in JCTVC-E222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500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ndaNew"/>
              </a:rPr>
              <a:t>1. Creation of a new </a:t>
            </a:r>
            <a:r>
              <a:rPr b="1" lang="en-US" sz="2000" spc="-1" strike="noStrike">
                <a:solidFill>
                  <a:srgbClr val="000000"/>
                </a:solidFill>
                <a:latin typeface="DendaNew"/>
              </a:rPr>
              <a:t>Slice Common Parameters (SCP) </a:t>
            </a:r>
            <a:r>
              <a:rPr b="0" lang="en-US" sz="2000" spc="-1" strike="noStrike">
                <a:solidFill>
                  <a:srgbClr val="000000"/>
                </a:solidFill>
                <a:latin typeface="DendaNew"/>
              </a:rPr>
              <a:t>NALU: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DendaNew"/>
              </a:rPr>
              <a:t>Formerly named Slice Parameter Sets but not appropriate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Basic principle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2" marL="717480" indent="-20772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Move current Slice parameters from Slice Header to this new NAL unit defined at picture level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2" marL="717480" indent="-20772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Avoid redundant coding of slice parameter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000760" y="3105000"/>
            <a:ext cx="4086000" cy="3179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0" y="-16992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6021360" y="422280"/>
            <a:ext cx="3029040" cy="23353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2"/>
          <p:cNvSpPr/>
          <p:nvPr/>
        </p:nvSpPr>
        <p:spPr>
          <a:xfrm>
            <a:off x="4550040" y="3065400"/>
            <a:ext cx="2478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ndaNew"/>
              </a:rPr>
              <a:t>Slice Common Parameters (SCP)</a:t>
            </a:r>
            <a:endParaRPr b="0" lang="en-US" sz="12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7410240" y="2759040"/>
            <a:ext cx="64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ndaNew"/>
              </a:rPr>
              <a:t>HM2.0</a:t>
            </a:r>
            <a:endParaRPr b="0" lang="en-US" sz="12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6108840" y="6270480"/>
            <a:ext cx="2977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ndaNew"/>
              </a:rPr>
              <a:t>Proposal</a:t>
            </a:r>
            <a:endParaRPr b="0" lang="en-US" sz="12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A488-83EC-4E42-81DF-01D0D59BDD30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cxnSp>
        <p:nvCxnSpPr>
          <p:cNvPr id="111" name="Straight Arrow Connector 5"/>
          <p:cNvCxnSpPr/>
          <p:nvPr/>
        </p:nvCxnSpPr>
        <p:spPr>
          <a:xfrm flipV="1">
            <a:off x="4354560" y="3366720"/>
            <a:ext cx="491040" cy="26280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12" name="Straight Arrow Connector 10"/>
          <p:cNvCxnSpPr/>
          <p:nvPr/>
        </p:nvCxnSpPr>
        <p:spPr>
          <a:xfrm flipH="1">
            <a:off x="5855400" y="2301480"/>
            <a:ext cx="1194840" cy="76428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17560" y="271440"/>
            <a:ext cx="761832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0c30"/>
                </a:solidFill>
                <a:latin typeface="DendaNew"/>
              </a:rPr>
              <a:t>Concept introduced in JCTVC-E222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06040" y="1589040"/>
            <a:ext cx="378468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ndaNew"/>
              </a:rPr>
              <a:t>2. Define boundaries in that new SCP NAL unit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  <a:p>
            <a:pPr lvl="1" marL="469800" indent="-1947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For Intra and inter prediction processes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2" marL="710280" indent="-2055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Signaled by the LCU addres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2" marL="710280" indent="-2055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Can be defined independently of slice boundaries dedicated to entropy coding proces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69800" indent="-1947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For Loop filter process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2" marL="710280" indent="-2055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Signaled by the LCU addres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2" marL="710280" indent="-2055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Independent of other boundarie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69800" indent="-1947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2" marL="710280" indent="-2055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Independent partitioning in slices for each proces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29320" indent="-229320">
              <a:lnSpc>
                <a:spcPct val="95000"/>
              </a:lnSpc>
              <a:spcBef>
                <a:spcPts val="119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523800" y="6483240"/>
            <a:ext cx="171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1992-8800-4620-B757-215C70FDADEF}" type="datetime">
              <a:rPr b="0" lang="en-US" sz="800" spc="-1" strike="noStrike">
                <a:solidFill>
                  <a:srgbClr val="9a9b9c"/>
                </a:solidFill>
                <a:latin typeface="DendaNew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A30D-8067-4CD2-B7B1-2E2749339FBE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863960" y="2278080"/>
            <a:ext cx="4086360" cy="3179880"/>
          </a:xfrm>
          <a:prstGeom prst="rect">
            <a:avLst/>
          </a:prstGeom>
          <a:ln w="0">
            <a:noFill/>
          </a:ln>
        </p:spPr>
      </p:pic>
      <p:cxnSp>
        <p:nvCxnSpPr>
          <p:cNvPr id="118" name="Straight Arrow Connector 2"/>
          <p:cNvCxnSpPr/>
          <p:nvPr/>
        </p:nvCxnSpPr>
        <p:spPr>
          <a:xfrm>
            <a:off x="4343400" y="2984040"/>
            <a:ext cx="1240560" cy="1267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9" name="Straight Arrow Connector 8"/>
          <p:cNvCxnSpPr/>
          <p:nvPr/>
        </p:nvCxnSpPr>
        <p:spPr>
          <a:xfrm>
            <a:off x="4089240" y="4101840"/>
            <a:ext cx="1348560" cy="732600"/>
          </a:xfrm>
          <a:prstGeom prst="straightConnector1">
            <a:avLst/>
          </a:prstGeom>
          <a:ln w="25560">
            <a:solidFill>
              <a:srgbClr val="14b1be"/>
            </a:solidFill>
            <a:miter/>
            <a:tailEnd len="med" type="arrow" w="med"/>
          </a:ln>
        </p:spPr>
      </p:cxnSp>
      <p:sp>
        <p:nvSpPr>
          <p:cNvPr id="120" name="TextBox 12"/>
          <p:cNvSpPr/>
          <p:nvPr/>
        </p:nvSpPr>
        <p:spPr>
          <a:xfrm>
            <a:off x="4708440" y="2219400"/>
            <a:ext cx="207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ndaNew"/>
              </a:rPr>
              <a:t>Slice Common Parameters</a:t>
            </a:r>
            <a:endParaRPr b="0" lang="en-US" sz="1200" spc="-1" strike="noStrike">
              <a:solidFill>
                <a:srgbClr val="000000"/>
              </a:solidFill>
              <a:latin typeface="Denda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600" y="402840"/>
            <a:ext cx="7791480" cy="5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60c30"/>
                </a:solidFill>
                <a:latin typeface="DendaNew"/>
              </a:rPr>
              <a:t>Experiment configuration of proposal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1960" y="1284120"/>
            <a:ext cx="52149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Implemented in HM3.1: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1" marL="469800" indent="-1947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Slice Header are limited to two syntax element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2" marL="710280" indent="-2055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ndaNew"/>
              </a:rPr>
              <a:t>Address of first CU in the entropy slice</a:t>
            </a:r>
            <a:endParaRPr b="0" lang="en-US" sz="1400" spc="-1" strike="noStrike">
              <a:solidFill>
                <a:srgbClr val="000000"/>
              </a:solidFill>
              <a:latin typeface="DendaNew"/>
            </a:endParaRPr>
          </a:p>
          <a:p>
            <a:pPr lvl="2" marL="710280" indent="-2055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ndaNew"/>
              </a:rPr>
              <a:t>QP parameter since may vary from slice to slice</a:t>
            </a:r>
            <a:endParaRPr b="0" lang="en-US" sz="1400" spc="-1" strike="noStrike">
              <a:solidFill>
                <a:srgbClr val="000000"/>
              </a:solidFill>
              <a:latin typeface="DendaNew"/>
            </a:endParaRPr>
          </a:p>
          <a:p>
            <a:pPr lvl="1" marL="469800" indent="-1947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endaNew"/>
              </a:rPr>
              <a:t>Slice</a:t>
            </a: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DendaNew"/>
              </a:rPr>
              <a:t>Common Parameters</a:t>
            </a: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 NAL unit gathers all other slice header parameter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69800" indent="-1947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Define Reconstruction slices boundaries in SCP NAL unit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69800" indent="-1947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Loop filter slices are not used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2" marL="710280" indent="-2055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ndaNew"/>
              </a:rPr>
              <a:t>ALF &amp; SAO parameters are defined in first entropy slice </a:t>
            </a:r>
            <a:endParaRPr b="0" lang="en-US" sz="1400" spc="-1" strike="noStrike">
              <a:solidFill>
                <a:srgbClr val="000000"/>
              </a:solidFill>
              <a:latin typeface="DendaNew"/>
            </a:endParaRPr>
          </a:p>
          <a:p>
            <a:pPr marL="229320" indent="-229320">
              <a:lnSpc>
                <a:spcPct val="95000"/>
              </a:lnSpc>
              <a:spcBef>
                <a:spcPts val="134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Specific experiment conditions (targeting streaming)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1" marL="469800" indent="-1947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Reference is HM3.1 with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2" marL="710280" indent="-2055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ndaNew"/>
              </a:rPr>
              <a:t>NAL units size is limited to  MTU size (typically 1500 bytes)</a:t>
            </a:r>
            <a:endParaRPr b="0" lang="en-US" sz="1400" spc="-1" strike="noStrike">
              <a:solidFill>
                <a:srgbClr val="000000"/>
              </a:solidFill>
              <a:latin typeface="DendaNew"/>
            </a:endParaRPr>
          </a:p>
          <a:p>
            <a:pPr lvl="1" marL="469800" indent="-1947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2 LCU rows per slice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2" marL="710280" indent="-2055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ndaNew"/>
              </a:rPr>
              <a:t>Use slices to limit error propagation  </a:t>
            </a:r>
            <a:endParaRPr b="0" lang="en-US" sz="14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523800" y="6483240"/>
            <a:ext cx="171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3A45-A1DA-4568-AAFB-8072AD8CCFF5}" type="datetime">
              <a:rPr b="0" lang="en-US" sz="800" spc="-1" strike="noStrike">
                <a:solidFill>
                  <a:srgbClr val="9a9b9c"/>
                </a:solidFill>
                <a:latin typeface="DendaNew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467B-04AC-4204-A21E-E670BE822EBB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872320" y="4691160"/>
          <a:ext cx="2487600" cy="1674720"/>
        </p:xfrm>
        <a:graphic>
          <a:graphicData uri="http://schemas.openxmlformats.org/drawingml/2006/table">
            <a:tbl>
              <a:tblPr/>
              <a:tblGrid>
                <a:gridCol w="1231920"/>
                <a:gridCol w="1255680"/>
              </a:tblGrid>
              <a:tr h="42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ice size in LC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4x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6400" y="252000"/>
            <a:ext cx="671976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60c30"/>
                </a:solidFill>
                <a:latin typeface="DendaNew"/>
              </a:rPr>
              <a:t>Experiment 1: Single SCP NAL unit per frame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27" name="Date Placeholder 4"/>
          <p:cNvSpPr/>
          <p:nvPr/>
        </p:nvSpPr>
        <p:spPr>
          <a:xfrm>
            <a:off x="523800" y="6483240"/>
            <a:ext cx="171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42F1-BD12-4721-9F39-3B70FA7A208F}" type="datetime">
              <a:rPr b="0" lang="en-US" sz="800" spc="-1" strike="noStrike">
                <a:solidFill>
                  <a:srgbClr val="9a9b9c"/>
                </a:solidFill>
                <a:latin typeface="DendaNew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81E8-9C74-4DC9-BDC1-2303141E7799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06400" y="1598400"/>
            <a:ext cx="7532640" cy="21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ndaNew"/>
              </a:rPr>
              <a:t>Dedicated to reliable networks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ndaNew"/>
              </a:rPr>
              <a:t>Use a single SCP NAL unit per frame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  <a:p>
            <a:pPr lvl="1" marL="469800" indent="-1947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No redundancy of slice header parameter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ndaNew"/>
              </a:rPr>
              <a:t>Coding gain about 1% in average with our current testing conditions 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  <a:p>
            <a:pPr lvl="1" marL="469800" indent="-1947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Much Higher for class E sequence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69800" indent="-1947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1600" y="222120"/>
            <a:ext cx="779148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60c30"/>
                </a:solidFill>
                <a:latin typeface="DendaNew"/>
              </a:rPr>
              <a:t>Experiment 1: Results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31" name="Espace réservé de la date 3"/>
          <p:cNvSpPr/>
          <p:nvPr/>
        </p:nvSpPr>
        <p:spPr>
          <a:xfrm>
            <a:off x="523800" y="6483240"/>
            <a:ext cx="171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BF1B-EF73-4BD8-9B6E-8A8779F59DA9}" type="datetime">
              <a:rPr b="0" lang="en-US" sz="800" spc="-1" strike="noStrike">
                <a:solidFill>
                  <a:srgbClr val="9a9b9c"/>
                </a:solidFill>
                <a:latin typeface="DendaNew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0E16-2A16-4B9C-A7FB-7F37F3BF484B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511360" y="1273320"/>
            <a:ext cx="4581720" cy="1654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2511360" y="2954160"/>
            <a:ext cx="4581720" cy="1663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3"/>
          <a:stretch/>
        </p:blipFill>
        <p:spPr>
          <a:xfrm>
            <a:off x="2511360" y="4638600"/>
            <a:ext cx="45817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1600" y="304920"/>
            <a:ext cx="779148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60c30"/>
                </a:solidFill>
                <a:latin typeface="DendaNew"/>
              </a:rPr>
              <a:t>Experiment 1: Analysis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06400" y="1146240"/>
            <a:ext cx="7747200" cy="21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5000"/>
              </a:lnSpc>
              <a:spcBef>
                <a:spcPts val="1500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ndaNew"/>
              </a:rPr>
              <a:t>Why coding gain ?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Reduction of slice header redundancy 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Indicating a new slice HM3.1 implies a new NAL unit 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  <a:p>
            <a:pPr lvl="2" marL="717480" indent="-20772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New NAL units signaling overhead is saved with our proposal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2" marL="717480" indent="-20772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Denda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Significant at low bitrate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daNew"/>
              </a:rPr>
              <a:t>Encoded data is below MTU size  in common testing conditions</a:t>
            </a:r>
            <a:endParaRPr b="0" lang="en-US" sz="1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3349-5254-4ACF-BEF3-2FDA765DCB02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grpSp>
        <p:nvGrpSpPr>
          <p:cNvPr id="139" name="Groupe 9"/>
          <p:cNvGrpSpPr/>
          <p:nvPr/>
        </p:nvGrpSpPr>
        <p:grpSpPr>
          <a:xfrm>
            <a:off x="806400" y="3352680"/>
            <a:ext cx="3581280" cy="2521080"/>
            <a:chOff x="806400" y="3352680"/>
            <a:chExt cx="3581280" cy="2521080"/>
          </a:xfrm>
        </p:grpSpPr>
        <p:sp>
          <p:nvSpPr>
            <p:cNvPr id="140" name="Rectangle 10"/>
            <p:cNvSpPr/>
            <p:nvPr/>
          </p:nvSpPr>
          <p:spPr>
            <a:xfrm>
              <a:off x="806400" y="3352680"/>
              <a:ext cx="3565440" cy="2521080"/>
            </a:xfrm>
            <a:prstGeom prst="rect">
              <a:avLst/>
            </a:prstGeom>
            <a:solidFill>
              <a:srgbClr val="ffe8c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41" name="Connecteur droit 12"/>
            <p:cNvSpPr/>
            <p:nvPr/>
          </p:nvSpPr>
          <p:spPr>
            <a:xfrm>
              <a:off x="2597040" y="3352680"/>
              <a:ext cx="0" cy="252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42" name="Connecteur droit 13"/>
            <p:cNvSpPr/>
            <p:nvPr/>
          </p:nvSpPr>
          <p:spPr>
            <a:xfrm>
              <a:off x="1403280" y="3352680"/>
              <a:ext cx="0" cy="252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43" name="Connecteur droit 14"/>
            <p:cNvSpPr/>
            <p:nvPr/>
          </p:nvSpPr>
          <p:spPr>
            <a:xfrm>
              <a:off x="2000160" y="3352680"/>
              <a:ext cx="0" cy="252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44" name="Connecteur droit 15"/>
            <p:cNvSpPr/>
            <p:nvPr/>
          </p:nvSpPr>
          <p:spPr>
            <a:xfrm>
              <a:off x="3193920" y="3352680"/>
              <a:ext cx="0" cy="252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45" name="Connecteur droit 16"/>
            <p:cNvSpPr/>
            <p:nvPr/>
          </p:nvSpPr>
          <p:spPr>
            <a:xfrm>
              <a:off x="3790800" y="3352680"/>
              <a:ext cx="0" cy="252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46" name="Connecteur droit 17"/>
            <p:cNvSpPr/>
            <p:nvPr/>
          </p:nvSpPr>
          <p:spPr>
            <a:xfrm>
              <a:off x="806400" y="3352680"/>
              <a:ext cx="0" cy="252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47" name="Connecteur droit 18"/>
            <p:cNvSpPr/>
            <p:nvPr/>
          </p:nvSpPr>
          <p:spPr>
            <a:xfrm>
              <a:off x="806400" y="4610160"/>
              <a:ext cx="356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48" name="Connecteur droit 19"/>
            <p:cNvSpPr/>
            <p:nvPr/>
          </p:nvSpPr>
          <p:spPr>
            <a:xfrm>
              <a:off x="806400" y="4190760"/>
              <a:ext cx="356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49" name="Connecteur droit 20"/>
            <p:cNvSpPr/>
            <p:nvPr/>
          </p:nvSpPr>
          <p:spPr>
            <a:xfrm>
              <a:off x="806400" y="3771720"/>
              <a:ext cx="356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50" name="Connecteur droit 21"/>
            <p:cNvSpPr/>
            <p:nvPr/>
          </p:nvSpPr>
          <p:spPr>
            <a:xfrm>
              <a:off x="806400" y="3352680"/>
              <a:ext cx="356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51" name="Connecteur droit 22"/>
            <p:cNvSpPr/>
            <p:nvPr/>
          </p:nvSpPr>
          <p:spPr>
            <a:xfrm>
              <a:off x="806400" y="5029200"/>
              <a:ext cx="356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52" name="Connecteur droit 23"/>
            <p:cNvSpPr/>
            <p:nvPr/>
          </p:nvSpPr>
          <p:spPr>
            <a:xfrm>
              <a:off x="806400" y="5448240"/>
              <a:ext cx="356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53" name="Connecteur droit 24"/>
            <p:cNvSpPr/>
            <p:nvPr/>
          </p:nvSpPr>
          <p:spPr>
            <a:xfrm>
              <a:off x="806400" y="5867640"/>
              <a:ext cx="356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54" name="Connecteur droit 25"/>
            <p:cNvSpPr/>
            <p:nvPr/>
          </p:nvSpPr>
          <p:spPr>
            <a:xfrm>
              <a:off x="806400" y="4190760"/>
              <a:ext cx="3581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  <p:sp>
          <p:nvSpPr>
            <p:cNvPr id="155" name="Connecteur droit 26"/>
            <p:cNvSpPr/>
            <p:nvPr/>
          </p:nvSpPr>
          <p:spPr>
            <a:xfrm>
              <a:off x="806400" y="5029200"/>
              <a:ext cx="3581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DendaNew"/>
              </a:endParaRPr>
            </a:p>
          </p:txBody>
        </p:sp>
      </p:grp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775040" y="3632040"/>
            <a:ext cx="3803760" cy="56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5295960" y="4888080"/>
            <a:ext cx="2536920" cy="560160"/>
          </a:xfrm>
          <a:prstGeom prst="rect">
            <a:avLst/>
          </a:prstGeom>
          <a:ln w="0">
            <a:noFill/>
          </a:ln>
        </p:spPr>
      </p:pic>
      <p:sp>
        <p:nvSpPr>
          <p:cNvPr id="158" name="Connecteur droit 60"/>
          <p:cNvSpPr/>
          <p:nvPr/>
        </p:nvSpPr>
        <p:spPr>
          <a:xfrm>
            <a:off x="4775040" y="4610160"/>
            <a:ext cx="408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59" name="ZoneTexte 61"/>
          <p:cNvSpPr/>
          <p:nvPr/>
        </p:nvSpPr>
        <p:spPr>
          <a:xfrm>
            <a:off x="6268680" y="326088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DendaNew"/>
              </a:rPr>
              <a:t>HM3.1 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60" name="ZoneTexte 62"/>
          <p:cNvSpPr/>
          <p:nvPr/>
        </p:nvSpPr>
        <p:spPr>
          <a:xfrm>
            <a:off x="6257880" y="55990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DendaNew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6400" y="252000"/>
            <a:ext cx="671976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60c30"/>
                </a:solidFill>
                <a:latin typeface="DendaNew"/>
              </a:rPr>
              <a:t>Experiment 2: Multiple SCP NAL units per frame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sp>
        <p:nvSpPr>
          <p:cNvPr id="162" name="Date Placeholder 4"/>
          <p:cNvSpPr/>
          <p:nvPr/>
        </p:nvSpPr>
        <p:spPr>
          <a:xfrm>
            <a:off x="523800" y="6483240"/>
            <a:ext cx="171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080B-C657-432A-BF52-39DBBAB44530}" type="datetime">
              <a:rPr b="0" lang="en-US" sz="800" spc="-1" strike="noStrike">
                <a:solidFill>
                  <a:srgbClr val="9a9b9c"/>
                </a:solidFill>
                <a:latin typeface="DendaNew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F4BD-ECC1-4C21-A52E-57A1420AB329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06400" y="1302840"/>
            <a:ext cx="753264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5000"/>
              </a:lnSpc>
              <a:spcBef>
                <a:spcPts val="1500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ndaNew"/>
              </a:rPr>
              <a:t>In error prone network, redundancy of slice parameters is needed to enable a resilient decoding of slice data.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500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ndaNew"/>
              </a:rPr>
              <a:t>Use multiple SCP NAL units per frames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As many SCP NAL unit as entropy slice NAL units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Aggregation of SCP NAL units and entropy slice in a single network packet same level of redundancy as in HM 3.1 is attainable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3440" y="392040"/>
            <a:ext cx="672012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60c30"/>
                </a:solidFill>
                <a:latin typeface="DendaNew"/>
              </a:rPr>
              <a:t>Experiment 2: Results</a:t>
            </a:r>
            <a:endParaRPr b="0" lang="en-US" sz="3000" spc="-1" strike="noStrike">
              <a:solidFill>
                <a:srgbClr val="c60c30"/>
              </a:solidFill>
              <a:latin typeface="DendaNew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243320" y="4514760"/>
          <a:ext cx="4595760" cy="1800360"/>
        </p:xfrm>
        <a:graphic>
          <a:graphicData uri="http://schemas.openxmlformats.org/drawingml/2006/table">
            <a:tbl>
              <a:tblPr/>
              <a:tblGrid>
                <a:gridCol w="855720"/>
                <a:gridCol w="617400"/>
                <a:gridCol w="617760"/>
                <a:gridCol w="615960"/>
                <a:gridCol w="617400"/>
                <a:gridCol w="615960"/>
                <a:gridCol w="655560"/>
              </a:tblGrid>
              <a:tr h="314280">
                <a:tc rowSpan="2"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1360"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7920" rIns="792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" rIns="792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 txBox="1"/>
          <p:nvPr/>
        </p:nvSpPr>
        <p:spPr>
          <a:xfrm>
            <a:off x="247680" y="1596960"/>
            <a:ext cx="375912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5000"/>
              </a:lnSpc>
              <a:spcBef>
                <a:spcPts val="1500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ndaNew"/>
              </a:rPr>
              <a:t>Results below show coding loss for high bitrate classes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Due to the slightly bigger size of  the SCP NAL unit compared to current Slice header.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500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ndaNew"/>
              </a:rPr>
              <a:t>Coding gain for Classes D &amp; E</a:t>
            </a:r>
            <a:endParaRPr b="0" lang="en-US" sz="20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The bitrate is low and the number of NAL units per frame is reduced in comparison to the reference.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lvl="1" marL="474840" indent="-19692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Denda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DendaNew"/>
              </a:rPr>
              <a:t>Additional SCP NAL units is not exceeding the overhead introduced in HM3.1</a:t>
            </a: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  <a:p>
            <a:pPr marL="231840" indent="-231840">
              <a:lnSpc>
                <a:spcPct val="95000"/>
              </a:lnSpc>
              <a:spcBef>
                <a:spcPts val="1199"/>
              </a:spcBef>
              <a:buClr>
                <a:srgbClr val="9a9b9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68" name="Espace réservé de la date 3"/>
          <p:cNvSpPr/>
          <p:nvPr/>
        </p:nvSpPr>
        <p:spPr>
          <a:xfrm>
            <a:off x="523800" y="6483240"/>
            <a:ext cx="171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BB0F-7FDC-4AAD-BF70-93D2A4DA740F}" type="datetime">
              <a:rPr b="0" lang="en-US" sz="800" spc="-1" strike="noStrike">
                <a:solidFill>
                  <a:srgbClr val="9a9b9c"/>
                </a:solidFill>
                <a:latin typeface="DendaNew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sp>
        <p:nvSpPr>
          <p:cNvPr id="169" name="Espace réservé du numéro de diapositive 5"/>
          <p:cNvSpPr/>
          <p:nvPr/>
        </p:nvSpPr>
        <p:spPr>
          <a:xfrm>
            <a:off x="7832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340C-8256-46B8-8866-6C20438BC5AA}" type="slidenum">
              <a:rPr b="0" lang="en-US" sz="800" spc="-1" strike="noStrike">
                <a:solidFill>
                  <a:srgbClr val="c60c30"/>
                </a:solidFill>
                <a:latin typeface="DendaNe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DendaNew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243320" y="1074600"/>
          <a:ext cx="4557960" cy="1648080"/>
        </p:xfrm>
        <a:graphic>
          <a:graphicData uri="http://schemas.openxmlformats.org/drawingml/2006/table">
            <a:tbl>
              <a:tblPr/>
              <a:tblGrid>
                <a:gridCol w="795240"/>
                <a:gridCol w="627120"/>
                <a:gridCol w="627120"/>
                <a:gridCol w="627120"/>
                <a:gridCol w="627120"/>
                <a:gridCol w="627120"/>
                <a:gridCol w="627120"/>
              </a:tblGrid>
              <a:tr h="17172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243320" y="2793960"/>
          <a:ext cx="4597560" cy="1657440"/>
        </p:xfrm>
        <a:graphic>
          <a:graphicData uri="http://schemas.openxmlformats.org/drawingml/2006/table">
            <a:tbl>
              <a:tblPr/>
              <a:tblGrid>
                <a:gridCol w="866880"/>
                <a:gridCol w="622440"/>
                <a:gridCol w="622080"/>
                <a:gridCol w="620640"/>
                <a:gridCol w="622440"/>
                <a:gridCol w="620640"/>
                <a:gridCol w="622440"/>
              </a:tblGrid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Denda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2:16:51Z</dcterms:created>
  <dc:creator>Marta Biczak</dc:creator>
  <dc:description/>
  <dc:language>en-US</dc:language>
  <cp:lastModifiedBy>NVC</cp:lastModifiedBy>
  <cp:lastPrinted>2010-11-17T16:25:34Z</cp:lastPrinted>
  <dcterms:modified xsi:type="dcterms:W3CDTF">2011-07-16T07:42:52Z</dcterms:modified>
  <cp:revision>129</cp:revision>
  <dc:subject/>
  <dc:title>Presentation title Denda New 38pt</dc:title>
</cp:coreProperties>
</file>