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F85-9EC5-403C-B9D6-02513D4B61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0F67-8D09-4937-BF62-A9BAA84326F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617-139B-4417-A6A3-F92ED2F13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4883-C966-47AB-9CF5-A8CDF9F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2181-89AB-451A-BC7C-A330A637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7AC3-E168-4256-9B12-BFEA084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E489-EDE1-4974-903A-8E2C53F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370E-BBEF-4830-AC01-48D6801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C71E-C5E6-490D-92B2-18D573A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E973-6176-4CF3-A67C-826360A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3E26-A205-4F7E-A1F8-65252271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4D52-57E6-467D-8EE1-EBA9F6D5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7059-066A-4FD1-BF16-140DA429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A20A-42EF-4BA9-BECF-B0BC0FA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12A6-04D7-4B97-8162-0EAD6001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0B35-5229-483E-98D5-52350FC6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DBE3-0458-4C1A-B18D-76897CF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0EEC6-3D8D-46D3-8A99-3E97C60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5681-CA8A-4579-9233-ABD03CD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2698B-C694-479F-9D96-74FD337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CADB-E341-4573-916E-43D657E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6973-5220-4766-89EA-A273681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A23A8-E51A-48A5-B192-9599CF09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5C35-7074-4A84-91F6-E3F61029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E836-D1B3-4884-927F-D826E55E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F54E-F8F6-44FD-80F0-38BC92E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E9E6-95DB-49DA-8FCE-AB8B80F8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9E0C-67E4-4B69-9A41-DD6FB64E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C2F5-3F91-4731-AC8D-81A4FDE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2EFF-ED75-40C2-B9F3-DA9F148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1A58-2A3C-4825-BEE4-82604AA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9FED-2B41-4E72-94B2-645BCEC5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719B-7259-4367-BA7B-BE984AC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BE8B8-83E2-4945-9864-3B79538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B050-E209-45F3-9E9E-F7641430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89B0-1A32-4655-B1AA-CCB0BDA4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B1C8B-560F-4CEF-8E4D-FCF7049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0B0E-7C14-44CE-825B-71C01F3D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E79F9-3D84-4CC3-A126-10F4393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00177-1712-4FAF-BE1C-B2CB294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087B-FA88-46F1-A779-3B8B9062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38A0-D9EC-4F63-BE79-F910BC08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1CB0-CEBD-49A8-8CE6-0487A93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BD863-0A2A-4534-BA81-5E6A602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94B1-6142-44CD-BE86-E5D8CA4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402BB-614F-4BC1-BFD1-295BC0E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382D-C2F8-4544-946C-14714ABD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44C1-C6D0-459A-863F-484F70C6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B7A42-8F05-4A9F-94EE-B4878ED1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217A8-ED37-4C15-9A99-4E4863B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3EE4-7BD7-4E19-869F-2A680AFE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84081-E00E-49E7-9BB2-270341B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7A6BC-F625-4122-A255-E964B12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64982-2F94-4D21-A74E-66113ED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59AB-9700-416B-BBE8-99536B9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91E4A-088A-46C6-A75E-9CDF340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52EA4-169D-4DA2-B4E1-E799FD3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22483-1F48-43BE-8469-FC1400F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86377-9823-459F-A51F-5A776A17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4D90E-E02B-405B-B7AA-6BEACFBF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28FC6-CEDA-4CD7-9739-1C6F456F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A702C-811F-4993-97B0-DC6823DD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98F37-6A92-4CAC-A31C-F8E7AFF6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ADF13-0CF0-4F3C-8F59-BF42984A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E13E2-B2B7-4E0A-89FC-C58AA77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F5795-DF04-4BED-B796-2CE8A705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96FF-8637-430A-A8DF-3DA1B1C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84860-DEDB-4E64-B1F3-E49B3E1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D38C1-BC43-425D-9819-2472785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379A-68AF-47C9-B59F-B07EE4D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50BA4-A6F8-4D37-9203-193CBC50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96A80-DD10-47C0-9106-BBF01805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5F29F-1D5F-4CA8-B621-E79BAA04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7A780-4CB4-4E1C-BDA0-B02599C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F981-01AF-4215-A2AC-1D9394F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A0D3-A400-485F-8877-36FED10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9E8DB-AB46-4351-A9C5-156077DE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2B1D-BBE2-4BA7-9032-1A275BB4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D8736-C181-4C12-9AAC-2ADC57D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6DCC0-065B-47D1-A6CB-F63C409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2737-7DDE-4716-8884-9999764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E50CD-9C75-41CB-A39D-5289EEF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1CD2-CB7D-40E2-9F6F-973A410B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7192-2415-4D96-B6E1-1C6B7F0E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B2156-FD45-456B-8804-1DFB366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1C9A2-249B-45C9-AEA6-99E3CF1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74DAB-6B0A-4777-BDDD-1E08944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3923D-06D1-4CA8-87DD-9BD7801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C543-D91A-40BE-A58D-FCE9DA5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F0506-5E82-43EA-ABED-5E666D39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31A0D-CEC1-440D-95BA-2869E29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FD84C-D6CF-4DB9-9A08-2CC3128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9787C-3BE5-412F-8810-53F657F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B3057-37FF-423A-8A58-9230171D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32C92-70BC-48B6-B5AA-0EB0CA9A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163A9-287C-4614-89E3-91CC82B8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24C6A-EE8B-4260-B47D-7612D0CF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700B2-15ED-4627-AA73-46806D3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35204-22C0-439A-8DB1-BA9BA84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FA936-1236-4A13-B4B7-1798F00D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EBEAE-E602-4541-AB8B-5FBC78AB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7DE7B-438D-43B6-BBA0-52C93F7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B1FD5-0252-4201-8505-E1B460F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7B9A9-AC4F-4E40-93E4-29D8EBB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F6EB6-B73C-4D51-B0FE-6F4EE52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C042C-4AF5-49CB-BA91-1D15AA9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5616F-6C4A-48BB-BD9A-F5DE5054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48FD7-DADA-4DE9-8F74-0E5B612E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58EB4-624A-4514-A1C7-D711749E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2C6EE-4F5B-4F64-B06F-0FCD38CC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21CDD-C068-47A0-912E-83E5CF9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AB322-1F9F-43EA-8A1B-4752854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AECB0-3218-4488-BFF8-FBD950D4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49BE1-B113-4D90-9480-85A4684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BAEF2-66C5-428D-B38F-5D79BEA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22C43-590D-4734-AB22-D6529AE2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EA2CC-32D6-499E-8ECE-56A39E0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2DFA7-D702-4A48-BA34-DF61DF8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D6A52-774A-4135-8CCC-63E9DF4B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713D7-3E63-457A-9E53-75233BED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A0B4A-938B-4B08-8A2F-AB0165B4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9D8F4-8266-41F6-8C3D-5262CBA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065FD-7CB4-48D9-925C-3ABC42CB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B191A-E2D8-4D99-9463-5F0CAB0A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F5BEC-2755-4C7A-8455-3EAF717F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21157-62C4-4D06-B69F-0C3F9AB0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A2DA3-6C6E-4D7A-B920-F36FFE2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A8BCE-87C8-4AED-8133-BCFA558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3785E-7674-4D13-B029-7A4AA05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3219F-A269-4349-8870-372AB43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C51F8-BC22-46BC-82BF-D8AF47A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2FF18-EA22-44C5-8A60-865CB7DF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68021-7CC1-478C-9A52-F71F1891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9FC56-7453-4C93-A104-BE51A69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22B2C-6512-4CF2-907E-9FAA7F6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FC3E2-BDC8-438E-8C33-E0E709A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82365-E9C1-4018-8842-AB87E67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DAE3E-7CBE-4789-9BD4-F9765F2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65977-D060-4C74-87F0-4BA644A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29294-39A1-46E2-950C-365DC17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474C5-FBDD-4560-B249-E5BDEDB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735F9-CE14-4B5F-9CB6-73E4100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3D8BD-37EF-4779-82E9-8C6B3150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71632-F5F8-435E-BBD4-8A53A0C6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D5C7B-7CD9-4BA3-ABA1-93CC879A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592F6-62CA-4632-815D-F799FE94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DB5EB-6B97-4144-AEA3-3C13BBE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53CFB-31D1-42C3-95E5-341E6F02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7BAB7-FF67-4BE1-B341-AB897D70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6999E-7CD9-4400-947D-79A7EB8A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887B1-760B-4702-BBA1-031C8389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89514-ABB2-492F-AD1D-24827A2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1BA00-B0B6-47AF-892B-65BE757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EDD5A-58F3-4210-A665-BA7A445C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3867D-BF88-4738-BDFB-AE32D128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D6568-96B5-40A4-92A5-21148F26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8660E-770B-47B8-9A3E-46D4CD9B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A170C-AF32-43DC-9044-2B2FAE9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B9AA5-E747-43F7-941B-36D37BB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DB0E2-6B84-4DAE-8F29-8EFF7F5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22D44-BF15-4BDD-A47D-BF80D81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14CA3-8D9C-4886-AA9A-BEA4E326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1430E-2746-41D3-9897-97DFA15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1714A-6232-4DDF-B39E-312C5B4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BCB70-CBB3-4F26-8B5C-1B53C51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08A75-FACA-44B7-B9B5-07107DD6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2206E-3847-45B9-94BC-C62F1116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16AC3-92BE-4CFB-ACD9-BE652B35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E19DA-A79A-4404-BB61-AE1234D8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EECED-D0A5-4BF9-AE7D-A93B067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CFC6B-2202-4499-949F-85F3963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CF13D-575D-405E-8EC4-7D2976B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666B0-E9DA-4431-BD4A-B6E492D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5E8B0-D179-469E-957A-691472D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7836D-9439-495A-8E62-0798697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A5D8C-30B6-4440-960B-8D911C1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E7881-7F29-47E3-BE97-86530CF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44151-EAC0-4E2F-97DF-7AC7B55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6F692-A185-4382-B8A9-9EBA56FD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B773B-90BC-496C-8B4F-08D0BDA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6ACF2-64C0-4AD8-BE14-DB32BA0B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667FA-7D4C-48F2-952A-8D4A4116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383E9-1373-4FFE-AAC5-CCD83AF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FC99E-DCA7-40DB-B85A-029214E7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9AF44-D803-46D9-B426-AE235A4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18405-5FBF-408D-993D-95189C3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D07D0-1E42-4F26-BAC0-D2C52AD1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C2035-8C57-44F1-916C-3C07B32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40959-D2D5-4DBE-8092-FB3963D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D6270-C0BD-4FD2-823D-359F76A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C2EEE-F9B8-40E1-AB00-2FC65ACA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4F274-81DD-4102-AF02-0CC37B85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323BF-C173-48C2-B3CF-DDC710A5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ECA03-44E9-441B-9FE9-A052791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6479DF-8D2C-4087-83DD-3CD7686D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6216C-2A22-4804-AE88-358E0E4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D64C5-A510-4A24-84D7-CEAD3C3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82F57-049A-481F-8FA1-4BBAD5F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F7CEF-6A0D-4F84-B8D3-F143521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321DC-2A26-4BFB-8EE6-B255907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9FB28-5CBB-40E4-B098-770CE4B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8DF03-2180-4D3D-992C-42DA889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5AEEB-9EED-4C94-A06A-90649A3A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CA582-1567-42D7-8A66-8C7A7959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13FF5-C83C-4CA9-BD70-15950444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D90AB7-4F28-4CF0-A567-BAEDD71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4802E-2820-4AF0-ABF5-C7ED6A8D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04F97-83CE-4D61-827F-21E2AB55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305273-F39A-4E6F-8A20-558FDBE5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68DDF-79D4-408F-9C8E-BC38F4F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154D3-19E1-4DBD-842A-5F76549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21ECD5-A820-4AF2-A058-36D5B677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F43D2-A227-4FE1-9EDB-C8EAB80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8ADAA-D5A4-47F9-87DC-BDFEF08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8C690-74C1-4A3F-99C3-FA637D33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0B279F-1D69-4DA6-9592-41491EBD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51FB2-5FC5-409B-8788-688EAF5D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71C7F-6B90-4AD4-B9F7-23EE15F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3F58D-3AA5-432D-BB75-11ED9C56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2E199-E395-4978-ADA9-F3C85DA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836FDA-C091-4326-AC66-AB08A01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769434-9D95-45E7-A77D-6A0BEF4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D24D9-A690-4911-82BD-AD54DF3F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A2D41-2AB9-40F0-B738-25911EB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B99226-DEA4-48D2-B5DB-F18CE19B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23F23-02C6-432B-8989-2A8AA59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81908-0B17-47D7-A3A0-AD27957D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FCDA23-C686-4902-91F0-A2ACF2F1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E8464C-1E71-446D-8D93-2E93995D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CF296-A8FD-4C40-B588-2348CC27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AB4FF7-287B-4540-A234-C2C0703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4D402-7AD1-4B09-B0E5-031EDE66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811CB-30B9-4897-AB03-0CA471E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C753D-8933-4F5F-893A-08C754F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1AC68-1D24-48B5-9655-73444CD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D5FC03-1222-4B64-B3FD-8B8354D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6F23B6-108C-44AC-93A8-2153618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E4A0C-0F74-467C-A7C7-E4E0ABD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1482B-A653-477C-879A-96F8E6FF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D10CD5-DEB0-4937-B7B9-813B8EE2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645E3-9902-4813-B1EC-7949E6CF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7876F-7A69-4449-BDE3-453220CB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F7BD5-7717-4D32-A788-BD82B52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94F44-22B9-4970-8D6F-42030A9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A5B2E-E89F-484B-9B2F-488D7DA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24CC18-DBC3-432A-8785-7DF29D81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928D4-C452-46B3-BE04-FB32DF9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4C07A7-5C8D-4733-B374-E52AC1A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13812-C1DB-4326-8C75-6649602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7D749-CC5B-494E-BB43-37F34DEE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06DEB-4AA3-4E3B-8CA2-927B2C2F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43EA92-F719-4520-B5DB-CEB8BB0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8ABA9-B818-4652-A1F9-1803BFDD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70B8CE-E003-4ED7-943D-DD719C8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E3E231-9FF0-4721-9879-CD6FA8D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C679F6-5D43-4DD3-97F1-0B8B8480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EE30A5-8C54-4C39-B683-8C479A87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3DA8CC-693C-494B-926B-2A8EB79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E0BFD3-BD76-4F04-A59F-6335730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48AA15-D41E-47FD-AEED-6C301C0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1630D5-FB79-496F-B5F3-17A3C57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A05FA4-6200-4877-B44C-467B00C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821F9-5C46-4D60-B172-CF7CDA9E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80DA9F-FCEC-466F-B3CC-21431C77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0382E8-9ADC-4370-B43A-0A46D88D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498FB-B90C-4929-83D4-43DB149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205A4-212D-467A-9CDF-1F659984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4C3F15-94C9-49BD-BC91-2755C3FD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6E2082-7C0A-4DBA-8E71-640D8A7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C9384F-2D19-42F9-83E7-C506DCCD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8DF337-B067-4F93-AF55-AD464822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4E2E73-A994-43D0-9B67-1006936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5B6527-3E10-414A-BFA7-98B816AE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576C14-29A8-4E4F-87C7-12BC7373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EBC5A8-7ED0-45ED-A5D0-49DBA827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BC4F1D-86F8-4DEC-B6AF-7C3B08AC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061ED5-1F49-40EA-9EB0-320D9609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33F54B-8104-4CFD-BDC2-E84968E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C1B96B-461B-4A11-9AB9-05EC8844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836B01-930C-4CAD-A5C3-FE8CA14C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662649-17C8-4C10-BDFD-F5C8B53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69E3FC-0884-450C-B0F4-C9F35687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E22459-C3C3-4CBE-B0D7-E32FC16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48359D-EA72-46C7-A1BC-CE81829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68B99C-5171-42EE-B284-BBAAF85C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75638F-D7B0-46AB-8FCB-353C688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C9D077-5AD5-4323-940B-9C4A9237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95200D-F3A0-4AF3-BC4E-2820E853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F6DA0B-A271-4F56-80C6-8E8F494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F66C9D-0039-4862-90DB-F1934E0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7F6B5E-EA37-4717-BC2B-89A5694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E228A4-FA68-46B4-8686-D1271CF3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36E75B-F618-4403-83E8-CD47032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2E1FF4-300C-4AB9-B771-D5FBCCE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C0CA25-A0D4-4B05-BF6D-8424C90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E7B2E1-B03D-4944-A1DD-A724502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9800A8-1998-4A15-9963-2E18710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EA2810-68B8-412D-990F-6C20A96A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9B048A-E456-4388-8236-997B0B2D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D4229A-AD97-4241-9293-896305BE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8D99A0-40D8-4D74-94B7-360D1A6E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3BF86E-4129-47CF-B90D-EF9411EF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2ECB17-09CB-4791-BF06-2FF247C0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D24496-93A5-4D76-9F6D-A7DBE5A7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02834E-9FE7-412C-8474-493A6B2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8A12FB-D24A-4395-BEAE-ADA356A4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E5D377-6F7F-48CB-AFD0-B0B71C1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A26525-80B7-435B-91EE-6D0339E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641323-DF77-457A-8C96-235FE24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F8C5EA-775A-4BDA-8E13-EF9A4FF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397DCB-C274-49F1-8E01-D0D5E858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5F0665-3E4F-45A8-B85B-39CB678D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A0D-5B4E-4038-B033-FC325730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31E-BBA3-4A9C-858C-AB6684DA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96C-6FA2-4CC2-9878-1464788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6EB-390B-496F-92DA-7DA64A73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CA4-6C29-4CB7-9DDD-37110B9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F1B-9A2D-4D0A-858B-9D2CD36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C03-04BE-428E-B12A-E561B016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13A-8652-4A80-8868-1EA5B4E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352-11EA-4836-8B32-04B7B05C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7BA-ED1D-45EE-9BD0-3049CD6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2C5-9E49-4C6A-AF5B-CD40F278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6B2-5A81-409D-BB0D-45C7B7A2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C2CD-7239-4F24-ACEB-7F3FD286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E4D-ABCB-4152-BE68-25D874E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BF1-4463-4E28-A567-C975F01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D88C-6593-44C1-83C2-03FE3764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FF08-7607-4697-BB95-C3093095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D69-CEAB-47E7-86C3-AC32C0BA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ADF3-78E1-478C-B38B-37A2879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959-6834-4EF3-B295-03801B0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749-4A12-4B9F-92EE-13A010B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28D-C744-40A7-B6F1-18B7B756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C52A-6282-4591-820A-DF98C576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A8C-24DE-443E-A0F6-76841FE2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A86B-18C9-4931-AEE5-AEC31B1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AE67-A7BF-422A-A1E1-A68A27C3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E1F2-B161-4D1B-A42E-818FE04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791C-313B-4040-BCDE-70D0223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9F6A-349D-4D69-9547-4F1EA4E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6300-026E-4888-BA34-47D2DB6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3090-0EC1-4A36-BAED-73B06F8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587E-7ED8-4C09-AABF-56548F1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78A0-FF3F-4D2C-A45F-BE1EC2E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5E7B-3B22-4543-B086-C0E46DF3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64FA-023A-4C38-A013-809FC3D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F739-C419-4159-BAD7-82048FD9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228D-ED13-4B61-ACD0-45A4BF78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24B8-1902-418E-B40B-117B098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EAF2-A143-41F3-A05C-2F0A9DB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680D-D5F9-4932-AF4C-2E8A8AC8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8CD5-27ED-4801-8C82-2E00260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7D30-EE5A-4582-855E-1A2AAFD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1E26-A26F-4EDB-9B8D-F7CBA55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5756-4228-427D-B62C-D6A4B2E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46DC-B1BB-4114-A594-1733A41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5D8D-206E-4D77-B3BC-9757FE74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94AF-8569-48DB-BD6D-094D373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20C3-BF27-49AC-8427-A1AF0545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80498-DB3D-4EC5-A96A-C7E698E6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A4D9-F2CC-48F5-ACC5-42B55933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B44CF-8081-413F-BCF8-C36E589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29243231-8228-469B-977D-B63CCB2D4AAF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F8C0F752-616C-4296-A0D7-F82CB9600CF3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92B-9589-4448-A99A-073180E77092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4C867171-FC37-4F41-A210-CB58ECD45702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424-4A5D-45D1-BA72-9C9667A3A546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A505C139-9EAC-47F2-98FC-5742318A8844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2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A66-241F-468F-B572-71902A6910B3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B8ECB027-8D48-470A-8F23-07FA7B9C56D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800-D71B-4164-B91B-1AD54A2B5DBF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BBF301F9-7454-406F-BE26-E816E3205A5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8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7D96-9F83-479D-90F6-44F48386ECB5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2"/>
          <p:cNvPicPr/>
          <p:nvPr/>
        </p:nvPicPr>
        <p:blipFill>
          <a:blip r:embed="rId3"/>
          <a:stretch/>
        </p:blipFill>
        <p:spPr>
          <a:xfrm>
            <a:off x="1440" y="784080"/>
            <a:ext cx="9142560" cy="381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626400" y="3268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82480" y="6205680"/>
            <a:ext cx="280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7246800" y="3984480"/>
            <a:ext cx="1503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ww.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623-F8A4-479B-A8B5-9512773067C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301-23E4-4F72-99C8-EB2F12970AA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FB7-9856-4EA1-B595-D541B77E859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7CC1-39BE-461E-A48D-06EC0AE3A5A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D9DF-95E4-465E-A80A-99E59111C75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4473-DE0D-452B-B62E-B3EC3F0D099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182-4104-4782-971A-A6F50E348C7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1903-707E-41CC-84BD-E257D3AB8F1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849-838A-42EC-9E5E-CD29A337B05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2CE5-8F71-4C00-B453-1A2495BC6E4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25FE-C256-41C5-BAE1-563E4C9ACC8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C3DB-15E5-4F9D-9AFE-61187AB914D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F3F1-6E7C-4C57-9E5E-85E0141C78C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8934-A927-473E-8E8F-54B24B2DA3D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2823-8E7C-4246-9C54-3008FD435EC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5558-D5BB-4820-A541-B5F540931A3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32" name="PlaceHolder 1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035-8F07-4D41-BEE3-4C558E16DFD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74" name="PlaceHolder 1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D28-3175-4B0B-A37B-681857DDF83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5D7-4F5F-4DCC-8CFB-FFCC0B0C2310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418D-4F84-485C-A497-499B12CC6CC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2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5"/>
          <p:cNvSpPr/>
          <p:nvPr/>
        </p:nvSpPr>
        <p:spPr>
          <a:xfrm>
            <a:off x="67460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468-60E3-4BE5-AD8E-44B925ABFCB8}" type="datetime">
              <a:rPr b="0" lang="zh-CN" sz="1200" spc="-1" strike="noStrike">
                <a:solidFill>
                  <a:srgbClr val="898989"/>
                </a:solidFill>
                <a:latin typeface="MS PGothic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188840" y="407664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Logo"/>
          <p:cNvPicPr/>
          <p:nvPr/>
        </p:nvPicPr>
        <p:blipFill>
          <a:blip r:embed="rId3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9A0B2B7B-65A0-481D-BAD6-39F8CB476EBF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82F-744D-4938-A144-F4CA1782D41E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3F95BE35-905C-43B0-A56E-9B4E43312706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87DB-1B5F-416D-9346-BC68F2CA6C3A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303C7283-44B4-4732-9D44-0DBC5DBE018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7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1CF-1DDE-4BFD-BABC-64EC8A7AC974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D9B077AB-8584-4A32-B1A6-C11B62D5BAD6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0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1A38-8134-41A4-A565-A441ADE9FBA8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5C4EB89C-000A-4C3C-88F4-0C4E5FCE4FD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029-DDD3-4209-AF04-396B5F875FFC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6"/>
          <p:cNvSpPr/>
          <p:nvPr/>
        </p:nvSpPr>
        <p:spPr>
          <a:xfrm>
            <a:off x="0" y="1773360"/>
            <a:ext cx="67276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ode dependent coefficient scan for inter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(JCTVC-F5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6"/>
          <p:cNvSpPr/>
          <p:nvPr/>
        </p:nvSpPr>
        <p:spPr>
          <a:xfrm>
            <a:off x="684360" y="4797360"/>
            <a:ext cx="50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Jin Song, Mingyuan Yang, Haitao Yang, Haoping Yu, and Xiaozhen Z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Background &amp; motiv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39280" y="981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 fontScale="99000"/>
          </a:bodyPr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MDCS for intra blocks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ree candidate scan patterns: horizontal, vertical, and zigzag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lection based on the intra prediction direction of the current TU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Motivation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PU partition m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&gt; the direction of either object boundaries or object tex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&gt; residual blocks with directional texture along the dir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&gt; transform coefficients distribution perpendicular to the directio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o Sum 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PU partition mode provide a hint of the coefficient distributio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5200" indent="-295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Extend the MDCS to inter blocks: MDCS-Inter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ree candidate scan patterns: horizontal, vertical, and zigzag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44040" indent="-2484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lection based on PU partition mode of the current CU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r each luma and chroma TU inside a inter-coded CU, the scan pattern for both is determined by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0:  zigzag sca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: horizontal sca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: vertical scan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10" name="Object 3"/>
          <p:cNvGraphicFramePr/>
          <p:nvPr/>
        </p:nvGraphicFramePr>
        <p:xfrm>
          <a:off x="493560" y="2060640"/>
          <a:ext cx="832644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2060640"/>
                    <a:ext cx="832644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Based on HM3.0-dev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ommon test condition in JCTVC-E700 is used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RD performanc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Negligible complexity in both encoder and decoder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anks Panasonic for the crosschecking efforts (JCTVC-F227)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graphicFrame>
        <p:nvGraphicFramePr>
          <p:cNvPr id="1514" name="Object 3"/>
          <p:cNvGraphicFramePr/>
          <p:nvPr/>
        </p:nvGraphicFramePr>
        <p:xfrm>
          <a:off x="826920" y="2421000"/>
          <a:ext cx="74901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21000"/>
                    <a:ext cx="74901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proposed MDCS-Inter is adaptive scan pattern selection based on PU partition mode for inter-coded CU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omplementary to the existing MDCS for intra blocks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three candidate scan patterns are already in HM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No complexity increase in both encoder and decoder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uggest adopting the proposed method into next version HM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3"/>
          <p:cNvSpPr/>
          <p:nvPr/>
        </p:nvSpPr>
        <p:spPr>
          <a:xfrm>
            <a:off x="322128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"/>
          <p:cNvSpPr/>
          <p:nvPr/>
        </p:nvSpPr>
        <p:spPr>
          <a:xfrm>
            <a:off x="335700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17:19Z</dcterms:created>
  <dc:creator>s00107188</dc:creator>
  <dc:description/>
  <dc:language>en-US</dc:language>
  <cp:lastModifiedBy>Haitao Yang</cp:lastModifiedBy>
  <dcterms:modified xsi:type="dcterms:W3CDTF">2011-07-13T16:36:16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ZC3eBm+IzOq0/3c8vw+YY+YJNOa0TlkopcLA4hXmoNp7/JFQnruYBPfl95D+JCrfW9RdD+B3
/b02jKtMYn49OdPcEcMe/ooldQIfcYMPAcEMM18A0h6lqKaRbuV69pcKeBuKT0vpjPnJe95M
yWzLJmgmJ43268THGFOqWpBLRtptv6eKXHSbbK+8Mmp/FyGwsduyu2+V+Kpp1BkByEzAwJOc
RPS7WykhuWMZYRnwK8+9/</vt:lpwstr>
  </property>
  <property fmtid="{D5CDD505-2E9C-101B-9397-08002B2CF9AE}" pid="3" name="_ms_pID_7253431">
    <vt:lpwstr>fO68IPsSoLeY3Yi0j+L09rJoZc/Hd3s3AvzIUrUHsg5NfynTNh6
gYW3zsnxL8BmppOlK6OoVq2GeMIrvwleekPodNCG3rw1ynIQj+RTjCyLLJSrivVz6HazDfgI
/C0=</vt:lpwstr>
  </property>
  <property fmtid="{D5CDD505-2E9C-101B-9397-08002B2CF9AE}" pid="4" name="sflag">
    <vt:lpwstr>1310574931</vt:lpwstr>
  </property>
</Properties>
</file>