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B6C4-B8EB-4B94-9F28-776861C0D4D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C8F9-61ED-41BA-9DF6-B88D7BD32C04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C77F-B232-4582-A0B2-D4A7158D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6327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4360" y="3636000"/>
            <a:ext cx="76327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C6D2-7573-4845-98B1-49F9F22B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5400" y="90792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4360" y="363600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95400" y="363600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D79-138C-4F16-A3A8-CE1CE21B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4573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64840" y="907920"/>
            <a:ext cx="24573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45680" y="907920"/>
            <a:ext cx="24573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4360" y="3636000"/>
            <a:ext cx="24573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64840" y="3636000"/>
            <a:ext cx="24573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45680" y="3636000"/>
            <a:ext cx="24573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48C-EA8B-4C09-BA10-EF1F7A0F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D2913-FEC0-445B-9745-2A630B7E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632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607C0-850B-4266-94D1-6EB44D07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6327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CC8F5-2342-400E-9965-C82FAAF6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72456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5400" y="907920"/>
            <a:ext cx="372456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66483-302F-4F23-98E7-2AB16F57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CADE0-1E47-4970-9A8D-0459F318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7080" y="115560"/>
            <a:ext cx="777708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C62FE-E3BB-40D8-90C1-4E0CAB1D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5400" y="907920"/>
            <a:ext cx="372456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363600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EAA29-85DF-4E6E-A0F6-23F80564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632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6B8A-642E-4AB1-A23C-4EB9990E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72456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5400" y="90792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95400" y="363600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BE4E5-B615-4349-82D5-7BA97BA9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5400" y="90792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636000"/>
            <a:ext cx="76327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21897-F7D8-4E3E-9E16-9A201A13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6327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4360" y="3636000"/>
            <a:ext cx="76327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E5246-AF07-49E0-AB2B-F7CCB393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95400" y="90792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4360" y="363600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95400" y="363600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ACF90-85AE-4EF9-A53D-52EC1FC0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4573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64840" y="907920"/>
            <a:ext cx="24573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45680" y="907920"/>
            <a:ext cx="24573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4360" y="3636000"/>
            <a:ext cx="24573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64840" y="3636000"/>
            <a:ext cx="24573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845680" y="3636000"/>
            <a:ext cx="24573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D773F-8FD9-45D6-AE57-4374B459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A8886A-FD49-4916-B14C-B827F7C3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6327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80FBBD-2C0B-4EA5-B156-2673FFC7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6327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578A20-BD3C-46DD-8101-8D64B56B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72456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95400" y="907920"/>
            <a:ext cx="372456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15340C-C613-4797-B9D8-85B1B71F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F2D2A1-16CF-4B0B-9160-06534437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6327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D8E-1DF9-498A-8262-2B3A912E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7080" y="115560"/>
            <a:ext cx="777708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F476D3-FF78-4CAC-9063-77A02A2F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95400" y="907920"/>
            <a:ext cx="372456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4360" y="363600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6FD3B6-0585-4E03-9282-05D28B42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72456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5400" y="90792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95400" y="363600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54C511-79BA-4F84-83C5-8BC56F66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95400" y="90792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4360" y="3636000"/>
            <a:ext cx="76327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DCBC35-1D1C-4822-9D21-63E79018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6327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4360" y="3636000"/>
            <a:ext cx="76327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E9B649-1D57-4A39-8F3D-C7A086AD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95400" y="90792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4360" y="363600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95400" y="363600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16819E-E1AE-41E8-9196-D8E29E87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4573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64840" y="907920"/>
            <a:ext cx="24573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45680" y="907920"/>
            <a:ext cx="24573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4360" y="3636000"/>
            <a:ext cx="24573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64840" y="3636000"/>
            <a:ext cx="24573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45680" y="3636000"/>
            <a:ext cx="24573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1F41C1-7DD0-404B-9670-A483A94A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72456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5400" y="907920"/>
            <a:ext cx="372456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2FF-C940-4C3F-9FB3-3E9E7A56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895-4514-4056-B863-3F9EB021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17080" y="115560"/>
            <a:ext cx="777708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9661-8D58-471F-83FD-FB1A9DFC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5400" y="907920"/>
            <a:ext cx="372456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63600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54F3-1C1C-45F3-8C75-F44275DF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72456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5400" y="90792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95400" y="363600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B97A-CA1B-4606-941F-4CFF3135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5400" y="907920"/>
            <a:ext cx="37245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636000"/>
            <a:ext cx="76327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189-F90A-47C3-B9E1-15AB1CB5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6327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23920" y="6391080"/>
            <a:ext cx="213336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588760" y="6391080"/>
            <a:ext cx="500724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709560"/>
            <a:ext cx="8101080" cy="0"/>
          </a:xfrm>
          <a:prstGeom prst="line">
            <a:avLst/>
          </a:prstGeom>
          <a:ln w="255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86440" y="6383160"/>
            <a:ext cx="110628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C34D-AB48-4389-838B-821045ED23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Object 8"/>
          <p:cNvGraphicFramePr/>
          <p:nvPr/>
        </p:nvGraphicFramePr>
        <p:xfrm>
          <a:off x="7532640" y="6440400"/>
          <a:ext cx="1611360" cy="39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440400"/>
                    <a:ext cx="16113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" name="Picture 9" descr="Xidian2"/>
          <p:cNvPicPr/>
          <p:nvPr/>
        </p:nvPicPr>
        <p:blipFill>
          <a:blip r:embed="rId4"/>
          <a:stretch/>
        </p:blipFill>
        <p:spPr>
          <a:xfrm>
            <a:off x="6156360" y="6448320"/>
            <a:ext cx="1233360" cy="2397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0" descr="Xidian1"/>
          <p:cNvPicPr/>
          <p:nvPr/>
        </p:nvPicPr>
        <p:blipFill>
          <a:blip r:embed="rId5"/>
          <a:stretch/>
        </p:blipFill>
        <p:spPr>
          <a:xfrm>
            <a:off x="5651640" y="6364440"/>
            <a:ext cx="502920" cy="49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Object 11"/>
          <p:cNvGraphicFramePr/>
          <p:nvPr/>
        </p:nvGraphicFramePr>
        <p:xfrm>
          <a:off x="6416640" y="6729480"/>
          <a:ext cx="1044720" cy="84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16640" y="6729480"/>
                    <a:ext cx="1044720" cy="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755640" y="981000"/>
            <a:ext cx="76327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4"/>
          </p:nvPr>
        </p:nvSpPr>
        <p:spPr>
          <a:xfrm>
            <a:off x="7786440" y="6383160"/>
            <a:ext cx="110628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C718-109E-4B2B-BCE7-A49A6C0807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5"/>
          </p:nvPr>
        </p:nvSpPr>
        <p:spPr>
          <a:xfrm>
            <a:off x="223920" y="6391080"/>
            <a:ext cx="213336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6"/>
          </p:nvPr>
        </p:nvSpPr>
        <p:spPr>
          <a:xfrm>
            <a:off x="2588760" y="6391080"/>
            <a:ext cx="500724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7"/>
          <p:cNvGraphicFramePr/>
          <p:nvPr/>
        </p:nvGraphicFramePr>
        <p:xfrm>
          <a:off x="7532640" y="6440400"/>
          <a:ext cx="1611360" cy="39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440400"/>
                    <a:ext cx="16113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Xidian2"/>
          <p:cNvPicPr/>
          <p:nvPr/>
        </p:nvPicPr>
        <p:blipFill>
          <a:blip r:embed="rId4"/>
          <a:stretch/>
        </p:blipFill>
        <p:spPr>
          <a:xfrm>
            <a:off x="6156360" y="6448320"/>
            <a:ext cx="1233360" cy="239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Xidian1"/>
          <p:cNvPicPr/>
          <p:nvPr/>
        </p:nvPicPr>
        <p:blipFill>
          <a:blip r:embed="rId5"/>
          <a:stretch/>
        </p:blipFill>
        <p:spPr>
          <a:xfrm>
            <a:off x="5651640" y="6364440"/>
            <a:ext cx="502920" cy="49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Object 10"/>
          <p:cNvGraphicFramePr/>
          <p:nvPr/>
        </p:nvGraphicFramePr>
        <p:xfrm>
          <a:off x="6416640" y="6729480"/>
          <a:ext cx="1044720" cy="84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16640" y="6729480"/>
                    <a:ext cx="1044720" cy="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封面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6327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7"/>
          </p:nvPr>
        </p:nvSpPr>
        <p:spPr>
          <a:xfrm>
            <a:off x="7786440" y="6383160"/>
            <a:ext cx="110628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0A9B-D6B7-4564-BF16-10FEFDFB00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8"/>
          </p:nvPr>
        </p:nvSpPr>
        <p:spPr>
          <a:xfrm>
            <a:off x="223920" y="6391080"/>
            <a:ext cx="213336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9"/>
          </p:nvPr>
        </p:nvSpPr>
        <p:spPr>
          <a:xfrm>
            <a:off x="2588760" y="6391080"/>
            <a:ext cx="500724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49568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ANG Lijuan, MA  Yanzhuo               LIN Six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idian University                    Huawei Tech. Lt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Presented by Haitao Ya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 rot="10800000">
            <a:off x="1447200" y="6324480"/>
            <a:ext cx="5257800" cy="1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1143000" y="3124080"/>
            <a:ext cx="69343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2x2 block-based reference 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7" name="WordArt 7"/>
          <p:cNvSpPr txBox="1"/>
          <p:nvPr/>
        </p:nvSpPr>
        <p:spPr>
          <a:xfrm>
            <a:off x="3733920" y="3886200"/>
            <a:ext cx="48387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frame compression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48" name="Object 9"/>
          <p:cNvGraphicFramePr/>
          <p:nvPr/>
        </p:nvGraphicFramePr>
        <p:xfrm>
          <a:off x="7924680" y="152280"/>
          <a:ext cx="11289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52280"/>
                    <a:ext cx="11289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oposed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164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The de-scaling proces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ad the first 2 bits, got th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fl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f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the flag denotes the case of S=3, the reconstruct pixel valu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D[i] (=P[i]&lt;&lt;3+(offset&lt;&lt;1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s obtai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lse if the flag denotes the case of S&lt;3, the reconstruct pixel valu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D[i](=(P[i]&lt;&lt;S)+mi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s calcu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762120" y="2057400"/>
          <a:ext cx="7632720" cy="3537000"/>
        </p:xfrm>
        <a:graphic>
          <a:graphicData uri="http://schemas.openxmlformats.org/drawingml/2006/table">
            <a:tbl>
              <a:tblPr/>
              <a:tblGrid>
                <a:gridCol w="1778040"/>
                <a:gridCol w="1560240"/>
                <a:gridCol w="429444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value of 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sion Loss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Bits to be us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lt;6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ssle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flag)+10(min)+2(minIdx)+6*3(differences)=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gt;=64 &amp;&amp; R&lt;12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bit * 3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flag)+10(min)+2(minIdx)+6*3(differences)=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gt;=128&amp;&amp; R&lt;2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bits * 3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flag)+10(min)+2(minIdx)+6*3(differences)=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gt;=2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bits * 4 - compensated by two bits of offset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flag)+ 7*4(Pixel rightshift 3 bits)+2(offset)=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102"/>
          <p:cNvSpPr/>
          <p:nvPr/>
        </p:nvSpPr>
        <p:spPr>
          <a:xfrm>
            <a:off x="750600" y="1294560"/>
            <a:ext cx="70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. 1 The scaled data for reference pictures compress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oposed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ncoding  efficiency  comparison (all compared with No-compression, HM3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Bet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than the Fixed rounding method: 0.07%/1.16% BD-rate vs. 0.68%/4.01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A little bet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than E133 (BD-rate: 0.09%/1.16% vs. 0.12%/1.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A litter worse th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E432 schemes (BD-rate: 0.09%/1.16% vs. 0.07%/0.77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6"/>
          <p:cNvGraphicFramePr/>
          <p:nvPr/>
        </p:nvGraphicFramePr>
        <p:xfrm>
          <a:off x="7772400" y="152280"/>
          <a:ext cx="12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152280"/>
                    <a:ext cx="12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Picture 15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8763120" cy="1904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6" descr=""/>
          <p:cNvPicPr/>
          <p:nvPr/>
        </p:nvPicPr>
        <p:blipFill>
          <a:blip r:embed="rId4"/>
          <a:stretch/>
        </p:blipFill>
        <p:spPr>
          <a:xfrm>
            <a:off x="228600" y="4343400"/>
            <a:ext cx="8763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4"/>
          <p:cNvGraphicFramePr/>
          <p:nvPr/>
        </p:nvGraphicFramePr>
        <p:xfrm>
          <a:off x="8077320" y="152280"/>
          <a:ext cx="90000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000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-360" y="76176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emory  access bandwidth 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thout memory re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Reduced bandwid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comparing with E133 , E432 and Fixed rounding, when  burst parameter is smaller than or equal to 128 b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hile burst parameter higher than 128bits ,it cause more memory access bandwidth than the 4x4 block based metho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6"/>
          <p:cNvSpPr/>
          <p:nvPr/>
        </p:nvSpPr>
        <p:spPr>
          <a:xfrm>
            <a:off x="217440" y="115920"/>
            <a:ext cx="7777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8" descr=""/>
          <p:cNvPicPr/>
          <p:nvPr/>
        </p:nvPicPr>
        <p:blipFill>
          <a:blip r:embed="rId3"/>
          <a:stretch/>
        </p:blipFill>
        <p:spPr>
          <a:xfrm>
            <a:off x="228600" y="4572000"/>
            <a:ext cx="8658360" cy="1676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9" descr=""/>
          <p:cNvPicPr/>
          <p:nvPr/>
        </p:nvPicPr>
        <p:blipFill>
          <a:blip r:embed="rId4"/>
          <a:stretch/>
        </p:blipFill>
        <p:spPr>
          <a:xfrm>
            <a:off x="228600" y="2819520"/>
            <a:ext cx="8658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708804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mory  access bandwidth 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th reorganiz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proposed method access bandwidth is always the smallest one when  burst parameter is larger than 8b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fixed rounding is the smallest one with align/burst parameters 8/8, as the benchma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93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8658360" cy="1676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94" descr=""/>
          <p:cNvPicPr/>
          <p:nvPr/>
        </p:nvPicPr>
        <p:blipFill>
          <a:blip r:embed="rId2"/>
          <a:stretch/>
        </p:blipFill>
        <p:spPr>
          <a:xfrm>
            <a:off x="228600" y="4648320"/>
            <a:ext cx="8658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wer memory access bandwidth with the proposed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hen  burst   parameter is lower than or equal to 128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creased by 9~17% comparing to the 4x4 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hen  burst parameter is higher than 128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emory access bandwidth  is not  increased, Similar to the 4x4  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ccess bandwidth lower than 4x4-block-based schemes in all circumstances, and lower than fixed rounding scheme in most of the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ncoding efficiency  of the proposed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etter than fixed rounding method by 0.59%/2.85% BD-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ose the 4x4 block based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etter tradeoff between RD performance and access bandwidth is obtain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ther benefits of the proposed meth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ith smaller granularity, the memory storage format alignment between the RFC and display processing problem is allevia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maller compression unit is good for parallel process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n also implement other compression schemes to 2x2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sidering above factors, we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宋体"/>
              </a:rPr>
              <a:t>propose to evaluate 2x2 RFC method through comparison with existing 4x4 based methods in a core 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8001000" y="152280"/>
          <a:ext cx="9763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152280"/>
                    <a:ext cx="976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76327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5"/>
          <p:cNvSpPr txBox="1"/>
          <p:nvPr/>
        </p:nvSpPr>
        <p:spPr>
          <a:xfrm>
            <a:off x="2743200" y="2895480"/>
            <a:ext cx="345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Thank you !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210" name="Object 6"/>
          <p:cNvGraphicFramePr/>
          <p:nvPr/>
        </p:nvGraphicFramePr>
        <p:xfrm>
          <a:off x="8001000" y="152280"/>
          <a:ext cx="9763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152280"/>
                    <a:ext cx="976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ackgr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3059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isting methods in the last meeting: fixed rounding,E133,E43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emory access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benchmark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access bandwidth of the fixed rounding method (pixel based compression) at align/burst parameters 8bit/8bit, where there is no redundant memory ac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x4-block-based memory compression method: E133/E432 metho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andwidth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increased by 40%~70%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red with the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enchmar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ven higher than No compress one when align/burst are 8/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ixed rounding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the benchmark at 8/8, however, when align/burst be higher, the bandwidth increased quick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n be reorganized to 4x4-block-based memory to decrease its access bandwid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ixed rounding is not perfect for RFC due to the  low RD performa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8"/>
          <p:cNvGraphicFramePr/>
          <p:nvPr/>
        </p:nvGraphicFramePr>
        <p:xfrm>
          <a:off x="7924680" y="152280"/>
          <a:ext cx="11289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52280"/>
                    <a:ext cx="11289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Picture 11" descr=""/>
          <p:cNvPicPr/>
          <p:nvPr/>
        </p:nvPicPr>
        <p:blipFill>
          <a:blip r:embed="rId3"/>
          <a:stretch/>
        </p:blipFill>
        <p:spPr>
          <a:xfrm>
            <a:off x="0" y="3211560"/>
            <a:ext cx="4572000" cy="3036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>
            <a:off x="4648320" y="3235320"/>
            <a:ext cx="4495680" cy="29923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0" y="535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2209680" y="609588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bandwidth of the three metho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n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(a) Orange area: 8x8 block for access, which is not aligned with 4x4 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(b) When align/burst parameters are 8/8, and compression unit is 4x4 block, the area shown in blue will be accessed unnecessarily,  and redundant bandwidth access is intro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8"/>
          <p:cNvGraphicFramePr/>
          <p:nvPr/>
        </p:nvGraphicFramePr>
        <p:xfrm>
          <a:off x="7772400" y="152280"/>
          <a:ext cx="12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152280"/>
                    <a:ext cx="12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here comes the redundant bandwidth acces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2" descr=""/>
          <p:cNvPicPr/>
          <p:nvPr/>
        </p:nvPicPr>
        <p:blipFill>
          <a:blip r:embed="rId3"/>
          <a:stretch/>
        </p:blipFill>
        <p:spPr>
          <a:xfrm>
            <a:off x="380880" y="2666880"/>
            <a:ext cx="4114800" cy="3359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"/>
          <p:cNvPicPr/>
          <p:nvPr/>
        </p:nvPicPr>
        <p:blipFill>
          <a:blip r:embed="rId4"/>
          <a:stretch/>
        </p:blipFill>
        <p:spPr>
          <a:xfrm>
            <a:off x="4419720" y="2666880"/>
            <a:ext cx="4190760" cy="35402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7"/>
          <p:cNvSpPr/>
          <p:nvPr/>
        </p:nvSpPr>
        <p:spPr>
          <a:xfrm>
            <a:off x="1981080" y="6110280"/>
            <a:ext cx="5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6248520" y="6110280"/>
            <a:ext cx="5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here comes the redundant bandwidth acces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907920"/>
            <a:ext cx="83818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o, without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etter to use smaller compression unit when align/burst are sm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etter to use larger compression unit when align/burst are l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owever, Small compression unit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reorga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to larger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sidering all the circumstances, small compression unit is the better solution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ccess unit flexible granular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IFO Cache: avoid some of the repeat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3"/>
          <p:cNvGraphicFramePr/>
          <p:nvPr/>
        </p:nvGraphicFramePr>
        <p:xfrm>
          <a:off x="457200" y="1828800"/>
          <a:ext cx="4114800" cy="41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411480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Picture 5" descr=""/>
          <p:cNvPicPr/>
          <p:nvPr/>
        </p:nvPicPr>
        <p:blipFill>
          <a:blip r:embed="rId3"/>
          <a:stretch/>
        </p:blipFill>
        <p:spPr>
          <a:xfrm>
            <a:off x="4572000" y="762120"/>
            <a:ext cx="4572000" cy="3036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4"/>
          <a:stretch/>
        </p:blipFill>
        <p:spPr>
          <a:xfrm>
            <a:off x="4648320" y="3706920"/>
            <a:ext cx="411480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6327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ache is the best option if cost allows (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expen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etter to use larger compression unit, due to the large cache refresh un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ill, however, Small compression unit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reorga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to larger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sidering all the circumstances, small compression unit is the better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oposed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000" y="907560"/>
            <a:ext cx="800244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propose a RFC method  based on  2x2  blocks instead of 4x4  blocks or single pix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mpared with 4x4 block based methods,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9%~17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f bandwidth is decreased  for RA_HE and LD_HE, when burst parameter is  lower  than or equal to 128bit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andwidth  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almost the s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compared with E432 and E133, when burst parameter is higher  than 128bits or with cache, by reorganizing four 2x2 units into 4x4 unit, which is a simple nor-normative implementation tri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coding efficiency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is close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e 4x4 block bsed 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77770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oposed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cheme Describe for 10-bit/pixel to 8-bit/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The scaling proces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btain the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minim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min) and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maxim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max) pixel values in the 2x2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lculate the range of pixels’ values in the 2x2 block, a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max-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ide the scaling value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o that R becomes less tha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lt;&lt; 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nd no less than (0, if S=0; 6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lt;&l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1), if S=1,2), where the max value of S is 3, which means R&gt;=(64&lt;&lt;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S is less than 3, then the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f min in the block (minIdx) is stored, and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=(pixel_value[i]-min)&gt;&gt;S, where i!=minIdx) will be represented by 6 bits. At the same time,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re stored, to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lse if S equals to 3, then the P(=pixel_value[i]&gt;&gt;3) and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offs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=(sum(pixel_value[i]&amp;0x7)+2)&gt;&gt;3) are st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tao Yang(haitao)</dc:creator>
  <dc:description/>
  <dc:language>en-US</dc:language>
  <cp:lastModifiedBy>Haitao Yang</cp:lastModifiedBy>
  <dcterms:modified xsi:type="dcterms:W3CDTF">2011-07-16T04:55:44Z</dcterms:modified>
  <cp:revision>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ms_pID_725343">
    <vt:lpwstr>(2)T84JZ/dN1EjGN4Vs8ZXjFOeFC/Hdz3YzLtf7/Iu0ngE5Dr5JEUfeskpNe6BVCIxU23aOvW6n
YzofQNy5TvmPuofSNp4TWMHKq+RvLr1Tkw+yoP96yhZgzQCwgC/NrUF44fffizIaN65IPc/4
dYnxj3sObuAy+DB4UYHU/w/wRP4vMDWTn98J4XDCWAm+0R7IGMb+uU4291FuZPMvenO4T+iH
fTd9bc/FM5s2HBm0v+RMo</vt:lpwstr>
  </property>
  <property fmtid="{D5CDD505-2E9C-101B-9397-08002B2CF9AE}" pid="4" name="_ms_pID_7253431">
    <vt:lpwstr>s3mHpy7UDfe4A9E6tUULcEYgcYHNvKdpmKojjmQ04bwpAV/pYqD
6djsRzadXbUDn7Rj3rvfQ9DwuLUssvwehNONj5Ua5xFykKpW90p6eIddpTJcBI7Mf/4IemC9
+ER6SdUH3ykljVdvfnJgnv7E9gSznnObfReOBH1hdToLGmwN7PNAItfj0MzmNzhXOgg=</vt:lpwstr>
  </property>
  <property fmtid="{D5CDD505-2E9C-101B-9397-08002B2CF9AE}" pid="5" name="sflag">
    <vt:lpwstr>1310789784</vt:lpwstr>
  </property>
</Properties>
</file>