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C14A-7280-457A-B5D8-2F3743C7C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1733-A53D-45E9-90BB-8C960CEC3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5E55-4475-4B94-B472-BB5F22A1A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4603-C041-4529-8DD2-25059BF60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71D6-0491-4516-A4BD-15688D782E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EB19-5258-4E10-96A7-6E351288AF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CDF4-4E0D-4232-B1FD-32329BAEF1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0C97-CE00-49DF-8296-66E347C0F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6AA7-5BC4-45B5-86BE-2FDBD435C8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B62D-D44A-4858-B913-5829AB10E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7777-DC6C-487B-A08D-B8C260E61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6C8B-A537-4757-A090-96ABFBCDD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C4E8-0AE6-4949-A6A1-6B19D1C11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441B-FDBE-4A70-AEF6-4A492AECA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4F15-FD80-4347-8FBF-C5CF3ED4FF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DCB4-778D-4727-8094-B820C2C05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11A7-6230-4FFE-ACE5-D6E2E593D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21C8-2CBE-49D4-85CE-048897D4E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3B92-4DB5-4A67-AE1E-135704191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1B21-4545-4506-90C2-751D0B070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934A-60C6-4439-8827-50DA7E089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4DD6-57B2-4D91-9D5D-8D19E250C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89D7-8CC2-4AD3-9AAC-DD3BC1198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6BFD-2EB9-428E-907F-6637CC725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E837-E8BC-4328-9539-540ABBDBE22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76000" y="65530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CTVC-F4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FB0C-1F49-4DFF-A9AB-22325D564CE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84880" y="602136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1440" y="1699920"/>
            <a:ext cx="88902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TVC-F472: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ified motion data storage reduc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hiyasu Su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 and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72520" y="620280"/>
            <a:ext cx="94330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otion data storage reduction (MDSR) reduces a buffer size of co-located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otion vector, reference index and predicti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odified method was proposed in last meeting (JCTVC-E2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 representative motion vector was searched among 4x4 block according to enco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valuate modified method of JCTVC-E231 in HM3.0+bugfix146 (CE1 anc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hile searching, if a 4x4 block has mvLX and refIdxLX (X=0 or 1), mvLX and refIdxLX was set to the mvLX and refIdxLX of the representative motion dat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0000cc"/>
                </a:solidFill>
                <a:latin typeface="Times New Roman"/>
              </a:rPr>
              <a:t>the search process for the mvLX and refIdXLX is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ediction type of the representative mo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i-directional if both mvL0 and mvL1 are valid in representative motion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list X uni-directional if the motion vector mvLX is valid in representative mo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96880" y="4165560"/>
            <a:ext cx="7297920" cy="26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059A-08A5-4DB3-AB92-415FF4B74A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642960"/>
            <a:ext cx="9196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odified method was implemented on HM3.0+bugfix146 software (CE1 anch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t was tested for four inter coding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62760" y="1341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nchor: HM3.0+bugfix1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84520" y="1628640"/>
            <a:ext cx="6513480" cy="45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6D85-5FD5-4EB6-A3A1-5CB24FB38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040" y="642960"/>
            <a:ext cx="92678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od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data storage reduction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.06% bits for HE RA, 0.04% bits for LC RA on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.10% bits for HE LD, 0.21% bits for LC LD on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addition, software modification was conducted on M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e motion data storage memory of co-located part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out 6% (100Mbyte) usage memory reduction was observed in encoding class A sequences (Encoder uses about 1.6 Giga byte to encode class A sequence in HM3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ange the position of applying MDSR from after encoding one slice to one 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fter encoding one CU, a representative motion data is upd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 recommend to consider this aspect in CE or A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4CA3-865E-4609-9A04-CA9DADC1F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FF9A-04C2-49BA-9DF0-CD5AF441A5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itional Experiment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040" y="642960"/>
            <a:ext cx="91965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D rate of MDSR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91480" y="119700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nchor: HM3.0+bugfix1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240" y="1484280"/>
            <a:ext cx="6266160" cy="44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C703-9BB4-458F-93ED-F71A759665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07-15T17:53:41Z</dcterms:modified>
  <cp:revision>1822</cp:revision>
  <dc:subject/>
  <dc:title>Title</dc:title>
</cp:coreProperties>
</file>