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696600" y="739440"/>
            <a:ext cx="53449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145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4B32-AD18-4709-977E-3E3027D0512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4920" cy="3700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Indicate whether 1/8-pel motion compensation is enabled or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Indicate the maximum reference index for which all of motion information is referred in 1/8-pel precision except for collocated motion vector “mvCo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4920" cy="37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f 1/8pel_active_flag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ll precisions for parameters on motion vector are 1/4-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f 1/8pel_active_flag = 1 and num_ref_idx_lX_1/8pel_active = 0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recisions for mvdLX, mvLX(ME) and mvCol are 1/4-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recisions for pmvLX and mvLX(internal) are 1/8-pel. 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It indicates that only precisions for parameters on motion vector, which is used internally, are expanded to 1/8-pel, so overhead bits such as mvdLX and computation time for ME are not incr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f 1/8pel_active_flag = 1 and num_ref_idx_lX_1/8pel_active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recision for mvCol is 1/4-pel, and precisions for pmvLX and mvLX(internal) are 1/8-pel, and precisions for mvdLX and mvLX(ME) is decided as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f refIdxLX &lt; N then, precisions for mvdLX and mvLX(ME) is 1/8-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Otherwise, precisions for mvdLX and mvLX(ME) is 1/4-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EF25-685D-40AA-87C1-A8E7D7137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B11D-2236-45A3-859D-241DA96D6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1ABF-16EA-45B3-AE9C-6C1F6B138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E333-C1AA-4A9E-83E7-0EAA83CD8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7CB4-8EB3-43BE-9A29-D0E53264E7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EDE4-6294-428A-BC8D-EE8A09F804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7FC7-B019-41F5-8F0F-811B007ADC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E0C3-5124-41E7-B1D1-2EFD3120A0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C72E-3284-4D26-A2F8-63A8FD01CF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4BBF-A23E-4AE3-8E86-0FC065FD66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DF23-7648-4D5F-8E68-553A905BF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23E3-C573-4565-8867-2B72F9738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A451-3865-4026-8CA6-E799E562C2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1376-F0A3-40B1-9ABC-4EE82F241A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4AFC-5041-4FCF-B84E-7230EEE7F4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4E35-ADF3-41E1-8ED5-2A8402E7DD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BB06-EF24-4156-91C6-B9D063FA1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F8BC-8478-44FC-9223-A028BBEF2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B3C3-0DFA-4F7B-93EE-F6B21599A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29CA-9527-453B-AC38-89C743429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217A-D618-4E84-A7AE-EA3FB64DD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0D93-64ED-4B6A-B40C-9BB8078F9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10EC-BAAA-4FBD-B77F-B45326093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C12F-0C1F-47E4-A0B6-E27AD7824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CE4C-3BB1-42B0-8729-257FF225177A}" type="slidenum"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676000" y="655308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CTVC-F4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C555-5C7F-435D-8FB0-725D2C8B827F}" type="slidenum"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6912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F471:</a:t>
            </a:r>
            <a:br>
              <a:rPr sz="2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icture Adaptive 1/8-pel Motion Compensa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59B8-94C1-442A-8521-22DE4C102A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95000" y="54900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ow delay P setting was defined as an optional test condition la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fference of coding efficiency between low delay B and P is about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 difference for BQTerrace, BQSquare and PartySc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 difference for Basketball, Racehorses (class D) and Kim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difference is caused by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PB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only the number of reference list is restricted to one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also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i-predictive reference to one single picture cannot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low delay P is beneficial in terms of memory bandwidth and memory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13240" y="4581360"/>
            <a:ext cx="6286320" cy="1971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77280" y="3206880"/>
            <a:ext cx="71514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aluate picture adaptive 1/8-pel motion compensation for low delay 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21880" y="4172040"/>
            <a:ext cx="42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D performance drop of low delay P (GPB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9200" y="3860640"/>
            <a:ext cx="4819680" cy="16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1FAF-43EB-4E74-924D-2B7A84118B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99800" y="692280"/>
            <a:ext cx="9577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slice can refer one single reference picture with two 1/4-pel mv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rive 1/8-pel accuracy prediction samples by bi-linear interpolation using bi-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slice can refer one single reference picture with only one 1/4-pel mv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o improve coding efficiency, to use 1/8-pel motion vector is expected to be help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Picture adaptive 1/8-pel motion comp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bit flag is introduced into PPS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/8pel_active_fla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parameters are introduced into slice header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num_ref_idx_lX_1/8pel_ac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er can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slice should be applied 1/8-pel MC by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/8pel_active_fl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reference picture should be referred in 1/8-pel mv by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num_ref_idx_lX_1/8pel_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Recommend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P 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8-pel MC is enab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reference pictures are referred in 1/8-pel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B 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/8-pel MC is enab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reference pictures are referred in 1/4-pel mv in order not to increase overhead of m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icture adaptive 8-pel motion compensati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7FFA-942D-476F-A804-434B4F5F8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4360" y="765000"/>
            <a:ext cx="956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Relationship between syntax elements and accuracy of motio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vLX (ME): motion vector, to be derived by a motion estimation in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vLX (internal): motion vector, to be used to derive spatial/temporal MVP candidate and to determine strength of deblocking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o avoid increasing memory bandwidth and memory capacity for co-located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ja-JP" sz="1800" spc="-1" strike="noStrike">
                <a:solidFill>
                  <a:srgbClr val="0000ff"/>
                </a:solidFill>
                <a:latin typeface="Times New Roman"/>
              </a:rPr>
              <a:t>1/8pel_active_flag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mvCol = mvLX &gt;&g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43080" y="1230480"/>
          <a:ext cx="9289800" cy="2562120"/>
        </p:xfrm>
        <a:graphic>
          <a:graphicData uri="http://schemas.openxmlformats.org/drawingml/2006/table">
            <a:tbl>
              <a:tblPr/>
              <a:tblGrid>
                <a:gridCol w="3168360"/>
                <a:gridCol w="1513080"/>
                <a:gridCol w="934920"/>
                <a:gridCol w="1513080"/>
                <a:gridCol w="1152360"/>
                <a:gridCol w="1008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yntax el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dL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mvL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LX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M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LX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inter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pel_active_flag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pel_active_flag=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um_ref_idx_lX_1/8pel_active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pel_active_flag=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um_ref_idx_lX_1/8pel_active=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if refIdxLX&lt;N</a:t>
                      </a:r>
                      <a:br>
                        <a:rPr sz="1600"/>
                      </a:b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 1/8-pel</a:t>
                      </a:r>
                      <a:br>
                        <a:rPr sz="1600"/>
                      </a:b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otherwise</a:t>
                      </a:r>
                      <a:br>
                        <a:rPr sz="1600"/>
                      </a:b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 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if refIdxLX&lt;N</a:t>
                      </a:r>
                      <a:br>
                        <a:rPr sz="1600"/>
                      </a:b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 1/8-pel</a:t>
                      </a:r>
                      <a:br>
                        <a:rPr sz="1600"/>
                      </a:b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otherwise</a:t>
                      </a:r>
                      <a:br>
                        <a:rPr sz="1600"/>
                      </a:b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 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ccuracy of motio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BF40-7C4B-422D-9E1C-657D9A1A7C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00160" y="2565360"/>
          <a:ext cx="4537080" cy="1911240"/>
        </p:xfrm>
        <a:graphic>
          <a:graphicData uri="http://schemas.openxmlformats.org/drawingml/2006/table">
            <a:tbl>
              <a:tblPr/>
              <a:tblGrid>
                <a:gridCol w="1008000"/>
                <a:gridCol w="2160360"/>
                <a:gridCol w="1368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, 2, -6, 62, 9, -4, 2,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, 4, -10, 57, 19, -7, 3, 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/8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, 5, -11, 50, 29, -10, 5, 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2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, 4, -11, 40, 40, -11, 4, 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5/8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, 5, -10, 29, 50, -11, 5, 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/4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, 3, -7, 19, 57, -10, 4, 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7/8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, 2, -4, 9, 62, -6, 2, 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40160" y="2276640"/>
          <a:ext cx="4321080" cy="4095720"/>
        </p:xfrm>
        <a:graphic>
          <a:graphicData uri="http://schemas.openxmlformats.org/drawingml/2006/table">
            <a:tbl>
              <a:tblPr/>
              <a:tblGrid>
                <a:gridCol w="1131840"/>
                <a:gridCol w="1368360"/>
                <a:gridCol w="1820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16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, 63, 4, 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, 60, 8, 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/16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, 57, 12, 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, 54, 16, 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5/16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5, 50, 22, 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/8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5, 46, 27, 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7/16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5, 41, 32, 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2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, 36, 36, 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/16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, 32, 41, 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5/8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, 27, 46, 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1/16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, 22, 50, 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3/4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, 16, 54, 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3/16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, 12, 57, 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7/8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, 8, 60, 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ame as HM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5/16-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, 4, 63, 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ractional interpolation filter for 1/8-pel and 1/16-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43308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nterpolation filters for 1/8-pel (Luma) and 1/16-pel (Chroma) are added in HM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Fractional prediction sample values for luma and chroma are derived in the same way as HM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t is designed based on 12-tap filter which is included in TMuC1.0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4840" y="2205000"/>
            <a:ext cx="16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Times New Roman"/>
              </a:rPr>
              <a:t>1/8-pel for Lu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40840" y="194004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Times New Roman"/>
              </a:rPr>
              <a:t>1/16-pel for Chr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4108-7D0C-4A52-980E-7C17248C50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27320" y="3716280"/>
            <a:ext cx="722628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perimental result of proposed method for low delay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72520" y="587520"/>
            <a:ext cx="94330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posed method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w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mplemented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HM3.0 softw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ested for low delay 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ncoding setting A is as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/8_active_flag = 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um_ref_idx_l0_1/8pel_active = 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 num_ref_idx_l1_1/8pel_active = 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/8-pel MC is enabled, and all reference pictures (L0) are referred in 1/8-pel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5240" y="2349360"/>
          <a:ext cx="7559640" cy="1031760"/>
        </p:xfrm>
        <a:graphic>
          <a:graphicData uri="http://schemas.openxmlformats.org/drawingml/2006/table">
            <a:tbl>
              <a:tblPr/>
              <a:tblGrid>
                <a:gridCol w="2879640"/>
                <a:gridCol w="863640"/>
                <a:gridCol w="865440"/>
                <a:gridCol w="934920"/>
                <a:gridCol w="1081080"/>
                <a:gridCol w="934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dL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mvL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L0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L0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inter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pel_active_flag=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um_ref_idx_l0_1/8pel_active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5378760" y="6165720"/>
            <a:ext cx="32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checked by Samsung (JCTVC-F6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C68B-6B12-4C17-AD5A-573CBB16A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perimental result for common tes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95000" y="587520"/>
            <a:ext cx="89154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posed method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w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valuated below setting B for common tes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/8_active_flag = 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um_ref_idx_l0_1/8pel_active = 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 num_ref_idx_l1_1/8pel_active = 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/8-pel MC is enabled, all reference pictures are referred in 1/4-pel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8520" y="3206880"/>
            <a:ext cx="4816440" cy="3390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24520" y="3213000"/>
            <a:ext cx="4816440" cy="161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1065240" y="1916280"/>
          <a:ext cx="7416720" cy="1031760"/>
        </p:xfrm>
        <a:graphic>
          <a:graphicData uri="http://schemas.openxmlformats.org/drawingml/2006/table">
            <a:tbl>
              <a:tblPr/>
              <a:tblGrid>
                <a:gridCol w="2719440"/>
                <a:gridCol w="880920"/>
                <a:gridCol w="863640"/>
                <a:gridCol w="936720"/>
                <a:gridCol w="1150920"/>
                <a:gridCol w="865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dL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mvL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LX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LX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inter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v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pel_active_flag=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num_ref_idx_lX_1/8pel_active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8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/4-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531480" y="4869000"/>
            <a:ext cx="32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checked by Samsung (JCTVC-F6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6167-E3BD-4DB3-A583-5C7C4E70AC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4160" y="765000"/>
            <a:ext cx="89154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 adaptive 1/8-pel motion compensation method is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aves 2.5% bits for HE in low delay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ing time is 19% increased relative to HM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ding time increase is not obv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configurable to achieve 1.1% bits reduction for HE in low delay P without obvious difference in encoding and decod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so saves 0.4% bits for HE RA, and 0.1% bits HE 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uggest to consider the future adoption of the proposed method based on the study in a 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3F31-1025-4705-98EA-988DD2AEAA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1-07-15T18:47:42Z</dcterms:modified>
  <cp:revision>2146</cp:revision>
  <dc:subject/>
  <dc:title>Title</dc:title>
</cp:coreProperties>
</file>