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5ED0-3DE5-4380-B5E7-DA01E7671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35FB-F18F-4BCB-B425-B8FEECD2B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4D7C-B8B3-4E6D-968E-FD948032A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0BD5-FD47-46D4-A86F-DB79134A7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C737-CB8B-42BD-819E-221AD67945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2BC89-D257-4417-B41B-264973625E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A595-AEED-458C-ADE4-9D6403849E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777E-3D3E-4586-BE9A-6B6ECCEB88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4E27-7F79-475F-8832-1BF54B8469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68E7-A918-487D-80D8-C821498A9B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1682-310C-4CAC-A87F-5E3009F10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9CEE-0786-4741-9808-02A9E6B2D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1F81-1162-4E12-AD4A-6EE7B647A6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6007-187C-4A51-94C0-1E83C15EBB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1171-54AE-460C-AC02-A8A6F0B651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B1C4-F75E-49C7-970A-4F03FF8BA6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BAA2-8203-494E-BB67-A91085752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13D1-B280-4C02-81AE-BF8E11213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D39E-4C69-4222-886C-5F69F24AE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44D2-21DB-43CA-9993-23B8C2C8B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40F8-9E7D-4E37-B7AD-8D5D48924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D50C-D676-4428-985D-3A7249968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5DBC-2819-42AC-97C5-8A77C628E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3A4F-7CD8-421C-BC37-69C7FFCCA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1C93-28BD-46E3-8D2F-77AC0EB6981C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76000" y="65530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CTVC-F4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2C97-3346-477D-AC7B-EA082DE965B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CTVC-F470: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sing Robustness for Merge/AM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C120-A59E-4923-965C-4FA5B36BF7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241960" y="2192400"/>
            <a:ext cx="4336920" cy="3052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72880" y="2192400"/>
            <a:ext cx="4337280" cy="3052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8280" y="184464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list size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4480" y="184464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9600" y="53481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bout 1.4%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84880" y="53481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bout 0.3%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 rot="16200000">
            <a:off x="4532760" y="3553560"/>
            <a:ext cx="792000" cy="20628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99800" y="764640"/>
            <a:ext cx="9577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 a proposed method in which the candidate 1,2 and 3 are applied to fixed list siz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oposed method compensates coding loss of fixed list siz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93560" y="191628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chor HM3.0+bugfix1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04480" y="5300640"/>
            <a:ext cx="24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hecked by TI (JCTVC-F0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44040" y="5877000"/>
            <a:ext cx="54781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roposed method solves parsing and performance.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oreover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t compensates coding loss of fixed list size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83D2-C6CD-40BA-A18B-633BD01191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7600" y="57240"/>
            <a:ext cx="9269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 for proposed candidate 1 and 2 (no parsing iss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784520" y="1946160"/>
            <a:ext cx="5790960" cy="4075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4520" y="6922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 combined and scaled bi-directional Merge candidate in HM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ed candidates improve coding efficiency relative to HM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33000" y="165744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chor HM3.0+bugfix1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16120" y="158580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 candidate 1,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08840" y="6033960"/>
            <a:ext cx="24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hecked by TI (JCTVC-F0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2F92-4421-4E39-B108-63841960D6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dditional investigation on complexity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4520" y="55872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dditional experiment was conducted to address of concerns about complexity raised in cross check report (JCTVC-F0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limitations on complexity reduction are applied to proposed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ed bi-directional Merge candidate (candidate1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maximum number is limited to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aled bi-directional Merge candidate (candidate 2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maximum number is limited to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limited that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only candidate, which don't need scaling calculation, are add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Merge candidates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ero vector Merge candidate (candidate 3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maximum number is limited to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47800" y="3141720"/>
            <a:ext cx="4825800" cy="3390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337200" y="6524640"/>
            <a:ext cx="24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hecked by TI (JCTVC-F0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78680" y="288288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chor HM3.0+bugfix1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3320" y="2781360"/>
            <a:ext cx="355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osed method with complexity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56760" y="5734080"/>
            <a:ext cx="38520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A proposed method with complexity reduction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ensates coding loss of fixed list size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B875-FFEA-4116-A9BB-AA74471821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95000" y="620280"/>
            <a:ext cx="89154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 solves parsing and performanc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related to JCTVC-F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over , it compensates coding loss of fixed list size method by adding proposed candidates ( about 0.3% ga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commend that a proposed approach for the parsing robustness be adopted in the next version of HM/WD as a basis for further study in a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F75E-A4AA-4C79-8F27-CFC1E3752D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5000" y="73152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arsing problem on temporal motion vector predictor was reported las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t is caused by dependency between deriving process for Merge/AMVP candidates list and parsing process for Merge/AMVP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t also causes performance issue on CABAC/CAV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87560" y="3646440"/>
            <a:ext cx="194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ive Mer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didates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4583160"/>
            <a:ext cx="194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 lis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533920"/>
            <a:ext cx="2376360" cy="50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e Merge indi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by using lis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2428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4280" y="415116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24280" y="5087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4280" y="60404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6360" y="3540240"/>
          <a:ext cx="2077920" cy="1361880"/>
        </p:xfrm>
        <a:graphic>
          <a:graphicData uri="http://schemas.openxmlformats.org/drawingml/2006/table">
            <a:tbl>
              <a:tblPr/>
              <a:tblGrid>
                <a:gridCol w="1039680"/>
                <a:gridCol w="10382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04920" y="5629320"/>
          <a:ext cx="2077920" cy="681120"/>
        </p:xfrm>
        <a:graphic>
          <a:graphicData uri="http://schemas.openxmlformats.org/drawingml/2006/table">
            <a:tbl>
              <a:tblPr/>
              <a:tblGrid>
                <a:gridCol w="1039680"/>
                <a:gridCol w="10382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09600" y="33148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 size=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8160" y="540864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 size=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24960" y="326880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AC/CAV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520" y="249228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coding process in HM3.0 (Mer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0160" y="2817720"/>
            <a:ext cx="3966120" cy="459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heck availability for mv of neighbor and co-locate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uce duplicate candidate by checking InterDir, mv, refI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65600" y="328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8520" y="3213000"/>
            <a:ext cx="2352600" cy="316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489040" y="5229000"/>
            <a:ext cx="527040" cy="3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7840" y="4995720"/>
            <a:ext cx="30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9560" y="5861160"/>
            <a:ext cx="4601880" cy="520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Decouple creating list process and parsing index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Add Merge/AMVP candidates to compensate coding 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92920" y="5595840"/>
            <a:ext cx="792000" cy="206640"/>
          </a:xfrm>
          <a:prstGeom prst="triangle">
            <a:avLst>
              <a:gd name="adj" fmla="val 50000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30440" y="3860640"/>
            <a:ext cx="4414320" cy="15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sing and performanc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n list size is unknown, it becomes impossible t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decode all bit stream (in the case that colPic is lost an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temporal motion vector becomes unknown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parsing, it is needed to create list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t affects performance of CABAC/CAV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9CFE-F549-431F-A8DB-9FBFBD4F0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99800" y="620280"/>
            <a:ext cx="9505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odify a decoding process for Merge/AMVP indices to use fixed lis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Use truncated unary codes of fixed maximum length 5 for Merge, 3 for AM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Decouple creating list process and parsing index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isable adaptive switching method for CABAC/CAV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o avoid the parsing problem, following two adaptive switching methods are dis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daptive context selection for inter_pred_flag and ref_idx_lx (CABAC) </a:t>
            </a:r>
            <a:r>
              <a:rPr b="0" lang="ja-JP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ctxIdx is fixed to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daptive combined coding for inter_pred_flag and ref_idx_lx (CAVLC) </a:t>
            </a:r>
            <a:r>
              <a:rPr b="0" lang="ja-JP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use_combined_inter_pred_ref is fixed to true in B s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Upper methods refer neighbor inter_pred_flag and ref_idx_lx, which become incorrect by occurrence of error, such as packet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posed method ( Fixed list size metho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2520" y="5084640"/>
            <a:ext cx="194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ive Mer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didates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1800" y="5084640"/>
            <a:ext cx="194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e Merge indi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using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xed lis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980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052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9800" y="4653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08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3980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0520" y="558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45960" y="46386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720" y="386244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xed list size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1040" y="466416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AC/CAV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75440" y="3789360"/>
            <a:ext cx="3854160" cy="2722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17360" y="355608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chor HM3.0+bugfix1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1CDA-D7ED-438C-B2FE-7E1EBB9F1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248520" y="1592280"/>
            <a:ext cx="3097080" cy="34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 for fixed list siz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70360" y="511956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bout 1.4%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20880" y="1736640"/>
            <a:ext cx="4814640" cy="338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753240" y="2104920"/>
          <a:ext cx="2077920" cy="1362240"/>
        </p:xfrm>
        <a:graphic>
          <a:graphicData uri="http://schemas.openxmlformats.org/drawingml/2006/table">
            <a:tbl>
              <a:tblPr/>
              <a:tblGrid>
                <a:gridCol w="1039680"/>
                <a:gridCol w="10382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6685200" y="1879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 size=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762600" y="3976560"/>
          <a:ext cx="2077920" cy="907920"/>
        </p:xfrm>
        <a:graphic>
          <a:graphicData uri="http://schemas.openxmlformats.org/drawingml/2006/table">
            <a:tbl>
              <a:tblPr/>
              <a:tblGrid>
                <a:gridCol w="1039680"/>
                <a:gridCol w="10382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vp_id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708960" y="375120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 size=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4520" y="692280"/>
            <a:ext cx="93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 proposed method in which Merge/AMVP indices are cod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runcated unary codes of  fixed maximum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84960" y="1407960"/>
            <a:ext cx="1811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runcated unary c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9800" y="1447920"/>
            <a:ext cx="192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chor: HM3.0+bugfix1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720" y="5734080"/>
            <a:ext cx="8778960" cy="6998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list size method can solve parsing and performance problem, but its coding loss is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posed candidates are added to compensate coding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7A15-103D-4930-B4FE-D3A11B2F9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11440" y="1857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040" y="58104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coding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7800" y="2241720"/>
            <a:ext cx="2808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move duplicate candi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7800" y="3141720"/>
            <a:ext cx="2808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proposed candid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llowing original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4041720"/>
            <a:ext cx="194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lect candid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enco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0520" y="4941720"/>
            <a:ext cx="230508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de inde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y using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fix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ist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57600" y="4667400"/>
          <a:ext cx="1728720" cy="1819080"/>
        </p:xfrm>
        <a:graphic>
          <a:graphicData uri="http://schemas.openxmlformats.org/drawingml/2006/table">
            <a:tbl>
              <a:tblPr/>
              <a:tblGrid>
                <a:gridCol w="647640"/>
                <a:gridCol w="1081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d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-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5382000" y="636444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list size=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29240" y="49546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3000" y="5084640"/>
            <a:ext cx="40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iginal candidate after removing duplicate candi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45240" y="495468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1280" y="5861160"/>
            <a:ext cx="21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dded proposed candi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5240" y="5602320"/>
            <a:ext cx="0" cy="85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11440" y="27828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11440" y="36450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1144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12880" y="5446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5640" y="1295280"/>
            <a:ext cx="2271600" cy="52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ode inde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y using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fix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ist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4880" y="934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800" y="1341360"/>
            <a:ext cx="2808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rive candidat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1440" y="9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72520" y="180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69240" y="2185920"/>
            <a:ext cx="280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move duplicate candi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69240" y="3086280"/>
            <a:ext cx="280800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 proposed candid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llowing original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72520" y="272736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72520" y="35892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69240" y="1285920"/>
            <a:ext cx="280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rive candidat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72520" y="925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3040" y="581040"/>
            <a:ext cx="16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coding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00880" y="3994200"/>
            <a:ext cx="194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 candidate [index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deco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53" idx="2"/>
            <a:endCxn id="165" idx="1"/>
          </p:cNvCxnSpPr>
          <p:nvPr/>
        </p:nvCxnSpPr>
        <p:spPr>
          <a:xfrm flipH="1" rot="16200000">
            <a:off x="5189400" y="2034720"/>
            <a:ext cx="2424960" cy="199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248160" y="396864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59920" y="45086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7960" y="3968640"/>
            <a:ext cx="1893600" cy="52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reating bi-prediction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Merge candi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81240" y="3429000"/>
            <a:ext cx="935280" cy="5763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92160" y="3357720"/>
            <a:ext cx="2521080" cy="6476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ixed list size method with additional proposed cand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040" y="98100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AC/CAV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69960" y="9810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rge/AMV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24160" y="620640"/>
            <a:ext cx="0" cy="60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EF40-9B05-42E4-9F46-4242539F18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dditional proposed cand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15440" y="620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onsideration about Merge m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diction type of Merge mode is based on Merge candidat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all Merge candidates are uni-directional, prediction type of Merge mode can’t select bi-directional, even though a situation which bi-directional saves a lot of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-directional Merge candidates are create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y using original Merge candid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then added to Merge candidat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oposed candidate l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d bi-directional Merge candidate (candidat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ed bi-directional Merge candidate (candidate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ero vector Merge/AMVP candidate (candidate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C1D1-B987-4E1F-8C5B-F789CAD0AD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857160" y="2768760"/>
          <a:ext cx="3452760" cy="1638000"/>
        </p:xfrm>
        <a:graphic>
          <a:graphicData uri="http://schemas.openxmlformats.org/drawingml/2006/table">
            <a:tbl>
              <a:tblPr/>
              <a:tblGrid>
                <a:gridCol w="1150920"/>
                <a:gridCol w="1150920"/>
                <a:gridCol w="1150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B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970520" y="2768760"/>
          <a:ext cx="3814560" cy="163800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B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vL1_B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5052960" y="5013360"/>
            <a:ext cx="144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0600" y="5013360"/>
            <a:ext cx="144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76960" y="5013360"/>
            <a:ext cx="144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965400" y="5662440"/>
            <a:ext cx="115272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72960" y="548316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vL0_A(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124600" y="5300280"/>
            <a:ext cx="1223640" cy="36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96600" y="5122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vL1_B(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5013360"/>
            <a:ext cx="144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andidate 1: combined bi-directional Merge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7680" y="581652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mvL0_A(b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195880" y="5633640"/>
            <a:ext cx="1224000" cy="360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41680" y="55278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mvL1_B(b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1760" y="239868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al Merge candidat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87360" y="2398680"/>
            <a:ext cx="437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ge candidate list after adding combined candi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57880" y="34164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731080" y="34401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om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34240" y="3440160"/>
            <a:ext cx="144720" cy="360360"/>
          </a:xfrm>
          <a:custGeom>
            <a:avLst/>
            <a:gdLst>
              <a:gd name="textAreaLeft" fmla="*/ 19080 w 144720"/>
              <a:gd name="textAreaRight" fmla="*/ 125640 w 14472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58760" y="461952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0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5480" y="461952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1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11480" y="46195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15800" y="692280"/>
            <a:ext cx="92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-directional Merge candidates are created by combining original Merge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candidates in original candidates, which have mvL0 and refIdxL0 or mvL1 and refIdxL1, are used to created bi-directional Merge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53360" y="3152880"/>
            <a:ext cx="144360" cy="647640"/>
          </a:xfrm>
          <a:custGeom>
            <a:avLst/>
            <a:gdLst>
              <a:gd name="textAreaLeft" fmla="*/ 19080 w 144360"/>
              <a:gd name="textAreaRight" fmla="*/ 125280 w 14436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45520" y="30812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com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38480" y="5994360"/>
            <a:ext cx="115272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8DCD-01E5-4E45-9D2F-3E8FA614DA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264360" y="4726080"/>
            <a:ext cx="1443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andidate 2: scaled bi-directional Merge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22320" y="2647800"/>
          <a:ext cx="3309840" cy="1638360"/>
        </p:xfrm>
        <a:graphic>
          <a:graphicData uri="http://schemas.openxmlformats.org/drawingml/2006/table">
            <a:tbl>
              <a:tblPr/>
              <a:tblGrid>
                <a:gridCol w="1103400"/>
                <a:gridCol w="1103400"/>
                <a:gridCol w="1103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A, re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954680" y="2647800"/>
          <a:ext cx="3743280" cy="163836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7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A, re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vL0’_A, ref0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vL1’_A, ref1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A, re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5299200" y="5157720"/>
            <a:ext cx="144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34040" y="4726080"/>
            <a:ext cx="144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29520" y="5157720"/>
            <a:ext cx="144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57160" y="5662440"/>
            <a:ext cx="863640" cy="14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88760" y="58593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vL0_A(ref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24040" y="5672160"/>
            <a:ext cx="10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mvL0’_A(ref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68520" y="5157720"/>
            <a:ext cx="144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1160" y="5373720"/>
            <a:ext cx="2736720" cy="21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2040" y="52401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vL1_A(ref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421160" y="5517720"/>
            <a:ext cx="865080" cy="144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0760" y="5383080"/>
            <a:ext cx="10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Times New Roman"/>
              </a:rPr>
              <a:t>mvL1’_A(ref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98960" y="487980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0R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07320" y="444816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5800" y="70344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i-directional Merge candidates are created by scaling original Merge candi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One candidate in original candidates, which have mvLX and refIdxLX, is used to created bi-directional Merge candi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1760" y="228924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al Merge candidat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88080" y="228924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ge candidate list after adding scaled candi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57880" y="324468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84880" y="3944880"/>
            <a:ext cx="792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05160" y="4726080"/>
            <a:ext cx="1443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62240" y="444816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0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43680" y="487980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1R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8400" y="4879800"/>
            <a:ext cx="48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1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620440" y="5229000"/>
            <a:ext cx="172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61280" y="3562200"/>
            <a:ext cx="216000" cy="142920"/>
          </a:xfrm>
          <a:prstGeom prst="rightArrow">
            <a:avLst>
              <a:gd name="adj1" fmla="val 50000"/>
              <a:gd name="adj2" fmla="val 377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328880" y="3800520"/>
            <a:ext cx="215640" cy="142920"/>
          </a:xfrm>
          <a:prstGeom prst="rightArrow">
            <a:avLst>
              <a:gd name="adj1" fmla="val 50000"/>
              <a:gd name="adj2" fmla="val 3772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AB5D-D34E-46A9-A66B-FF9EAB1BA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641520" y="1725480"/>
          <a:ext cx="3807720" cy="1638360"/>
        </p:xfrm>
        <a:graphic>
          <a:graphicData uri="http://schemas.openxmlformats.org/drawingml/2006/table">
            <a:tbl>
              <a:tblPr/>
              <a:tblGrid>
                <a:gridCol w="1269000"/>
                <a:gridCol w="1269360"/>
                <a:gridCol w="1269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B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B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33240" y="4238640"/>
          <a:ext cx="3814560" cy="16383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B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B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,0)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, 0), ref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,0), re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, 0), re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andidate 3: Zero vector Merge/AMVP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6120" y="135576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al Merge candidat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4400" y="3868560"/>
            <a:ext cx="34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ge candidate list after adding new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360520" y="343368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69560" y="351468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dd zero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72880" y="692280"/>
            <a:ext cx="949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vector Merge/AMVP candidates are created by combining zero vector and refI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168880" y="1725480"/>
          <a:ext cx="2016000" cy="1092240"/>
        </p:xfrm>
        <a:graphic>
          <a:graphicData uri="http://schemas.openxmlformats.org/drawingml/2006/table">
            <a:tbl>
              <a:tblPr/>
              <a:tblGrid>
                <a:gridCol w="936720"/>
                <a:gridCol w="1079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vp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473960" y="1728720"/>
          <a:ext cx="2016000" cy="1092240"/>
        </p:xfrm>
        <a:graphic>
          <a:graphicData uri="http://schemas.openxmlformats.org/drawingml/2006/table">
            <a:tbl>
              <a:tblPr/>
              <a:tblGrid>
                <a:gridCol w="936720"/>
                <a:gridCol w="1079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vp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168880" y="4224240"/>
          <a:ext cx="2016000" cy="1092240"/>
        </p:xfrm>
        <a:graphic>
          <a:graphicData uri="http://schemas.openxmlformats.org/drawingml/2006/table">
            <a:tbl>
              <a:tblPr/>
              <a:tblGrid>
                <a:gridCol w="936720"/>
                <a:gridCol w="1079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vp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0_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, 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473960" y="4224240"/>
          <a:ext cx="2016000" cy="1092240"/>
        </p:xfrm>
        <a:graphic>
          <a:graphicData uri="http://schemas.openxmlformats.org/drawingml/2006/table">
            <a:tbl>
              <a:tblPr/>
              <a:tblGrid>
                <a:gridCol w="936720"/>
                <a:gridCol w="1079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vp_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vL1_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, 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164560" y="135576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al AMVP candidate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2480" y="386856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VP candidate list after adding new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7256160" y="343368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5200" y="351468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dd zero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47FF-1E05-4ECD-8462-DA405940A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1-07-17T07:46:20Z</dcterms:modified>
  <cp:revision>2169</cp:revision>
  <dc:subject/>
  <dc:title>Title</dc:title>
</cp:coreProperties>
</file>