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6ED-4898-4FD0-9F52-5EFC1984BA7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F8CF-D85D-4ECC-BC31-40B88FCE17A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2E74-4A85-49F3-9979-AE87FA09B1E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BF44-FB04-49D2-A2C7-762237AF1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016D-C415-407B-AC89-80804A9961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4648-25C2-4C2B-B871-75414FCA4F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C826-691C-480E-BA8C-C6B8E7ADF5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74B1-B8EB-4C2D-BB1E-981E0F7468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91E7-5C42-4357-95F1-4D7A7EE2DE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D9F1-FB95-41E6-B354-C3CFA889B8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5AC0-B261-41F0-AB0D-9DB5E76E9D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BFF7-4081-4955-8EA7-6292B16623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6591-F821-442E-8128-D5C64E22E9A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66F0-31BA-496C-96FF-2F1A803235C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CE3F1-98FF-4E3F-8D30-65A27B26C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2A19-763C-4C0E-9265-A4F265575A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97CA10-F2B1-4AE1-864B-AF8BEBC790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14182-5309-48B5-9F18-78F729071B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DE582-3B7A-4B45-9F78-7104900105E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5AE52-E238-4592-8FE1-C86EF98FE5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61FD9C-B6BC-4F88-B0A6-474BC69C72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6B729-EFA7-48DB-BA35-9B8340ED8A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E6803-E12E-4D28-BA79-91ECABDEF67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2475D-538A-4BBE-AB0D-C83D863046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0BE57-766B-4813-A373-40CCF762CB4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2CBDC-E477-4F32-B22A-46D5134D5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8CD3-E92B-42FA-B4FB-42D6E97FEF1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0C7A8-6E39-4861-92E9-FAB4C06457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98565-8EB8-4992-8291-91E6B9BE97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93C1C-7108-4E00-81B2-61719146CC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B1C9A-F336-4120-AFFC-BD67672588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348A5-B1CE-4F3D-A788-F63D37B2A2B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E8E4F-DC43-4618-A72E-859158ACB9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69724-20FE-4AD8-9C8A-B7837A95304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10FB3-CABD-4CC5-AA44-36BA826862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5F5B4-A4FF-407C-8F00-CE17A26665E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8E227-D138-4F2D-949D-A121411F8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3C81-ECF0-4E1E-928C-62CE4BF8B53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2DEEC-5137-48B7-A6B0-9994D053783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68B63-2E81-45B5-9473-B3E4246E1E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620A4-A40B-48F1-98FD-6CF449FB5B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F1CB-99DC-4849-8659-D34D5CD099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AF85-529C-43C4-876D-F46DE65688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7FA69-0BDC-4AC9-981F-0572089658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83CC-A897-4BF5-80EB-BE87E60E14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7E6D-B2D5-4091-9C15-9213AB1EEF4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3D5D0-3DF3-4422-8B6B-9CA02A64B2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F25B-79F7-4667-A925-0DDBBD2940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BDD5-1051-4C9D-90A9-55D4CE45B6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989F-67CE-4B86-A7BC-9392C3DCB6F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097F-BEDD-4A22-8CB3-FB7F044AE68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DA93-323F-4BB5-A6B1-FCFAE1BF6FA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C11F-6169-444F-8762-DFDE6B7F81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CA1A1-9702-4E25-B797-07E3ADC29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73C0-BF46-4664-8ACA-AE22DD92DA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5F8E-0976-4CAE-ABCA-4D5AA0B0A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569B-C07D-4634-A920-8AEB8E8DCB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9208-AB23-4E7F-99EC-10962A312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AE5E-47BA-4386-8958-AD0CD44D3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DC07-5D80-4628-8F59-1BE3AEE77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BF9A-272A-4DE2-951C-650CD78692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658B-7D4C-4583-A253-1B84FECB2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11A7-FE3F-4898-8B0D-3F8A6EEA04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432D-60E4-45F6-A61E-E2B0FB49F6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0DCE-0FA8-4B91-BE10-EA398258E2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71C-F93F-4700-A424-36E7F174BD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3E0-086B-4750-9211-3CA46D6F84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4D3-9195-4AEF-866A-EBCC24E783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D10-7A99-4972-AC28-AD3535C4A1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A42-C2E8-4DA3-92DC-1A305C9C2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82F4-4835-4231-A116-0F48FE8FC9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9C9-2BBD-4124-AB55-8E063B8D67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D3A-64EF-450F-8D32-6C67F17EEC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3FF-D992-4FAB-AD14-4A906523D6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D80-0CF2-4378-AE21-B98F5BAF98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669-7346-4556-AE66-ED7BEFDAAF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B59-BB72-4F18-9DA1-BEC49014C1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3B4-CCC0-429B-9AA6-D44D56A9F0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F7118-10FF-40B9-8235-B70B010B7E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53E88-2C1A-49A4-93B5-A0A51BB47E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64DBA-550B-4325-889F-5A8B236ED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98A2-EF9E-49C1-8137-932F610531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AF884-8814-4A3A-9A13-557F8690D9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986E4-4877-4270-883B-321B823637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63863-035E-4762-8FE0-ACCFF7F900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E0ECE-E19E-47D3-BED4-B29B1C7DC1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80971-E79C-47B2-AD4F-8732F2AB9E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BEBB8-DA88-4CD4-8686-C7EB7C37C9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4B68A-B6FF-4087-8B97-C0388C5C5F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1CC55-0817-4423-819E-B98505FD58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7EF36-6E02-4337-BD4C-864A4BA3F08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EC797-B3C9-4DA3-9769-269010F6E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83B3-523D-482D-A315-381D905CBD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72582-E8E9-4BEC-9186-552BF3D643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78D79-974F-42E2-BD22-7353AC0D00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6B154-086D-4439-B4CB-DF4EF7781F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D7BA6-F161-40D0-98AB-0ECC3137E7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97171-2752-49CA-ADE6-2790A155D4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031AE-F3DC-45BF-B15D-D219A76EAB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1DEFD-D540-49C0-BCE4-B33B49E9C4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436EA-EBF4-4A9D-A538-E9FE33B8F2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1EBFD-9D3A-44F4-ADAF-6752C950AF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0F663-FCCA-4BEE-8ABC-A70DBEB76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64F5-9F6A-48DB-84F7-8A3B1F8812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169AF-040B-4A1A-8BA4-D92D9493E55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8F9-98CC-4656-8247-5A09516E174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B20C-6F9B-4F21-B840-05D0FE01BE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C83E-E454-4E38-A2C6-07F94AC1DF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DE34-114F-4587-93D2-94D5E8EDE9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34D7-5B4A-4E81-9A03-AE6FAD07E59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E92-E1CD-4290-B736-36722056FD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013-9002-48BB-B924-9E8E73254A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2690-AC8A-4E45-9847-41E532214A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8DB4-C39B-4E97-8B24-32322756E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BC95-FECD-4F76-9DE0-9DE190C85B2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5B38-C649-4ED0-8455-72B113FC15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980-A91B-4195-965D-6281DE5608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CB2F-5135-4CD8-8396-AEB0107845D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950BB-C98F-4755-B4F7-9D4FE797FF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183AC-3A65-440B-83F0-008CF21545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1FC49-4C66-4F1A-A476-995666E74B3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DCD78-F55B-4E0F-9852-BAFC04CA14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15451-B8B6-4D49-A7CB-0CE75B9E84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D906B-3FFB-434D-B15D-8F4C7D214F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F9D82-BA8E-4474-80FB-2A449633C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32EE-C933-47A9-8ACD-8AF409FEDF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2A1FF-3031-4D77-88AE-2445C9D1CC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E08BF-B12D-4769-8E21-59E19D5B13A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DA6D1-118D-4376-B77E-6B27C39B30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6935F-2F9F-43F9-A610-B8E8DB88C1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B81C0-80CE-4A58-870E-DCBFD5D30D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C6409-511E-4C70-8949-327A71AE59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E91E0-93D1-4003-8121-AB2963BF80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0D171-9302-4DC1-8341-FAD994ED072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F6D67-F357-487E-9877-E161F6988F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78568-6C9B-4323-8B34-57A4080F0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2C0C-FCEE-4C11-93C1-2D9247A24B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9CEEA-31D9-463A-87A2-B0BD54C147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E0327-E55D-4B7C-B947-CC36886060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FA2E1-B1E9-4F45-BB69-B4C6068FFE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DECFF-93E5-4FC9-BC45-7B240F50C02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A48FA-00E4-4AD5-8474-DE6EEA15CA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50915-B026-4E80-9069-41D7CEB93C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79647-3C45-4503-AF72-F6528A857F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0E9A-2B27-43EA-BC97-A239914E77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9014-B97B-42CD-8424-4FFF6DEDDA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6CA4-B515-4F44-B549-564AC960A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683E-5112-47D2-91C7-228549B670E8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D35C-048A-4784-8A28-C8D2286C3615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23BC-A25E-42B0-8032-692672F6B503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4CE6-BB6D-4541-9187-904970B30C5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5A86-A666-417E-8639-B451F62478F7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68EC-E8F6-46C9-9DD2-E93CA6E3FC41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3778-0C29-4579-83C6-2EDAD6BBE7FC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52C0-CC9D-4E3B-83FA-D2BC6A4E28CD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855-0C05-44C1-9395-F04F2279E735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94C6-8ED5-434B-BCDB-BB467F826046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71E0-4BDD-4882-A821-CABD46B56456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41F-E2DD-4A60-B757-42109939CE4B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A858-6CB4-42F5-8408-731AEC7A132F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75248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8c93"/>
                </a:solidFill>
                <a:latin typeface="Arial"/>
                <a:ea typeface="SimHei"/>
              </a:rPr>
              <a:t>JCTVC-F468</a:t>
            </a:r>
            <a:r>
              <a:rPr b="1" lang="en-CA" sz="4000" spc="-1" strike="noStrike">
                <a:solidFill>
                  <a:srgbClr val="3c8c93"/>
                </a:solidFill>
                <a:latin typeface="Arial"/>
                <a:ea typeface="SimHei"/>
              </a:rPr>
              <a:t>: </a:t>
            </a:r>
            <a:r>
              <a:rPr b="1" lang="en-US" sz="4000" spc="-1" strike="noStrike">
                <a:solidFill>
                  <a:srgbClr val="3c8c93"/>
                </a:solidFill>
                <a:latin typeface="Arial"/>
                <a:ea typeface="SimHei"/>
              </a:rPr>
              <a:t>eBrisk’s Adaptive Interpolation Filtering Technique Using Samsung’s Newly Proposed Fixed Filters</a:t>
            </a:r>
            <a:r>
              <a:rPr b="1" lang="fr-FR" sz="4000" spc="-1" strike="noStrike">
                <a:solidFill>
                  <a:srgbClr val="3c8c93"/>
                </a:solidFill>
                <a:latin typeface="Arial"/>
                <a:ea typeface="SimHe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133720" y="449568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Michael Horowitz, eBrisk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To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14-22 Jul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B558-71A2-4BAB-B287-3C2427264096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80880" y="1981080"/>
          <a:ext cx="8028000" cy="3054600"/>
        </p:xfrm>
        <a:graphic>
          <a:graphicData uri="http://schemas.openxmlformats.org/drawingml/2006/table">
            <a:tbl>
              <a:tblPr/>
              <a:tblGrid>
                <a:gridCol w="1249560"/>
                <a:gridCol w="993600"/>
                <a:gridCol w="973080"/>
                <a:gridCol w="1447920"/>
                <a:gridCol w="963720"/>
                <a:gridCol w="973080"/>
                <a:gridCol w="142704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2"/>
          <p:cNvSpPr/>
          <p:nvPr/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 + 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E34B-C7B7-4C36-B695-0960E3CCA41E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posed combination yields good trade-offs between BD-rate performance and complex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um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in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decoding complexity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coding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uma + Chrom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% / 1.0% / 0.9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U/V gain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decoding complexity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encoding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ed combination provides a significant gain over HM 3.0 while using shorter filters (6-tap and 7-tap instead of 8-ta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3DEF-F31A-4BB8-9461-059C3C9F25FC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3.0 Interpolation Fil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887560" y="1523880"/>
          <a:ext cx="3513240" cy="397080"/>
        </p:xfrm>
        <a:graphic>
          <a:graphicData uri="http://schemas.openxmlformats.org/drawingml/2006/table">
            <a:tbl>
              <a:tblPr/>
              <a:tblGrid>
                <a:gridCol w="851040"/>
                <a:gridCol w="2662200"/>
              </a:tblGrid>
              <a:tr h="19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¼ 8-t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  4,  -10,  57,   19,    -7,   3,  -1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8-t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  4,  -11,  40,   40,  -11,   4,  -1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981080" y="2286000"/>
          <a:ext cx="5943600" cy="3746520"/>
        </p:xfrm>
        <a:graphic>
          <a:graphicData uri="http://schemas.openxmlformats.org/drawingml/2006/table">
            <a:tbl>
              <a:tblPr/>
              <a:tblGrid>
                <a:gridCol w="1886040"/>
                <a:gridCol w="2000160"/>
                <a:gridCol w="2057400"/>
              </a:tblGrid>
              <a:tr h="23436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sample pos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1/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3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i.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_3/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E1D6-658E-424E-9C28-258F2FCA3989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240" y="3510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e as proposed technique in JCTVC-F2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828800" y="2819520"/>
          <a:ext cx="6037200" cy="957240"/>
        </p:xfrm>
        <a:graphic>
          <a:graphicData uri="http://schemas.openxmlformats.org/drawingml/2006/table">
            <a:tbl>
              <a:tblPr/>
              <a:tblGrid>
                <a:gridCol w="1762200"/>
                <a:gridCol w="917640"/>
                <a:gridCol w="1211040"/>
                <a:gridCol w="2146320"/>
              </a:tblGrid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 p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 lengt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 configur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 p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2,  5, -11,   58,  18,  -6,  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 p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, -9,  39,   39,   -9,  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Rectangle 3"/>
          <p:cNvSpPr/>
          <p:nvPr/>
        </p:nvSpPr>
        <p:spPr>
          <a:xfrm>
            <a:off x="380880" y="19810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sung’s filters (JCTVC-F247) are used as default fi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828800" y="4876920"/>
          <a:ext cx="6230880" cy="909360"/>
        </p:xfrm>
        <a:graphic>
          <a:graphicData uri="http://schemas.openxmlformats.org/drawingml/2006/table">
            <a:tbl>
              <a:tblPr/>
              <a:tblGrid>
                <a:gridCol w="1800360"/>
                <a:gridCol w="917280"/>
                <a:gridCol w="1211400"/>
                <a:gridCol w="2301840"/>
              </a:tblGrid>
              <a:tr h="28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 p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 lengt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 configur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 p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0,  a1,  a2,  a3,  a4,  a5,  a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 p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0,  b1,  b2,  b2,  b1, b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Rectangle 3"/>
          <p:cNvSpPr/>
          <p:nvPr/>
        </p:nvSpPr>
        <p:spPr>
          <a:xfrm>
            <a:off x="380880" y="41148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F fi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3ED0-B298-40A5-9B9A-7121ED1B6D22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80880" y="1981080"/>
          <a:ext cx="8028000" cy="3051360"/>
        </p:xfrm>
        <a:graphic>
          <a:graphicData uri="http://schemas.openxmlformats.org/drawingml/2006/table">
            <a:tbl>
              <a:tblPr/>
              <a:tblGrid>
                <a:gridCol w="1249560"/>
                <a:gridCol w="993600"/>
                <a:gridCol w="973080"/>
                <a:gridCol w="1447920"/>
                <a:gridCol w="963720"/>
                <a:gridCol w="973080"/>
                <a:gridCol w="1427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(P)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(P)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9987-ED34-4472-9E6D-78FB53509475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80880" y="1981080"/>
          <a:ext cx="8028000" cy="3051360"/>
        </p:xfrm>
        <a:graphic>
          <a:graphicData uri="http://schemas.openxmlformats.org/drawingml/2006/table">
            <a:tbl>
              <a:tblPr/>
              <a:tblGrid>
                <a:gridCol w="1249560"/>
                <a:gridCol w="993600"/>
                <a:gridCol w="973080"/>
                <a:gridCol w="1447920"/>
                <a:gridCol w="963720"/>
                <a:gridCol w="973080"/>
                <a:gridCol w="1427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(B)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(B)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43BB-1DF3-4849-B3F6-4EF3A99E2AFD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380880" y="1981080"/>
          <a:ext cx="8028000" cy="3054600"/>
        </p:xfrm>
        <a:graphic>
          <a:graphicData uri="http://schemas.openxmlformats.org/drawingml/2006/table">
            <a:tbl>
              <a:tblPr/>
              <a:tblGrid>
                <a:gridCol w="1249560"/>
                <a:gridCol w="993600"/>
                <a:gridCol w="973080"/>
                <a:gridCol w="1447920"/>
                <a:gridCol w="963720"/>
                <a:gridCol w="973080"/>
                <a:gridCol w="142704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8071-42CF-45CB-A40C-53C1AE2CC3C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09480" y="2362320"/>
            <a:ext cx="815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e technique proposed in JCTVC-F2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sing the HM 3.0 default Chroma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76B-148A-4469-B17C-DA1AB88CDA6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80880" y="1981080"/>
          <a:ext cx="8028000" cy="3051360"/>
        </p:xfrm>
        <a:graphic>
          <a:graphicData uri="http://schemas.openxmlformats.org/drawingml/2006/table">
            <a:tbl>
              <a:tblPr/>
              <a:tblGrid>
                <a:gridCol w="1249560"/>
                <a:gridCol w="993600"/>
                <a:gridCol w="973080"/>
                <a:gridCol w="1447920"/>
                <a:gridCol w="963720"/>
                <a:gridCol w="973080"/>
                <a:gridCol w="1427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P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P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9" name="Rectangle 2"/>
          <p:cNvSpPr/>
          <p:nvPr/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 + 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6EBB-4AA1-4EFD-927B-6F79A20C4A4D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80880" y="1981080"/>
          <a:ext cx="8028000" cy="3051360"/>
        </p:xfrm>
        <a:graphic>
          <a:graphicData uri="http://schemas.openxmlformats.org/drawingml/2006/table">
            <a:tbl>
              <a:tblPr/>
              <a:tblGrid>
                <a:gridCol w="1249560"/>
                <a:gridCol w="993600"/>
                <a:gridCol w="973080"/>
                <a:gridCol w="1447920"/>
                <a:gridCol w="963720"/>
                <a:gridCol w="973080"/>
                <a:gridCol w="14270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B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 delay B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4" name="Rectangle 2"/>
          <p:cNvSpPr/>
          <p:nvPr/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uma + Chr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07-13T15:23:22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