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892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65640" y="141264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1248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892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65640" y="3706920"/>
            <a:ext cx="2739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12480" y="352080"/>
            <a:ext cx="8496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1720" y="370692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48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1720" y="1412640"/>
            <a:ext cx="4151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2480" y="3706920"/>
            <a:ext cx="85071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" descr="p3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5"/>
          <p:cNvGrpSpPr/>
          <p:nvPr/>
        </p:nvGrpSpPr>
        <p:grpSpPr>
          <a:xfrm>
            <a:off x="9252000" y="5013360"/>
            <a:ext cx="1764360" cy="1455480"/>
            <a:chOff x="9252000" y="5013360"/>
            <a:chExt cx="1764360" cy="1455480"/>
          </a:xfrm>
        </p:grpSpPr>
        <p:grpSp>
          <p:nvGrpSpPr>
            <p:cNvPr id="4" name="Group 46"/>
            <p:cNvGrpSpPr/>
            <p:nvPr/>
          </p:nvGrpSpPr>
          <p:grpSpPr>
            <a:xfrm>
              <a:off x="9837720" y="5013360"/>
              <a:ext cx="1178640" cy="1455480"/>
              <a:chOff x="9837720" y="5013360"/>
              <a:chExt cx="1178640" cy="1455480"/>
            </a:xfrm>
          </p:grpSpPr>
          <p:grpSp>
            <p:nvGrpSpPr>
              <p:cNvPr id="5" name="Group 47"/>
              <p:cNvGrpSpPr/>
              <p:nvPr/>
            </p:nvGrpSpPr>
            <p:grpSpPr>
              <a:xfrm>
                <a:off x="9837720" y="5013360"/>
                <a:ext cx="207720" cy="1455480"/>
                <a:chOff x="9837720" y="5013360"/>
                <a:chExt cx="207720" cy="1455480"/>
              </a:xfrm>
            </p:grpSpPr>
            <p:sp>
              <p:nvSpPr>
                <p:cNvPr id="6" name="Rectangle 52"/>
                <p:cNvSpPr/>
                <p:nvPr/>
              </p:nvSpPr>
              <p:spPr>
                <a:xfrm>
                  <a:off x="9837720" y="5013360"/>
                  <a:ext cx="207720" cy="207720"/>
                </a:xfrm>
                <a:prstGeom prst="rect">
                  <a:avLst/>
                </a:prstGeom>
                <a:solidFill>
                  <a:srgbClr val="f08c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56"/>
                <p:cNvSpPr/>
                <p:nvPr/>
              </p:nvSpPr>
              <p:spPr>
                <a:xfrm>
                  <a:off x="9837720" y="5429160"/>
                  <a:ext cx="207720" cy="207720"/>
                </a:xfrm>
                <a:prstGeom prst="rect">
                  <a:avLst/>
                </a:prstGeom>
                <a:solidFill>
                  <a:srgbClr val="e4007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60"/>
                <p:cNvSpPr/>
                <p:nvPr/>
              </p:nvSpPr>
              <p:spPr>
                <a:xfrm>
                  <a:off x="9837720" y="5844960"/>
                  <a:ext cx="207720" cy="207720"/>
                </a:xfrm>
                <a:prstGeom prst="rect">
                  <a:avLst/>
                </a:prstGeom>
                <a:solidFill>
                  <a:srgbClr val="69696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64"/>
                <p:cNvSpPr/>
                <p:nvPr/>
              </p:nvSpPr>
              <p:spPr>
                <a:xfrm>
                  <a:off x="9837720" y="6261120"/>
                  <a:ext cx="207720" cy="207720"/>
                </a:xfrm>
                <a:prstGeom prst="rect">
                  <a:avLst/>
                </a:prstGeom>
                <a:solidFill>
                  <a:srgbClr val="fff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Rectangle 53"/>
              <p:cNvSpPr/>
              <p:nvPr/>
            </p:nvSpPr>
            <p:spPr>
              <a:xfrm>
                <a:off x="10162080" y="50133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57"/>
              <p:cNvSpPr/>
              <p:nvPr/>
            </p:nvSpPr>
            <p:spPr>
              <a:xfrm>
                <a:off x="10162080" y="54291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61"/>
              <p:cNvSpPr/>
              <p:nvPr/>
            </p:nvSpPr>
            <p:spPr>
              <a:xfrm>
                <a:off x="10162080" y="5844960"/>
                <a:ext cx="207720" cy="207720"/>
              </a:xfrm>
              <a:prstGeom prst="rect">
                <a:avLst/>
              </a:prstGeom>
              <a:solidFill>
                <a:srgbClr val="cad1a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65"/>
              <p:cNvSpPr/>
              <p:nvPr/>
            </p:nvSpPr>
            <p:spPr>
              <a:xfrm>
                <a:off x="10162080" y="6261120"/>
                <a:ext cx="207720" cy="207720"/>
              </a:xfrm>
              <a:prstGeom prst="rect">
                <a:avLst/>
              </a:prstGeom>
              <a:solidFill>
                <a:srgbClr val="f08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54"/>
              <p:cNvSpPr/>
              <p:nvPr/>
            </p:nvSpPr>
            <p:spPr>
              <a:xfrm>
                <a:off x="10481040" y="50133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58"/>
              <p:cNvSpPr/>
              <p:nvPr/>
            </p:nvSpPr>
            <p:spPr>
              <a:xfrm>
                <a:off x="10481040" y="5429160"/>
                <a:ext cx="207720" cy="20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62"/>
              <p:cNvSpPr/>
              <p:nvPr/>
            </p:nvSpPr>
            <p:spPr>
              <a:xfrm>
                <a:off x="10481040" y="5844960"/>
                <a:ext cx="207720" cy="207720"/>
              </a:xfrm>
              <a:prstGeom prst="rect">
                <a:avLst/>
              </a:prstGeom>
              <a:solidFill>
                <a:srgbClr val="005c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66"/>
              <p:cNvSpPr/>
              <p:nvPr/>
            </p:nvSpPr>
            <p:spPr>
              <a:xfrm>
                <a:off x="10481040" y="6261120"/>
                <a:ext cx="207720" cy="207720"/>
              </a:xfrm>
              <a:prstGeom prst="rect">
                <a:avLst/>
              </a:prstGeom>
              <a:solidFill>
                <a:srgbClr val="dd0955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55"/>
              <p:cNvSpPr/>
              <p:nvPr/>
            </p:nvSpPr>
            <p:spPr>
              <a:xfrm>
                <a:off x="10808640" y="5013360"/>
                <a:ext cx="207720" cy="207720"/>
              </a:xfrm>
              <a:prstGeom prst="rect">
                <a:avLst/>
              </a:prstGeom>
              <a:solidFill>
                <a:srgbClr val="5f1987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59"/>
              <p:cNvSpPr/>
              <p:nvPr/>
            </p:nvSpPr>
            <p:spPr>
              <a:xfrm>
                <a:off x="10808640" y="54291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63"/>
              <p:cNvSpPr/>
              <p:nvPr/>
            </p:nvSpPr>
            <p:spPr>
              <a:xfrm>
                <a:off x="10808640" y="5844960"/>
                <a:ext cx="207720" cy="20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67"/>
              <p:cNvSpPr/>
              <p:nvPr/>
            </p:nvSpPr>
            <p:spPr>
              <a:xfrm>
                <a:off x="10808640" y="6261120"/>
                <a:ext cx="207720" cy="207720"/>
              </a:xfrm>
              <a:prstGeom prst="rect">
                <a:avLst/>
              </a:prstGeom>
              <a:solidFill>
                <a:srgbClr val="00afc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" name="Text Box 64"/>
            <p:cNvSpPr/>
            <p:nvPr/>
          </p:nvSpPr>
          <p:spPr>
            <a:xfrm>
              <a:off x="9252000" y="5013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Text Box 65"/>
            <p:cNvSpPr/>
            <p:nvPr/>
          </p:nvSpPr>
          <p:spPr>
            <a:xfrm>
              <a:off x="9252000" y="5445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Text Box 66"/>
            <p:cNvSpPr/>
            <p:nvPr/>
          </p:nvSpPr>
          <p:spPr>
            <a:xfrm>
              <a:off x="9252000" y="5805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Text Box 67"/>
            <p:cNvSpPr/>
            <p:nvPr/>
          </p:nvSpPr>
          <p:spPr>
            <a:xfrm>
              <a:off x="9252000" y="6237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Theme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8"/>
          <p:cNvSpPr/>
          <p:nvPr/>
        </p:nvSpPr>
        <p:spPr>
          <a:xfrm>
            <a:off x="-1260360" y="4825080"/>
            <a:ext cx="115236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: Arial Bo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32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The theme blue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ub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ext(2-5 Leve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4-1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1" descr="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-1260360" y="4825080"/>
            <a:ext cx="115236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: Arial Bo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32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The theme blue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ub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ext(2-5 Leve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24-18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2" descr="p1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-1260360" y="5311800"/>
            <a:ext cx="115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: Arial Bo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z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ja-JP" sz="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-47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me of Blu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ubtitle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Ari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ja-JP" sz="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4-28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12480" y="1268280"/>
            <a:ext cx="8507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p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12480" y="1412640"/>
            <a:ext cx="850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7e2"/>
                </a:solidFill>
                <a:latin typeface="Arial"/>
              </a:rPr>
              <a:t>Joint coding of CU splitting flag and inter modes based on HM 3.1</a:t>
            </a:r>
            <a:br>
              <a:rPr sz="3600"/>
            </a:br>
            <a:r>
              <a:rPr b="1" lang="en-US" sz="3600" spc="-1" strike="noStrike">
                <a:solidFill>
                  <a:srgbClr val="0087e2"/>
                </a:solidFill>
                <a:latin typeface="Arial"/>
              </a:rPr>
              <a:t>JCTVC-F418</a:t>
            </a:r>
            <a:endParaRPr b="0" lang="en-US" sz="36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360" y="357336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Test Results-1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324000" y="104292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sion A (without Pred_split_flag, default with IPCM disabled) [anchor HM 3.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表格 7" descr=""/>
          <p:cNvPicPr/>
          <p:nvPr/>
        </p:nvPicPr>
        <p:blipFill>
          <a:blip r:embed="rId1"/>
          <a:stretch/>
        </p:blipFill>
        <p:spPr>
          <a:xfrm>
            <a:off x="950760" y="1755720"/>
            <a:ext cx="68090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Test Results-2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324000" y="1042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sion A (without Pred_split_flag, IPCM enabled while CU size &gt; 8x8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anchor HM 3.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表格 8" descr=""/>
          <p:cNvPicPr/>
          <p:nvPr/>
        </p:nvPicPr>
        <p:blipFill>
          <a:blip r:embed="rId1"/>
          <a:stretch/>
        </p:blipFill>
        <p:spPr>
          <a:xfrm>
            <a:off x="878040" y="1755720"/>
            <a:ext cx="71690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Test Results-3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468360" y="104292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sion A (without Pred_split_flag, IPCM enabled in intra slice while CU size &gt; 16x16 and in inter slice while CU size &gt; 8x8) [anchor HM 3.1] ---propo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表格 4" descr=""/>
          <p:cNvPicPr/>
          <p:nvPr/>
        </p:nvPicPr>
        <p:blipFill>
          <a:blip r:embed="rId1"/>
          <a:stretch/>
        </p:blipFill>
        <p:spPr>
          <a:xfrm>
            <a:off x="665280" y="1895400"/>
            <a:ext cx="745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Test Results-4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826920" y="1052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sion B (with Pred_split_flag, default with IPCM disabled) [anchor HM 3.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4427640" y="1052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sion B (with Pred_split_flag, IPCM enabled while CU size &gt; 8x8) [anchor HM 3.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表格 8" descr=""/>
          <p:cNvPicPr/>
          <p:nvPr/>
        </p:nvPicPr>
        <p:blipFill>
          <a:blip r:embed="rId1"/>
          <a:stretch/>
        </p:blipFill>
        <p:spPr>
          <a:xfrm>
            <a:off x="1023840" y="1968480"/>
            <a:ext cx="3567240" cy="4432320"/>
          </a:xfrm>
          <a:prstGeom prst="rect">
            <a:avLst/>
          </a:prstGeom>
          <a:ln w="0">
            <a:noFill/>
          </a:ln>
        </p:spPr>
      </p:pic>
      <p:pic>
        <p:nvPicPr>
          <p:cNvPr id="213" name="表格 9" descr=""/>
          <p:cNvPicPr/>
          <p:nvPr/>
        </p:nvPicPr>
        <p:blipFill>
          <a:blip r:embed="rId2"/>
          <a:stretch/>
        </p:blipFill>
        <p:spPr>
          <a:xfrm>
            <a:off x="4591080" y="1968480"/>
            <a:ext cx="3529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Results Analysis-1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t coding Method for CU splitting flag and inter m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表格 6" descr=""/>
          <p:cNvPicPr/>
          <p:nvPr/>
        </p:nvPicPr>
        <p:blipFill>
          <a:blip r:embed="rId1"/>
          <a:stretch/>
        </p:blipFill>
        <p:spPr>
          <a:xfrm>
            <a:off x="950760" y="1536840"/>
            <a:ext cx="6735960" cy="2633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395280" y="4292640"/>
            <a:ext cx="842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It improved about 0.5% BD-rate for CAVLC configurations comparing to HM 3.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CABAC itself did good job coding these syntax elements. There is almost no gain observed for coding efficiency (with 0.1% BD-rate deviation, some became wors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Results Analysis-2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863640" y="1052640"/>
            <a:ext cx="72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d IPCM mode (in intra slice CU size &gt; 16x16 and in inter slice CU size &gt; 8x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表格 11" descr=""/>
          <p:cNvPicPr/>
          <p:nvPr/>
        </p:nvPicPr>
        <p:blipFill>
          <a:blip r:embed="rId1"/>
          <a:stretch/>
        </p:blipFill>
        <p:spPr>
          <a:xfrm>
            <a:off x="1030320" y="1878120"/>
            <a:ext cx="6729480" cy="26510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900000" y="465300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wo methods to enable IPCM were tes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It has more impact on intra slice than inter sl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roposed method was observed have impact only on AI-LC configuration, with a loss of 0.1% BD-r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Results Analysis-3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755640" y="118728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_split_flag while CU-depth equals to 0 o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95280" y="4653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here is some redundancy existed in current CU splitting flag signa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red_split_flag can bring us 0.1% BD-rate gain for AI-LC and RA-LC configu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68360" y="1773360"/>
          <a:ext cx="3745080" cy="2592360"/>
        </p:xfrm>
        <a:graphic>
          <a:graphicData uri="http://schemas.openxmlformats.org/drawingml/2006/table">
            <a:tbl>
              <a:tblPr/>
              <a:tblGrid>
                <a:gridCol w="1248120"/>
                <a:gridCol w="1247760"/>
                <a:gridCol w="1249200"/>
              </a:tblGrid>
              <a:tr h="326880"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L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L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L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920" y="1413000"/>
            <a:ext cx="9083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371"/>
                </a:solidFill>
                <a:latin typeface="Arial"/>
              </a:rPr>
              <a:t>The best choice to enable IPCM mode should be Intra Slice with CU size greater than 16x16, Inter Slice with CU size greater than 8x8 (mi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4371"/>
                </a:solidFill>
                <a:latin typeface="Arial"/>
              </a:rPr>
              <a:t>It’s suggested to adopt this into 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371"/>
                </a:solidFill>
                <a:latin typeface="Arial"/>
              </a:rPr>
              <a:t>Joint coding of CU splitting flag and inter modes could improve about 0.5% BD-rate for CAVLC, pred_split_flag brought further 0.1% BD-rate gain for AI-LC and RA-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4371"/>
                </a:solidFill>
                <a:latin typeface="Arial"/>
              </a:rPr>
              <a:t>It’s suggested to adopt both of them or the first 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371"/>
                </a:solidFill>
                <a:latin typeface="Arial"/>
              </a:rPr>
              <a:t>It’s proposed to unify representing method of CU splitting flag and inter modes both in CAVLC and CAB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4371"/>
                </a:solidFill>
                <a:latin typeface="Arial"/>
              </a:rPr>
              <a:t>CABAC itself did good job while coding these syntax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4371"/>
                </a:solidFill>
                <a:latin typeface="Arial"/>
              </a:rPr>
              <a:t>Unification can help us to simplify spec text of splitting flag and inter m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Revised Spec Tex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pic>
        <p:nvPicPr>
          <p:cNvPr id="229" name="表格 4" descr=""/>
          <p:cNvPicPr/>
          <p:nvPr/>
        </p:nvPicPr>
        <p:blipFill>
          <a:blip r:embed="rId1"/>
          <a:stretch/>
        </p:blipFill>
        <p:spPr>
          <a:xfrm>
            <a:off x="590400" y="1176480"/>
            <a:ext cx="788832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Revised Spec Tex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pic>
        <p:nvPicPr>
          <p:cNvPr id="231" name="表格 3" descr=""/>
          <p:cNvPicPr/>
          <p:nvPr/>
        </p:nvPicPr>
        <p:blipFill>
          <a:blip r:embed="rId1"/>
          <a:stretch/>
        </p:blipFill>
        <p:spPr>
          <a:xfrm>
            <a:off x="738360" y="1036800"/>
            <a:ext cx="70945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12480" y="126792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Revised Spec Tex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pic>
        <p:nvPicPr>
          <p:cNvPr id="233" name="表格 5" descr=""/>
          <p:cNvPicPr/>
          <p:nvPr/>
        </p:nvPicPr>
        <p:blipFill>
          <a:blip r:embed="rId1"/>
          <a:stretch/>
        </p:blipFill>
        <p:spPr>
          <a:xfrm>
            <a:off x="950760" y="1395360"/>
            <a:ext cx="680904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ek and LGE were invited to cross check this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check results were reported in JCTVC-F117(LGE) and JCTVC-F279(Media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13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CTVC-D275 and JCTVC-E072, slice-based adaptive representing methods of syntax elements related to inter modes were propo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CTVC-E258, a context-dependent classification method was introduced as supplementary part of CU-depth dependent while coding CU splitting flag and inter m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proposal, above two basic ideas were harmonized together and further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summary of CU splitting flag and inter modes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pic>
        <p:nvPicPr>
          <p:cNvPr id="191" name="表格 4" descr=""/>
          <p:cNvPicPr/>
          <p:nvPr/>
        </p:nvPicPr>
        <p:blipFill>
          <a:blip r:embed="rId1"/>
          <a:stretch/>
        </p:blipFill>
        <p:spPr>
          <a:xfrm>
            <a:off x="378000" y="1127160"/>
            <a:ext cx="81756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U splitting flag and inter modes coding in 16 types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76360" y="981000"/>
          <a:ext cx="6985080" cy="5472360"/>
        </p:xfrm>
        <a:graphic>
          <a:graphicData uri="http://schemas.openxmlformats.org/drawingml/2006/table">
            <a:tbl>
              <a:tblPr/>
              <a:tblGrid>
                <a:gridCol w="1909800"/>
                <a:gridCol w="1909800"/>
                <a:gridCol w="1909800"/>
                <a:gridCol w="1255680"/>
              </a:tblGrid>
              <a:tr h="211320"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-dep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iction mode-top C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iction mode-left C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ing Ty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rowSpan="16"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ize &gt; 8x8 (mi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plit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rowSpan="9"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size==8x8(mi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123560"/>
            <a:ext cx="85690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 tables of all 16 coding types were updated for each inter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based on statistical results of previous coded slices, and all counter results of each type were sorted to refresh codeword tables for next slice with same slice Q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 tables here were maintained to be same both in encoder and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here is no need to transmit explicit coding types which were described in JCTVC-D275 and JCTVC-E07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representing method of CU splitting flag and inter modes had been implemented both in CABAC and CAV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is to reduce flags / bins needed to code these syntax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IPCM Mode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632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d been adopted into HM 3.1 which was disabled by de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to enable IPCM were tested in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proposed that IPCM could be enabled in intra slice while CU size greater than 16x16 and in inter slice while CU size greater than 8x8 (mi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act on coding efficiency was observed only in AI-LC configuration, with a loss of 0.1% BD-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Pred_split_flag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632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_split_flag was defined while CU-depth equals to 0 or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is flag equals to 1, it means not only CU of current depth with split_flag equals to 1 but also all CUs here of current depth plus one with split_flags equal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void worse coding result, constrained conditions were added to control the presence of pred_split_flag in each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% BD-rate gain was achieved by Pred_split_flag for AI-LC and RA-LC configu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09:49Z</dcterms:created>
  <dc:creator>jackee</dc:creator>
  <dc:description/>
  <cp:keywords>培训教材</cp:keywords>
  <dc:language>en-US</dc:language>
  <cp:lastModifiedBy>Lenovo User</cp:lastModifiedBy>
  <dcterms:modified xsi:type="dcterms:W3CDTF">2011-07-13T15:40:41Z</dcterms:modified>
  <cp:revision>98</cp:revision>
  <dc:subject/>
  <dc:title>幻灯片 1</dc:title>
</cp:coreProperties>
</file>