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32960" y="6597720"/>
            <a:ext cx="104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F40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2CDF-449A-424A-A3AD-76F2418FAC4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160200"/>
            <a:ext cx="119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F40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069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blocking filter using adaptive weighting factor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95280" y="2997360"/>
            <a:ext cx="5499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Ann-Kathrin Seif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78280" y="6497640"/>
            <a:ext cx="432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6th JCT-VC meeting, Torino 14.-22. July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22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locking filter using adaptive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Deblocking filter according to HM3.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blocking of a sample      according to HM3.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alue by which a sample value would be modifie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generated by a fixed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=&gt; No adaptation to varying signal statistic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870360" y="644400"/>
                <a:ext cx="428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84440" y="1413000"/>
                <a:ext cx="19512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9960" y="2325600"/>
                <a:ext cx="460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9440" y="4375080"/>
                <a:ext cx="460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locking filter using adaptive weighting facto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ptation to varying signal statistics by adaptive weighting factors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al weighting factor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uminance and chrominanc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ong and weak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pl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 and horizontal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43280" y="2260440"/>
                <a:ext cx="239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724360" y="4292640"/>
            <a:ext cx="287640" cy="1297080"/>
          </a:xfrm>
          <a:custGeom>
            <a:avLst/>
            <a:gdLst>
              <a:gd name="textAreaLeft" fmla="*/ 0 w 287640"/>
              <a:gd name="textAreaRight" fmla="*/ 103680 w 287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54680" y="4821120"/>
            <a:ext cx="32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tal: 28 weighting facto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57440" y="1122480"/>
                <a:ext cx="3934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timation of weigh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ation of mean squared reconstru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19280" y="2852640"/>
                <a:ext cx="5040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Δ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ding of estimated weigh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zation with step size of 1/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ding of quantized weights within the slice header using prediction and varibale length coding of the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Results of experi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760" y="706320"/>
            <a:ext cx="3892320" cy="532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57840" y="706320"/>
            <a:ext cx="3890880" cy="5329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62560" y="6035760"/>
            <a:ext cx="280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Combined with</a:t>
            </a:r>
            <a:br>
              <a:rPr sz="1600"/>
            </a:b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JCTVC-F19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0160" indent="-3801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of adaptive weighting factors in the deblocking filter to adapt to varying sign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weighting factors by minimization of mean squared reconstru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and transmission of estimated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compared to HM3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rate reduction of 1.1% in average over all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no run time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: Evaluation within the next CE on deblock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.Narroschke</cp:lastModifiedBy>
  <dcterms:modified xsi:type="dcterms:W3CDTF">2011-07-14T12:25:35Z</dcterms:modified>
  <cp:revision>1669</cp:revision>
  <dc:subject/>
  <dc:title>Deblocking filter using adaptive weighting factors</dc:title>
</cp:coreProperties>
</file>