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32960" y="6597720"/>
            <a:ext cx="104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F39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FA49-5388-4AFA-B832-69E9622B155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2069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160200"/>
            <a:ext cx="119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F39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1480" algn="ctr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60520" algn="ctr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79560" algn="ctr">
              <a:spcBef>
                <a:spcPts val="176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206964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Restart of CABAC after coding of ALF and SAO slice header data 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19280" y="2997360"/>
            <a:ext cx="6075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, Thomas Wedi, Semih Esenl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78280" y="6497640"/>
            <a:ext cx="432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6th JCT-VC meeting, Torino 14.-22. July 201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art of CABAC after coding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F and SAO slice header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ment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Coding of slices according to HM3.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6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timal estimation of ALF and SAO data is only possible after the coding and decoding of the slice block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F and SAO data is coded before the slice block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lice block data is coded dependently on the ALF and SA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buffer is required to store all slice block data syntax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lay due to delayed coding of slice block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4623120" y="-2386800"/>
            <a:ext cx="433440" cy="7216920"/>
          </a:xfrm>
          <a:custGeom>
            <a:avLst/>
            <a:gdLst>
              <a:gd name="textAreaLeft" fmla="*/ 276840 w 433440"/>
              <a:gd name="textAreaRight" fmla="*/ 433800 w 433440"/>
              <a:gd name="textAreaTop" fmla="*/ 187920 h 7216920"/>
              <a:gd name="textAreaBottom" fmla="*/ 7029000 h 721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51"/>
                </a:lnTo>
                <a:cubicBezTo>
                  <a:pt x="10800" y="10151"/>
                  <a:pt x="5400" y="11051"/>
                  <a:pt x="0" y="11051"/>
                </a:cubicBezTo>
                <a:cubicBezTo>
                  <a:pt x="5400" y="11051"/>
                  <a:pt x="10800" y="11951"/>
                  <a:pt x="10800" y="128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20760" y="1509840"/>
            <a:ext cx="3527280" cy="35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Slice header </a:t>
            </a:r>
            <a:br>
              <a:rPr sz="1200"/>
            </a:b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(ALF/SAO control parameters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48040" y="1509840"/>
            <a:ext cx="3708720" cy="358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Slice block dat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8448840" y="1868400"/>
            <a:ext cx="2880" cy="15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2044800"/>
            <a:ext cx="1293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Initialization of CABA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509840"/>
            <a:ext cx="1041480" cy="358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Slice header </a:t>
            </a:r>
            <a:br>
              <a:rPr sz="1200"/>
            </a:b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(general data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223640" y="1869840"/>
            <a:ext cx="3240" cy="15372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73840" y="2039760"/>
            <a:ext cx="1293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Termination of CABA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175360"/>
            <a:ext cx="539640" cy="523800"/>
          </a:xfrm>
          <a:prstGeom prst="rightArrow">
            <a:avLst>
              <a:gd name="adj1" fmla="val 50000"/>
              <a:gd name="adj2" fmla="val 25756"/>
            </a:avLst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692280"/>
            <a:ext cx="252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Arithmetic code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5948280"/>
            <a:ext cx="539640" cy="523800"/>
          </a:xfrm>
          <a:prstGeom prst="rightArrow">
            <a:avLst>
              <a:gd name="adj1" fmla="val 50000"/>
              <a:gd name="adj2" fmla="val 25756"/>
            </a:avLst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" y="71280"/>
            <a:ext cx="8385120" cy="4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tart of CABAC after coding of ALF and SAO slice header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ependent coding of slice block data and ALF and SAO 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a restart of CABAC after coding of ALF and SAO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ing of slice block data syntax element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 delay for coding of slice block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7280" y="4906800"/>
            <a:ext cx="539640" cy="524160"/>
          </a:xfrm>
          <a:prstGeom prst="rightArrow">
            <a:avLst>
              <a:gd name="adj1" fmla="val 50000"/>
              <a:gd name="adj2" fmla="val 25738"/>
            </a:avLst>
          </a:prstGeom>
          <a:solidFill>
            <a:srgbClr val="0080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2772720" y="-533160"/>
            <a:ext cx="433440" cy="3516120"/>
          </a:xfrm>
          <a:custGeom>
            <a:avLst/>
            <a:gdLst>
              <a:gd name="textAreaLeft" fmla="*/ 276840 w 433440"/>
              <a:gd name="textAreaRight" fmla="*/ 433800 w 433440"/>
              <a:gd name="textAreaTop" fmla="*/ 91440 h 3516120"/>
              <a:gd name="textAreaBottom" fmla="*/ 3424680 h 351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20760" y="1512720"/>
            <a:ext cx="3527280" cy="35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Slice header </a:t>
            </a:r>
            <a:br>
              <a:rPr sz="1200"/>
            </a:b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(ALF/SAO control parameters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48040" y="1512720"/>
            <a:ext cx="3708720" cy="358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Slice block dat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8448840" y="1871640"/>
            <a:ext cx="2880" cy="15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048040"/>
            <a:ext cx="1293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Initialization of CABA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1512720"/>
            <a:ext cx="1041480" cy="358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Slice header </a:t>
            </a:r>
            <a:br>
              <a:rPr sz="1200"/>
            </a:b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(general data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223640" y="1873080"/>
            <a:ext cx="3240" cy="15408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35280" y="692280"/>
            <a:ext cx="252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Arithmetic code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3840" y="2043000"/>
            <a:ext cx="1293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Termination of CABA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6388200" y="-625320"/>
            <a:ext cx="433080" cy="3703680"/>
          </a:xfrm>
          <a:custGeom>
            <a:avLst/>
            <a:gdLst>
              <a:gd name="textAreaLeft" fmla="*/ 276840 w 433080"/>
              <a:gd name="textAreaRight" fmla="*/ 433440 w 433080"/>
              <a:gd name="textAreaTop" fmla="*/ 96480 h 3703680"/>
              <a:gd name="textAreaBottom" fmla="*/ 3607200 h 370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695160"/>
            <a:ext cx="252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Arithmetic code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745160" y="1888920"/>
            <a:ext cx="2880" cy="1537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16360" y="2031840"/>
            <a:ext cx="3670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00"/>
                </a:solidFill>
                <a:latin typeface="Arial"/>
              </a:rPr>
              <a:t>Restart of CABAC</a:t>
            </a:r>
            <a:br>
              <a:rPr sz="1600"/>
            </a:br>
            <a:r>
              <a:rPr b="1" lang="de-DE" sz="1600" spc="-1" strike="noStrike">
                <a:solidFill>
                  <a:srgbClr val="008000"/>
                </a:solidFill>
                <a:latin typeface="Arial"/>
              </a:rPr>
              <a:t>(Termination and initialization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7280" y="5719680"/>
            <a:ext cx="539640" cy="523800"/>
          </a:xfrm>
          <a:prstGeom prst="rightArrow">
            <a:avLst>
              <a:gd name="adj1" fmla="val 50000"/>
              <a:gd name="adj2" fmla="val 25756"/>
            </a:avLst>
          </a:prstGeom>
          <a:solidFill>
            <a:srgbClr val="0080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Restart of CABAC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ag in the slice header indicates the restart to the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ag is coded in the terminating mod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same as end-of-slice flag or I_PCM fl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coder can select if a restart is used 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" y="71280"/>
            <a:ext cx="8385120" cy="4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Bit rate reductions and run time ratios compared to HM3.0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240" y="549360"/>
            <a:ext cx="8844120" cy="591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22760" y="692280"/>
            <a:ext cx="344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Encoder selects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ABAC restar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22760" y="6178680"/>
            <a:ext cx="344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Average over all: 0.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3840" y="692280"/>
            <a:ext cx="36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Encoder selects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no CABAC restar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2760" y="6178680"/>
            <a:ext cx="344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Average over all: 0.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44480" y="1023840"/>
            <a:ext cx="3106800" cy="5154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641920" y="1023840"/>
            <a:ext cx="310680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ependent coding of slice block data and ALF/SAO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 restart of CABAC after coding of ALF/SAO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d necessity of buffering slice block data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moved delay for coding of slice block 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ntax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gligable influences on coding efficiency and ru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      Adoption into next version of the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Matthias Narroschke</dc:creator>
  <dc:description/>
  <dc:language>en-US</dc:language>
  <cp:lastModifiedBy>Matthias.Narroschke</cp:lastModifiedBy>
  <dcterms:modified xsi:type="dcterms:W3CDTF">2011-07-13T08:51:08Z</dcterms:modified>
  <cp:revision>1678</cp:revision>
  <dc:subject/>
  <dc:title>Restart of CABAC after coding of ALF and SAO slice header data</dc:title>
</cp:coreProperties>
</file>