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2156-9586-4C1C-9F15-3671B7E23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1B7C-80B5-44EC-85AC-13FED3E0C2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30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F21E-FF41-4EAC-BF08-491463CFB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33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8554-CF89-46C9-BD93-B6AD7529F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36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3980-368E-41C6-A927-094C7D591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21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D1CA-2FE3-4405-B32B-46E465FE7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24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F0B4-6675-4C91-B713-CA59A011E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27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ECC6-4DDF-458D-A085-E5ED5B196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D46-5BEC-4519-8210-618EB108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899-840C-4428-B325-844AB96A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7E8DA-2DA8-4C8E-B5E2-86044BEB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473B9-1EAC-4C52-8154-60EC14F2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DED83-1CA2-4D44-AD42-E4C7B925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A851F-A5B7-4D44-85AC-CED32372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EA5DB-8134-4CCB-B7C6-A157D1D3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4DCC4-0868-44E2-989D-B4D18F58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7D76B-BFF9-4A21-8194-73A06649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356B6-918B-43A6-94D1-1AB25DC5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5EBB2-734E-4D34-BE97-2D05E449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6AF2C-A84A-4BA8-98A0-EA9EF8D1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2A9-448B-4620-9F30-EBE9E422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1590A-1F8F-49CE-BD7C-43B7980C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0648F-C42F-499F-8BA0-FE4BF7DC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F5DC2-64A4-469F-8DDC-CBB4A60C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7E0B3-AB7B-408B-881B-2CB512C7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43E12-FCD5-479D-8A36-7BE34D49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68A2C-12A2-4C8B-B9B9-2E1A682A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2022C-6914-4365-84FD-C3FEE132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2C991-1B5E-4FE3-A8CC-8500DD63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392E5-85B1-407C-ACC4-F6A74DF4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EA481-DFC9-40AA-92C2-818DFB06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6A1-F718-48FE-9BE0-F99AFAB5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3E32A-7F84-4009-9E09-33305CD3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C011A-6186-4AEF-AE14-6A97A203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42A12-6585-4857-BE49-C0578524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7D961-B44A-466F-B193-09344EB7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6690F-9738-41F7-A679-F93ECE90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6ADED-95C2-41FD-86DF-9BCA7596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4887C-CF4F-4A7C-A182-C2A5A3F0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70147-C333-45CD-86CA-234F7CAE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E53EF-48E1-47F0-8187-C2C8EA45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9FB3A-CB9D-45CA-B012-5C3879D6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DB060-0E07-4367-A45F-6A926661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85C18-AE5F-4CA9-B67B-EC996885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7F2EE-5477-4C89-A248-5D4B154E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E83B7-DE8B-433F-A5C9-F6E79FF0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68B09-2E2B-4C81-9865-1B9221A7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32078-7971-4830-9934-282A27DF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0A21D-BF85-4604-8A2D-FF915200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6D466-9CF1-40B4-BA87-E4278A28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8A916-2E18-468A-9343-94E827B6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59BBB-813F-49BD-B2D1-A8C6B971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05973-2414-4B4D-8DF2-646EF77F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21E00-8FEC-4E1D-AD9A-F2087653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B81DB-9A6D-47DA-B560-D9AF7364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36055-6AD7-4D51-8FA3-91ED600F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1BF4D-814B-4954-8913-E7243865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E86-5169-4112-8298-EFEE69DF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CF51B-A570-4B49-BC68-CA7D49B6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C55B6-7925-4F89-831F-B4B8A759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3AD3F-474B-4ABD-815B-39494191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55466-48B4-45A6-BFF0-B24065B1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CF7DE-2057-42AD-8F35-2EE73E45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52C-03F0-4A1C-8BDA-84C8CE24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B9099-ADDD-4098-9747-E40CACA3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F840D-B90E-4FEB-A78A-261AC5C8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5510F-51CE-44EB-8654-BE806FA9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5E39F-E5C9-4C62-9CBE-50C39159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80A67-4D0C-41B9-B458-82C14328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6217F-63FB-4EAD-9905-73AB63E4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7E531-3D36-42D9-9C6C-855CE4E6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6789F-3ACA-4403-90FC-F50CD364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6F735-1659-48ED-A324-1CD70CF3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A4A1-0A16-4A84-BF0E-2D90CBEC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3AC-0AAB-4971-A22A-E3827778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177C-827B-4AD1-848D-DBF6CDE6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690EE-BA10-4789-8077-732F9C72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22830-4F90-42D3-AAAC-08003EE7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B7406-0920-4C9B-A297-610C4C8A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EE483-8C92-41A4-9AAF-08F8D831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A8DD9-8E5D-45F9-B3AB-12200D78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B063A-BAC8-48B6-A5AD-AEAC1801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864D8-BCE1-402C-92ED-38E26892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F61AD-F3DD-49B0-B358-98603F3C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4481D-F146-46DC-AA12-C801A182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684-FF73-4F69-968D-A8339B2D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EF97B-5C10-4E63-B719-90B3097D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5F024-4E89-4F16-AC06-1DBE6F94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3AFE7-0352-47BC-8299-96C1A4C0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A177C-160B-4B7E-ABD3-BDFEAC16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5C445-85A0-469D-B99B-7CF98E33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097E1-01D5-4B61-A246-C1139EA0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52CA-2BBC-42A7-BF9C-AC5F7D26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CF658-7A79-42BF-8B5A-117325E3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37E00-3452-40EB-88B0-99C2C40E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3BBCB-873B-40CF-A417-3103E526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4FA-2283-49AC-AA96-50A6B1F5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058A2-A2C8-41FD-AB4E-FD37737C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8596B-27C2-474C-A353-033B31FE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0B109-1E6F-4BCF-8C13-2FA640F6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7C5D1-1E68-4DBA-9EF9-0790EDAE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2F1A4-99B3-4AA1-A7CC-7071C001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A0248-413F-4820-81F6-6FA59D27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2780F-8BA9-4CD9-B29C-686F65AF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2E281-6145-4B46-AA5F-69B80708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0702D-7B9A-4ACF-9C91-5F251DC2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8B42F-DFD7-465F-A91A-6EA806F6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361-898B-444B-A104-5C3A52FF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9BA84-39A9-4A6D-AF6D-EEEA8EE8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F0CD-386D-4711-8798-84A68FC4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AD4EC-C035-4603-A185-38F86BB8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2C7A8-9C2B-4259-B1F1-6BE91D43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32950-20B6-4187-84BE-693426B1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E8E2A-7968-4BE5-A9D7-AAFEC559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4EE02-AC80-4096-A762-9E871F58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34EA4-A9C6-4CED-848B-9C8942FC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6C60D-CE2F-4B58-8A76-AF959762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969CD-8A70-4ED6-971F-3A167C66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E7C-FCCD-4866-A31D-65DED457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C9B6C-5C14-4F99-B868-E77C1CE5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8BD27-FBB4-4A0E-BE9B-41C992F7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0CA49-43ED-45F4-8E41-0458754B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95616-8C58-4948-BC97-AD666F90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C3305-C16B-43B4-9272-CC7E6AAE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DC4DC-67AF-4D5D-B308-064A5B41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D2DF7-AB30-47EE-90E3-50D62EE3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932FA-86DA-4911-82EC-536F352C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31E8E-66E6-4736-AA90-7931098E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267B7-C7EE-4136-A33A-C31C2B98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D96-8D96-4DF5-8450-CF66C462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450F0-6420-42ED-A3F4-A70A8136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5D49C-55D4-48E2-96CC-B9879D45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4C7F5-C7B2-4030-A7E0-88C258BD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4665D-95C1-4588-ACDF-A8CC330A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1E47D-ABDA-4DA7-AE6C-A2080C4F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F7ED4-518E-48C6-9E5F-4C59902B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982F4-C78E-4339-B94B-5824997B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1558A-9B2D-48C8-BEC5-984C1966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4EADF-6C5E-43CA-9886-605F9BCE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720BE-B710-4DEC-ADFF-669A92FC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12FC-07BD-49F2-ADF2-49473C589333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正方形/長方形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正方形/長方形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EEF7-C27B-4B78-BEEF-1CD3F5B3277A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7CB7-E17D-448D-86F4-7013859552D6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正方形/長方形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正方形/長方形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2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E078-D06B-4E40-95F7-76E1B1EB24F2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正方形/長方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6"/>
          <p:cNvPicPr/>
          <p:nvPr/>
        </p:nvPicPr>
        <p:blipFill>
          <a:blip r:embed="rId2"/>
          <a:stretch/>
        </p:blipFill>
        <p:spPr>
          <a:xfrm>
            <a:off x="0" y="6515280"/>
            <a:ext cx="9182160" cy="342720"/>
          </a:xfrm>
          <a:prstGeom prst="rect">
            <a:avLst/>
          </a:prstGeom>
          <a:ln w="0">
            <a:noFill/>
          </a:ln>
        </p:spPr>
      </p:pic>
      <p:sp>
        <p:nvSpPr>
          <p:cNvPr id="86" name="テキスト ボックス 10"/>
          <p:cNvSpPr/>
          <p:nvPr/>
        </p:nvSpPr>
        <p:spPr>
          <a:xfrm>
            <a:off x="7853400" y="9036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CTVC-F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C2B0-3690-4E5D-9D1A-22AE7B3966D8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JCTVC-D116 / m188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正方形/長方形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DFA1-D5CD-40A6-9790-23A33D12428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7BE9-B875-4A18-A3E5-20A012625E20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5DB4-00E6-4C8A-A3B0-4980229E5C06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C73E-045D-4EF9-A92E-1BAB096A3982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1D8D-92D3-4E28-8053-6A118B68B082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正方形/長方形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正方形/長方形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5DD7-110A-4015-B013-3B421E6586F7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71760"/>
            <a:ext cx="8077320" cy="10000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rovement of Sample Adaptive Offset with modified bit accuracy and restricted offse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(JCTVC-F396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975280" y="3477960"/>
            <a:ext cx="3168720" cy="16160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kanori Yamazak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mohiro Ika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ukinobu Yasug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moyuki Yamamo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71680" y="6429240"/>
            <a:ext cx="4937040" cy="285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 marL="29160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6th JCT-VC Meeting, Torino, Italy, July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テキスト ボックス 4"/>
          <p:cNvSpPr/>
          <p:nvPr/>
        </p:nvSpPr>
        <p:spPr>
          <a:xfrm>
            <a:off x="5975280" y="4724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p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D Text chang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llowing highlighted text is add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3102-730A-41B9-8691-16C3FB374368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Object 5"/>
          <p:cNvGraphicFramePr/>
          <p:nvPr/>
        </p:nvGraphicFramePr>
        <p:xfrm>
          <a:off x="231840" y="1557360"/>
          <a:ext cx="8607240" cy="45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557360"/>
                    <a:ext cx="860724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EF5E-F2C1-4709-81F1-2EAA3D66232D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コンテンツ プレースホルダ 2"/>
          <p:cNvSpPr/>
          <p:nvPr/>
        </p:nvSpPr>
        <p:spPr>
          <a:xfrm>
            <a:off x="457200" y="785880"/>
            <a:ext cx="84805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HGｺﾞｼｯｸM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85760">
              <a:lnSpc>
                <a:spcPct val="100000"/>
              </a:lnSpc>
              <a:spcBef>
                <a:spcPts val="49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HGｺﾞｼｯｸM"/>
              </a:rPr>
              <a:t>Bit accuracy modification (up to 10 bits) in SAO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85760">
              <a:lnSpc>
                <a:spcPct val="100000"/>
              </a:lnSpc>
              <a:spcBef>
                <a:spcPts val="49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HGｺﾞｼｯｸM"/>
              </a:rPr>
              <a:t>Offsets range restriction (4 to 6 bit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SAO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HGｺﾞｼｯｸM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85760">
              <a:lnSpc>
                <a:spcPct val="100000"/>
              </a:lnSpc>
              <a:spcBef>
                <a:spcPts val="49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HGｺﾞｼｯｸM"/>
              </a:rPr>
              <a:t>Performance gain, HE-AI / HE-RA / HE-L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85760">
              <a:lnSpc>
                <a:spcPct val="100000"/>
              </a:lnSpc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0.1 %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0.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 %, 0.1% in qp 12-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85760">
              <a:lnSpc>
                <a:spcPct val="100000"/>
              </a:lnSpc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0.1 %, 0.1 %, 0.0% in qp 17-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5400" indent="-185760">
              <a:lnSpc>
                <a:spcPct val="100000"/>
              </a:lnSpc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0.2% gain on high bit-rate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85760">
              <a:lnSpc>
                <a:spcPct val="100000"/>
              </a:lnSpc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0.1 %, 0.0 %,-0.1% in qp 22-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5400" indent="-185760">
              <a:lnSpc>
                <a:spcPct val="100000"/>
              </a:lnSpc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almost negligible impact on common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85760">
              <a:lnSpc>
                <a:spcPct val="100000"/>
              </a:lnSpc>
              <a:spcBef>
                <a:spcPts val="49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HGｺﾞｼｯｸM"/>
              </a:rPr>
              <a:t>Memory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85760">
              <a:lnSpc>
                <a:spcPct val="100000"/>
              </a:lnSpc>
              <a:spcBef>
                <a:spcPts val="49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HGｺﾞｼｯｸM"/>
              </a:rPr>
              <a:t>40 % to 56 % memory reduction when internal bit depth is 8 bit to10 bit case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Propose to adopt the improvement into 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8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8E64-E2CC-4310-8574-DB29934C9D5D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テキスト ボックス 4"/>
          <p:cNvSpPr/>
          <p:nvPr/>
        </p:nvSpPr>
        <p:spPr>
          <a:xfrm>
            <a:off x="2771640" y="2492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ditional test for other internal bit depth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posal 1+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85000" indent="-24624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rt frames is used for 8bit and 12 bit 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596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9 frames for Class A and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0 frames for Class C,D and 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90F7-39FA-4A3E-A4DF-1C769BD1BC96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4583160" y="3940200"/>
          <a:ext cx="4236840" cy="1585800"/>
        </p:xfrm>
        <a:graphic>
          <a:graphicData uri="http://schemas.openxmlformats.org/drawingml/2006/table">
            <a:tbl>
              <a:tblPr/>
              <a:tblGrid>
                <a:gridCol w="1058760"/>
                <a:gridCol w="1060560"/>
                <a:gridCol w="1058760"/>
                <a:gridCol w="1058760"/>
              </a:tblGrid>
              <a:tr h="317520">
                <a:tc rowSpan="2"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qp12-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qp17-3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HGｺﾞｼｯｸ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qp22-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17520"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17520"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17520"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119160" y="3940200"/>
          <a:ext cx="4236840" cy="1585800"/>
        </p:xfrm>
        <a:graphic>
          <a:graphicData uri="http://schemas.openxmlformats.org/drawingml/2006/table">
            <a:tbl>
              <a:tblPr/>
              <a:tblGrid>
                <a:gridCol w="1058760"/>
                <a:gridCol w="1060560"/>
                <a:gridCol w="1058760"/>
                <a:gridCol w="1058760"/>
              </a:tblGrid>
              <a:tr h="317520">
                <a:tc rowSpan="2"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qp12-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qp17-3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HGｺﾞｼｯｸ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qp22-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17520"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17520"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17520"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612" name="テキスト ボックス 8"/>
          <p:cNvSpPr/>
          <p:nvPr/>
        </p:nvSpPr>
        <p:spPr>
          <a:xfrm>
            <a:off x="1116000" y="3573360"/>
            <a:ext cx="30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bit depth is 8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テキスト ボックス 9"/>
          <p:cNvSpPr/>
          <p:nvPr/>
        </p:nvSpPr>
        <p:spPr>
          <a:xfrm>
            <a:off x="5508720" y="3573360"/>
            <a:ext cx="30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bit depth is 12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236680" y="1843200"/>
          <a:ext cx="4237200" cy="1585800"/>
        </p:xfrm>
        <a:graphic>
          <a:graphicData uri="http://schemas.openxmlformats.org/drawingml/2006/table">
            <a:tbl>
              <a:tblPr/>
              <a:tblGrid>
                <a:gridCol w="1059120"/>
                <a:gridCol w="1060200"/>
                <a:gridCol w="1059120"/>
                <a:gridCol w="1058760"/>
              </a:tblGrid>
              <a:tr h="317520">
                <a:tc rowSpan="2"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qp12-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qp17-3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HGｺﾞｼｯｸ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qp22-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17520"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1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1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17520"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2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1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17520"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1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0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1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615" name="テキスト ボックス 11"/>
          <p:cNvSpPr/>
          <p:nvPr/>
        </p:nvSpPr>
        <p:spPr>
          <a:xfrm>
            <a:off x="1835280" y="1332000"/>
            <a:ext cx="63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bit depth is 10 bit (Common test cond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verall summary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491D-3193-49A6-A191-02D560AD3971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コンテンツ プレースホルダ 2"/>
          <p:cNvSpPr/>
          <p:nvPr/>
        </p:nvSpPr>
        <p:spPr>
          <a:xfrm>
            <a:off x="457200" y="785880"/>
            <a:ext cx="84805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HGｺﾞｼｯｸM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85760">
              <a:lnSpc>
                <a:spcPct val="100000"/>
              </a:lnSpc>
              <a:spcBef>
                <a:spcPts val="49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HGｺﾞｼｯｸM"/>
              </a:rPr>
              <a:t>Bit accuracy modification (up to 10 bits) in SAO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85760">
              <a:lnSpc>
                <a:spcPct val="100000"/>
              </a:lnSpc>
              <a:spcBef>
                <a:spcPts val="49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HGｺﾞｼｯｸM"/>
              </a:rPr>
              <a:t>Offsets range restriction (4 to 6 bit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SAO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HGｺﾞｼｯｸM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85760">
              <a:lnSpc>
                <a:spcPct val="100000"/>
              </a:lnSpc>
              <a:spcBef>
                <a:spcPts val="49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HGｺﾞｼｯｸM"/>
              </a:rPr>
              <a:t>Performance gain, HE-AI / HE-RA / HE-L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85760">
              <a:lnSpc>
                <a:spcPct val="100000"/>
              </a:lnSpc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0.1 %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0.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 %, 0.1% in qp 12-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85760">
              <a:lnSpc>
                <a:spcPct val="100000"/>
              </a:lnSpc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0.1 %, 0.1 %, 0.0% in qp 17-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5400" indent="-185760">
              <a:lnSpc>
                <a:spcPct val="100000"/>
              </a:lnSpc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0.2% gain on high bit-rate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85760">
              <a:lnSpc>
                <a:spcPct val="100000"/>
              </a:lnSpc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0.1 %, 0.0 %,-0.1% in qp 22-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5400" indent="-185760">
              <a:lnSpc>
                <a:spcPct val="100000"/>
              </a:lnSpc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almost negligible impact on common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85760">
              <a:lnSpc>
                <a:spcPct val="100000"/>
              </a:lnSpc>
              <a:spcBef>
                <a:spcPts val="49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HGｺﾞｼｯｸM"/>
              </a:rPr>
              <a:t>Memory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85760">
              <a:lnSpc>
                <a:spcPct val="100000"/>
              </a:lnSpc>
              <a:spcBef>
                <a:spcPts val="49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HGｺﾞｼｯｸM"/>
              </a:rPr>
              <a:t>40 % to 56 % memory reduction when internal bit depth is 8 bit to10 bit case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Propose to adopt the improvement into 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8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al1: bit accuracy mod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al2: offset range restri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al 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D Text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762F-544E-402F-AE90-D95B9DC4D454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tivat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785520"/>
            <a:ext cx="793116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O us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ffse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compensate distor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sets representation are import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offset bit accuracy and offset r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studied the following asp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t accuracy mod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achieve high coding efficien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set range restri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reduce required memory si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ly 40960 bits (= 256 units * 16 classes * 10bits) is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0FA2-8652-46FC-8BEC-D8C6FAA7AA08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正方形/長方形 12"/>
          <p:cNvSpPr/>
          <p:nvPr/>
        </p:nvSpPr>
        <p:spPr>
          <a:xfrm>
            <a:off x="3203640" y="4419720"/>
            <a:ext cx="5483160" cy="63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posal1: bit accuracy modificat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31920" y="785520"/>
            <a:ext cx="8354880" cy="482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lvl="1" marL="313200" indent="-20952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er bit accuracy is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13200" indent="-20952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it accuracy is set to b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03080" indent="-161280">
              <a:spcBef>
                <a:spcPts val="79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 (Internal bit depth, 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703080" indent="-16128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13200" indent="-20952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our experiments, higher bit accuracy produces higher coding efficiency in lower qp r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13200" indent="-20952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13200" indent="-20952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03080" indent="-16128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03080" indent="-16128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03080" indent="-16128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03080" indent="-16128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03080" indent="-16128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03080" indent="-16128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03080" indent="-16128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HM3.0, it is set to be up to 9 b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13200" indent="-209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3200" indent="-20952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F9B5-D597-4175-8170-AE2CEB79F950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739800" y="3860640"/>
          <a:ext cx="7974000" cy="1854360"/>
        </p:xfrm>
        <a:graphic>
          <a:graphicData uri="http://schemas.openxmlformats.org/drawingml/2006/table">
            <a:tbl>
              <a:tblPr/>
              <a:tblGrid>
                <a:gridCol w="2455920"/>
                <a:gridCol w="709560"/>
                <a:gridCol w="709560"/>
                <a:gridCol w="827280"/>
                <a:gridCol w="828360"/>
                <a:gridCol w="827280"/>
                <a:gridCol w="826920"/>
                <a:gridCol w="789120"/>
              </a:tblGrid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nternal bit depth [bit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ropo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HM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xperimental results for Proposal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78552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331200" indent="-2217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er bit accuracy(Proposal1) achieves up to 0.2% gain in lower qp ran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2400" indent="-24084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 bit and 12 bit of Internal bit depth is tested and the results are o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1200" indent="-22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1200" indent="-22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1200" indent="-2217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1200" indent="-2217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1200" indent="-2217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1200" indent="-22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2400" indent="-24084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2400" indent="-24084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2400" indent="-24084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2400" indent="-24084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rt frames is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400" indent="-17064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9 frames for Class A and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0 frames for Class C,D and 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D30B-5F49-4256-BF94-956F59BFBE9F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4583160" y="3139920"/>
          <a:ext cx="4236840" cy="1586160"/>
        </p:xfrm>
        <a:graphic>
          <a:graphicData uri="http://schemas.openxmlformats.org/drawingml/2006/table">
            <a:tbl>
              <a:tblPr/>
              <a:tblGrid>
                <a:gridCol w="1058760"/>
                <a:gridCol w="1060560"/>
                <a:gridCol w="1058760"/>
                <a:gridCol w="1058760"/>
              </a:tblGrid>
              <a:tr h="317520">
                <a:tc rowSpan="2"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qp12-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qp17-3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HGｺﾞｼｯｸ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qp22-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17520"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1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17520"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2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17520"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1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1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546" name="テキスト ボックス 5"/>
          <p:cNvSpPr/>
          <p:nvPr/>
        </p:nvSpPr>
        <p:spPr>
          <a:xfrm>
            <a:off x="2484360" y="4900680"/>
            <a:ext cx="4535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negligible impact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19160" y="3139920"/>
          <a:ext cx="4236840" cy="1586160"/>
        </p:xfrm>
        <a:graphic>
          <a:graphicData uri="http://schemas.openxmlformats.org/drawingml/2006/table">
            <a:tbl>
              <a:tblPr/>
              <a:tblGrid>
                <a:gridCol w="1058760"/>
                <a:gridCol w="1060560"/>
                <a:gridCol w="1058760"/>
                <a:gridCol w="1058760"/>
              </a:tblGrid>
              <a:tr h="317520">
                <a:tc rowSpan="2"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qp12-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qp17-3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HGｺﾞｼｯｸ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qp22-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17520"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1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17520"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17520"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2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-0.1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ｺﾞｼｯｸM"/>
                        </a:rPr>
                        <a:t>0.0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548" name="テキスト ボックス 8"/>
          <p:cNvSpPr/>
          <p:nvPr/>
        </p:nvSpPr>
        <p:spPr>
          <a:xfrm>
            <a:off x="1116000" y="2604960"/>
            <a:ext cx="30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bit depth is 10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テキスト ボックス 9"/>
          <p:cNvSpPr/>
          <p:nvPr/>
        </p:nvSpPr>
        <p:spPr>
          <a:xfrm>
            <a:off x="5508720" y="2604960"/>
            <a:ext cx="30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bit depth is 12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posal2: offset range restrict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764640"/>
            <a:ext cx="8229600" cy="5712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set range restriction is introduc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ange is set to be -16 to 15 in 8 b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mory usage can be reduced up to 40 % compared to HM-3.0 when internal bit depth is 10 b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1bit =&gt; 6bit in 10 bit c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7C67-63FF-4009-8095-64AC686131C3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1117440" y="4365720"/>
          <a:ext cx="6840720" cy="609480"/>
        </p:xfrm>
        <a:graphic>
          <a:graphicData uri="http://schemas.openxmlformats.org/drawingml/2006/table">
            <a:tbl>
              <a:tblPr/>
              <a:tblGrid>
                <a:gridCol w="3571920"/>
                <a:gridCol w="1032120"/>
                <a:gridCol w="1031760"/>
                <a:gridCol w="120492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AO bit accuracy [bit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roposed offset range [bit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554" name="直線矢印コネクタ 6"/>
          <p:cNvCxnSpPr/>
          <p:nvPr/>
        </p:nvCxnSpPr>
        <p:spPr>
          <a:xfrm>
            <a:off x="1909800" y="2549520"/>
            <a:ext cx="5758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直線矢印コネクタ 8"/>
          <p:cNvCxnSpPr/>
          <p:nvPr/>
        </p:nvCxnSpPr>
        <p:spPr>
          <a:xfrm>
            <a:off x="1909800" y="3641760"/>
            <a:ext cx="5758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6" name="円/楕円 9"/>
          <p:cNvSpPr/>
          <p:nvPr/>
        </p:nvSpPr>
        <p:spPr>
          <a:xfrm>
            <a:off x="3568680" y="2482920"/>
            <a:ext cx="131760" cy="13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円/楕円 11"/>
          <p:cNvSpPr/>
          <p:nvPr/>
        </p:nvSpPr>
        <p:spPr>
          <a:xfrm>
            <a:off x="3568680" y="3575160"/>
            <a:ext cx="131760" cy="13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円/楕円 12"/>
          <p:cNvSpPr/>
          <p:nvPr/>
        </p:nvSpPr>
        <p:spPr>
          <a:xfrm>
            <a:off x="5651640" y="2482920"/>
            <a:ext cx="131760" cy="13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円/楕円 14"/>
          <p:cNvSpPr/>
          <p:nvPr/>
        </p:nvSpPr>
        <p:spPr>
          <a:xfrm>
            <a:off x="5656320" y="3575160"/>
            <a:ext cx="133200" cy="13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正方形/長方形 19"/>
          <p:cNvSpPr/>
          <p:nvPr/>
        </p:nvSpPr>
        <p:spPr>
          <a:xfrm>
            <a:off x="695880" y="20318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SAO bit accuracy 8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正方形/長方形 21"/>
          <p:cNvSpPr/>
          <p:nvPr/>
        </p:nvSpPr>
        <p:spPr>
          <a:xfrm>
            <a:off x="696960" y="312408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SAO bit accuracy 10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テキスト ボックス 22"/>
          <p:cNvSpPr/>
          <p:nvPr/>
        </p:nvSpPr>
        <p:spPr>
          <a:xfrm>
            <a:off x="3351240" y="26146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テキスト ボックス 23"/>
          <p:cNvSpPr/>
          <p:nvPr/>
        </p:nvSpPr>
        <p:spPr>
          <a:xfrm>
            <a:off x="5510520" y="2614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テキスト ボックス 26"/>
          <p:cNvSpPr/>
          <p:nvPr/>
        </p:nvSpPr>
        <p:spPr>
          <a:xfrm>
            <a:off x="3351240" y="37069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テキスト ボックス 27"/>
          <p:cNvSpPr/>
          <p:nvPr/>
        </p:nvSpPr>
        <p:spPr>
          <a:xfrm>
            <a:off x="5510520" y="3706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6" name="直線矢印コネクタ 25"/>
          <p:cNvCxnSpPr/>
          <p:nvPr/>
        </p:nvCxnSpPr>
        <p:spPr>
          <a:xfrm flipV="1">
            <a:off x="3605760" y="2426400"/>
            <a:ext cx="2121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7" name="直線矢印コネクタ 26"/>
          <p:cNvCxnSpPr/>
          <p:nvPr/>
        </p:nvCxnSpPr>
        <p:spPr>
          <a:xfrm flipV="1">
            <a:off x="3605760" y="3517560"/>
            <a:ext cx="2121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8" name="正方形/長方形 33"/>
          <p:cNvSpPr/>
          <p:nvPr/>
        </p:nvSpPr>
        <p:spPr>
          <a:xfrm>
            <a:off x="4391640" y="21128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4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正方形/長方形 34"/>
          <p:cNvSpPr/>
          <p:nvPr/>
        </p:nvSpPr>
        <p:spPr>
          <a:xfrm>
            <a:off x="4391640" y="32050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6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正方形/長方形 35"/>
          <p:cNvSpPr/>
          <p:nvPr/>
        </p:nvSpPr>
        <p:spPr>
          <a:xfrm>
            <a:off x="6902280" y="2619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正方形/長方形 37"/>
          <p:cNvSpPr/>
          <p:nvPr/>
        </p:nvSpPr>
        <p:spPr>
          <a:xfrm>
            <a:off x="6902640" y="3706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直線コネクタ 33"/>
          <p:cNvSpPr/>
          <p:nvPr/>
        </p:nvSpPr>
        <p:spPr>
          <a:xfrm>
            <a:off x="3700440" y="2548080"/>
            <a:ext cx="1951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線コネクタ 35"/>
          <p:cNvSpPr/>
          <p:nvPr/>
        </p:nvSpPr>
        <p:spPr>
          <a:xfrm>
            <a:off x="3700440" y="3639960"/>
            <a:ext cx="1951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正方形/長方形 43"/>
          <p:cNvSpPr/>
          <p:nvPr/>
        </p:nvSpPr>
        <p:spPr>
          <a:xfrm>
            <a:off x="1842840" y="26193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正方形/長方形 45"/>
          <p:cNvSpPr/>
          <p:nvPr/>
        </p:nvSpPr>
        <p:spPr>
          <a:xfrm>
            <a:off x="1843920" y="37069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1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線コネクタ 39"/>
          <p:cNvSpPr/>
          <p:nvPr/>
        </p:nvSpPr>
        <p:spPr>
          <a:xfrm flipV="1">
            <a:off x="2241720" y="2485800"/>
            <a:ext cx="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直線コネクタ 41"/>
          <p:cNvSpPr/>
          <p:nvPr/>
        </p:nvSpPr>
        <p:spPr>
          <a:xfrm flipV="1">
            <a:off x="2241720" y="3560760"/>
            <a:ext cx="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直線コネクタ 42"/>
          <p:cNvSpPr/>
          <p:nvPr/>
        </p:nvSpPr>
        <p:spPr>
          <a:xfrm flipV="1">
            <a:off x="7162920" y="2485800"/>
            <a:ext cx="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直線コネクタ 46"/>
          <p:cNvSpPr/>
          <p:nvPr/>
        </p:nvSpPr>
        <p:spPr>
          <a:xfrm flipV="1">
            <a:off x="7162920" y="3560760"/>
            <a:ext cx="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直線コネクタ 47"/>
          <p:cNvSpPr/>
          <p:nvPr/>
        </p:nvSpPr>
        <p:spPr>
          <a:xfrm flipV="1">
            <a:off x="4716360" y="2492280"/>
            <a:ext cx="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直線コネクタ 48"/>
          <p:cNvSpPr/>
          <p:nvPr/>
        </p:nvSpPr>
        <p:spPr>
          <a:xfrm flipV="1">
            <a:off x="4716360" y="3573360"/>
            <a:ext cx="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テキスト ボックス 27"/>
          <p:cNvSpPr/>
          <p:nvPr/>
        </p:nvSpPr>
        <p:spPr>
          <a:xfrm>
            <a:off x="45406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テキスト ボックス 27"/>
          <p:cNvSpPr/>
          <p:nvPr/>
        </p:nvSpPr>
        <p:spPr>
          <a:xfrm>
            <a:off x="454932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xperimental results for Proposal2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785520"/>
            <a:ext cx="7746840" cy="5111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triction’s impact is negligib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on test condition (Full frames) is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AED2-CF04-475F-A44E-31E3ED9EEA4B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042920" y="1628640"/>
          <a:ext cx="6707160" cy="1357560"/>
        </p:xfrm>
        <a:graphic>
          <a:graphicData uri="http://schemas.openxmlformats.org/drawingml/2006/table">
            <a:tbl>
              <a:tblPr/>
              <a:tblGrid>
                <a:gridCol w="2235240"/>
                <a:gridCol w="2236680"/>
                <a:gridCol w="2235240"/>
              </a:tblGrid>
              <a:tr h="441720"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xperimental results (Proposal1+2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2525760" y="784080"/>
          <a:ext cx="4103640" cy="5335560"/>
        </p:xfrm>
        <a:graphic>
          <a:graphicData uri="http://schemas.openxmlformats.org/drawingml/2006/table">
            <a:tbl>
              <a:tblPr/>
              <a:tblGrid>
                <a:gridCol w="820800"/>
                <a:gridCol w="820800"/>
                <a:gridCol w="820440"/>
                <a:gridCol w="820800"/>
                <a:gridCol w="820800"/>
              </a:tblGrid>
              <a:tr h="409680">
                <a:tc row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-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-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p12-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p17-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p22-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p22-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200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16200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16200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16200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16164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468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13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-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-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p12-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p17-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p22-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p22-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200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16200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16164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16200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16200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468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13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row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-L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-L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p12-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p17-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p22-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p22-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64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200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16200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16200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16200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4680"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59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2169-856C-42D3-B979-1A22A23DC87B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1" name="直線矢印コネクタ 6"/>
          <p:cNvCxnSpPr/>
          <p:nvPr/>
        </p:nvCxnSpPr>
        <p:spPr>
          <a:xfrm flipV="1">
            <a:off x="5362920" y="6186240"/>
            <a:ext cx="252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2" name="直線コネクタ 8"/>
          <p:cNvSpPr/>
          <p:nvPr/>
        </p:nvSpPr>
        <p:spPr>
          <a:xfrm>
            <a:off x="5365800" y="6378480"/>
            <a:ext cx="17985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テキスト ボックス 9"/>
          <p:cNvSpPr/>
          <p:nvPr/>
        </p:nvSpPr>
        <p:spPr>
          <a:xfrm>
            <a:off x="6686640" y="5129280"/>
            <a:ext cx="234936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normal qp ran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osal  doesn’t change coding effici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4" name="直線矢印コネクタ 10"/>
          <p:cNvCxnSpPr/>
          <p:nvPr/>
        </p:nvCxnSpPr>
        <p:spPr>
          <a:xfrm flipV="1">
            <a:off x="3994200" y="6186240"/>
            <a:ext cx="216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5" name="直線コネクタ 11"/>
          <p:cNvSpPr/>
          <p:nvPr/>
        </p:nvSpPr>
        <p:spPr>
          <a:xfrm>
            <a:off x="1908000" y="6377040"/>
            <a:ext cx="2087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テキスト ボックス 12"/>
          <p:cNvSpPr/>
          <p:nvPr/>
        </p:nvSpPr>
        <p:spPr>
          <a:xfrm>
            <a:off x="135000" y="5129280"/>
            <a:ext cx="2349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wer qp ran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osal achive up to 0.2 % coding 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1:38:00Z</dcterms:created>
  <dc:creator/>
  <dc:description/>
  <dc:language>en-US</dc:language>
  <cp:lastModifiedBy/>
  <dcterms:modified xsi:type="dcterms:W3CDTF">2011-07-15T07:29:39Z</dcterms:modified>
  <cp:revision>5</cp:revision>
  <dc:subject/>
  <dc:title>Region-based adaptive loop filter using two-dimensional feature  (JCTVC-D116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31033</vt:lpwstr>
  </property>
</Properties>
</file>