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1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598A-E51D-4DB1-9748-E55FEC3DDBB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51F6-7F9F-4367-B58E-1094C0B37F8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0C88-9BBF-4481-9AD5-5D76832A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AFD2-331B-4BB9-9750-09438B04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F874-F846-4AD8-98E2-4410E114D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1953-CD50-408E-8DD8-82737FEE9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0877-9FD1-4394-9BA7-2CE7E3D7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4789-D3B0-47F0-9A23-E43A6AF5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EB53-68A5-43BD-A373-CAA3E531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D9BB-D6DF-42C4-869F-F98F9D4C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AC52-B533-4C27-8FA4-C8A8D57E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D73B-A3EC-4026-985B-142AC0D1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81E8-4EE0-43F3-BBD9-065E8845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238C-C210-4A1C-B37D-DCC680FE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67C5-804E-4FFC-AF4F-BAEDBD87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EC34-89EF-4CB6-8A27-2EB86C0A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AAE3-9591-43E3-9F76-B3B99677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AD09-0B21-47D3-B398-EEA28F53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DA55-DDA5-4AFB-B0A8-6ACE4008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8604-23ED-4C64-B64A-95F7CA31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639D2-5A5E-41C7-80DF-9CCEF200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8BC31-E978-41F8-9E38-7683BA10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5B8E0-7FFF-4C83-BB4C-4E6613ED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51DD-9D15-40C8-A7FC-54FAF898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836C6-0164-4351-8689-6964DD36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AE335-24FE-4ADB-84B5-E800EA0A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6E7B6-6E6A-4201-907B-6A800648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596A1-B6C0-470A-AF5A-1D584AB7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DA0BB-3D7E-48A7-A323-452B85C4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229EC-702F-404D-9215-DDEAAB95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8BAF2-5A5E-4F19-ABDD-83E6FA4F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EC621-B684-4766-971A-464A8C9E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A2E6B-4360-44C0-ADC6-BFCAD9732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AAD5-752B-4F1E-9B28-A06515DC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5F17-380E-4AE4-A5B4-317DAA9C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F180-CDC6-4107-B9D2-CDD12346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6C36-641A-4C24-BC6F-4ECFE8C2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9B8F-C9FB-4146-95DE-47E84159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4897-D3E2-4E48-8819-DBF5F6406FA6}" type="datetime">
              <a:rPr b="0" lang="ja-JP" sz="1000" spc="-1" strike="noStrike">
                <a:solidFill>
                  <a:srgbClr val="000000"/>
                </a:solidFill>
                <a:latin typeface="Calibri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222222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7A97-9168-4DA1-B018-DB0E2E2D3B0A}" type="slidenum">
              <a:rPr b="0" lang="ja-JP" sz="1400" spc="-1" strike="noStrike">
                <a:solidFill>
                  <a:srgbClr val="222222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正方形/長方形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正方形/長方形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1864-DD71-40F3-B144-829C101475A4}" type="datetime">
              <a:rPr b="0" lang="ja-JP" sz="1200" spc="-1" strike="noStrike">
                <a:solidFill>
                  <a:srgbClr val="3f3f3f"/>
                </a:solidFill>
                <a:latin typeface="Calibri"/>
              </a:rPr>
              <a:t>26/0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AB96-B0E2-4088-84AB-9AB66E1573DF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C883-A777-49EC-A0DB-891FA6042553}" type="datetime">
              <a:rPr b="0" lang="ja-JP" sz="1200" spc="-1" strike="noStrike">
                <a:solidFill>
                  <a:srgbClr val="3f3f3f"/>
                </a:solidFill>
                <a:latin typeface="Calibri"/>
              </a:rPr>
              <a:t>26/0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9556-05CD-400A-9841-CA31053E03F4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341360"/>
            <a:ext cx="8077320" cy="120816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AVLC Adaptation using difference counter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(JCTVC-F395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71320" y="6428880"/>
            <a:ext cx="3855960" cy="4287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JCT-VC 6th Meeting in Torino, 14-22 July , 201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258560" y="3357720"/>
            <a:ext cx="7561080" cy="136656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omoyuki Yamamot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HARP Corpor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785520"/>
            <a:ext cx="8470800" cy="37227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349200" indent="-2336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er based CAVLC adaptation (HM-3.0 / JCTVC-E14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3720" indent="-25416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oding table swap: assign smaller codeNum to probable syntax val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3720" indent="-25416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unter: enable conditional swap by counting syntax value occur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3720" indent="-25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ed sum counter and counter normalization to prevent overf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3720" indent="-25416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9200" indent="-2336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ce counter based CAVLC adaptation (Propos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3720" indent="-25416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unt difference of occurrences of successive codeN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3720" indent="-25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sible to achieve conditional swap similar to counter based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3720" indent="-25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same coding efficiency as counter based metho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3720" indent="-25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no normalization, no sum counter, no counter sw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5F7D-3E69-4A70-842C-47DD2CF39609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unter and difference counter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1" name="グループ化 107"/>
          <p:cNvGrpSpPr/>
          <p:nvPr/>
        </p:nvGrpSpPr>
        <p:grpSpPr>
          <a:xfrm>
            <a:off x="647640" y="1160640"/>
            <a:ext cx="3600360" cy="3313080"/>
            <a:chOff x="647640" y="1160640"/>
            <a:chExt cx="3600360" cy="3313080"/>
          </a:xfrm>
        </p:grpSpPr>
        <p:sp>
          <p:nvSpPr>
            <p:cNvPr id="182" name="テキスト ボックス 4"/>
            <p:cNvSpPr/>
            <p:nvPr/>
          </p:nvSpPr>
          <p:spPr>
            <a:xfrm>
              <a:off x="1727640" y="1916640"/>
              <a:ext cx="72000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テキスト ボックス 5"/>
            <p:cNvSpPr/>
            <p:nvPr/>
          </p:nvSpPr>
          <p:spPr>
            <a:xfrm>
              <a:off x="1727640" y="2277000"/>
              <a:ext cx="72000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テキスト ボックス 6"/>
            <p:cNvSpPr/>
            <p:nvPr/>
          </p:nvSpPr>
          <p:spPr>
            <a:xfrm>
              <a:off x="1727640" y="2637000"/>
              <a:ext cx="72000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テキスト ボックス 7"/>
            <p:cNvSpPr/>
            <p:nvPr/>
          </p:nvSpPr>
          <p:spPr>
            <a:xfrm>
              <a:off x="1727640" y="2997360"/>
              <a:ext cx="72000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テキスト ボックス 8"/>
            <p:cNvSpPr/>
            <p:nvPr/>
          </p:nvSpPr>
          <p:spPr>
            <a:xfrm>
              <a:off x="2700000" y="1916640"/>
              <a:ext cx="72000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nt[0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テキスト ボックス 9"/>
            <p:cNvSpPr/>
            <p:nvPr/>
          </p:nvSpPr>
          <p:spPr>
            <a:xfrm>
              <a:off x="2700000" y="2277000"/>
              <a:ext cx="72000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nt[1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テキスト ボックス 10"/>
            <p:cNvSpPr/>
            <p:nvPr/>
          </p:nvSpPr>
          <p:spPr>
            <a:xfrm>
              <a:off x="971640" y="1916640"/>
              <a:ext cx="72000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n=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テキスト ボックス 11"/>
            <p:cNvSpPr/>
            <p:nvPr/>
          </p:nvSpPr>
          <p:spPr>
            <a:xfrm>
              <a:off x="971640" y="2277000"/>
              <a:ext cx="72000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n=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テキスト ボックス 12"/>
            <p:cNvSpPr/>
            <p:nvPr/>
          </p:nvSpPr>
          <p:spPr>
            <a:xfrm>
              <a:off x="971640" y="2637000"/>
              <a:ext cx="72000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n=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テキスト ボックス 13"/>
            <p:cNvSpPr/>
            <p:nvPr/>
          </p:nvSpPr>
          <p:spPr>
            <a:xfrm>
              <a:off x="971640" y="2997360"/>
              <a:ext cx="72000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n=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テキスト ボックス 14"/>
            <p:cNvSpPr/>
            <p:nvPr/>
          </p:nvSpPr>
          <p:spPr>
            <a:xfrm>
              <a:off x="1403640" y="4113720"/>
              <a:ext cx="72000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deWo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テキスト ボックス 15"/>
            <p:cNvSpPr/>
            <p:nvPr/>
          </p:nvSpPr>
          <p:spPr>
            <a:xfrm>
              <a:off x="2700000" y="1484640"/>
              <a:ext cx="72000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b587c"/>
                  </a:solidFill>
                  <a:latin typeface="Arial"/>
                </a:rPr>
                <a:t>counter</a:t>
              </a:r>
              <a:br>
                <a:rPr sz="1400"/>
              </a:br>
              <a:r>
                <a:rPr b="0" lang="en-US" sz="1400" spc="-1" strike="noStrike">
                  <a:solidFill>
                    <a:srgbClr val="1b587c"/>
                  </a:solidFill>
                  <a:latin typeface="Arial"/>
                </a:rPr>
                <a:t>t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テキスト ボックス 16"/>
            <p:cNvSpPr/>
            <p:nvPr/>
          </p:nvSpPr>
          <p:spPr>
            <a:xfrm>
              <a:off x="2700000" y="3321360"/>
              <a:ext cx="72000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b587c"/>
                  </a:solidFill>
                  <a:latin typeface="Arial"/>
                </a:rPr>
                <a:t>sum</a:t>
              </a:r>
              <a:br>
                <a:rPr sz="1400"/>
              </a:br>
              <a:r>
                <a:rPr b="0" lang="en-US" sz="1400" spc="-1" strike="noStrike">
                  <a:solidFill>
                    <a:srgbClr val="1b587c"/>
                  </a:solidFill>
                  <a:latin typeface="Arial"/>
                </a:rPr>
                <a:t>cou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テキスト ボックス 17"/>
            <p:cNvSpPr/>
            <p:nvPr/>
          </p:nvSpPr>
          <p:spPr>
            <a:xfrm>
              <a:off x="2700000" y="3753720"/>
              <a:ext cx="720000" cy="46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テキスト ボックス 18"/>
            <p:cNvSpPr/>
            <p:nvPr/>
          </p:nvSpPr>
          <p:spPr>
            <a:xfrm>
              <a:off x="3528000" y="2853360"/>
              <a:ext cx="72000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b587c"/>
                  </a:solidFill>
                  <a:latin typeface="Arial"/>
                </a:rPr>
                <a:t>cntN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7" name="直線矢印コネクタ 20"/>
            <p:cNvCxnSpPr/>
            <p:nvPr/>
          </p:nvCxnSpPr>
          <p:spPr>
            <a:xfrm flipH="1">
              <a:off x="3563640" y="1953360"/>
              <a:ext cx="1440" cy="100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98" name="テキスト ボックス 26"/>
            <p:cNvSpPr/>
            <p:nvPr/>
          </p:nvSpPr>
          <p:spPr>
            <a:xfrm>
              <a:off x="647640" y="1160640"/>
              <a:ext cx="2268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n: CodeN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直線コネクタ 32"/>
            <p:cNvSpPr/>
            <p:nvPr/>
          </p:nvSpPr>
          <p:spPr>
            <a:xfrm flipH="1" flipV="1">
              <a:off x="1115640" y="1484640"/>
              <a:ext cx="216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直線コネクタ 37"/>
            <p:cNvSpPr/>
            <p:nvPr/>
          </p:nvSpPr>
          <p:spPr>
            <a:xfrm flipV="1">
              <a:off x="1835640" y="3789720"/>
              <a:ext cx="108000" cy="28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テキスト ボックス 38"/>
            <p:cNvSpPr/>
            <p:nvPr/>
          </p:nvSpPr>
          <p:spPr>
            <a:xfrm>
              <a:off x="1727640" y="1484640"/>
              <a:ext cx="72000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b587c"/>
                  </a:solidFill>
                  <a:latin typeface="Arial"/>
                </a:rPr>
                <a:t>decoding</a:t>
              </a:r>
              <a:br>
                <a:rPr sz="1400"/>
              </a:br>
              <a:r>
                <a:rPr b="0" lang="en-US" sz="1400" spc="-1" strike="noStrike">
                  <a:solidFill>
                    <a:srgbClr val="1b587c"/>
                  </a:solidFill>
                  <a:latin typeface="Arial"/>
                </a:rPr>
                <a:t>t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テキスト ボックス 43"/>
            <p:cNvSpPr/>
            <p:nvPr/>
          </p:nvSpPr>
          <p:spPr>
            <a:xfrm>
              <a:off x="1727640" y="3357360"/>
              <a:ext cx="72000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テキスト ボックス 44"/>
            <p:cNvSpPr/>
            <p:nvPr/>
          </p:nvSpPr>
          <p:spPr>
            <a:xfrm>
              <a:off x="2700000" y="2637000"/>
              <a:ext cx="72000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nt[2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テキスト ボックス 45"/>
            <p:cNvSpPr/>
            <p:nvPr/>
          </p:nvSpPr>
          <p:spPr>
            <a:xfrm>
              <a:off x="971640" y="3357360"/>
              <a:ext cx="72000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n=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グループ化 108"/>
          <p:cNvGrpSpPr/>
          <p:nvPr/>
        </p:nvGrpSpPr>
        <p:grpSpPr>
          <a:xfrm>
            <a:off x="4680000" y="1160640"/>
            <a:ext cx="3600360" cy="3313080"/>
            <a:chOff x="4680000" y="1160640"/>
            <a:chExt cx="3600360" cy="3313080"/>
          </a:xfrm>
        </p:grpSpPr>
        <p:sp>
          <p:nvSpPr>
            <p:cNvPr id="206" name="テキスト ボックス 80"/>
            <p:cNvSpPr/>
            <p:nvPr/>
          </p:nvSpPr>
          <p:spPr>
            <a:xfrm>
              <a:off x="5760000" y="1916640"/>
              <a:ext cx="72000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テキスト ボックス 81"/>
            <p:cNvSpPr/>
            <p:nvPr/>
          </p:nvSpPr>
          <p:spPr>
            <a:xfrm>
              <a:off x="5760000" y="2277000"/>
              <a:ext cx="72000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テキスト ボックス 82"/>
            <p:cNvSpPr/>
            <p:nvPr/>
          </p:nvSpPr>
          <p:spPr>
            <a:xfrm>
              <a:off x="5760000" y="2637000"/>
              <a:ext cx="72000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テキスト ボックス 83"/>
            <p:cNvSpPr/>
            <p:nvPr/>
          </p:nvSpPr>
          <p:spPr>
            <a:xfrm>
              <a:off x="5760000" y="2997360"/>
              <a:ext cx="72000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テキスト ボックス 84"/>
            <p:cNvSpPr/>
            <p:nvPr/>
          </p:nvSpPr>
          <p:spPr>
            <a:xfrm>
              <a:off x="6732360" y="1916640"/>
              <a:ext cx="72000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cnt[0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テキスト ボックス 85"/>
            <p:cNvSpPr/>
            <p:nvPr/>
          </p:nvSpPr>
          <p:spPr>
            <a:xfrm>
              <a:off x="6732360" y="2277000"/>
              <a:ext cx="72000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cnt[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テキスト ボックス 86"/>
            <p:cNvSpPr/>
            <p:nvPr/>
          </p:nvSpPr>
          <p:spPr>
            <a:xfrm>
              <a:off x="5004000" y="1916640"/>
              <a:ext cx="72000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n=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テキスト ボックス 87"/>
            <p:cNvSpPr/>
            <p:nvPr/>
          </p:nvSpPr>
          <p:spPr>
            <a:xfrm>
              <a:off x="5004000" y="2277000"/>
              <a:ext cx="72000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n=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テキスト ボックス 88"/>
            <p:cNvSpPr/>
            <p:nvPr/>
          </p:nvSpPr>
          <p:spPr>
            <a:xfrm>
              <a:off x="5004000" y="2637000"/>
              <a:ext cx="72000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n=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テキスト ボックス 89"/>
            <p:cNvSpPr/>
            <p:nvPr/>
          </p:nvSpPr>
          <p:spPr>
            <a:xfrm>
              <a:off x="5004000" y="2997360"/>
              <a:ext cx="72000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n=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テキスト ボックス 90"/>
            <p:cNvSpPr/>
            <p:nvPr/>
          </p:nvSpPr>
          <p:spPr>
            <a:xfrm>
              <a:off x="5436000" y="4113720"/>
              <a:ext cx="72000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deWo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テキスト ボックス 91"/>
            <p:cNvSpPr/>
            <p:nvPr/>
          </p:nvSpPr>
          <p:spPr>
            <a:xfrm>
              <a:off x="6732360" y="1484640"/>
              <a:ext cx="72000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b587c"/>
                  </a:solidFill>
                  <a:latin typeface="Arial"/>
                </a:rPr>
                <a:t>differ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b587c"/>
                  </a:solidFill>
                  <a:latin typeface="Arial"/>
                </a:rPr>
                <a:t>cou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8" name="直線矢印コネクタ 95"/>
            <p:cNvCxnSpPr/>
            <p:nvPr/>
          </p:nvCxnSpPr>
          <p:spPr>
            <a:xfrm flipH="1">
              <a:off x="7596000" y="1953360"/>
              <a:ext cx="1440" cy="100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9" name="テキスト ボックス 96"/>
            <p:cNvSpPr/>
            <p:nvPr/>
          </p:nvSpPr>
          <p:spPr>
            <a:xfrm>
              <a:off x="4680000" y="1160640"/>
              <a:ext cx="2268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n: CodeN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直線コネクタ 97"/>
            <p:cNvSpPr/>
            <p:nvPr/>
          </p:nvSpPr>
          <p:spPr>
            <a:xfrm flipH="1" flipV="1">
              <a:off x="5148000" y="1484640"/>
              <a:ext cx="216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直線コネクタ 98"/>
            <p:cNvSpPr/>
            <p:nvPr/>
          </p:nvSpPr>
          <p:spPr>
            <a:xfrm flipV="1">
              <a:off x="5868000" y="3789720"/>
              <a:ext cx="108000" cy="28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テキスト ボックス 99"/>
            <p:cNvSpPr/>
            <p:nvPr/>
          </p:nvSpPr>
          <p:spPr>
            <a:xfrm>
              <a:off x="5760000" y="1484640"/>
              <a:ext cx="72000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b587c"/>
                  </a:solidFill>
                  <a:latin typeface="Arial"/>
                </a:rPr>
                <a:t>decoding</a:t>
              </a:r>
              <a:br>
                <a:rPr sz="1400"/>
              </a:br>
              <a:r>
                <a:rPr b="0" lang="en-US" sz="1400" spc="-1" strike="noStrike">
                  <a:solidFill>
                    <a:srgbClr val="1b587c"/>
                  </a:solidFill>
                  <a:latin typeface="Arial"/>
                </a:rPr>
                <a:t>t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テキスト ボックス 100"/>
            <p:cNvSpPr/>
            <p:nvPr/>
          </p:nvSpPr>
          <p:spPr>
            <a:xfrm>
              <a:off x="5760000" y="3357360"/>
              <a:ext cx="72000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テキスト ボックス 101"/>
            <p:cNvSpPr/>
            <p:nvPr/>
          </p:nvSpPr>
          <p:spPr>
            <a:xfrm>
              <a:off x="6732360" y="2637000"/>
              <a:ext cx="72000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cnt[2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テキスト ボックス 102"/>
            <p:cNvSpPr/>
            <p:nvPr/>
          </p:nvSpPr>
          <p:spPr>
            <a:xfrm>
              <a:off x="5004000" y="3357360"/>
              <a:ext cx="72000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n=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テキスト ボックス 106"/>
            <p:cNvSpPr/>
            <p:nvPr/>
          </p:nvSpPr>
          <p:spPr>
            <a:xfrm>
              <a:off x="7560360" y="2853360"/>
              <a:ext cx="72000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b587c"/>
                  </a:solidFill>
                  <a:latin typeface="Arial"/>
                </a:rPr>
                <a:t>cntN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テキスト ボックス 49"/>
          <p:cNvSpPr/>
          <p:nvPr/>
        </p:nvSpPr>
        <p:spPr>
          <a:xfrm>
            <a:off x="468360" y="4797360"/>
            <a:ext cx="4032360" cy="15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nt[cn]: count of  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crement cnt[cn] and 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wap 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c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cn-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when cnt[cn]&gt;=cn[cn-1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alues in cnt[] are periodically normalized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テキスト ボックス 50"/>
          <p:cNvSpPr/>
          <p:nvPr/>
        </p:nvSpPr>
        <p:spPr>
          <a:xfrm>
            <a:off x="4751280" y="4797360"/>
            <a:ext cx="432144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cnt[cn]: diff. of counts of  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c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cn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crement dcnt[cn] and increment dcnt[cn+1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wap 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c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cn-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when dcnt[cn] =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テキスト ボックス 85"/>
          <p:cNvSpPr/>
          <p:nvPr/>
        </p:nvSpPr>
        <p:spPr>
          <a:xfrm>
            <a:off x="250920" y="800280"/>
            <a:ext cx="38322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Counter based CAVLC adaptation (HM-3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テキスト ボックス 86"/>
          <p:cNvSpPr/>
          <p:nvPr/>
        </p:nvSpPr>
        <p:spPr>
          <a:xfrm>
            <a:off x="4373640" y="800280"/>
            <a:ext cx="47512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Difference counter based CAVLC adaptation (Propos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ecoding table adaptatio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8F21-F482-469D-91CB-BDE64D4125F1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グループ化 80"/>
          <p:cNvGrpSpPr/>
          <p:nvPr/>
        </p:nvGrpSpPr>
        <p:grpSpPr>
          <a:xfrm>
            <a:off x="4572000" y="1276200"/>
            <a:ext cx="4176720" cy="5220000"/>
            <a:chOff x="4572000" y="1276200"/>
            <a:chExt cx="4176720" cy="5220000"/>
          </a:xfrm>
        </p:grpSpPr>
        <p:sp>
          <p:nvSpPr>
            <p:cNvPr id="234" name="角丸四角形 8"/>
            <p:cNvSpPr/>
            <p:nvPr/>
          </p:nvSpPr>
          <p:spPr>
            <a:xfrm>
              <a:off x="5435640" y="3724200"/>
              <a:ext cx="2521080" cy="1943280"/>
            </a:xfrm>
            <a:prstGeom prst="roundRect">
              <a:avLst>
                <a:gd name="adj" fmla="val 16667"/>
              </a:avLst>
            </a:prstGeom>
            <a:solidFill>
              <a:srgbClr val="d9ead5"/>
            </a:solidFill>
            <a:ln w="25560">
              <a:solidFill>
                <a:srgbClr val="4e85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角丸四角形 9"/>
            <p:cNvSpPr/>
            <p:nvPr/>
          </p:nvSpPr>
          <p:spPr>
            <a:xfrm>
              <a:off x="4572000" y="2608200"/>
              <a:ext cx="3816360" cy="1044360"/>
            </a:xfrm>
            <a:prstGeom prst="roundRect">
              <a:avLst>
                <a:gd name="adj" fmla="val 16667"/>
              </a:avLst>
            </a:prstGeom>
            <a:solidFill>
              <a:srgbClr val="f2ced2"/>
            </a:solidFill>
            <a:ln w="25560">
              <a:solidFill>
                <a:srgbClr val="9f2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テキスト ボックス 10"/>
            <p:cNvSpPr/>
            <p:nvPr/>
          </p:nvSpPr>
          <p:spPr>
            <a:xfrm>
              <a:off x="5624280" y="3884760"/>
              <a:ext cx="180036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dcnt[cn]-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フローチャート : 判断 11"/>
            <p:cNvSpPr/>
            <p:nvPr/>
          </p:nvSpPr>
          <p:spPr>
            <a:xfrm>
              <a:off x="5533920" y="4335480"/>
              <a:ext cx="1981080" cy="45072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cn +1 &lt; cntNu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テキスト ボックス 12"/>
            <p:cNvSpPr/>
            <p:nvPr/>
          </p:nvSpPr>
          <p:spPr>
            <a:xfrm>
              <a:off x="4716360" y="3147840"/>
              <a:ext cx="12589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swap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decoding ta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円/楕円 13"/>
            <p:cNvSpPr/>
            <p:nvPr/>
          </p:nvSpPr>
          <p:spPr>
            <a:xfrm>
              <a:off x="6480000" y="1276200"/>
              <a:ext cx="88560" cy="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円/楕円 14"/>
            <p:cNvSpPr/>
            <p:nvPr/>
          </p:nvSpPr>
          <p:spPr>
            <a:xfrm>
              <a:off x="6480000" y="6405840"/>
              <a:ext cx="88560" cy="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フローチャート : 判断 15"/>
            <p:cNvSpPr/>
            <p:nvPr/>
          </p:nvSpPr>
          <p:spPr>
            <a:xfrm>
              <a:off x="5533920" y="2644560"/>
              <a:ext cx="1981080" cy="44928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dcnt[cn] ==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直線コネクタ 16"/>
            <p:cNvSpPr/>
            <p:nvPr/>
          </p:nvSpPr>
          <p:spPr>
            <a:xfrm flipH="1">
              <a:off x="6524640" y="1366560"/>
              <a:ext cx="1440" cy="48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3" name="図形 17"/>
            <p:cNvCxnSpPr>
              <a:stCxn id="244" idx="1"/>
              <a:endCxn id="238" idx="0"/>
            </p:cNvCxnSpPr>
            <p:nvPr/>
          </p:nvCxnSpPr>
          <p:spPr>
            <a:xfrm flipV="1" rot="10800000">
              <a:off x="5346000" y="2077560"/>
              <a:ext cx="116280" cy="107064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245" name="カギ線コネクタ 18"/>
            <p:cNvCxnSpPr>
              <a:stCxn id="238" idx="2"/>
              <a:endCxn id="240" idx="0"/>
            </p:cNvCxnSpPr>
            <p:nvPr/>
          </p:nvCxnSpPr>
          <p:spPr>
            <a:xfrm flipH="1" rot="16200000">
              <a:off x="4514760" y="4395600"/>
              <a:ext cx="2842560" cy="1178640"/>
            </a:xfrm>
            <a:prstGeom prst="bentConnector3">
              <a:avLst>
                <a:gd name="adj1" fmla="val 88524"/>
              </a:avLst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246" name="直線コネクタ 19"/>
            <p:cNvSpPr/>
            <p:nvPr/>
          </p:nvSpPr>
          <p:spPr>
            <a:xfrm flipH="1">
              <a:off x="6524640" y="3095640"/>
              <a:ext cx="1440" cy="78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テキスト ボックス 20"/>
            <p:cNvSpPr/>
            <p:nvPr/>
          </p:nvSpPr>
          <p:spPr>
            <a:xfrm>
              <a:off x="6667560" y="3040200"/>
              <a:ext cx="155160" cy="22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テキスト ボックス 21"/>
            <p:cNvSpPr/>
            <p:nvPr/>
          </p:nvSpPr>
          <p:spPr>
            <a:xfrm>
              <a:off x="7389720" y="2896200"/>
              <a:ext cx="133560" cy="22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テキスト ボックス 22"/>
            <p:cNvSpPr/>
            <p:nvPr/>
          </p:nvSpPr>
          <p:spPr>
            <a:xfrm>
              <a:off x="5624280" y="5072040"/>
              <a:ext cx="180036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dcnt[cn+1] =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min (dcnt[cn+1]+1, 3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テキスト ボックス 23"/>
            <p:cNvSpPr/>
            <p:nvPr/>
          </p:nvSpPr>
          <p:spPr>
            <a:xfrm>
              <a:off x="6981840" y="3147840"/>
              <a:ext cx="126036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swap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decoding ta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1" name="図形 24"/>
            <p:cNvCxnSpPr>
              <a:stCxn id="241" idx="3"/>
              <a:endCxn id="250" idx="0"/>
            </p:cNvCxnSpPr>
            <p:nvPr/>
          </p:nvCxnSpPr>
          <p:spPr>
            <a:xfrm>
              <a:off x="7515000" y="2868480"/>
              <a:ext cx="97560" cy="28008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252" name="直線コネクタ 25"/>
            <p:cNvSpPr/>
            <p:nvPr/>
          </p:nvSpPr>
          <p:spPr>
            <a:xfrm flipH="1">
              <a:off x="6524640" y="2303280"/>
              <a:ext cx="1440" cy="34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テキスト ボックス 26"/>
            <p:cNvSpPr/>
            <p:nvPr/>
          </p:nvSpPr>
          <p:spPr>
            <a:xfrm>
              <a:off x="7495560" y="4541400"/>
              <a:ext cx="155160" cy="22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テキスト ボックス 27"/>
            <p:cNvSpPr/>
            <p:nvPr/>
          </p:nvSpPr>
          <p:spPr>
            <a:xfrm>
              <a:off x="6633000" y="4739400"/>
              <a:ext cx="133560" cy="22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直線コネクタ 28"/>
            <p:cNvSpPr/>
            <p:nvPr/>
          </p:nvSpPr>
          <p:spPr>
            <a:xfrm flipH="1">
              <a:off x="6524640" y="4138560"/>
              <a:ext cx="1440" cy="19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6" name="カギ線コネクタ 29"/>
            <p:cNvCxnSpPr>
              <a:stCxn id="250" idx="2"/>
              <a:endCxn id="237" idx="0"/>
            </p:cNvCxnSpPr>
            <p:nvPr/>
          </p:nvCxnSpPr>
          <p:spPr>
            <a:xfrm rot="5400000">
              <a:off x="6681960" y="3405960"/>
              <a:ext cx="772200" cy="1087920"/>
            </a:xfrm>
            <a:prstGeom prst="bentConnector3">
              <a:avLst>
                <a:gd name="adj1" fmla="val 85727"/>
              </a:avLst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244" name="フローチャート : 判断 30"/>
            <p:cNvSpPr/>
            <p:nvPr/>
          </p:nvSpPr>
          <p:spPr>
            <a:xfrm>
              <a:off x="5462640" y="1852200"/>
              <a:ext cx="2124000" cy="44928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0&lt;cntNum &amp;&amp;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 cn&lt;cntNu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テキスト ボックス 31"/>
            <p:cNvSpPr/>
            <p:nvPr/>
          </p:nvSpPr>
          <p:spPr>
            <a:xfrm>
              <a:off x="6561000" y="2284200"/>
              <a:ext cx="133560" cy="22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テキスト ボックス 32"/>
            <p:cNvSpPr/>
            <p:nvPr/>
          </p:nvSpPr>
          <p:spPr>
            <a:xfrm>
              <a:off x="5475600" y="2092320"/>
              <a:ext cx="155160" cy="22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直線コネクタ 33"/>
            <p:cNvSpPr/>
            <p:nvPr/>
          </p:nvSpPr>
          <p:spPr>
            <a:xfrm flipH="1">
              <a:off x="6524640" y="4786560"/>
              <a:ext cx="144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直線コネクタ 34"/>
            <p:cNvSpPr/>
            <p:nvPr/>
          </p:nvSpPr>
          <p:spPr>
            <a:xfrm flipH="1">
              <a:off x="6524640" y="5489640"/>
              <a:ext cx="1440" cy="9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カギ線コネクタ 36"/>
            <p:cNvCxnSpPr>
              <a:stCxn id="237" idx="3"/>
              <a:endCxn id="240" idx="0"/>
            </p:cNvCxnSpPr>
            <p:nvPr/>
          </p:nvCxnSpPr>
          <p:spPr>
            <a:xfrm flipH="1">
              <a:off x="6523920" y="4560840"/>
              <a:ext cx="991080" cy="1845360"/>
            </a:xfrm>
            <a:prstGeom prst="bentConnector4">
              <a:avLst>
                <a:gd name="adj1" fmla="val -23074"/>
                <a:gd name="adj2" fmla="val 82926"/>
              </a:avLst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262" name="テキスト ボックス 6"/>
            <p:cNvSpPr/>
            <p:nvPr/>
          </p:nvSpPr>
          <p:spPr>
            <a:xfrm>
              <a:off x="7993080" y="5308920"/>
              <a:ext cx="75564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e8542"/>
                  </a:solidFill>
                  <a:latin typeface="Tahoma"/>
                </a:rPr>
                <a:t>cou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テキスト ボックス 7"/>
            <p:cNvSpPr/>
            <p:nvPr/>
          </p:nvSpPr>
          <p:spPr>
            <a:xfrm>
              <a:off x="7704720" y="2320200"/>
              <a:ext cx="75600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f2936"/>
                  </a:solidFill>
                  <a:latin typeface="Tahoma"/>
                </a:rPr>
                <a:t>sw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グループ化 36"/>
          <p:cNvGrpSpPr/>
          <p:nvPr/>
        </p:nvGrpSpPr>
        <p:grpSpPr>
          <a:xfrm>
            <a:off x="287280" y="1276200"/>
            <a:ext cx="4140360" cy="5429520"/>
            <a:chOff x="287280" y="1276200"/>
            <a:chExt cx="4140360" cy="5429520"/>
          </a:xfrm>
        </p:grpSpPr>
        <p:grpSp>
          <p:nvGrpSpPr>
            <p:cNvPr id="265" name="グループ化 46"/>
            <p:cNvGrpSpPr/>
            <p:nvPr/>
          </p:nvGrpSpPr>
          <p:grpSpPr>
            <a:xfrm>
              <a:off x="287280" y="1276200"/>
              <a:ext cx="3745080" cy="5429520"/>
              <a:chOff x="287280" y="1276200"/>
              <a:chExt cx="3745080" cy="5429520"/>
            </a:xfrm>
          </p:grpSpPr>
          <p:sp>
            <p:nvSpPr>
              <p:cNvPr id="266" name="角丸四角形 41"/>
              <p:cNvSpPr/>
              <p:nvPr/>
            </p:nvSpPr>
            <p:spPr>
              <a:xfrm>
                <a:off x="1042920" y="2068200"/>
                <a:ext cx="2160720" cy="936720"/>
              </a:xfrm>
              <a:prstGeom prst="roundRect">
                <a:avLst>
                  <a:gd name="adj" fmla="val 16667"/>
                </a:avLst>
              </a:prstGeom>
              <a:solidFill>
                <a:srgbClr val="d9ead5"/>
              </a:solidFill>
              <a:ln w="25560">
                <a:solidFill>
                  <a:srgbClr val="4e85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角丸四角形 42"/>
              <p:cNvSpPr/>
              <p:nvPr/>
            </p:nvSpPr>
            <p:spPr>
              <a:xfrm>
                <a:off x="1042920" y="4660920"/>
                <a:ext cx="2989440" cy="1547640"/>
              </a:xfrm>
              <a:prstGeom prst="roundRect">
                <a:avLst>
                  <a:gd name="adj" fmla="val 16667"/>
                </a:avLst>
              </a:prstGeom>
              <a:solidFill>
                <a:srgbClr val="c4e1f2"/>
              </a:solidFill>
              <a:ln w="25560">
                <a:solidFill>
                  <a:srgbClr val="1b5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角丸四角形 43"/>
              <p:cNvSpPr/>
              <p:nvPr/>
            </p:nvSpPr>
            <p:spPr>
              <a:xfrm>
                <a:off x="287280" y="3076560"/>
                <a:ext cx="3745080" cy="1512720"/>
              </a:xfrm>
              <a:prstGeom prst="roundRect">
                <a:avLst>
                  <a:gd name="adj" fmla="val 16667"/>
                </a:avLst>
              </a:prstGeom>
              <a:solidFill>
                <a:srgbClr val="f2ced2"/>
              </a:solidFill>
              <a:ln w="25560">
                <a:solidFill>
                  <a:srgbClr val="9f29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フローチャート : 判断 44"/>
              <p:cNvSpPr/>
              <p:nvPr/>
            </p:nvSpPr>
            <p:spPr>
              <a:xfrm>
                <a:off x="1060200" y="1491840"/>
                <a:ext cx="2124360" cy="450720"/>
              </a:xfrm>
              <a:prstGeom prst="flowChartDecisi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0&lt;cntNum &amp;&amp;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 cn &lt;cntNum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テキスト ボックス 45"/>
              <p:cNvSpPr/>
              <p:nvPr/>
            </p:nvSpPr>
            <p:spPr>
              <a:xfrm>
                <a:off x="1224000" y="2644560"/>
                <a:ext cx="1800360" cy="24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sum ++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テキスト ボックス 46"/>
              <p:cNvSpPr/>
              <p:nvPr/>
            </p:nvSpPr>
            <p:spPr>
              <a:xfrm>
                <a:off x="2551320" y="3612960"/>
                <a:ext cx="1260360" cy="398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swap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decoding tabl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テキスト ボックス 47"/>
              <p:cNvSpPr/>
              <p:nvPr/>
            </p:nvSpPr>
            <p:spPr>
              <a:xfrm>
                <a:off x="2551320" y="4124160"/>
                <a:ext cx="1260360" cy="24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swap counter tabl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テキスト ボックス 48"/>
              <p:cNvSpPr/>
              <p:nvPr/>
            </p:nvSpPr>
            <p:spPr>
              <a:xfrm>
                <a:off x="358560" y="3724200"/>
                <a:ext cx="1260360" cy="398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swap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decoding tabl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テキスト ボックス 49"/>
              <p:cNvSpPr/>
              <p:nvPr/>
            </p:nvSpPr>
            <p:spPr>
              <a:xfrm>
                <a:off x="2570400" y="5167440"/>
                <a:ext cx="1260360" cy="550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normarization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(right shift every counter value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フローチャート : 判断 50"/>
              <p:cNvSpPr/>
              <p:nvPr/>
            </p:nvSpPr>
            <p:spPr>
              <a:xfrm>
                <a:off x="1133280" y="4687920"/>
                <a:ext cx="1979640" cy="450720"/>
              </a:xfrm>
              <a:prstGeom prst="flowChartDecisi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sum == 1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円/楕円 51"/>
              <p:cNvSpPr/>
              <p:nvPr/>
            </p:nvSpPr>
            <p:spPr>
              <a:xfrm>
                <a:off x="2077920" y="1276200"/>
                <a:ext cx="90360" cy="90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28440" bIns="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円/楕円 52"/>
              <p:cNvSpPr/>
              <p:nvPr/>
            </p:nvSpPr>
            <p:spPr>
              <a:xfrm>
                <a:off x="2077920" y="6615360"/>
                <a:ext cx="90360" cy="90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28440" bIns="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テキスト ボックス 53"/>
              <p:cNvSpPr/>
              <p:nvPr/>
            </p:nvSpPr>
            <p:spPr>
              <a:xfrm>
                <a:off x="1224000" y="2247840"/>
                <a:ext cx="1800360" cy="24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cnt[cn] ++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フローチャート : 判断 54"/>
              <p:cNvSpPr/>
              <p:nvPr/>
            </p:nvSpPr>
            <p:spPr>
              <a:xfrm>
                <a:off x="1133280" y="3230280"/>
                <a:ext cx="1979640" cy="449280"/>
              </a:xfrm>
              <a:prstGeom prst="flowChartDecisi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</a:rPr>
                  <a:t>cnt[cn] </a:t>
                </a:r>
                <a:r>
                  <a:rPr b="0" lang="ja-JP" sz="900" spc="-1" strike="noStrike">
                    <a:solidFill>
                      <a:srgbClr val="000000"/>
                    </a:solidFill>
                    <a:latin typeface="Calibri"/>
                  </a:rPr>
                  <a:t>≧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</a:rPr>
                  <a:t>cnt[cn-1]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直線コネクタ 55"/>
              <p:cNvSpPr/>
              <p:nvPr/>
            </p:nvSpPr>
            <p:spPr>
              <a:xfrm flipH="1">
                <a:off x="2122560" y="1366560"/>
                <a:ext cx="1440" cy="125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直線コネクタ 56"/>
              <p:cNvSpPr/>
              <p:nvPr/>
            </p:nvSpPr>
            <p:spPr>
              <a:xfrm flipH="1">
                <a:off x="2122560" y="2503440"/>
                <a:ext cx="1440" cy="141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直線コネクタ 57"/>
              <p:cNvSpPr/>
              <p:nvPr/>
            </p:nvSpPr>
            <p:spPr>
              <a:xfrm flipH="1">
                <a:off x="2122560" y="2898720"/>
                <a:ext cx="1440" cy="331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直線コネクタ 58"/>
              <p:cNvSpPr/>
              <p:nvPr/>
            </p:nvSpPr>
            <p:spPr>
              <a:xfrm flipH="1">
                <a:off x="2122560" y="3681360"/>
                <a:ext cx="1440" cy="10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直線コネクタ 59"/>
              <p:cNvSpPr/>
              <p:nvPr/>
            </p:nvSpPr>
            <p:spPr>
              <a:xfrm flipH="1">
                <a:off x="2122560" y="5139000"/>
                <a:ext cx="1440" cy="1477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85" name="図形 60"/>
              <p:cNvCxnSpPr>
                <a:stCxn id="269" idx="1"/>
                <a:endCxn id="273" idx="0"/>
              </p:cNvCxnSpPr>
              <p:nvPr/>
            </p:nvCxnSpPr>
            <p:spPr>
              <a:xfrm flipV="1" rot="10800000">
                <a:off x="988200" y="1717200"/>
                <a:ext cx="72000" cy="2007360"/>
              </a:xfrm>
              <a:prstGeom prst="bentConnector2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86" name="カギ線コネクタ 61"/>
              <p:cNvCxnSpPr>
                <a:stCxn id="273" idx="2"/>
                <a:endCxn id="277" idx="0"/>
              </p:cNvCxnSpPr>
              <p:nvPr/>
            </p:nvCxnSpPr>
            <p:spPr>
              <a:xfrm flipH="1" rot="16200000">
                <a:off x="317880" y="4809960"/>
                <a:ext cx="2475720" cy="1135800"/>
              </a:xfrm>
              <a:prstGeom prst="bentConnector3">
                <a:avLst>
                  <a:gd name="adj1" fmla="val 89237"/>
                </a:avLst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287" name="直線コネクタ 62"/>
              <p:cNvSpPr/>
              <p:nvPr/>
            </p:nvSpPr>
            <p:spPr>
              <a:xfrm flipH="1">
                <a:off x="3179880" y="4029120"/>
                <a:ext cx="1440" cy="9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88" name="図形 63"/>
              <p:cNvCxnSpPr>
                <a:stCxn id="275" idx="3"/>
                <a:endCxn id="274" idx="0"/>
              </p:cNvCxnSpPr>
              <p:nvPr/>
            </p:nvCxnSpPr>
            <p:spPr>
              <a:xfrm>
                <a:off x="3113280" y="4912920"/>
                <a:ext cx="87840" cy="254520"/>
              </a:xfrm>
              <a:prstGeom prst="bentConnector2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89" name="図形 64"/>
              <p:cNvCxnSpPr>
                <a:stCxn id="279" idx="3"/>
                <a:endCxn id="271" idx="0"/>
              </p:cNvCxnSpPr>
              <p:nvPr/>
            </p:nvCxnSpPr>
            <p:spPr>
              <a:xfrm>
                <a:off x="3112920" y="3453840"/>
                <a:ext cx="68760" cy="159480"/>
              </a:xfrm>
              <a:prstGeom prst="bentConnector2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90" name="カギ線コネクタ 65"/>
              <p:cNvCxnSpPr>
                <a:stCxn id="272" idx="2"/>
                <a:endCxn id="275" idx="0"/>
              </p:cNvCxnSpPr>
              <p:nvPr/>
            </p:nvCxnSpPr>
            <p:spPr>
              <a:xfrm rot="5400000">
                <a:off x="2497320" y="4003920"/>
                <a:ext cx="309960" cy="1058040"/>
              </a:xfrm>
              <a:prstGeom prst="bentConnector3">
                <a:avLst>
                  <a:gd name="adj1" fmla="val 50000"/>
                </a:avLst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291" name="テキスト ボックス 66"/>
              <p:cNvSpPr/>
              <p:nvPr/>
            </p:nvSpPr>
            <p:spPr>
              <a:xfrm>
                <a:off x="2171160" y="1899720"/>
                <a:ext cx="133560" cy="22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テキスト ボックス 67"/>
              <p:cNvSpPr/>
              <p:nvPr/>
            </p:nvSpPr>
            <p:spPr>
              <a:xfrm>
                <a:off x="1085760" y="1708200"/>
                <a:ext cx="155160" cy="22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テキスト ボックス 68"/>
              <p:cNvSpPr/>
              <p:nvPr/>
            </p:nvSpPr>
            <p:spPr>
              <a:xfrm>
                <a:off x="2249280" y="3605760"/>
                <a:ext cx="155160" cy="22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テキスト ボックス 69"/>
              <p:cNvSpPr/>
              <p:nvPr/>
            </p:nvSpPr>
            <p:spPr>
              <a:xfrm>
                <a:off x="2971440" y="3223800"/>
                <a:ext cx="133560" cy="22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テキスト ボックス 70"/>
              <p:cNvSpPr/>
              <p:nvPr/>
            </p:nvSpPr>
            <p:spPr>
              <a:xfrm>
                <a:off x="2249280" y="5086080"/>
                <a:ext cx="155160" cy="22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テキスト ボックス 71"/>
              <p:cNvSpPr/>
              <p:nvPr/>
            </p:nvSpPr>
            <p:spPr>
              <a:xfrm>
                <a:off x="2971440" y="4942080"/>
                <a:ext cx="133560" cy="22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直線コネクタ 72"/>
              <p:cNvSpPr/>
              <p:nvPr/>
            </p:nvSpPr>
            <p:spPr>
              <a:xfrm>
                <a:off x="2122560" y="1942920"/>
                <a:ext cx="144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テキスト ボックス 73"/>
              <p:cNvSpPr/>
              <p:nvPr/>
            </p:nvSpPr>
            <p:spPr>
              <a:xfrm>
                <a:off x="2570400" y="5829480"/>
                <a:ext cx="1260360" cy="24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sum = 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直線コネクタ 74"/>
              <p:cNvSpPr/>
              <p:nvPr/>
            </p:nvSpPr>
            <p:spPr>
              <a:xfrm flipH="1">
                <a:off x="3198960" y="5745240"/>
                <a:ext cx="1440" cy="85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00" name="カギ線コネクタ 75"/>
              <p:cNvCxnSpPr>
                <a:stCxn id="298" idx="2"/>
                <a:endCxn id="277" idx="0"/>
              </p:cNvCxnSpPr>
              <p:nvPr/>
            </p:nvCxnSpPr>
            <p:spPr>
              <a:xfrm rot="5400000">
                <a:off x="2395800" y="5811120"/>
                <a:ext cx="532440" cy="1077120"/>
              </a:xfrm>
              <a:prstGeom prst="bentConnector3">
                <a:avLst>
                  <a:gd name="adj1" fmla="val 50000"/>
                </a:avLst>
              </a:prstGeom>
              <a:ln w="1908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01" name="テキスト ボックス 38"/>
            <p:cNvSpPr/>
            <p:nvPr/>
          </p:nvSpPr>
          <p:spPr>
            <a:xfrm>
              <a:off x="3240360" y="1960200"/>
              <a:ext cx="75564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e8542"/>
                  </a:solidFill>
                  <a:latin typeface="Tahoma"/>
                </a:rPr>
                <a:t>cou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テキスト ボックス 39"/>
            <p:cNvSpPr/>
            <p:nvPr/>
          </p:nvSpPr>
          <p:spPr>
            <a:xfrm>
              <a:off x="3420000" y="2788560"/>
              <a:ext cx="75600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f2936"/>
                  </a:solidFill>
                  <a:latin typeface="Tahoma"/>
                </a:rPr>
                <a:t>sw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テキスト ボックス 40"/>
            <p:cNvSpPr/>
            <p:nvPr/>
          </p:nvSpPr>
          <p:spPr>
            <a:xfrm>
              <a:off x="3311640" y="6172560"/>
              <a:ext cx="111600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b587c"/>
                  </a:solidFill>
                  <a:latin typeface="Tahoma"/>
                </a:rPr>
                <a:t>normaliz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テキスト ボックス 85"/>
          <p:cNvSpPr/>
          <p:nvPr/>
        </p:nvSpPr>
        <p:spPr>
          <a:xfrm>
            <a:off x="250920" y="800280"/>
            <a:ext cx="38322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Counter based CAVLC adaptation (HM-3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テキスト ボックス 86"/>
          <p:cNvSpPr/>
          <p:nvPr/>
        </p:nvSpPr>
        <p:spPr>
          <a:xfrm>
            <a:off x="4373640" y="800280"/>
            <a:ext cx="47512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Difference counter based CAVLC adaptation (Propos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42920" y="1268280"/>
            <a:ext cx="728640" cy="611280"/>
          </a:xfrm>
          <a:prstGeom prst="borderCallout1">
            <a:avLst>
              <a:gd name="adj1" fmla="val 18750"/>
              <a:gd name="adj2" fmla="val -8333"/>
              <a:gd name="adj3" fmla="val 51430"/>
              <a:gd name="adj4" fmla="val 16644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 if counter is u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383000" y="4654440"/>
            <a:ext cx="728640" cy="611280"/>
          </a:xfrm>
          <a:prstGeom prst="borderCallout1">
            <a:avLst>
              <a:gd name="adj1" fmla="val 18750"/>
              <a:gd name="adj2" fmla="val -8333"/>
              <a:gd name="adj3" fmla="val -4935"/>
              <a:gd name="adj4" fmla="val 16797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 if counter exi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2920" y="4941720"/>
            <a:ext cx="728640" cy="755640"/>
          </a:xfrm>
          <a:prstGeom prst="borderCallout1">
            <a:avLst>
              <a:gd name="adj1" fmla="val 18750"/>
              <a:gd name="adj2" fmla="val -8333"/>
              <a:gd name="adj3" fmla="val 7143"/>
              <a:gd name="adj4" fmla="val 17145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 if sum counter is fu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perimental resul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3444-7720-4ED7-B4CE-E40829612AB6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93760" y="1305000"/>
          <a:ext cx="8599320" cy="2378160"/>
        </p:xfrm>
        <a:graphic>
          <a:graphicData uri="http://schemas.openxmlformats.org/drawingml/2006/table">
            <a:tbl>
              <a:tblPr/>
              <a:tblGrid>
                <a:gridCol w="1119240"/>
                <a:gridCol w="623880"/>
                <a:gridCol w="622080"/>
                <a:gridCol w="623880"/>
                <a:gridCol w="622440"/>
                <a:gridCol w="623880"/>
                <a:gridCol w="623880"/>
                <a:gridCol w="662040"/>
                <a:gridCol w="544320"/>
                <a:gridCol w="663840"/>
                <a:gridCol w="581040"/>
                <a:gridCol w="581040"/>
                <a:gridCol w="707760"/>
              </a:tblGrid>
              <a:tr h="456840">
                <a:tc>
                  <a:txBody>
                    <a:bodyPr lIns="90720" rIns="90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720" rIns="90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 Intra L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720" rIns="90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L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720" rIns="90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L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720" rIns="90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P L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90720" rIns="90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90720" rIns="90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28600">
                <a:tc>
                  <a:txBody>
                    <a:bodyPr lIns="90720" rIns="90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600">
                <a:tc>
                  <a:txBody>
                    <a:bodyPr lIns="90720" rIns="90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600">
                <a:tc>
                  <a:txBody>
                    <a:bodyPr lIns="90720" rIns="90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600">
                <a:tc>
                  <a:txBody>
                    <a:bodyPr lIns="90720" rIns="90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90720" rIns="90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90720" rIns="90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720" rIns="90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720" rIns="90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720" rIns="90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720" rIns="90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90720" rIns="90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720" rIns="90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720" rIns="90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720" rIns="90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720" rIns="90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2" name="テキスト ボックス 6"/>
          <p:cNvSpPr/>
          <p:nvPr/>
        </p:nvSpPr>
        <p:spPr>
          <a:xfrm>
            <a:off x="287280" y="836640"/>
            <a:ext cx="741672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method (difference counter) compared to HM-3.0 (cou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テキスト ボックス 7"/>
          <p:cNvSpPr/>
          <p:nvPr/>
        </p:nvSpPr>
        <p:spPr>
          <a:xfrm>
            <a:off x="431640" y="4076640"/>
            <a:ext cx="7417080" cy="10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lmost no impact on coding 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encoding / decoding time incr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 are cross checked by So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ce counter for CAVLC adap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hieves as large coding efficiency gain as counter based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plified adap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normalization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sum coun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counter sw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mmend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ose to adopt difference counter method in WD and H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135F-E2C7-4499-A613-B9849FBD6977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05:19:20Z</dcterms:created>
  <dc:creator>.</dc:creator>
  <dc:description/>
  <dc:language>en-US</dc:language>
  <cp:lastModifiedBy>s127342</cp:lastModifiedBy>
  <dcterms:modified xsi:type="dcterms:W3CDTF">2011-07-16T07:28:28Z</dcterms:modified>
  <cp:revision>2340</cp:revision>
  <dc:subject/>
  <dc:title>.</dc:title>
</cp:coreProperties>
</file>