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6CC9-5B9B-4365-A00D-E09F5CA86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D155-610E-432A-A7C9-C83031990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DBF8-E645-4009-A6B2-8BF58CA74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3DFD-3B48-4F20-BF85-831A3114F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F0F2-2167-451A-89C3-DB7030FEC9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5F56-B07F-405A-9F78-E9DE142A36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F96D-D45C-4EF7-89EF-414F5358EB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6C9A-6A53-48C4-97FF-BFD10A26AF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C807-7CE8-4494-A264-7070D008B4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60F0-E704-43D8-A8E6-EE5A4EB29A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5A4D-0358-4775-90DA-DFC9E5734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6213-E0EE-4ED5-987F-B7B1D0F5B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F66F-7C86-4E39-ABF9-4EFF4AF65B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8760-014B-4232-B4E8-5A617470D5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DFEE-FCEB-4F4C-9046-61CFAFD52F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84EB-2B35-41D9-A6C8-7AECB955EE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B486-B467-4AA5-8CC7-79228BD42B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BB1-5A50-41D6-B6CC-29ADCC5215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5A3-6DCD-482C-9F71-2F10C38B8D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A43-19BF-4F8D-BE2C-030E17B0CC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CD8-40D5-40A0-B0C0-AD033FDEDD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2E2-CB99-41EC-933A-4A79B9160D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C0E3-C0B8-45E9-926B-1C071E2893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607-F88C-4978-A4D8-9C451C357B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F91-0BF4-4F18-8A0F-E05A29A556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096-E35B-4B7B-AF4C-67B5DD7D4B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36C-6073-4B0A-846F-AE18C073ED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BEA-6AE7-4DDF-BA94-9B25462AE5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320-27BD-4D65-89A2-95BEB3A636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D36-72D3-4B28-819D-1DB3157DF6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275B3-031E-4763-B8A3-84AF06C8DB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B2FE1-1255-4D09-AFE5-2958F4B9C1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D4040-6B57-4AF2-A913-208CD6947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0150-341A-4151-8827-6FD8DDA33D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885CD-02E9-4DE1-944B-ED04BF55D9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28C0E-BF56-4FD1-8FAA-D4DC4981E2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DAEA6-8823-4570-9AD2-8CC5CCD9BC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3D515-B2C2-4C2A-939F-4C03517727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A0F96-54BC-49F1-8223-FA7BACCE04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606DB-2A5B-46DA-826D-8F5E8875D8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85B79-B3E2-44D2-8441-E5026208B8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25E4D-2DB2-40CA-AC46-CD953C964A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D0E84-B255-41A8-B1BF-ED2A36401FE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ECA71-43D0-44FF-8F24-42688352A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1619-2884-470F-9270-255FFD50328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71BC3-BA28-4380-81E6-5DA0C1D5B21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F489B9-E40F-479D-A695-8DFC2B26951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7280E-72B2-403A-85E5-AD2FF4D4389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46BC38-0155-4E18-9EAE-D86D92BAC67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464AC-7E4C-421E-A535-449A1CBA6C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ECCB1-E4A6-454C-BBFC-E7303FF40A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CAB34-5E2A-4B16-9875-43219A7DE4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5218B-0578-476D-B02B-C848CC1701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8BFF2-9223-48A3-B314-18B7F6986F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7A007-96DF-47EC-A7F2-3A2E12D30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F29D-D9D0-48D3-9995-EBA90652A59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2231C-0134-480B-8700-A9B9A1C9D3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A73EB-AC75-4A40-AD4D-5BFA0CA7364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054FC-3E0D-445B-BF98-296ACB65EE8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F1196-99ED-4419-9C47-AD159B49F83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1D36B-A0AA-4D49-8FAB-CBCE2BD309D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FD0E9-07B9-4AD6-9C29-EE5F93601F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CBE11-E43D-4E6F-83DF-ACF73D3C2EB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BEF77-D76B-4B3B-894E-9924F41CAD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5AE60-9EC5-4B0C-A67C-6D8EF4D4FD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954C4-9F48-4657-A9AD-C81A3B11C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DCD7-4799-4A54-9E5D-CBAB78AEC31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CBC8F-05D5-492A-A869-5B2FAE417B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73BAD-481C-493E-B4A9-5C34B68A96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C0E44-EBA5-48D4-9DE2-59056EA1F49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A454-D9C4-408E-B74F-A1E6481ADE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2ADC-DC2D-4D63-96E9-FEEBD9808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A9E0-A683-4968-BE42-7285680761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805E-C9D2-4831-BED5-E068D472556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3762_2009_PPT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030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RCM_Logo_CE"/>
          <p:cNvPicPr/>
          <p:nvPr/>
        </p:nvPicPr>
        <p:blipFill>
          <a:blip r:embed="rId3"/>
          <a:stretch/>
        </p:blipFill>
        <p:spPr>
          <a:xfrm>
            <a:off x="8013600" y="236520"/>
            <a:ext cx="914400" cy="63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23762_2009_PPT_Side"/>
          <p:cNvPicPr/>
          <p:nvPr/>
        </p:nvPicPr>
        <p:blipFill>
          <a:blip r:embed="rId4"/>
          <a:stretch/>
        </p:blipFill>
        <p:spPr>
          <a:xfrm>
            <a:off x="0" y="0"/>
            <a:ext cx="701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8916480" y="6696000"/>
            <a:ext cx="1954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0BE5-1D5A-4F45-B758-E83EFBD7216B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4"/>
          </p:nvPr>
        </p:nvSpPr>
        <p:spPr>
          <a:xfrm>
            <a:off x="3050640" y="6726240"/>
            <a:ext cx="30402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roadcom Proprietary &amp; Confidential.  © 2009 Broadcom Corporation.  All rights reserv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524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524"/>
              </a:spcBef>
              <a:buClr>
                <a:srgbClr val="80808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 rot="20611800">
            <a:off x="822240" y="3216240"/>
            <a:ext cx="832176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/>
                </a:solidFill>
                <a:latin typeface="Arial Black"/>
              </a:rPr>
              <a:t>BROADCOM PROPRIETARY AND CONFIDENTIAL</a:t>
            </a:r>
            <a:endParaRPr b="0" lang="en-US" sz="2400" spc="1" strike="noStrike">
              <a:ln w="0">
                <a:noFill/>
              </a:ln>
              <a:solidFill>
                <a:srgbClr val="eaeaea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/>
                </a:solidFill>
                <a:latin typeface="Arial Black"/>
              </a:rPr>
              <a:t>UNAUTHORIZED USE PROHIBITED</a:t>
            </a:r>
            <a:endParaRPr b="0" lang="en-US" sz="2400" spc="1" strike="noStrike">
              <a:ln w="0">
                <a:noFill/>
              </a:ln>
              <a:solidFill>
                <a:srgbClr val="eaeaea"/>
              </a:solidFill>
              <a:latin typeface="Arial Black"/>
              <a:ea typeface="Arial Black"/>
            </a:endParaRPr>
          </a:p>
        </p:txBody>
      </p:sp>
      <p:pic>
        <p:nvPicPr>
          <p:cNvPr id="124" name="Picture 3" descr="23762_2009_PPT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030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BRCM_Logo_CE"/>
          <p:cNvPicPr/>
          <p:nvPr/>
        </p:nvPicPr>
        <p:blipFill>
          <a:blip r:embed="rId3"/>
          <a:stretch/>
        </p:blipFill>
        <p:spPr>
          <a:xfrm>
            <a:off x="8013600" y="236520"/>
            <a:ext cx="914400" cy="638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23762_2009_PPT_Side"/>
          <p:cNvPicPr/>
          <p:nvPr/>
        </p:nvPicPr>
        <p:blipFill>
          <a:blip r:embed="rId4"/>
          <a:stretch/>
        </p:blipFill>
        <p:spPr>
          <a:xfrm>
            <a:off x="0" y="0"/>
            <a:ext cx="7016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ldNum" idx="5"/>
          </p:nvPr>
        </p:nvSpPr>
        <p:spPr>
          <a:xfrm>
            <a:off x="8916480" y="6696000"/>
            <a:ext cx="1954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08BD-EA56-47F0-A65A-E3E90F6BD1F8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6"/>
          </p:nvPr>
        </p:nvSpPr>
        <p:spPr>
          <a:xfrm>
            <a:off x="2549520" y="6726240"/>
            <a:ext cx="408312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roadcom Proprietary &amp; Confidential.  Unauthorized Use Prohibited.  © 2009 Broadcom Corporation.  All rights reserv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524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524"/>
              </a:spcBef>
              <a:buClr>
                <a:srgbClr val="80808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7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E627-434E-4159-8731-1AA444129F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8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995E-F826-48C8-B8D3-8334DBD1D98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7153920" y="6426720"/>
            <a:ext cx="162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www.broadco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5"/>
          <p:cNvSpPr/>
          <p:nvPr/>
        </p:nvSpPr>
        <p:spPr>
          <a:xfrm>
            <a:off x="1430280" y="6515280"/>
            <a:ext cx="7721640" cy="203040"/>
          </a:xfrm>
          <a:custGeom>
            <a:avLst/>
            <a:gdLst>
              <a:gd name="textAreaLeft" fmla="*/ 0 w 7721640"/>
              <a:gd name="textAreaRight" fmla="*/ 7722000 w 77216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864" h="128">
                <a:moveTo>
                  <a:pt x="4864" y="128"/>
                </a:moveTo>
                <a:lnTo>
                  <a:pt x="3396" y="128"/>
                </a:lnTo>
                <a:lnTo>
                  <a:pt x="326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524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524"/>
              </a:spcBef>
              <a:buClr>
                <a:srgbClr val="80808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9"/>
          </p:nvPr>
        </p:nvSpPr>
        <p:spPr>
          <a:xfrm>
            <a:off x="3050640" y="6726240"/>
            <a:ext cx="30402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Broadcom Proprietary &amp; Confidential.  © 2009 Broadcom Corporation.  All rights reserved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290400" y="4292640"/>
            <a:ext cx="5389560" cy="403200"/>
          </a:xfrm>
          <a:prstGeom prst="rect">
            <a:avLst/>
          </a:prstGeom>
          <a:noFill/>
          <a:ln w="0">
            <a:noFill/>
          </a:ln>
        </p:spPr>
        <p:txBody>
          <a:bodyPr tIns="41400" bIns="414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Tim Hellman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290400" y="2373480"/>
            <a:ext cx="538956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342 – ALF Filter Complexity</a:t>
            </a:r>
            <a:endParaRPr b="1" lang="en-US" sz="3200" spc="-1" strike="noStrike">
              <a:solidFill>
                <a:srgbClr val="99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ALF Complexity: Operations per Pixel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828800" y="2590920"/>
          <a:ext cx="5705640" cy="2100240"/>
        </p:xfrm>
        <a:graphic>
          <a:graphicData uri="http://schemas.openxmlformats.org/drawingml/2006/table">
            <a:tbl>
              <a:tblPr/>
              <a:tblGrid>
                <a:gridCol w="2338560"/>
                <a:gridCol w="1712880"/>
                <a:gridCol w="1654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dd Ops/Luma Pi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ult Ops/Luma Pi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rans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otion Co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LF (Pre-Tur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LF (Pres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10:36Z</dcterms:created>
  <dc:creator>Reinhard Schumann</dc:creator>
  <dc:description/>
  <dc:language>en-US</dc:language>
  <cp:lastModifiedBy>Tim Hellman</cp:lastModifiedBy>
  <dcterms:modified xsi:type="dcterms:W3CDTF">2011-07-15T16:17:18Z</dcterms:modified>
  <cp:revision>233</cp:revision>
  <dc:subject/>
  <dc:title>Slide 1</dc:title>
</cp:coreProperties>
</file>