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35F5-D054-4AE2-9F5C-E8D648D1D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7372-90A3-446C-A88E-F6E018114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3E2D-3909-4D53-8BC6-8B0214758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0E0C-F1D9-4DC2-856C-482387014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5769-7676-4248-A734-DCEB1164A1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001E-8D64-43FD-8DBC-31FE5393C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776C-8CD0-4FBC-B93E-8739F7995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6913-2EB3-4A8D-A78F-C6E33705F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2EFC-8F8C-4AB1-BFE2-A82DEA963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929F-7227-4B04-B59A-8258B28FE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1040-2457-48FB-9164-83226601D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0A9A-2404-49E3-8BCC-FE2D2F71F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62FA-6F16-415A-B1EB-00443E54EB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6354-B644-404F-A9B9-E8AF42347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4C56-EFEB-421E-92E2-21D88DF9FA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B8BE-CE89-4865-B4C2-5C7415DB2D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E9B2-5F2F-4BAE-8698-F55B87F0B4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62F-410E-4407-839C-2CFDBA3618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DCA-B6F4-454E-87B3-07BAB9C1AA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F37-27E8-4EC3-8D76-3E47307430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CA7-03FB-4BD1-985E-74EA2FD3FD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A4D-68B0-4854-9887-6FA2A4AE4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9ECA-DD2D-4E4F-9B67-EF0D12597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44E-0EEF-4813-A4DD-4DC5F7DAFC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B96-0C9C-4433-B37C-96A3B7A625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F9A-E485-4E18-85AE-FEF0ADFC69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F9A-2AEC-4923-B7FD-08590B9416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8E6-D908-4CBD-982F-A4E66D33BD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16E-F40C-4084-A873-D518A3D0C1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9B7-15A5-4B2C-B907-5DF00A57EC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B2368-829F-4DB1-BC25-ECC013126D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12777-DD84-4F00-99A3-4D1C8CD069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C841-3B00-455D-B041-607458950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50EC-658B-4D53-A311-3CD68A8370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E343-1525-4A54-A7D0-D671D2F211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6C95A-FFF0-402B-9DAB-F22355FE41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0E3D-A1B4-4D92-9906-E9FA3D8C5B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3A9DC-C71C-46E2-A927-363A1DA4E5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AB4F6-12D9-424E-8069-48DAED33BE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4ACE-1974-4D5F-8B39-A4310037EE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E25E3-2A0A-4A5D-881C-CF131FC49A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7B480-92B6-4339-8547-91F889A82F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B7E3B-D3CE-4FF0-8E92-844B1E379F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74E1F-3B96-43CC-B623-D11F93E28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52CD-6D8C-470F-B7A7-F5AA58A4CD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8A54F-2CFA-4CE1-A652-0D5BFF4382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C28B4-DC61-438E-9188-A31951C40F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201B7-A2CC-4957-B1A1-A67B2C33B4A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CF74C-D649-461D-9591-C7A012C93B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ADAB8-D0A3-4C0D-8171-8C3946E7BE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7C643-18DA-4E3F-B7BF-8CF9DC790B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93F18-17C0-4DE2-BC72-875101FD07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D5716-2E51-4CD4-B76F-B1F5342A3F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EEADF-F602-4D24-B400-108C9616C3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8BB05-74F4-43B3-8EE9-903EB21D1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9796-F5BC-4258-AF6C-ADF22DB864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F1F2D-BF18-41A0-A3F0-6E4AA59779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32584-0B8D-4A59-B5DA-60A9F8478D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C9F2C-740C-4533-BD4E-9EAA7A321B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D2C52-1249-48A9-B4C2-D98941B89E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992D0-3731-42A5-BE34-F793D8999C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9EE43-4F06-4539-BB03-CFD6BEEC74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CEAB-006B-4958-BCB9-602BE3758F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5B7C-7052-4D30-91E4-83068BBCAC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CFD54-CCC6-47BB-A2E0-6FC9DC603F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0A7D2-DA80-48FA-9E82-1010117DA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1CEE-76D7-463F-A539-D187A654A5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28712-AE52-46CA-988B-284CD52D5F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A63D8-E001-46F4-9CC8-F6E9165517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A04B-A819-4071-9159-07F537E06F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821880" y="188640"/>
            <a:ext cx="6978600" cy="33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E73E-977C-4D2E-815D-BB634F618E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99960" y="400104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1288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03520" y="122400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2224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1288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03520" y="4001040"/>
            <a:ext cx="25621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9960" y="1224000"/>
            <a:ext cx="388332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2240" y="4001040"/>
            <a:ext cx="7958160" cy="253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D1A8-7EB0-4F30-93E2-B80768E95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A24-F3F6-4F20-8544-3E9F10E03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620-C78E-42F3-9ABC-241483A8A11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B631-2C0A-442B-88F2-2E2BD8DAC501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 rot="20611800">
            <a:off x="822240" y="3216240"/>
            <a:ext cx="83217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BROADCOM PROPRIETARY AND CONFIDENTIAL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 Black"/>
              </a:rPr>
              <a:t>UNAUTHORIZED USE PROHIBITED</a:t>
            </a:r>
            <a:endParaRPr b="0" lang="en-US" sz="2400" spc="1" strike="noStrike">
              <a:ln w="0">
                <a:noFill/>
              </a:ln>
              <a:solidFill>
                <a:srgbClr val="eaeaea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3" descr="23762_2009_PPT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BRCM_Logo_CE"/>
          <p:cNvPicPr/>
          <p:nvPr/>
        </p:nvPicPr>
        <p:blipFill>
          <a:blip r:embed="rId3"/>
          <a:stretch/>
        </p:blipFill>
        <p:spPr>
          <a:xfrm>
            <a:off x="8013600" y="23652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3762_2009_PPT_Side"/>
          <p:cNvPicPr/>
          <p:nvPr/>
        </p:nvPicPr>
        <p:blipFill>
          <a:blip r:embed="rId4"/>
          <a:stretch/>
        </p:blipFill>
        <p:spPr>
          <a:xfrm>
            <a:off x="0" y="0"/>
            <a:ext cx="7016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ldNum" idx="5"/>
          </p:nvPr>
        </p:nvSpPr>
        <p:spPr>
          <a:xfrm>
            <a:off x="8916480" y="6696000"/>
            <a:ext cx="195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CAB-7BE6-43C2-8D9A-7A504DB7706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6"/>
          </p:nvPr>
        </p:nvSpPr>
        <p:spPr>
          <a:xfrm>
            <a:off x="2549520" y="6726240"/>
            <a:ext cx="408312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roadcom Proprietary &amp; Confidential.  Unauthorized Use Prohibited.  © 2009 Broadcom Corporation. 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38A-87DF-419A-A733-A3D5CEDDC6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048120" y="6540480"/>
            <a:ext cx="304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ROADCOM PROPRIETARY &amp;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8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ACC-A917-426F-97A5-4B6076BD9F7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153920" y="6426720"/>
            <a:ext cx="162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ww.broadco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1430280" y="6515280"/>
            <a:ext cx="7721640" cy="203040"/>
          </a:xfrm>
          <a:custGeom>
            <a:avLst/>
            <a:gdLst>
              <a:gd name="textAreaLeft" fmla="*/ 0 w 7721640"/>
              <a:gd name="textAreaRight" fmla="*/ 7722000 w 77216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64" h="128">
                <a:moveTo>
                  <a:pt x="4864" y="128"/>
                </a:moveTo>
                <a:lnTo>
                  <a:pt x="3396" y="128"/>
                </a:lnTo>
                <a:lnTo>
                  <a:pt x="326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524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524"/>
              </a:spcBef>
              <a:buClr>
                <a:srgbClr val="80808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9"/>
          </p:nvPr>
        </p:nvSpPr>
        <p:spPr>
          <a:xfrm>
            <a:off x="3050640" y="6726240"/>
            <a:ext cx="30402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Broadcom Proprietary &amp; Confidential.  © 2009 Broadcom Corporation.  All rights reserved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290400" y="4292640"/>
            <a:ext cx="5389560" cy="40320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Narrow"/>
              </a:rPr>
              <a:t>Tim Hellma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290400" y="1959120"/>
            <a:ext cx="5389560" cy="12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341 – Decoder Performance Restrictions due to Merge/MVP Index Parsing</a:t>
            </a:r>
            <a:endParaRPr b="1" lang="en-US" sz="3200" spc="-1" strike="noStrike">
              <a:solidFill>
                <a:srgbClr val="99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The Problem…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21932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Merge/MVP Index Parsing Requires MV Constructio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didate List Reduction:  Checks for equal MVs, reduces the list siz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nges the size of the syntax el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High-Performance decoders separate CABAC from the decoder pipeline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AVC: CABAC state only depends on CABAC-decoded elem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erge/MVP Index Parsing breaks this mod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BAC decoder can run far ahead of pixel dec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916840" y="6696000"/>
            <a:ext cx="19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DDB-019E-4DDC-86BF-11A47533BBB2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19320" y="3809880"/>
          <a:ext cx="642924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642924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The Issues…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Increased CABAC Logic Area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e to do MV construction in two pla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Replication of Collocated vector buffers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e to manage two sets of collocated vector buff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e to do reference picture management twi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Loss of Picture-level Parallelism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 no longer work on two pictures in parall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Loss of Error Resiliency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rrors in one frame cause parsing errors in subsequent fram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all error in one frame can wipe out an entire subsequent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CABAC Performance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xed processing time added to each bloc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CABAC Performance Hit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080" y="121932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Use Skip block as an example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kip Decoding (w/o MV construction) = 3 cycles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Neighbor Computation &amp; MV storage = 15 clocks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500% CABAC slowdown!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916840" y="6696000"/>
            <a:ext cx="19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8DE8-1268-4CB2-9B08-75B11684B8A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14400" y="3124080"/>
          <a:ext cx="784872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84872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Proposed Solution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2240" y="1224000"/>
            <a:ext cx="7958160" cy="5316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Merge/MVP Syntax Size only depends on spatial availability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need to manage collocated vec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need for MV construction in CABA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524"/>
              </a:spcBef>
              <a:buClr>
                <a:srgbClr val="99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Still do List Reduction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99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ert zero vector in extra spo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188640"/>
            <a:ext cx="697860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Experimental Results</a:t>
            </a:r>
            <a:endParaRPr b="1" lang="en-US" sz="2800" spc="-1" strike="noStrike">
              <a:solidFill>
                <a:srgbClr val="990000"/>
              </a:solidFill>
              <a:latin typeface="Arial Narrow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819520" y="1447920"/>
          <a:ext cx="3352680" cy="3119400"/>
        </p:xfrm>
        <a:graphic>
          <a:graphicData uri="http://schemas.openxmlformats.org/drawingml/2006/table">
            <a:tbl>
              <a:tblPr/>
              <a:tblGrid>
                <a:gridCol w="1371240"/>
                <a:gridCol w="19814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 BD-r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-H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0.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-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0.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D-H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2%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D-L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%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1676520" y="5029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= Skewed by Cla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10:36Z</dcterms:created>
  <dc:creator>Reinhard Schumann</dc:creator>
  <dc:description/>
  <dc:language>en-US</dc:language>
  <cp:lastModifiedBy>Tim Hellman</cp:lastModifiedBy>
  <dcterms:modified xsi:type="dcterms:W3CDTF">2011-07-16T07:43:47Z</dcterms:modified>
  <cp:revision>234</cp:revision>
  <dc:subject/>
  <dc:title>Slide 1</dc:title>
</cp:coreProperties>
</file>