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B9D2-A586-4A98-BDF5-CD64CA0DF46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0678-922F-4E20-82AF-CAA2F57D4E3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C25B-AA39-4DA0-A7C0-E00FD6C4425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07B2-3746-4E4C-B87A-A79BBE7659B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D8EB-B5DD-4639-81C6-B865111C38E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D3ED-7F0B-4B53-98AD-EAF15205903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77AA-5E03-48D4-BB20-7B6D97B9428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B5EE-5ED4-459E-B734-951F15EB936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3AF9-78C4-4046-AC40-9364D6346AE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886A-F584-4107-A891-B4E9B1A9734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lice per picture for the tile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BB3A-6139-47C9-A27D-C65DE00FAFE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7202-FAD9-4592-84E6-089BABECE85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1C47-BADF-4921-9B45-3CDBBDE88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AE48-B916-43E1-949D-B70AD1DF7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CBEF-7BEB-4BAB-8CED-C3092C863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BDA1-213B-4BD9-80BE-81681BA817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3ACE6-3EDC-4AAA-90C8-2FED80B1C6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D8315-33E6-4725-A6DB-BD8AD827B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1336-8F80-44F8-85C5-CC0061DE0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4CB5-A318-4452-9117-ED985CFB5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53C2-24AE-4E8C-86D2-558920158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7CE8-1A61-4430-B9D5-07F13437A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ED26-D80E-457E-801C-8FD3BBAD2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1CC78-9EF4-4674-8B75-BF0E6F35A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81320" y="6399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B53E-3C02-4087-B337-A08B4726E97A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"/>
          <p:cNvSpPr/>
          <p:nvPr/>
        </p:nvSpPr>
        <p:spPr>
          <a:xfrm>
            <a:off x="70102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8c93"/>
                </a:solidFill>
                <a:latin typeface="Arial"/>
              </a:rPr>
              <a:t>JCT-VC F3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781680" y="639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8EC4-2414-451E-81A4-ABC7DE6A0DD0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32004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Hei"/>
              </a:rPr>
              <a:t>Cisco, eBrisk, Sharp, and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: Torino,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July 14-22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941560"/>
            <a:ext cx="91440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22096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c8c93"/>
                </a:solidFill>
                <a:latin typeface="Arial"/>
              </a:rPr>
              <a:t>Ti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6781680" y="639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C48F-1BD7-4D12-B30D-428B632926A3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 and Recomme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es minimize loss when partitioning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ary with fine granularity slices, entropy slices, and wavefron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comm and Eric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: adopt Tiles into the 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6781680" y="639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9F69-5809-4F73-868F-2119807F069C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-up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752480" y="1676520"/>
            <a:ext cx="487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 Q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&amp; cabac_init_id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Q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 in a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6 + pic_init_qp_minus26 + slice_qp_de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_init_qp_minus26 &amp; slice_qp_delta values are conveyed in header of slice containing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CU in the 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bac_init_id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 is conveyed in header of slice containing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CU in the 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781680" y="639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99CF-C031-4F71-B96F-E512273E7D6E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781680" y="639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8FBC-5F4B-461E-B21A-C5564E4F7F2F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artitioning introduces coding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partition a pi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level parallel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U size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on estimation with constrained on-chip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 coding loss due to partitio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6781680" y="639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E129-75EF-4F59-A25A-310CE2A70291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Tiles figure"/>
          <p:cNvPicPr/>
          <p:nvPr/>
        </p:nvPicPr>
        <p:blipFill>
          <a:blip r:embed="rId1"/>
          <a:stretch/>
        </p:blipFill>
        <p:spPr>
          <a:xfrm>
            <a:off x="2057400" y="2895480"/>
            <a:ext cx="5257800" cy="3522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e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and horizontal boundaries partition picture into columns and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locations may be specified individually or uniformly spa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rectangular with an integer number of LC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6781680" y="639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B924-F9CA-4426-B726-70A817CD81AF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es Overvie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e bounds may or may not break depend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 &amp; tile boundaries may or may not coin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Tiles with slices.pdf"/>
          <p:cNvPicPr/>
          <p:nvPr/>
        </p:nvPicPr>
        <p:blipFill>
          <a:blip r:embed="rId1"/>
          <a:stretch/>
        </p:blipFill>
        <p:spPr>
          <a:xfrm>
            <a:off x="2057400" y="2666880"/>
            <a:ext cx="52578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6781680" y="639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EA55-29E3-435E-873A-015E86C8601D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s to HM 3.0 Sou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U decoding ord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ster scan within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es raster scan within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(un)availability across tile b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opy coding reset across tile b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S &amp; SPS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e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boundary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6781680" y="639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67F2-A87F-4E48-820C-4523752E532A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PS and S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19320" y="1371600"/>
          <a:ext cx="6858000" cy="4691160"/>
        </p:xfrm>
        <a:graphic>
          <a:graphicData uri="http://schemas.openxmlformats.org/drawingml/2006/table">
            <a:tbl>
              <a:tblPr/>
              <a:tblGrid>
                <a:gridCol w="6019560"/>
                <a:gridCol w="8384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_tile_columns_minus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e(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_tile_rows_minus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e(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 (num_tile_columns_minus1 != 0 ||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_tile_rows_minus1 != 0) {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le_boundary_independence_i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form_spacing_i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 (uniform_spacing_idc != 1) {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(i=0; i &lt; num_tile_columns_minus1; i+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mn_width[i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e(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(i=0; i &lt; num_tile_rows_minus1; i+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w_height[i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e(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6781680" y="639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221B-8E7F-439F-8F66-10736421D97C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-level Parallel Proces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processors encode one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artition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1143000" y="2832120"/>
          <a:ext cx="7696080" cy="353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32120"/>
                    <a:ext cx="769608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6781680" y="639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CE9B-239E-415D-A576-54780F1FF5C2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219320" y="1600200"/>
          <a:ext cx="6858000" cy="1123920"/>
        </p:xfrm>
        <a:graphic>
          <a:graphicData uri="http://schemas.openxmlformats.org/drawingml/2006/table">
            <a:tbl>
              <a:tblPr/>
              <a:tblGrid>
                <a:gridCol w="979200"/>
                <a:gridCol w="981360"/>
                <a:gridCol w="979200"/>
                <a:gridCol w="978120"/>
                <a:gridCol w="981000"/>
                <a:gridCol w="979560"/>
                <a:gridCol w="979560"/>
              </a:tblGrid>
              <a:tr h="39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 Lo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219320" y="3048120"/>
          <a:ext cx="6858000" cy="1123920"/>
        </p:xfrm>
        <a:graphic>
          <a:graphicData uri="http://schemas.openxmlformats.org/drawingml/2006/table">
            <a:tbl>
              <a:tblPr/>
              <a:tblGrid>
                <a:gridCol w="979200"/>
                <a:gridCol w="981360"/>
                <a:gridCol w="979200"/>
                <a:gridCol w="978120"/>
                <a:gridCol w="981000"/>
                <a:gridCol w="979560"/>
                <a:gridCol w="979560"/>
              </a:tblGrid>
              <a:tr h="39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o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219320" y="4495680"/>
          <a:ext cx="6858000" cy="1094040"/>
        </p:xfrm>
        <a:graphic>
          <a:graphicData uri="http://schemas.openxmlformats.org/drawingml/2006/table">
            <a:tbl>
              <a:tblPr/>
              <a:tblGrid>
                <a:gridCol w="979200"/>
                <a:gridCol w="981360"/>
                <a:gridCol w="979200"/>
                <a:gridCol w="978120"/>
                <a:gridCol w="981000"/>
                <a:gridCol w="979560"/>
                <a:gridCol w="9795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Lo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6781680" y="639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51EB-9066-4DC2-85B2-C55C45FD3FF7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 and Recomme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level parallel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gains vs. HM 3.0 slice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: 1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access: 3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delay: 4.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s from slice shape &amp; low header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dditional computational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s frame partition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partitioning for packe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partitioning for paralle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Horowitz Michael</cp:lastModifiedBy>
  <cp:lastPrinted>2009-04-22T19:24:48Z</cp:lastPrinted>
  <dcterms:modified xsi:type="dcterms:W3CDTF">2011-07-13T09:00:09Z</dcterms:modified>
  <cp:revision>3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