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99EA0-9C5F-49C7-81C3-400FB0E61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3264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16492-F599-4247-B8BE-8E8788DB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5E138-3D06-4E84-920F-6076277E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CF3D7-7B0D-4AA0-8A2E-7EA72AED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1E09C-2D74-4A4E-ADD8-CB80A920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39DA5-E760-4669-B1B7-97A968C0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53E45-7BBA-4083-98A0-EE85055B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B3489-B017-428A-BB41-8743A087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9000"/>
            <a:ext cx="77724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922C7-2D2E-4CE4-81D9-FCAABEBC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0D359-11FF-473C-8B98-F12B3280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EB115-E329-427D-9675-3221B595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A16B3-675B-4A6C-98D2-47F74461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正方形/長方形 7"/>
          <p:cNvSpPr/>
          <p:nvPr/>
        </p:nvSpPr>
        <p:spPr>
          <a:xfrm>
            <a:off x="0" y="6566040"/>
            <a:ext cx="9144000" cy="291960"/>
          </a:xfrm>
          <a:prstGeom prst="rect">
            <a:avLst/>
          </a:prstGeom>
          <a:gradFill rotWithShape="0">
            <a:gsLst>
              <a:gs pos="0">
                <a:srgbClr val="5962a1"/>
              </a:gs>
              <a:gs pos="100000">
                <a:srgbClr val="a4a9cc">
                  <a:alpha val="9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" name="図 8" descr="sony_w.png"/>
          <p:cNvPicPr/>
          <p:nvPr/>
        </p:nvPicPr>
        <p:blipFill>
          <a:blip r:embed="rId2"/>
          <a:stretch/>
        </p:blipFill>
        <p:spPr>
          <a:xfrm>
            <a:off x="158760" y="6637320"/>
            <a:ext cx="925560" cy="16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400800" y="65606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Tahoma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7EE3-4AC6-498A-A7B2-5EEBF97D3671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2763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2189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F0CA-FE3A-464A-810F-1EAE3517F0F4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45680" y="739440"/>
            <a:ext cx="7604280" cy="313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E4 subset 3.3.1c: Cross checking of MediaTek proposal JCTVC-E091 on adaptive quantization offset with SAO off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971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heung Auyeung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ony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July 11, 2011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5" name="Slide Number Placeholder 3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0F2C-A01F-4AF8-90E9-F84F19030E09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539640" y="37620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JCTVC-F13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Summary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85440"/>
            <a:ext cx="7772400" cy="58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is contribution provides cross checking results of CE4 on MediaTek proposal JCTVC-E091 on adaptive quantization offset with SAO disabled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cross checking results matched MediaTek’s results for CE4 subset 3.3.1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re are some differences in the adaptive de-quantization offset software from the description in JCTVC-E091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nditions that when the de-quantization offset is appli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quation for calculating the new lambda for R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nditions when the new lambda or the HM3 lambda should be u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</a:rPr>
              <a:t>It depends of the average L2 norm of the motion vectors.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Slide Number Placeholder 1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4743-0BD8-4970-9C19-3A52B1693583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MediaTek AQO Code Summary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ediaTek Software on AQO implemented adaptive de-quantization offset based on their contributions JCTVC-E091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termine the offset b for inverse quantized coeffcient 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</a:rPr>
              <a:t>ĉ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rom the quantized transform coefficients 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</a:rPr>
              <a:t>c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ased on the quantization stepsize 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</a:rPr>
              <a:t>ĉ = c’ · Q +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b is determined by lookup tables based on the number of coefficients quantized to 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</a:rPr>
              <a:t>|c’ | &gt; 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b is applied only when the following conditions are meet: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referenced pictures, the transformed coefficients are “Laplacian Distributed”, i.e.  For the probability of quantized to 1 (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ρ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and  quantized to zero (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ρ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, it passes the test (note: in E091 it is 0.07) 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non-reference picture which passes the “Laplacian Distributed” test , b is applied when (note: this condition is not in E09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34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ahoma"/>
              </a:rPr>
              <a:t>ρ</a:t>
            </a:r>
            <a:r>
              <a:rPr b="0" lang="en-US" sz="1400" spc="-1" strike="noStrike" baseline="-25000">
                <a:solidFill>
                  <a:srgbClr val="996633"/>
                </a:solidFill>
                <a:latin typeface="Tahoma"/>
              </a:rPr>
              <a:t>1</a:t>
            </a:r>
            <a:r>
              <a:rPr b="0" lang="en-US" sz="1400" spc="-1" strike="noStrike" baseline="30000">
                <a:solidFill>
                  <a:srgbClr val="996633"/>
                </a:solidFill>
                <a:latin typeface="Tahoma"/>
              </a:rPr>
              <a:t>Y</a:t>
            </a:r>
            <a:r>
              <a:rPr b="0" lang="en-US" sz="1400" spc="-1" strike="noStrike">
                <a:solidFill>
                  <a:srgbClr val="996633"/>
                </a:solidFill>
                <a:latin typeface="Tahoma"/>
              </a:rPr>
              <a:t> in the previous picture of the same type and same temporal level is less than </a:t>
            </a:r>
            <a:r>
              <a:rPr b="0" lang="el-GR" sz="1400" spc="-1" strike="noStrike">
                <a:solidFill>
                  <a:srgbClr val="996633"/>
                </a:solidFill>
                <a:latin typeface="Tahoma"/>
              </a:rPr>
              <a:t>ρ</a:t>
            </a:r>
            <a:r>
              <a:rPr b="0" lang="en-US" sz="1400" spc="-1" strike="noStrike" baseline="-25000">
                <a:solidFill>
                  <a:srgbClr val="996633"/>
                </a:solidFill>
                <a:latin typeface="Tahoma"/>
              </a:rPr>
              <a:t>1</a:t>
            </a:r>
            <a:r>
              <a:rPr b="0" lang="en-US" sz="1400" spc="-1" strike="noStrike" baseline="30000">
                <a:solidFill>
                  <a:srgbClr val="996633"/>
                </a:solidFill>
                <a:latin typeface="Tahoma"/>
              </a:rPr>
              <a:t>Y</a:t>
            </a:r>
            <a:r>
              <a:rPr b="0" lang="en-US" sz="1400" spc="-1" strike="noStrike">
                <a:solidFill>
                  <a:srgbClr val="996633"/>
                </a:solidFill>
                <a:latin typeface="Tahoma"/>
              </a:rPr>
              <a:t> / 3  in the previous I picture in temporal level 0.</a:t>
            </a:r>
            <a:endParaRPr b="0" lang="en-US" sz="1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2" name="Slide Number Placeholder 4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BDC5-4EE5-462E-A379-92DFAAD4523E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3" name="Object 2"/>
          <p:cNvGraphicFramePr/>
          <p:nvPr/>
        </p:nvGraphicFramePr>
        <p:xfrm>
          <a:off x="3657600" y="4927680"/>
          <a:ext cx="140976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927680"/>
                    <a:ext cx="140976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MediaTek AQO Code Summary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re are RDO differences from JCTVC-E091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RDO is modified from E091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</a:rPr>
              <a:t>The new </a:t>
            </a:r>
            <a:r>
              <a:rPr b="0" lang="el-GR" sz="2000" spc="-1" strike="noStrike">
                <a:solidFill>
                  <a:srgbClr val="996633"/>
                </a:solidFill>
                <a:latin typeface="Tahoma"/>
              </a:rPr>
              <a:t>λ</a:t>
            </a:r>
            <a:r>
              <a:rPr b="0" lang="en-US" sz="2000" spc="-1" strike="noStrike">
                <a:solidFill>
                  <a:srgbClr val="996633"/>
                </a:solidFill>
                <a:latin typeface="Tahoma"/>
              </a:rPr>
              <a:t> is based on the average offset for Y, U, and V. It has more weight on Y than E091.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</a:rPr>
              <a:t>It is also a function of the average L2 norm of the motion vectors, normalized by temporal distance, in the previously encoded picture of the same frame type and temporal level. (Not in E091)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cc0066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Tahoma"/>
              </a:rPr>
              <a:t>If the average L2 norm is zero or the average L2 norm is larger than a threshold, use the </a:t>
            </a:r>
            <a:r>
              <a:rPr b="0" lang="el-GR" sz="1800" spc="-1" strike="noStrike">
                <a:solidFill>
                  <a:srgbClr val="cc0066"/>
                </a:solidFill>
                <a:latin typeface="Tahoma"/>
              </a:rPr>
              <a:t>λ</a:t>
            </a:r>
            <a:r>
              <a:rPr b="0" lang="en-US" sz="1800" spc="-1" strike="noStrike">
                <a:solidFill>
                  <a:srgbClr val="cc0066"/>
                </a:solidFill>
                <a:latin typeface="Tahoma"/>
              </a:rPr>
              <a:t> from HM3.</a:t>
            </a:r>
            <a:endParaRPr b="0" lang="en-US" sz="1800" spc="-1" strike="noStrike">
              <a:solidFill>
                <a:srgbClr val="cc0066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cc0066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0066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89B3-4EDB-42D3-B344-5260E4216FD3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8" name="Object 2"/>
          <p:cNvGraphicFramePr/>
          <p:nvPr/>
        </p:nvGraphicFramePr>
        <p:xfrm>
          <a:off x="3314880" y="2743200"/>
          <a:ext cx="2641320" cy="72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2743200"/>
                    <a:ext cx="264132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01:05:12Z</dcterms:created>
  <dc:creator>Mohammad Gharavi</dc:creator>
  <dc:description/>
  <dc:language>en-US</dc:language>
  <cp:lastModifiedBy>Cheung Auyeung</cp:lastModifiedBy>
  <dcterms:modified xsi:type="dcterms:W3CDTF">2011-07-14T00:43:50Z</dcterms:modified>
  <cp:revision>5080</cp:revision>
  <dc:subject/>
  <dc:title>PowerPoint Presentation</dc:title>
</cp:coreProperties>
</file>