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93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94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69.xml" ContentType="application/vnd.openxmlformats-officedocument.theme+xml"/>
  <Override PartName="/ppt/theme/theme89.xml" ContentType="application/vnd.openxmlformats-officedocument.theme+xml"/>
  <Override PartName="/ppt/theme/theme77.xml" ContentType="application/vnd.openxmlformats-officedocument.theme+xml"/>
  <Override PartName="/ppt/theme/theme88.xml" ContentType="application/vnd.openxmlformats-officedocument.theme+xml"/>
  <Override PartName="/ppt/theme/theme76.xml" ContentType="application/vnd.openxmlformats-officedocument.theme+xml"/>
  <Override PartName="/ppt/theme/theme87.xml" ContentType="application/vnd.openxmlformats-officedocument.theme+xml"/>
  <Override PartName="/ppt/theme/theme75.xml" ContentType="application/vnd.openxmlformats-officedocument.theme+xml"/>
  <Override PartName="/ppt/theme/theme86.xml" ContentType="application/vnd.openxmlformats-officedocument.theme+xml"/>
  <Override PartName="/ppt/theme/theme74.xml" ContentType="application/vnd.openxmlformats-officedocument.theme+xml"/>
  <Override PartName="/ppt/theme/theme85.xml" ContentType="application/vnd.openxmlformats-officedocument.theme+xml"/>
  <Override PartName="/ppt/theme/theme73.xml" ContentType="application/vnd.openxmlformats-officedocument.theme+xml"/>
  <Override PartName="/ppt/theme/theme79.xml" ContentType="application/vnd.openxmlformats-officedocument.theme+xml"/>
  <Override PartName="/ppt/theme/theme78.xml" ContentType="application/vnd.openxmlformats-officedocument.theme+xml"/>
  <Override PartName="/ppt/theme/theme72.xml" ContentType="application/vnd.openxmlformats-officedocument.theme+xml"/>
  <Override PartName="/ppt/theme/theme8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82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90.xml" ContentType="application/vnd.openxmlformats-officedocument.theme+xml"/>
  <Override PartName="/ppt/theme/theme2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slideLayouts/_rels/slideLayout570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</p:sldMasterIdLst>
  <p:notesMasterIdLst>
    <p:notesMasterId r:id="rId95"/>
  </p:notesMasterIdLst>
  <p:sldIdLst>
    <p:sldId id="256" r:id="rId96"/>
    <p:sldId id="257" r:id="rId97"/>
    <p:sldId id="258" r:id="rId98"/>
    <p:sldId id="259" r:id="rId9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notesMaster" Target="notesMasters/notesMaster1.xml"/><Relationship Id="rId96" Type="http://schemas.openxmlformats.org/officeDocument/2006/relationships/slide" Target="slides/slide1.xml"/><Relationship Id="rId97" Type="http://schemas.openxmlformats.org/officeDocument/2006/relationships/slide" Target="slides/slide2.xml"/><Relationship Id="rId98" Type="http://schemas.openxmlformats.org/officeDocument/2006/relationships/slide" Target="slides/slide3.xml"/><Relationship Id="rId99" Type="http://schemas.openxmlformats.org/officeDocument/2006/relationships/slide" Target="slides/slide4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 type="dt" idx="234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3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24" name="PlaceHolder 5"/>
          <p:cNvSpPr>
            <a:spLocks noGrp="1"/>
          </p:cNvSpPr>
          <p:nvPr>
            <p:ph type="ftr" idx="23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PlaceHolder 6"/>
          <p:cNvSpPr>
            <a:spLocks noGrp="1"/>
          </p:cNvSpPr>
          <p:nvPr>
            <p:ph type="sldNum" idx="23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0FCA47F-24E1-4BED-9091-AFB955C982DC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52B259D-6DF2-4DF0-BA8F-D9791257FF3B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118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Gulim"/>
              </a:rPr>
              <a:t>겉표지 </a:t>
            </a: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( </a:t>
            </a:r>
            <a:r>
              <a:rPr b="0" lang="ko-KR" sz="1200" spc="-1" strike="noStrike">
                <a:solidFill>
                  <a:srgbClr val="000000"/>
                </a:solidFill>
                <a:latin typeface="Gulim"/>
              </a:rPr>
              <a:t>타이틀 </a:t>
            </a: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: Tahoma 46, Date : Arial 24 )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9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120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A8264BE-C68A-4009-92E2-F98B04226950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12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0ADB6DE-9115-47F9-B701-362C2C306868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12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2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5663F9D-321F-4BB8-8C14-67E91818F860}" type="slidenum">
              <a:rPr b="0" lang="en-US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379-8ED9-41D0-9AA5-E85E2645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0B2-2E6E-4107-B46E-89C4F172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F4D0B-15D8-4773-A23D-969CA94A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F9A3D385-DE88-4EA4-870B-CF51D42D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0A57DAE6-169E-417D-A4F1-2DCA9FA3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351C7E7B-6BC3-4F7F-8315-CC77C774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038C777F-1DE1-4B29-A490-D45BB3DB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320B12F9-EE1A-4A14-9D5D-2FF3EB05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C6EE481F-F978-41D4-9ED3-93E31ADB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9742C18C-A1CF-43D5-BC58-6EDC15AC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565894E9-DE23-44EF-8C9B-94DDAB57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CB208704-83F0-47C8-8262-57D71760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A1BC248A-0101-4C5A-A028-BF7F3300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592CA-0588-4800-A3AC-0DCC8DF1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6EFE20D9-6693-49A5-A635-A0DECBA4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F5F5FFBF-6082-4246-84DF-AAF3D6FA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37BEA435-9FDD-4ACC-8F05-BC84CCB5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931A1EB3-DA0B-488D-B5BB-D7E5445A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793E5CBD-FC8C-4BFD-883F-ADA3646C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B27F133A-1AEA-4E08-8C8A-8796F165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B7221CDD-1F94-4D8C-BDD7-42F0C056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4DCAACF1-0E87-49FD-A874-D8F1A3FE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CE0AF043-4837-4CBD-8582-410B49B8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E74CF09E-8552-4780-B563-63235D4C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83038F-EDD0-41B3-BDE4-479A80E7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585318DB-5373-4F8A-91BD-7FC774F1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80B4636-1142-4127-A68E-BC635744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6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F01A5C1-02DD-4A36-9479-0FC111FE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664EE18D-2377-4066-9AC5-9C2D860D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4AE64C07-9E92-479F-A92E-D2D5D0E2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56FA8D6A-400A-4AE6-803E-C1FAB61E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553290C9-764D-4B25-9399-0BB7A446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39ADD444-D4DC-4AE9-818C-907EC921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A11F85C3-B885-4756-8EF6-C5006D28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DE0D4A1E-EC35-4E69-BD84-7B2FD7E3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8F340-9015-4431-8754-6AE854F3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D8877B6C-5CA3-4568-AE6E-7B585BA7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1BB46B0-6C54-4326-BAE5-F0B8C6CB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775F66A-0F52-497A-8EE7-F4C9C72E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7B4A6615-77A0-4967-97ED-17B25AA6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EF7B8306-BCAA-4B4C-B18F-595CC604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F3BE808A-F976-4568-8720-B2FA65BF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8688379A-693A-4E36-9098-7A737EA6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8CAB95E0-2409-4962-BE76-2A1246B5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5E60A093-B408-4236-B00E-D7E1ECC1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8EFF3B0A-044A-4F86-AEAA-9A60DFD3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A54DC-9173-4F0B-AB46-A71E5CD6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1FA26280-B0E4-4225-B1A9-78797F7F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6EA70B42-F3C4-4C96-9707-A89A6067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2433C250-9385-4089-9AB9-ED5C1B27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AEF0AF4A-2B89-444B-8992-B2F6EFF6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7FFDB9DF-FED5-427E-B2D7-47D02E7A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BEB73042-EA08-4B17-AACE-3655D3A6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5D4938C0-3829-4AEF-AC86-AAFA4B8E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CC3DD352-43C3-4834-ACCA-9E370747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CEB49DEB-2E33-4A36-957E-FA14CBF7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E5841752-78B5-49B3-9762-E47C33BD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26CCB-ACFC-45C5-9394-C60C362A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0D818F7E-6607-4215-A218-33F81B9A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F30FC2E8-69A2-4B32-8F8A-7402734D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DAF21B7B-2169-4BA0-8E09-29438617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F1E239BD-C4F6-4A5C-8013-46C3311D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FCD57434-3040-448F-A94A-5A690E59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B2CEB014-4FE2-4E3F-871A-ACDC64FF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78FDCF27-E4DD-4AA4-A97C-C69D7F7A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162886A3-1D6B-4433-987F-F9622D3F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E3411A9A-24D8-403B-A66C-B7D796CE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4C0B4DE7-84AC-49B3-86E7-E3133258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1AA98-0D7E-4EF1-B123-BD9F9180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F284663D-6BF8-4E4C-81BE-568A9FC1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33AD5F19-04B2-4F2D-9F1A-3E434588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95AC3CAF-2F58-461D-AD65-09EF4745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783E3E65-AD24-4C54-8AD8-08B715E6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3557064D-5FC5-4D57-99D2-70A28E89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C2129B4C-FCF0-4E92-BB9E-35FA76D7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DAD203A5-6E25-4449-935C-DA6CBFB6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E3499DEB-46CC-4F76-90DD-327D1C18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6F870589-6A7C-4424-B625-D2A7DF52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9F621B20-352A-4F5C-BD5F-0A5C66D0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6C67E-75C6-4CDE-AD0A-C1FF3941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D89A61AD-028B-41D7-B5FF-F78BCEB7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10775D93-A42D-4A1C-B173-A2E07968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2A68A02A-5D70-4FAC-A238-54B50A42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8F21F9BC-7C33-426D-9872-E1B39BB9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6014C049-FAD0-4BE1-B6B9-0BA6BDEB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029C76D0-B5D0-4A48-912E-8A5EEA7C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1FBD7CD5-49E7-424F-A689-91FDBCF8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DF91B1CC-A55A-4A54-9191-9FBD3F0C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410024FE-DADF-4A1F-926C-84DD8FD0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3D992C98-77C7-4CEE-A76C-2FC29318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D08D2-4001-4AFB-AD46-8189FBCB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2944A834-FE95-462E-A87E-429F78F7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D1CEB5AE-909F-4530-9D4D-C3BA7548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B62F3F9D-FC20-4E4E-AFF0-FF534C71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52395345-EA0F-4E9F-A17F-CC386539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D5FCFD07-4B97-4CBA-BBEA-7021C3E9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86CD0ED6-61B9-49D6-86BD-2A8E6A43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289E1F6F-10C3-44C4-97DC-9777F4C0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25554785-05D5-44B6-A5FD-EC1944D4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4435390B-4510-499F-801C-55DE5D2F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5D0D5E4E-FF8E-451C-9D96-DCDCC041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AE07F3-1CFC-48D6-B8B5-D31F4CDA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DF7D1ED9-3EED-4761-8CFD-BBCCC3B8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9340F70B-AA3E-4170-92B5-57CF438B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3AD3A0AB-43A5-4A97-90AC-937D8291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E0312006-78AE-4736-99A4-DBDF9D57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FC921972-7309-469B-A6CA-29E3F9F9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C337FBAB-DD44-477D-B65B-BB946923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BAF06853-45C8-4E06-9E9D-D3AB5F31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3FF1ED76-9FC7-462E-8184-1FF7EE0C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390348D1-B127-432E-82BE-F803E73C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C6DBB016-259C-4C5C-9741-B6C8E1E8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755-D3CD-4262-BD84-2CC18CC5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EF866-FD31-4F25-886B-8794BA4C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C7ACB94E-5711-44C3-A535-FF231FCC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C91FB7A5-1DEA-4D49-9897-4F77A5D9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A261ADCC-7AC6-4A1D-AC99-717D75BB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38DC8CE9-9664-4942-868B-D5F2FFA8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011151BB-4037-4464-9FD2-F1F91A2F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D9C216C8-1D3F-4024-868A-725DCF09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BDFF3157-DDDC-4553-BA36-7EFD2EA1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F7B82816-E078-4B60-97C0-586BEA0B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19FDA137-CBC3-47D3-B2B1-F4DB8671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31FDCC7A-8619-4A71-B113-9136C722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1AC63-186E-4CA8-9086-FEE8A1D2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92D52CEC-0968-4D2C-A90E-B720BC7E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4A8FDC1F-D1DB-49C4-AC87-A6A58358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C3544440-50B0-4FF3-9098-1D576F55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AF43F44C-8461-47FF-B7EB-D054CF9F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88FAC3E8-9DD9-4628-8E95-F11B80D2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58B48714-F15B-4B84-911F-4C36A11D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1F2A774D-A0CE-4E72-9989-F7050CDC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90BE9-87FB-4A63-B287-9F4312E3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D983F-4BF8-4720-B532-5FD116FD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46DC68-013E-4FEE-8E15-FAE825C7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EE0D2-9A3B-4500-94B4-9B13B008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173C4-D39D-41A3-9BDA-BC132532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5B18D-4FCD-423C-B14F-F614BE52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AC7FB-B9BB-47A4-9762-D987900D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EAD3A-4A3B-4CD3-9F34-2A2329E4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42AF-7EEE-4379-94E2-A96FC24B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4EEFF9-439C-413C-BAB4-68FEA541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E2C3D5-4FEE-48E4-87E3-DD8EBE8F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764461-F08F-4D61-A066-C8730F90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4DD634-7174-4C69-9B51-DBFD8CCF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5D8765-3EE8-44D1-B5EA-525E3431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38A7E7-E534-4AD9-9842-5EE60998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0B118E-F78B-448A-86B9-631DDC47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CD1A56-0C39-4E86-B308-99883D4B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660461-D21F-41AF-91C1-83C0574D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B445BD-09D8-4224-B5B5-91B01AF1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9F339E-A505-443D-B04F-A1D16F64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11528D-A2CE-4668-A6A6-54BB9C0F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D5E341-BBD4-4D58-AC6C-A52C7EC0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1F722-AD29-42FF-ACA5-AC2AFFAC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DABC2-3EEB-493B-A179-39DB2D88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26D7D-76E2-4F7F-B956-C69FE75C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D93F9-60B3-44C7-9F28-189357C3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8D5404-B23C-46E2-B0D5-871F7FBB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0BA9DE-8F40-4D7E-8054-FBE77231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6349B-A0F7-493F-9A50-54B74059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5A53A-C8B8-4579-8821-DBE54F07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532C1-0631-4ADD-8E4C-73E67CFA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C1BB4-4487-404C-9708-88168810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AFF62-625D-4807-9A6E-DFC39D33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A9BB5-36AA-4B24-84F7-6AF0068F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8B6C7C-AD8A-4A7F-B346-4EDF5F79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218298-39B8-4C61-BACB-48746BEF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ADCCC7-B7F4-4435-B1A8-F4E0C5A8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1555B0-554C-46C4-B6D9-5A2C36D3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F157F0-819A-4574-A529-D6BCAE64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FCC9E1-E9CC-432E-B55E-31264EDA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529493-24D9-4FB7-8121-5F766CAC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BE993B-6A87-464A-91E1-635FAADD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064B64-3FC0-4D38-A9A6-57C780D7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1FB96B-9972-43A4-AECA-C0D82141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EB739C-D68E-421A-8873-4E2DC157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835061-26F8-4152-99DF-2B4C550C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D159CD9-FB39-4916-A3A6-D4E04FB9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D42500-E461-4A7C-8638-955F236B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4E1121C-9FE7-4AEC-BA4E-A2E60B31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A1680C-5D2E-406D-B5C7-9DAA7255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D79550D-222A-489B-BFE1-6D1801C7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EF62440-4482-47AE-898A-BBB3C9A2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0B75C38-8D0B-43AF-819A-7680CA50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B03C56-BBC9-4907-BB27-0C1183BC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4B39B18-BE0D-48BD-8946-955813A9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4D2DD4D-4729-47C8-B741-CD7C9579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34AC525-3C88-40BE-8076-DC3F8964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7906EC-B990-404C-8624-15BB7303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10ED5D-583D-4108-B4C9-319D5171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0AB3021-83D4-411C-AD2F-44177AA0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C428D48-9B94-448C-B460-F13CA8B0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085E17A-EDC3-4BF5-82D0-DFE8EEA4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3FCA50-56B7-4E65-B9D7-CF8E8547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AE2A976-EB10-4C2D-8FE1-ED1573DB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1176F0-50FF-49B1-827B-B05BA07C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9167352-5009-46FC-AB9C-3987F516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0FC531-D274-47F1-B1C7-81E3A657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B7AA2A3-5780-4DDD-9DE3-8F989CBC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97A2FBC-A378-4C35-9C43-ED5B434C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A0A5DD3-C17D-4342-AD6A-0137EC88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F0FEED5-20B2-45E3-A839-6F8CBA94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441B12-A044-4D54-B408-82A33A4E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94DD701-B820-4DA3-BADA-82F01603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BCC19B6-3AE2-4B8E-89E9-82062FD4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C90DCF0-4E9E-46F0-90F0-C224B25F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BB4B0C-41BA-439B-9C88-6B661A7B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CB1661-F9C0-4CA3-ACD5-661D1A70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51C835-661C-4E37-AFBA-27FA63DF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4F5FC40-C540-4D09-9FD9-65AD2956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65144C-3CF6-4845-85F2-CDC2A7AE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028C103-DDD5-4FF4-B48D-9AEEA822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BF3E005-5DF9-42DA-BFFF-4079539B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CE01779-E94D-4D28-8988-7E68AF37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72879D6-F248-4011-A8CA-D0193974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EF75C9E-9A00-4120-9A50-27AB5ED7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A624759-C6F7-4AE3-A1C4-EDA6D604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73959DE-B323-4FE6-8D9F-D7FD9560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5F13B14-1899-4D51-86C9-E5EF0A98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BFFFD78-36EB-4F3A-BF82-E9EE2A65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D45-7195-4725-AB59-8E27CEEA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A3FE72A-0D7F-4706-9FAB-A631653B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3A819B1-98E0-4F22-99A4-D5653405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CE72372-5A46-4A29-850F-A13FDD62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26732E0-14B7-4D09-8EDF-5E29AE2F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F41AC59-E851-4ED7-9532-99E378A2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8D31F13-8ADA-4194-B1CA-09A1AEEF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85AAB6-D93E-404B-A0C3-A27F4240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EE2BACE-CFC5-41D5-9776-CD3C9DD7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428C9EF-88A1-4825-BC25-F36F8B41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0689443-B9B2-483D-92E3-663440C6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1A5586D-9090-4A37-87BC-BA79ABE4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197085B-E7A6-4DE3-AC81-AEE16EC1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2ACA51F-FFE2-43B6-94CE-56B9EF05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2BECE60-1E32-494A-AF47-7720E6C8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242C246-0545-4102-8095-CEC4FAE5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562A28F-AE67-4873-9621-63E7641E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74361F-F400-4DEB-BC33-4B597230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8FB9EBC-7DDD-4909-B435-8FCC1872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9EDAE38-8306-4277-AC33-32210C23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173D161-B8D4-4D1B-AF22-31D1BA28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806F2F5-BEDE-47F8-B8DC-8ABA6B6C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9F39A53-B110-4093-89AE-6D199E7B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11F6F5C-3D53-48FE-BF9C-0C218E54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2A3D121-C3CE-4F91-8150-2637CF70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3D06008-7327-4F74-A7CA-6DB49E03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F7119BA-19C2-462B-BE05-3E82F41A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6DDBC30-B1EB-4C6B-8D19-5C8E6EDD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B89A02B-00B9-4E5B-A2CC-19E9867D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73FE746-3F75-4E7C-A3EF-45A18180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9D17EB0-D7C7-4956-92AB-76FEE66F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08A4C57-0A1C-48E9-8B67-845B59CA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D29AA54-9AEA-4599-8DEA-C1996EBB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4D83750-DCEF-4554-AE86-74783D46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AF2A6AA-7804-4D97-BB21-58D78030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BA56C99-9D61-472E-BBC1-E9E39B3F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E7A6F10-994B-4767-84BF-7B6152FD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4008D0F-5FCE-461E-9D61-B4C63CF0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6B99FF6-3789-44A7-855D-687962CA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4A10E26-D2B5-4C23-A8DF-F7FE2682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966632A-9E87-4428-A0F3-B40E7CB7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1C2211F-5873-4555-A23A-645BF9A3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4FD936B-1CC6-4AEC-BDAD-638589E3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A5E11DD-9D2D-4C2C-A7FA-8384529A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1AFD049-F9A8-4ABB-8E59-0D71D7F7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35E1282-B16A-486A-B6D7-244B006F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A52BFD8-7DA3-4AC5-B7C8-DC048FC3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9B87647-5095-4968-AAC6-CE74117F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11179FD-B0EF-4683-871A-FC5A4A19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50B8EE0-06C3-4C86-870E-AF497DD5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FEAB7CF-8436-40A5-AACA-730C387E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875AA-3441-47FB-A367-B621AD28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56F2B3D-DCB5-4778-ADB0-C3C22B91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5F0CE98-38BA-4831-9336-B5660550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B32AB03-AE2E-4869-A130-3DA5E22D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124F9F1-FD4E-4536-A6B0-7C9F8228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5E75E20-FF59-458E-9903-A0537AA6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42115B0-6F05-491E-8FCD-09821826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E762996-BE15-43CF-A113-BCCA923F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4BA1556-F33A-45CD-BA6A-C38C0B46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8C4D88D-7D25-4A15-92C2-9D71E310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32CE457-EF03-4247-AEAE-30FA036F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C59DB-3EC4-4378-989A-69139257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53BC0A5-59AC-4329-ADD5-E6106457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54DA693-E4EA-45FE-A041-7625D45A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BE6FBD7-0586-473F-B8D8-8EEA0393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2E9809B-76D7-49FE-8B7A-23E32ADC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203D5B6-FF6D-4690-A514-E015F0B8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0F26271-8485-49B9-91F7-AEEE1884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424F4E2-893F-466F-9B8F-4F6C11F8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38B62E6-3E24-41A8-8D54-0C94F10B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523787B-496D-40E4-A979-CD33B5BD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898B55B-C788-4977-B4DA-4996C7AF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0971B-A28E-4C1E-BF01-A718E2E6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B5A961D-C59A-48D6-A098-1545B555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D171746-6373-4330-AB67-8DC61F08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22FD66E-DB7C-4AFC-805B-8888C01D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39A8ED8-8FC2-41A3-AF3C-133EB868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744F0FA-EB38-4C61-91EC-8194070C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E09346F-B584-4FCB-897A-213372EF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20C8FAA-A490-4396-84F5-370FEB65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7479B-E6EE-4129-B1D4-835026B0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ABAE4-4804-48A8-A72E-E8CEF8FF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200-BDE0-4A14-A763-78FE7AB2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AE318-7841-433C-82F5-7ADCAF29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C9CE8C4-374D-40FC-889D-639F7E71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7333ECD-4823-47EC-8AA3-5ED61ECF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0D00054-65BA-4349-8273-662EF7CB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396C970-5B03-48BD-9948-F0BC4AAB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5CA28A1-B322-4FAB-8230-0BB10815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BC6A08C-39B7-48B8-9338-AB6375E5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4AF3F1C-7475-4A8A-B652-29DDC1D1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984B5D8-A2D6-488C-8D0D-66F09263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567E924-303C-4D75-B336-CA98DAA2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FB476-30BD-4FC5-A6BD-27C266EF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D215DBE-89FD-4B4A-BD14-F00C6267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9B45EF2-FA21-42EC-A49B-49332013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3E79306-3837-40E3-9BA8-267B649D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101A582-5810-4C25-95E0-00A3A954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FEDA647-A310-4EED-93C6-20527079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6F11ECA-A022-4A6F-A2C2-A3A80F9D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CCB1F06-1FEC-4F19-8B6E-54E5AE62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E79D2CE-FF64-4B32-BC25-6BC35392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CD63938-A2EF-4B6E-8812-D106AF11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9A27581-A17E-4B4D-BC7F-2B0FAFE5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77887-4F64-40B4-B3A5-0EA0240E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B57239B-DD91-434A-B091-7E11723D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6CBE3DF-112F-44AC-85A8-F5C8C56F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62D83A9-38A5-431F-BF93-CC072B18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9CDB399-36CA-4916-9D58-E637AA62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0A2ED2B-C15A-4061-BB5C-DE598543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67A76A1-2286-4589-A36A-BBA5680D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AE43FDE-24B9-4B7B-9165-C3046FE7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F00DF43-7789-4222-B4FD-883CE5C8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74531CA-E7C0-4F51-A225-F1C1CF8A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3F99381-8D48-4597-9D81-8522CDC2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B2CE4-ECED-4F62-943C-15A01806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1B76D0C-640B-42B0-B0B6-756DFEDE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704C46E-21BD-48FC-B8EE-4E29B2D6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A354B16-26D0-43FF-8C47-7B969417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C35A128-5235-43CA-B77E-37CA3A8F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C27B6C9-80C4-49BF-96E2-1E57B288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9FC43EC-D48C-44C9-AB8A-3608A306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6D0627E-676C-4813-96C7-E7E05136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F640090-6CC7-4DA8-80B4-F28BAE8A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CF61156-B934-4D7D-A51F-6FE4AD0C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FB10CF7-3115-4AF0-BDFA-103DD761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9704D-885A-4824-AEC9-E3CD8353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5CD9CDA-8481-48EF-A666-CFC56D9E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E8C3A9E-45B7-403C-B3D6-4D64A31D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9C41FD9-286E-4EBB-8FAE-E8F5E99E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0DCEB61-5C2A-487B-BB34-EE6E57F7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8EE14DB-5804-4AC0-A9C9-8871BE2A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5998316-AC04-4D7F-955E-48B10452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A25FC50-CF76-41A7-8283-D7F0A82E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413E1E7-E4A3-49BF-A2D2-FAD19D81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41B3D2A-CCA4-4810-9C2A-B3705A36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CA8B14F-3618-4157-B00C-3A2C57AB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B3BF6-5ECB-44DA-A941-3C9D0B99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5C1C61F-96CB-49C1-9906-A25BDF6E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E92492D-83B3-4375-BB1E-8CC688B7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8E3504A-B521-4C35-BBEB-5BD9DA4D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EE26571-EB3D-4588-958C-B7735D44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348A3B8-2D7E-455A-B6BD-54F1C6C3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CE3A50A-CBD1-427C-B94A-A1207574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65A3CFC-8468-422D-88BB-C6642A7A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32C6946-DB67-4BFF-907F-C28D1217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5DF6387-9074-4F51-9B2F-2CD98C5F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EC5F54F-CCA6-4D13-B987-D12B0DA7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474AB-A5AF-4147-B398-5D9B643A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60AF067-A082-4FA4-953D-506DC450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6C532E2-D7AC-4D8B-836A-8001CB78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F2C395C-6451-4B33-A089-0B34A568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D91436E-38A5-4429-BC45-3FD9B7BC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68FEB6F-DF97-4AC0-BB39-7760B4F5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CE2F105-27A7-4CEE-AEFC-387B1397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E55F6D7-EC6C-48B5-A632-C79872B1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63C7962-432B-4F16-9AB6-1BA014DC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D40EEB7-4455-4E42-8B41-42517005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0DF6375-14A1-45F1-B196-0D3B2CDC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26CD704-2207-47ED-9B8F-592BE4D0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9158C5D-383C-4DCD-A516-EB4F582B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FAFA673-A54D-4F82-9F1D-A9FAA816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490639C-1239-4D8E-A908-373F4DC3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835A45C-48D8-40AB-BDBD-E903B5CA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700B1C8-5045-41F6-9B87-1E32D9AA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55CA670-E23C-4A82-AE7D-C7CA4551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C0136B1-CC9E-4AB2-BBEC-FAAD54C0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DE065BD-F816-4978-948D-7A492D6C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11B5E75-B991-4798-BB8E-690690BC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E7A072B-F460-4BAE-8A36-F0A32F36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BFB0EEC-DCF9-41B6-A815-42F1759F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44DB247-234E-4351-9F4B-B4ABDA52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FD350E9-DF03-440F-9DA6-BEB32425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2695E7E-AE1C-4D2D-B21F-A37434E8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ED9B2EA-0B06-4541-B8EA-025E1763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4F1B5DA-A428-4433-88C6-4F52FA97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1E74398-3B9F-4158-B021-F92DD116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0452E11-2952-4FF5-94A2-E02AE968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1042051-BFD8-4555-9324-06C0739A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B22CCC2-F9BD-44E4-8404-49FF59CE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EF592EA-D501-41FA-BD9D-D9D17003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C22BF0E-461F-4678-863D-BCDACFA9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322E663-9973-4F02-8029-58AA8EEA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095DA75-8CBD-435D-815C-F53BD6C2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3F45721-C2E2-4BC5-B660-556B602E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B571689-F24F-4502-906F-B3206528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9EA2D6A-427D-4C7A-9B5F-0086E91B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CB7CC95-8C89-45B4-A494-355906E4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554EF16-7547-4F43-8A64-39CF54CC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28E-4435-4DBC-A594-B5131045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7BC8726-2A9C-4D1D-8340-97ADFECC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7008DE8-30AD-4D93-933D-DC9D3566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2A7BE05-203B-4A44-8C4B-E167A4CF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2714FFF-4381-4330-8D16-28CD36BA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6FDFF69-C87C-4A93-AE96-79CF0D9C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F7C111E-03AA-4C6C-A979-3D54BE7A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E92B182-12B6-4B1D-AC3F-83DA5105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C3F178F-19AE-42CF-BFA2-D742062C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E517680-5A27-4C30-A4BE-8C21BB15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1164EBB-8593-4587-AEF1-F0F4674D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5D57FB4-1FF8-4666-B1D6-040CC200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01CCA04-12D5-4FCE-84FB-D9E86061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13A1FF7-7506-466E-BE19-0F429DB2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597D86A-CCF6-405A-BD1D-CEF46E30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997E09A-F4CA-4861-A537-2CACAF25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B13929D-0068-425D-95C8-789685D9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41BFC41-6CD7-4049-8CDA-E7D4A48E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3EBC279-788A-42B9-A29C-BF3AB1F0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F2B0F2E-EA6B-4170-91CA-EDA38820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E9BB7A9-A6E7-4068-9EDC-C42F7F13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79D2BAF-2932-41D2-A9A0-283A5F81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01F3B6A-2402-4A82-B53A-AF3F45E5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869641D-345E-4809-8969-A7CEB381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7994B3F-BA77-423B-9DE8-519C63DF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CD4092F-59F5-4D31-846C-B7F028CC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F9B84F8-5331-4511-8166-12231C0C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BF02949-70FC-4F2C-89D0-F3451387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79C8059-837F-4E0A-9ECC-CD125AE0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10A01BC-0DDA-4791-9A10-3C0239FC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401D4E5-3F5A-43FC-85E2-AAE2093C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74E4B43-1DC2-4A9D-BDDB-975766ED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881FEA5-E207-4C03-8F66-BBFDB07A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5D97A20-6C8C-4ED5-84E3-2897DB08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1A30FE6-E356-4EA7-B8D7-F407F300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96AEC35-8512-4518-B6CD-62C9F814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BE7182E-AC6F-4F45-85F0-04AA16F4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EC83CE9-606B-4EEC-BC1D-540B793E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9BAD5D4-64D0-4193-9804-3269170B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20EF06B-9182-4697-9324-53F0B340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B4B2973-8904-4720-BA89-0E9719C7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E306BF3-91FE-4986-9CA3-892E939A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B9E243C-F3A3-4747-8E9D-23A47E52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6DB7471-4C07-4563-AF09-F052271F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80CB357-9C09-4240-A5D2-C39E3E64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401EE3D-CE66-403E-A7BA-6D7FD2E4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C051B77-021F-4D9A-B8B1-58077ED8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DF58976-EE0F-49C9-B87A-164E994E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5A5EB41-6953-42FB-8FE5-7D6AD134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ADE7ED5-79BA-4545-91CF-F6276139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298AE35-C3E2-41C1-81EE-60D89A4D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82DC92F-B840-4EFC-9C0A-3E8843AA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36ABCF7-86B4-42E1-87E8-B238F918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ED16679-4D10-4E49-8844-CB1FD8FC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E1F1F07-0E71-4257-BB6F-3036B395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9633F01-A9D9-49E1-9FD5-77C8F7CF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A485D50-D9F1-4200-BAB8-211E6EEB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78119EA-3A91-4673-AD79-952F9475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4FDB693-D40E-4CA3-A1CC-96E19711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BAA2DC7-797D-463C-A7CA-58976B65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007B047-0910-4869-9093-02EC7C24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644B12C-4966-4A96-86EE-72346D84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0622D53-4657-4FBC-8CAC-A267F1E1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D1BADDE-DECB-41D0-9E55-22B8214E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02FA9ED-CEC7-4646-838D-CCDF6F4A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06F227C-F821-4EF4-9F64-AAF49600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76430AA-94CD-4FAA-8FFC-5143F742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B77B1BE-ECEB-4A21-AA6B-3899A9C8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B8F3A60-CCF8-469A-A1D1-E3F38F9E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2016014-0DC1-4DB2-A74B-731D8FC5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AE8AF6A-5FFB-435B-BE5E-DC615B41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00AE428-54B3-4338-96DF-489970FD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F9D93E4-84F1-483E-BC16-4947873B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4987D21-5BD7-4600-B77A-3C6CEFE1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DE2CC68-13DF-4276-A370-2B3950E9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4803192-C86B-488E-A346-AF8AFEDF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80FDB0C-F4AF-4676-914F-BD100298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2131BED-4C05-43AA-B60C-F9D649E6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4F78A38-2D54-4170-AE8A-1BDC0897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CA4BD60-2855-4B9D-8870-4C77E59B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F8EDC8B-0D61-46A8-B018-6EB664BC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3019C06-B113-4EDE-9B7C-99DEFF17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0AAE44-9570-442D-804C-630BC2F8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887-6B89-402A-BE1D-EE582A54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B0E21D-E984-4157-A866-99869C8D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49610C-CC61-4375-9E13-D1C7F4F6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EA991A-841C-479E-9AAA-2C61D258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A05681-E86C-4474-B702-51C78A64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48692E-FFB7-4063-9491-6E22548C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B20BC2-36F4-49B4-9890-2056F53C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379630-542B-49EC-9397-3AE60608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EF566D-03EF-409F-B5DF-548E5957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C5DA03-A149-4E67-990C-0A6B0A06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2FC435-15A5-4B33-B636-9D46A7D8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1D71-218B-43EE-85D4-E4B995A2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63B7D6-04C5-4906-8DD2-A44AEFB4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6CC603-A7D9-41A2-8412-68FB5C04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4E3278-D199-4F52-A3A2-ED41BEAE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30E078-E49A-4FCC-ADDA-A714EFA2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FDFFC85-F21B-4846-9761-3EB78FC9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9554D1A-9578-4C18-9E6B-E061EBD0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6602705-632A-44E8-BBED-A0E43A09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C76FD1-B250-4E6F-A7B2-D530CEAE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1484668-DD28-4619-8F8A-F2331DDA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9ED99FD-4C77-47D7-9C8C-7E6909C0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086D05D-D541-44AC-8E50-05D78C1D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DC636B2-8433-46CD-AAB8-95CBF5DC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8FA91D7-5754-4555-A191-7409F394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5F7FAF1-A46B-4A01-B18A-37FC73F3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1F87660-78F8-44F1-8828-0AEA62B3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DBD5DEF-39DA-4F4B-8873-C1CD35EC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CD64D9B-7D4E-4C6D-B133-3DE14289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14A3B02-8184-47D0-AD34-F136FB6B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E0E199-AA1A-4F87-B7B9-434E01F1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B86D8B4-0C62-4D03-88F0-3C8046ED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09DEEEB-D818-4229-8701-ED34B629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F11903E-ED07-4EB0-B4DB-F782F9E2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8ADB2D2-C1DD-4F39-AA42-C46C9C94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414FE54-9724-4484-A481-F8D25F4B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4DE28B7-2C93-46A7-B153-EC5D7774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774EA51-C10B-4B04-8783-F89F236A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43204A7-BCCA-42F1-A78F-C9D05178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E43D4FE-5025-4716-861A-275F36EC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44962A8-FC93-4673-9B20-284559C4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91B2CF-56C9-482F-99E5-7074308C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BB9B190-B327-4CF4-B628-73DFDCE3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477EB0-1BB3-420F-B273-A25941CE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8FA786-76D9-49F2-B570-36503B4E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90D6F2-0613-4564-92B2-6BD62523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4AD-DB2A-420B-99F6-423B3CAF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7099F1-92A4-48A7-8232-E75BE560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2D8E5F-C5D8-4358-8C80-F5B33141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9175EE-A2F7-4EE2-93B4-CE1222F3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A50288-7EA5-47B5-B1B5-4198B71C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83D092-8B20-4064-ADB8-146EADDE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DA61DD-5479-41AB-B4B0-D7430376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D92E80-CF06-4C78-A6F8-658014F2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B575620-9CA5-4607-BCE7-43A81F37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572043-5A3E-48D7-A090-4AC019CD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5F17671-C056-407B-ABCD-2ADE1F9F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F4A8DD1-2F71-4D1C-8A2D-5ABF5055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98866FD-12F7-4488-B219-DAC02969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15245E7-2CBB-4014-ADD9-E32E477C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47E7DDB-89D9-401A-B5CA-D8971C8F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F825DDB9-9585-4115-A982-A4989976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E79E168-9C07-4AF4-A215-AF8C4D3C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F4C8232-7EA5-4718-8797-E8BCC96C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EBD65C7-BAB0-4ADC-8778-8855FCCC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04F511A-57EB-44B8-865C-6229B432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537FF0-BA00-4B6C-8FB4-A1EC029F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C72F14E-BAB6-4983-AEA0-C0747BAA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4436AC-2015-4680-AB46-EC375770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D766-21A2-432D-9334-E31093C7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41E6CD-4092-438F-9186-251DBC87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B7DB8E-4311-48D8-B781-18647628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4DE70B-0FAD-4077-9899-5911EB92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20B84E-20AA-40FE-8AA3-3A783644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83AB7E-DD68-4920-8422-0968C34B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633299-B10F-4718-A697-61E7D1B0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879D5F-D41D-4B6A-9BB9-4560CA26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449516-729B-42A8-877C-D2353007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018FFE-B824-4639-8F36-CC74F595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10D06D-2C19-47B8-A9F8-ABA887A0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857-BEFF-4DF1-A3DE-152096E6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6715E6-B789-4095-86F4-9E71742E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E6F8E2-8BFD-4B21-B504-75FDE15C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E800AA-C1FC-4C7B-B3A4-23713C08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23DD51-E4FB-4352-A687-61EC421A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F457BE-1FA3-423B-A8EE-2EC59F42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F43B79BF-E178-4300-8265-AA333B8D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3B6A3A-2F1F-415B-84F8-FCA74A3C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2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82DE98DE-172F-4F4B-95DC-D8B813FE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22CB4CB6-ECE4-4838-81CF-AE0DE7BC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AEC9011D-CE42-4C0B-9640-F416A7A5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030D6D20-68B7-4211-981E-DA2EEA91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F913FD4C-2322-4839-89C4-EAB6FF3A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DF00A75B-4BEC-4A61-9764-B0CC0089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09D09A04-E455-4F12-8987-287749C6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A7BED5CB-3025-418F-8AB1-519A47C7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743FE113-1D28-499E-A564-C6D08BD9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C0AAC542-9B40-403A-95C7-70549937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178494-BEAE-4790-93A0-1545BCE2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212BBE2B-3482-4192-8C0F-F5CE9915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5D5D49C4-EEF3-4CF0-8B79-63167A62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99025371-9C07-4E68-A27B-A389ABE0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BD6984E5-DB85-43F6-A9BF-F5C7BABF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F7DD40A2-0D48-4C64-A9C6-D3A9231B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669840E0-3BA8-4B99-A8B8-4AE94DC0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CDD77140-B234-4B94-B968-5930F8D8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B27B086C-0B18-4EBE-8B4C-13BD52E3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27D9534F-2C26-40BD-9F67-06CA4090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C78AD96B-4C4F-4EB5-AEBE-BFB96728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92A47-FDE7-45E9-BB52-13FA0E3A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7127D852-64B4-4EC5-BE5A-E480F0C5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1A6D0CFE-E257-4410-846C-A2D2F2CB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4A8FD830-B53F-4177-9249-3D503CC3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EA5CF1C7-BF15-4A34-8CB3-AA6BFD65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32921FB4-F124-404C-9C8A-3A2FFBBA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0939CA63-EAB1-4E1E-A5E9-F1D8AE64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7409E99D-39C8-48C6-9CC8-1F092EAF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BF7AFD19-FDF5-442A-8055-8B05BB04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345E9EE4-D81C-4641-8E2C-820CBDF2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6CED702E-DB0F-41FB-8707-4B9A79A9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1BA40-FA27-4EB2-8954-6A65F7D1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57BF6597-F56D-4F6A-97FF-1A41EAB0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64A14AA4-5A49-450A-9A83-2B7F5B27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66010FE3-6EF5-4747-90BF-339466B0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471D3FE7-B4A9-4C3D-AFC6-5BF6FCC0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132196AA-81B9-4D6D-978E-5E8BA735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FEB660DE-0ED6-4B89-A932-02EDDAEC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4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C1AEB887-64D7-4631-B4AE-157FED75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CE50010B-5A11-4AA0-BD31-9EBFFC7B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CC34917F-0CE2-48D2-A55C-32037C8A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B8F67E7F-DD56-4BD7-80E2-B405F8EE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EE7E0-8830-4935-9CE5-8550DC30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94F00397-FEFA-4D30-BD0A-5001AEC9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A601E192-80BD-4B48-9473-F80480AC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7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PlaceHolder 4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9947BF4B-8134-4909-99E0-51CCD04C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DF3A69A9-8F8E-4F1A-A479-3BE3E983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457200" y="40348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B4B2F138-0CB8-4DDE-AD81-84924E80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PlaceHolder 3"/>
          <p:cNvSpPr>
            <a:spLocks noGrp="1"/>
          </p:cNvSpPr>
          <p:nvPr>
            <p:ph/>
          </p:nvPr>
        </p:nvSpPr>
        <p:spPr>
          <a:xfrm>
            <a:off x="4674240" y="174780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PlaceHolder 4"/>
          <p:cNvSpPr>
            <a:spLocks noGrp="1"/>
          </p:cNvSpPr>
          <p:nvPr>
            <p:ph/>
          </p:nvPr>
        </p:nvSpPr>
        <p:spPr>
          <a:xfrm>
            <a:off x="45720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PlaceHolder 5"/>
          <p:cNvSpPr>
            <a:spLocks noGrp="1"/>
          </p:cNvSpPr>
          <p:nvPr>
            <p:ph/>
          </p:nvPr>
        </p:nvSpPr>
        <p:spPr>
          <a:xfrm>
            <a:off x="4674240" y="40348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50EE739E-175E-49FE-9A6E-D69844CA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3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PlaceHolder 3"/>
          <p:cNvSpPr>
            <a:spLocks noGrp="1"/>
          </p:cNvSpPr>
          <p:nvPr>
            <p:ph/>
          </p:nvPr>
        </p:nvSpPr>
        <p:spPr>
          <a:xfrm>
            <a:off x="323964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PlaceHolder 4"/>
          <p:cNvSpPr>
            <a:spLocks noGrp="1"/>
          </p:cNvSpPr>
          <p:nvPr>
            <p:ph/>
          </p:nvPr>
        </p:nvSpPr>
        <p:spPr>
          <a:xfrm>
            <a:off x="6022080" y="174780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PlaceHolder 5"/>
          <p:cNvSpPr>
            <a:spLocks noGrp="1"/>
          </p:cNvSpPr>
          <p:nvPr>
            <p:ph/>
          </p:nvPr>
        </p:nvSpPr>
        <p:spPr>
          <a:xfrm>
            <a:off x="45720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PlaceHolder 6"/>
          <p:cNvSpPr>
            <a:spLocks noGrp="1"/>
          </p:cNvSpPr>
          <p:nvPr>
            <p:ph/>
          </p:nvPr>
        </p:nvSpPr>
        <p:spPr>
          <a:xfrm>
            <a:off x="323964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PlaceHolder 7"/>
          <p:cNvSpPr>
            <a:spLocks noGrp="1"/>
          </p:cNvSpPr>
          <p:nvPr>
            <p:ph/>
          </p:nvPr>
        </p:nvSpPr>
        <p:spPr>
          <a:xfrm>
            <a:off x="6022080" y="40348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C2CFF4EC-E21B-45F9-8DDA-AAF1A4BE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DE8972E1-844E-403E-9018-F414E58E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8" name="PlaceHolder 2"/>
          <p:cNvSpPr>
            <a:spLocks noGrp="1"/>
          </p:cNvSpPr>
          <p:nvPr>
            <p:ph type="subTitle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93F2F107-826D-4A9E-92B2-056A08C3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3AC7C830-B8D8-412A-A902-87B118A3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99A4-36CA-44F4-86D3-CA3710BA6A6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8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78DF-1E86-487C-89AC-F5E358DD5F5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43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1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5CD8-F3A2-497D-ABB4-0F73689B5C6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47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08B3-7913-4EB9-8B8F-20D964F061D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52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1247-4798-42D5-A02F-2C6F1049D5A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56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4302-E11F-4ACB-99E2-2C7BDA6B28A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60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E3CC-527F-4D22-8E57-44CA20C35BE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65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4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3E62-0F61-4F0A-8923-79BA741393A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69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2ED4-88AF-407E-83A9-BF87A127ED6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74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E859-C15F-4614-8731-C88695496BD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78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5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9B37-7284-434A-B9B5-A09EA06F504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82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5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E61F-FA6C-4756-9546-73CC52CB427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87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1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9AAA-5F3E-4278-9E27-F145A9A2771B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91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AE5B-FCB0-4315-9E70-1A7DD9B76849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96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6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6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F01C-D1E2-422C-8138-147D57E36B3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Picture 10" descr="삼성_마스터-042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0" descr="삼성_마스터-042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07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6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6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CB75-6747-4CDC-AF30-9631290D60F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12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 type="dt" idx="7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 type="ftr" idx="7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 type="sldNum" idx="7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708E-9D8A-41CF-98F9-617D1932819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16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 type="dt" idx="7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 type="ftr" idx="7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 type="sldNum" idx="7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EAA8-CDF1-4B4F-AADD-08A1AF4B8537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21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dt" idx="7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7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 type="sldNum" idx="7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8E22-9970-4057-8B2F-374A417A82F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8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CD2D-3EB5-4DD5-918C-26142B9E4677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25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 type="dt" idx="8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 type="ftr" idx="8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 type="sldNum" idx="8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E58B-9502-4A20-911A-8B0EDE90B57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29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 type="dt" idx="8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 type="ftr" idx="8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 type="sldNum" idx="85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B500-9F3D-4EAF-9920-EC4AEBADDF1F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34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 type="dt" idx="8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 type="ftr" idx="8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 type="sldNum" idx="8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CB5A-2F57-4178-9B5D-3E90E53844F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38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 type="dt" idx="8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 type="ftr" idx="9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 type="sldNum" idx="91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E146-C395-418D-82BA-262E4C713B1A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43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dt" idx="9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 type="ftr" idx="9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 type="sldNum" idx="9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2526-B6E4-4D60-8F15-324574B1EF6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47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dt" idx="9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ftr" idx="9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sldNum" idx="9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F5AD-B29C-4B07-94D6-B9469D08C54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51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dt" idx="9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ftr" idx="9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 type="sldNum" idx="10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9E74-CEF9-4E2F-B70F-E57E3815A380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56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 type="dt" idx="10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 type="ftr" idx="10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 type="sldNum" idx="10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F53C-5648-4FFE-B3BC-F17D8450599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60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 type="dt" idx="10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 type="ftr" idx="10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 type="sldNum" idx="10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D8F3-3097-487A-A895-CD4382712A3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65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 type="dt" idx="10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 type="ftr" idx="10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 type="sldNum" idx="10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ABCD-9196-4EA3-9C9C-96D5F144C38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69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 type="dt" idx="1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 type="ftr" idx="1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 type="sldNum" idx="11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E637-33A5-42C2-8AB6-B9A310978B1D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 type="dt" idx="1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 type="ftr" idx="1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 type="dt" idx="1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 type="ftr" idx="1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 type="dt" idx="1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 type="ftr" idx="1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 type="dt" idx="1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 type="ftr" idx="1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 type="dt" idx="1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 type="ftr" idx="1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169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6EC8-5763-45FA-A126-DD180F9D0125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1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1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 type="dt" idx="1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 type="ftr" idx="1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 type="dt" idx="1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 type="ftr" idx="1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sung Confidential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 type="sldNum" idx="13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4535-BAA5-44FB-944B-C1CAD02F413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5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2296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7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 type="dt" idx="1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4"/>
          <p:cNvSpPr>
            <a:spLocks noGrp="1"/>
          </p:cNvSpPr>
          <p:nvPr>
            <p:ph type="ftr" idx="1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sung Confidential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5"/>
          <p:cNvSpPr>
            <a:spLocks noGrp="1"/>
          </p:cNvSpPr>
          <p:nvPr>
            <p:ph type="sldNum" idx="142"/>
          </p:nvPr>
        </p:nvSpPr>
        <p:spPr>
          <a:xfrm>
            <a:off x="8305920" y="648648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DC94-6C2E-4219-96D7-80327EE4BF9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 type="dt" idx="1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 type="ftr" idx="1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 type="dt" idx="1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 type="ftr" idx="1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 type="dt" idx="1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 type="ftr" idx="1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213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3AE5-9B91-43B6-BED5-524290CCABFB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 type="dt" idx="1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 type="ftr" idx="1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 type="ftr" idx="1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 type="dt" idx="1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 type="ftr" idx="1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 type="dt" idx="1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 type="ftr" idx="1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 type="dt" idx="1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 type="ftr" idx="1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9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2700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1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 type="dt" idx="1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 type="ftr" idx="1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 type="sldNum" idx="16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A890-C5D4-4E97-A755-455DF26B906F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 type="dt" idx="1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 type="ftr" idx="1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 type="dt" idx="1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 type="ftr" idx="1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 type="dt" idx="16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 type="ftr" idx="16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 type="dt" idx="1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 type="ftr" idx="1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257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2894-71D3-4E00-98A3-2E8676207904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 type="dt" idx="1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 type="ftr" idx="1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PlaceHolder 3"/>
          <p:cNvSpPr>
            <a:spLocks noGrp="1"/>
          </p:cNvSpPr>
          <p:nvPr>
            <p:ph type="dt" idx="17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PlaceHolder 4"/>
          <p:cNvSpPr>
            <a:spLocks noGrp="1"/>
          </p:cNvSpPr>
          <p:nvPr>
            <p:ph type="ftr" idx="17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 type="dt" idx="1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 type="ftr" idx="1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 type="dt" idx="1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4"/>
          <p:cNvSpPr>
            <a:spLocks noGrp="1"/>
          </p:cNvSpPr>
          <p:nvPr>
            <p:ph type="ftr" idx="17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 type="dt" idx="18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 type="ftr" idx="18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 type="dt" idx="1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PlaceHolder 4"/>
          <p:cNvSpPr>
            <a:spLocks noGrp="1"/>
          </p:cNvSpPr>
          <p:nvPr>
            <p:ph type="ftr" idx="1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 type="dt" idx="1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PlaceHolder 4"/>
          <p:cNvSpPr>
            <a:spLocks noGrp="1"/>
          </p:cNvSpPr>
          <p:nvPr>
            <p:ph type="ftr" idx="18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 type="dt" idx="18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 type="ftr" idx="18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 type="dt" idx="1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PlaceHolder 4"/>
          <p:cNvSpPr>
            <a:spLocks noGrp="1"/>
          </p:cNvSpPr>
          <p:nvPr>
            <p:ph type="ftr" idx="1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PlaceHolder 3"/>
          <p:cNvSpPr>
            <a:spLocks noGrp="1"/>
          </p:cNvSpPr>
          <p:nvPr>
            <p:ph type="dt" idx="1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PlaceHolder 4"/>
          <p:cNvSpPr>
            <a:spLocks noGrp="1"/>
          </p:cNvSpPr>
          <p:nvPr>
            <p:ph type="ftr" idx="19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01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754D-FA45-42EF-9C73-94C3790C7A5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3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304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5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 type="dt" idx="19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 type="ftr" idx="19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5"/>
          <p:cNvSpPr>
            <a:spLocks noGrp="1"/>
          </p:cNvSpPr>
          <p:nvPr>
            <p:ph type="sldNum" idx="19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12F5-17FA-4C07-A5F1-0B97D6F06FE2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7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348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9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 type="dt" idx="19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 type="ftr" idx="19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5"/>
          <p:cNvSpPr>
            <a:spLocks noGrp="1"/>
          </p:cNvSpPr>
          <p:nvPr>
            <p:ph type="sldNum" idx="19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D4B2-9E67-4940-8CE0-585797E10B0B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1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392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3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 type="dt" idx="19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 type="ftr" idx="19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PlaceHolder 5"/>
          <p:cNvSpPr>
            <a:spLocks noGrp="1"/>
          </p:cNvSpPr>
          <p:nvPr>
            <p:ph type="sldNum" idx="20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25C2-F589-4DA1-A662-B3372E36217A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5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436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7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PlaceHolder 3"/>
          <p:cNvSpPr>
            <a:spLocks noGrp="1"/>
          </p:cNvSpPr>
          <p:nvPr>
            <p:ph type="dt" idx="20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4"/>
          <p:cNvSpPr>
            <a:spLocks noGrp="1"/>
          </p:cNvSpPr>
          <p:nvPr>
            <p:ph type="ftr" idx="20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PlaceHolder 5"/>
          <p:cNvSpPr>
            <a:spLocks noGrp="1"/>
          </p:cNvSpPr>
          <p:nvPr>
            <p:ph type="sldNum" idx="20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2393-422E-47E9-9445-7CF28E59C6E5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9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480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1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 type="dt" idx="20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 type="ftr" idx="20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PlaceHolder 5"/>
          <p:cNvSpPr>
            <a:spLocks noGrp="1"/>
          </p:cNvSpPr>
          <p:nvPr>
            <p:ph type="sldNum" idx="206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DAB0-5626-4052-B4A0-05BD47D21F8D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3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524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5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 type="dt" idx="20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 type="ftr" idx="20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5"/>
          <p:cNvSpPr>
            <a:spLocks noGrp="1"/>
          </p:cNvSpPr>
          <p:nvPr>
            <p:ph type="sldNum" idx="209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4751-540B-4A87-AA63-7A7756C1D449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7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568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9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1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3"/>
          <p:cNvSpPr>
            <a:spLocks noGrp="1"/>
          </p:cNvSpPr>
          <p:nvPr>
            <p:ph type="dt" idx="2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PlaceHolder 4"/>
          <p:cNvSpPr>
            <a:spLocks noGrp="1"/>
          </p:cNvSpPr>
          <p:nvPr>
            <p:ph type="ftr" idx="2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PlaceHolder 5"/>
          <p:cNvSpPr>
            <a:spLocks noGrp="1"/>
          </p:cNvSpPr>
          <p:nvPr>
            <p:ph type="sldNum" idx="212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DC09-09E0-47D8-9501-081124F0C08E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1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612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3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PlaceHolder 3"/>
          <p:cNvSpPr>
            <a:spLocks noGrp="1"/>
          </p:cNvSpPr>
          <p:nvPr>
            <p:ph type="dt" idx="2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4"/>
          <p:cNvSpPr>
            <a:spLocks noGrp="1"/>
          </p:cNvSpPr>
          <p:nvPr>
            <p:ph type="ftr" idx="2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PlaceHolder 5"/>
          <p:cNvSpPr>
            <a:spLocks noGrp="1"/>
          </p:cNvSpPr>
          <p:nvPr>
            <p:ph type="sldNum" idx="215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E574-9D1F-4C76-BC1B-62B68CE2E190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5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656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7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 type="dt" idx="2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4"/>
          <p:cNvSpPr>
            <a:spLocks noGrp="1"/>
          </p:cNvSpPr>
          <p:nvPr>
            <p:ph type="ftr" idx="2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PlaceHolder 5"/>
          <p:cNvSpPr>
            <a:spLocks noGrp="1"/>
          </p:cNvSpPr>
          <p:nvPr>
            <p:ph type="sldNum" idx="218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623F-63E3-4A47-87B4-3D07E7FF607F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9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700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1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3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PlaceHolder 3"/>
          <p:cNvSpPr>
            <a:spLocks noGrp="1"/>
          </p:cNvSpPr>
          <p:nvPr>
            <p:ph type="dt" idx="2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PlaceHolder 4"/>
          <p:cNvSpPr>
            <a:spLocks noGrp="1"/>
          </p:cNvSpPr>
          <p:nvPr>
            <p:ph type="ftr" idx="2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PlaceHolder 5"/>
          <p:cNvSpPr>
            <a:spLocks noGrp="1"/>
          </p:cNvSpPr>
          <p:nvPr>
            <p:ph type="sldNum" idx="221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621F-6894-4529-944A-FC19307F11DF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45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5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29D4-CA7A-40FB-AE7B-B72020A0453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3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744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5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7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PlaceHolder 3"/>
          <p:cNvSpPr>
            <a:spLocks noGrp="1"/>
          </p:cNvSpPr>
          <p:nvPr>
            <p:ph type="dt" idx="2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PlaceHolder 4"/>
          <p:cNvSpPr>
            <a:spLocks noGrp="1"/>
          </p:cNvSpPr>
          <p:nvPr>
            <p:ph type="ftr" idx="2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PlaceHolder 5"/>
          <p:cNvSpPr>
            <a:spLocks noGrp="1"/>
          </p:cNvSpPr>
          <p:nvPr>
            <p:ph type="sldNum" idx="224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4D69-41B2-4AE9-96F5-3E7BF10E10F4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7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788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9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 type="dt" idx="2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 type="ftr" idx="2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PlaceHolder 5"/>
          <p:cNvSpPr>
            <a:spLocks noGrp="1"/>
          </p:cNvSpPr>
          <p:nvPr>
            <p:ph type="sldNum" idx="227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7216-44AF-452D-9659-0C33144BF032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1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832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3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 type="dt" idx="2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PlaceHolder 4"/>
          <p:cNvSpPr>
            <a:spLocks noGrp="1"/>
          </p:cNvSpPr>
          <p:nvPr>
            <p:ph type="ftr" idx="2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PlaceHolder 5"/>
          <p:cNvSpPr>
            <a:spLocks noGrp="1"/>
          </p:cNvSpPr>
          <p:nvPr>
            <p:ph type="sldNum" idx="230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61B4-89BB-411F-A83A-774FD728AD27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5" name="Rectangle 2"/>
          <p:cNvGrpSpPr/>
          <p:nvPr/>
        </p:nvGrpSpPr>
        <p:grpSpPr>
          <a:xfrm>
            <a:off x="-6480" y="-6480"/>
            <a:ext cx="9156960" cy="781200"/>
            <a:chOff x="-6480" y="-6480"/>
            <a:chExt cx="9156960" cy="781200"/>
          </a:xfrm>
        </p:grpSpPr>
        <p:pic>
          <p:nvPicPr>
            <p:cNvPr id="3876" name="Rectangle 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7" name="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 type="body"/>
          </p:nvPr>
        </p:nvSpPr>
        <p:spPr>
          <a:xfrm>
            <a:off x="457200" y="17478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PlaceHolder 3"/>
          <p:cNvSpPr>
            <a:spLocks noGrp="1"/>
          </p:cNvSpPr>
          <p:nvPr>
            <p:ph type="dt" idx="2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PlaceHolder 4"/>
          <p:cNvSpPr>
            <a:spLocks noGrp="1"/>
          </p:cNvSpPr>
          <p:nvPr>
            <p:ph type="ftr" idx="2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PlaceHolder 5"/>
          <p:cNvSpPr>
            <a:spLocks noGrp="1"/>
          </p:cNvSpPr>
          <p:nvPr>
            <p:ph type="sldNum" idx="233"/>
          </p:nvPr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F39E-85AF-4FC0-8689-5F67EA88F5AF}" type="slidenum">
              <a:rPr b="1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Rectangle 6"/>
          <p:cNvSpPr/>
          <p:nvPr/>
        </p:nvSpPr>
        <p:spPr>
          <a:xfrm>
            <a:off x="6553080" y="6518160"/>
            <a:ext cx="25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CEC9-5A74-4DC4-A688-C3C19FD8D5E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슬라이드 번호 개체 틀 2"/>
          <p:cNvSpPr/>
          <p:nvPr/>
        </p:nvSpPr>
        <p:spPr>
          <a:xfrm>
            <a:off x="6553080" y="6518160"/>
            <a:ext cx="2590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CB02-E3BC-4E4E-8961-5FF17767C196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8" name="Picture 64" descr="표지변경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29" name="Picture 65" descr="별2"/>
          <p:cNvPicPr/>
          <p:nvPr/>
        </p:nvPicPr>
        <p:blipFill>
          <a:blip r:embed="rId2"/>
          <a:srcRect l="90810" t="0" r="0" b="-6977"/>
          <a:stretch/>
        </p:blipFill>
        <p:spPr>
          <a:xfrm>
            <a:off x="8118360" y="333360"/>
            <a:ext cx="358920" cy="581040"/>
          </a:xfrm>
          <a:prstGeom prst="rect">
            <a:avLst/>
          </a:prstGeom>
          <a:ln w="0">
            <a:noFill/>
          </a:ln>
        </p:spPr>
      </p:pic>
      <p:pic>
        <p:nvPicPr>
          <p:cNvPr id="3930" name="Picture 66" descr="별2"/>
          <p:cNvPicPr/>
          <p:nvPr/>
        </p:nvPicPr>
        <p:blipFill>
          <a:blip r:embed="rId3"/>
          <a:srcRect l="90810" t="0" r="0" b="-6977"/>
          <a:stretch/>
        </p:blipFill>
        <p:spPr>
          <a:xfrm>
            <a:off x="6300720" y="189000"/>
            <a:ext cx="327240" cy="530280"/>
          </a:xfrm>
          <a:prstGeom prst="rect">
            <a:avLst/>
          </a:prstGeom>
          <a:ln w="0">
            <a:noFill/>
          </a:ln>
        </p:spPr>
      </p:pic>
      <p:grpSp>
        <p:nvGrpSpPr>
          <p:cNvPr id="3931" name="Rectangle 69"/>
          <p:cNvGrpSpPr/>
          <p:nvPr/>
        </p:nvGrpSpPr>
        <p:grpSpPr>
          <a:xfrm>
            <a:off x="-6480" y="2090880"/>
            <a:ext cx="9156960" cy="2496240"/>
            <a:chOff x="-6480" y="2090880"/>
            <a:chExt cx="9156960" cy="2496240"/>
          </a:xfrm>
        </p:grpSpPr>
        <p:pic>
          <p:nvPicPr>
            <p:cNvPr id="3932" name="Rectangle 69" descr=""/>
            <p:cNvPicPr/>
            <p:nvPr/>
          </p:nvPicPr>
          <p:blipFill>
            <a:blip r:embed="rId4"/>
            <a:stretch/>
          </p:blipFill>
          <p:spPr>
            <a:xfrm>
              <a:off x="-6480" y="2090880"/>
              <a:ext cx="9156960" cy="249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3" name="Text Box 10"/>
            <p:cNvSpPr/>
            <p:nvPr/>
          </p:nvSpPr>
          <p:spPr>
            <a:xfrm>
              <a:off x="0" y="2106720"/>
              <a:ext cx="9144000" cy="24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JCT-VC F301 </a:t>
              </a: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CE8 Subtest 1</a:t>
              </a:r>
              <a:br>
                <a:rPr sz="4000"/>
              </a:b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Block-based Filter Adaptation (BA)</a:t>
              </a:r>
              <a:br>
                <a:rPr sz="4000"/>
              </a:b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with Features on Subset of Pixels</a:t>
              </a:r>
              <a:br>
                <a:rPr sz="4400"/>
              </a:b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1" i="1" lang="en-US" sz="2800" spc="-1" strike="noStrike" baseline="30000">
                  <a:solidFill>
                    <a:srgbClr val="ffffff"/>
                  </a:solidFill>
                  <a:latin typeface="Arial"/>
                </a:rPr>
                <a:t>th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 JCT-VC Meeting, July 2011</a:t>
              </a:r>
              <a:br>
                <a:rPr sz="2800"/>
              </a:b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PoLin Lai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elix C. A. Fernandes</a:t>
              </a:r>
              <a:br>
                <a:rPr sz="2800"/>
              </a:b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Il-Koo Kim</a:t>
              </a:r>
              <a:br>
                <a:rPr sz="2800"/>
              </a:b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amsung Electronics Co., Ltd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7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850" autoRev="1" fill="hold"/>
                                        <p:tgtEl>
                                          <p:spTgt spid="39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700"/>
                                        <p:tgtEl>
                                          <p:spTgt spid="39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850" autoRev="1" fill="hold"/>
                                        <p:tgtEl>
                                          <p:spTgt spid="39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A: Features computed on subset of pixe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5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3494-FB4E-412F-9ACF-7CD764EE3B4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TextBox 107"/>
          <p:cNvSpPr/>
          <p:nvPr/>
        </p:nvSpPr>
        <p:spPr>
          <a:xfrm>
            <a:off x="326880" y="4052880"/>
            <a:ext cx="862488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(i,j) = abs ( X(i,j)&lt;&lt;1 - X(i,j-1) - X(i,j+1) )       4 pixel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(i,j) = abs ( X(i,j)&lt;&lt;1 - X(i-1,j) - X(i+1,j) )       4 * [1 shift + 2*(2 adds+1 abs) ] </a:t>
            </a:r>
            <a:r>
              <a:rPr b="0" i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28 operation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’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= ∑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=0,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∑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j=0,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H(i,j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3 add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’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=0,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∑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j=0,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V(i,j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3 adds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= H’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+ V’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 add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tal: 28 + 6 + 1 = 35 (add/shift/abs) per 4x4 block, i.e.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.2 (add/shift/abs) per luma pixel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is is significantly reduced from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ver 11 operations per luma pixel as in HM 3.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[F342]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8" name="Straight Arrow Connector 149"/>
          <p:cNvCxnSpPr/>
          <p:nvPr/>
        </p:nvCxnSpPr>
        <p:spPr>
          <a:xfrm flipH="1">
            <a:off x="1739520" y="119016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39" name="Straight Arrow Connector 150"/>
          <p:cNvCxnSpPr/>
          <p:nvPr/>
        </p:nvCxnSpPr>
        <p:spPr>
          <a:xfrm flipH="1">
            <a:off x="1739520" y="164592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40" name="Straight Arrow Connector 151"/>
          <p:cNvCxnSpPr/>
          <p:nvPr/>
        </p:nvCxnSpPr>
        <p:spPr>
          <a:xfrm flipH="1">
            <a:off x="1739520" y="210312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41" name="Straight Arrow Connector 152"/>
          <p:cNvCxnSpPr/>
          <p:nvPr/>
        </p:nvCxnSpPr>
        <p:spPr>
          <a:xfrm flipH="1">
            <a:off x="2208960" y="118872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42" name="Straight Arrow Connector 153"/>
          <p:cNvCxnSpPr/>
          <p:nvPr/>
        </p:nvCxnSpPr>
        <p:spPr>
          <a:xfrm flipH="1">
            <a:off x="2208960" y="164592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43" name="Straight Arrow Connector 154"/>
          <p:cNvCxnSpPr/>
          <p:nvPr/>
        </p:nvCxnSpPr>
        <p:spPr>
          <a:xfrm flipH="1">
            <a:off x="2208960" y="210312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44" name="Straight Arrow Connector 155"/>
          <p:cNvCxnSpPr/>
          <p:nvPr/>
        </p:nvCxnSpPr>
        <p:spPr>
          <a:xfrm flipH="1">
            <a:off x="2666160" y="118872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45" name="Straight Arrow Connector 156"/>
          <p:cNvCxnSpPr/>
          <p:nvPr/>
        </p:nvCxnSpPr>
        <p:spPr>
          <a:xfrm flipH="1">
            <a:off x="2666160" y="164592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46" name="Straight Arrow Connector 157"/>
          <p:cNvCxnSpPr/>
          <p:nvPr/>
        </p:nvCxnSpPr>
        <p:spPr>
          <a:xfrm flipH="1">
            <a:off x="2666160" y="210312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3947" name="Oval 158"/>
          <p:cNvSpPr/>
          <p:nvPr/>
        </p:nvSpPr>
        <p:spPr>
          <a:xfrm>
            <a:off x="2165400" y="29275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Oval 159"/>
          <p:cNvSpPr/>
          <p:nvPr/>
        </p:nvSpPr>
        <p:spPr>
          <a:xfrm>
            <a:off x="2622600" y="29275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Oval 160"/>
          <p:cNvSpPr/>
          <p:nvPr/>
        </p:nvSpPr>
        <p:spPr>
          <a:xfrm>
            <a:off x="3079800" y="29275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Oval 161"/>
          <p:cNvSpPr/>
          <p:nvPr/>
        </p:nvSpPr>
        <p:spPr>
          <a:xfrm>
            <a:off x="3537000" y="29275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Oval 162"/>
          <p:cNvSpPr/>
          <p:nvPr/>
        </p:nvSpPr>
        <p:spPr>
          <a:xfrm>
            <a:off x="2165400" y="24703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Oval 163"/>
          <p:cNvSpPr/>
          <p:nvPr/>
        </p:nvSpPr>
        <p:spPr>
          <a:xfrm>
            <a:off x="2622600" y="24703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Oval 164"/>
          <p:cNvSpPr/>
          <p:nvPr/>
        </p:nvSpPr>
        <p:spPr>
          <a:xfrm>
            <a:off x="3079800" y="24703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Oval 165"/>
          <p:cNvSpPr/>
          <p:nvPr/>
        </p:nvSpPr>
        <p:spPr>
          <a:xfrm>
            <a:off x="3537000" y="24703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Oval 166"/>
          <p:cNvSpPr/>
          <p:nvPr/>
        </p:nvSpPr>
        <p:spPr>
          <a:xfrm>
            <a:off x="2165400" y="20131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Oval 167"/>
          <p:cNvSpPr/>
          <p:nvPr/>
        </p:nvSpPr>
        <p:spPr>
          <a:xfrm>
            <a:off x="2622600" y="20131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Oval 168"/>
          <p:cNvSpPr/>
          <p:nvPr/>
        </p:nvSpPr>
        <p:spPr>
          <a:xfrm>
            <a:off x="3079800" y="20131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Oval 169"/>
          <p:cNvSpPr/>
          <p:nvPr/>
        </p:nvSpPr>
        <p:spPr>
          <a:xfrm>
            <a:off x="3537000" y="20131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Oval 170"/>
          <p:cNvSpPr/>
          <p:nvPr/>
        </p:nvSpPr>
        <p:spPr>
          <a:xfrm>
            <a:off x="2165400" y="15559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Oval 171"/>
          <p:cNvSpPr/>
          <p:nvPr/>
        </p:nvSpPr>
        <p:spPr>
          <a:xfrm>
            <a:off x="2622600" y="15559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Oval 172"/>
          <p:cNvSpPr/>
          <p:nvPr/>
        </p:nvSpPr>
        <p:spPr>
          <a:xfrm>
            <a:off x="3079800" y="15559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Oval 173"/>
          <p:cNvSpPr/>
          <p:nvPr/>
        </p:nvSpPr>
        <p:spPr>
          <a:xfrm>
            <a:off x="3537000" y="15559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3" name="Straight Arrow Connector 174"/>
          <p:cNvCxnSpPr/>
          <p:nvPr/>
        </p:nvCxnSpPr>
        <p:spPr>
          <a:xfrm>
            <a:off x="1827000" y="113940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64" name="Straight Arrow Connector 175"/>
          <p:cNvCxnSpPr/>
          <p:nvPr/>
        </p:nvCxnSpPr>
        <p:spPr>
          <a:xfrm>
            <a:off x="2284200" y="113940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65" name="Straight Arrow Connector 176"/>
          <p:cNvCxnSpPr/>
          <p:nvPr/>
        </p:nvCxnSpPr>
        <p:spPr>
          <a:xfrm>
            <a:off x="2741400" y="113940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66" name="Straight Arrow Connector 177"/>
          <p:cNvCxnSpPr/>
          <p:nvPr/>
        </p:nvCxnSpPr>
        <p:spPr>
          <a:xfrm>
            <a:off x="1827000" y="159660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67" name="Straight Arrow Connector 178"/>
          <p:cNvCxnSpPr/>
          <p:nvPr/>
        </p:nvCxnSpPr>
        <p:spPr>
          <a:xfrm>
            <a:off x="2284200" y="159660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68" name="Straight Arrow Connector 179"/>
          <p:cNvCxnSpPr/>
          <p:nvPr/>
        </p:nvCxnSpPr>
        <p:spPr>
          <a:xfrm>
            <a:off x="2741400" y="159660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69" name="Straight Arrow Connector 180"/>
          <p:cNvCxnSpPr/>
          <p:nvPr/>
        </p:nvCxnSpPr>
        <p:spPr>
          <a:xfrm>
            <a:off x="1827000" y="205272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70" name="Straight Arrow Connector 181"/>
          <p:cNvCxnSpPr/>
          <p:nvPr/>
        </p:nvCxnSpPr>
        <p:spPr>
          <a:xfrm>
            <a:off x="2284200" y="205272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71" name="Straight Arrow Connector 182"/>
          <p:cNvCxnSpPr/>
          <p:nvPr/>
        </p:nvCxnSpPr>
        <p:spPr>
          <a:xfrm>
            <a:off x="2741400" y="205272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3972" name="Oval 183"/>
          <p:cNvSpPr/>
          <p:nvPr/>
        </p:nvSpPr>
        <p:spPr>
          <a:xfrm>
            <a:off x="1676520" y="19670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Oval 184"/>
          <p:cNvSpPr/>
          <p:nvPr/>
        </p:nvSpPr>
        <p:spPr>
          <a:xfrm>
            <a:off x="2133720" y="19670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Oval 185"/>
          <p:cNvSpPr/>
          <p:nvPr/>
        </p:nvSpPr>
        <p:spPr>
          <a:xfrm>
            <a:off x="2590920" y="19670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Oval 186"/>
          <p:cNvSpPr/>
          <p:nvPr/>
        </p:nvSpPr>
        <p:spPr>
          <a:xfrm>
            <a:off x="1676520" y="15098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Oval 187"/>
          <p:cNvSpPr/>
          <p:nvPr/>
        </p:nvSpPr>
        <p:spPr>
          <a:xfrm>
            <a:off x="2133720" y="15098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Oval 188"/>
          <p:cNvSpPr/>
          <p:nvPr/>
        </p:nvSpPr>
        <p:spPr>
          <a:xfrm>
            <a:off x="2590920" y="15098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Oval 189"/>
          <p:cNvSpPr/>
          <p:nvPr/>
        </p:nvSpPr>
        <p:spPr>
          <a:xfrm>
            <a:off x="1676520" y="10526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Oval 190"/>
          <p:cNvSpPr/>
          <p:nvPr/>
        </p:nvSpPr>
        <p:spPr>
          <a:xfrm>
            <a:off x="2133720" y="10526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Oval 191"/>
          <p:cNvSpPr/>
          <p:nvPr/>
        </p:nvSpPr>
        <p:spPr>
          <a:xfrm>
            <a:off x="2590920" y="10526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1" name="Straight Arrow Connector 223"/>
          <p:cNvCxnSpPr/>
          <p:nvPr/>
        </p:nvCxnSpPr>
        <p:spPr>
          <a:xfrm flipH="1">
            <a:off x="3134520" y="119196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82" name="Straight Arrow Connector 224"/>
          <p:cNvCxnSpPr/>
          <p:nvPr/>
        </p:nvCxnSpPr>
        <p:spPr>
          <a:xfrm flipH="1">
            <a:off x="3134520" y="164736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83" name="Straight Arrow Connector 225"/>
          <p:cNvCxnSpPr/>
          <p:nvPr/>
        </p:nvCxnSpPr>
        <p:spPr>
          <a:xfrm flipH="1">
            <a:off x="3134520" y="210456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84" name="Straight Arrow Connector 226"/>
          <p:cNvCxnSpPr/>
          <p:nvPr/>
        </p:nvCxnSpPr>
        <p:spPr>
          <a:xfrm flipH="1">
            <a:off x="3590640" y="210456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85" name="Straight Arrow Connector 227"/>
          <p:cNvCxnSpPr/>
          <p:nvPr/>
        </p:nvCxnSpPr>
        <p:spPr>
          <a:xfrm>
            <a:off x="3207960" y="114300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86" name="Straight Arrow Connector 228"/>
          <p:cNvCxnSpPr/>
          <p:nvPr/>
        </p:nvCxnSpPr>
        <p:spPr>
          <a:xfrm>
            <a:off x="3665160" y="114300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87" name="Straight Arrow Connector 229"/>
          <p:cNvCxnSpPr/>
          <p:nvPr/>
        </p:nvCxnSpPr>
        <p:spPr>
          <a:xfrm>
            <a:off x="3207960" y="160020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88" name="Straight Arrow Connector 230"/>
          <p:cNvCxnSpPr/>
          <p:nvPr/>
        </p:nvCxnSpPr>
        <p:spPr>
          <a:xfrm>
            <a:off x="3665160" y="160020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89" name="Straight Arrow Connector 231"/>
          <p:cNvCxnSpPr/>
          <p:nvPr/>
        </p:nvCxnSpPr>
        <p:spPr>
          <a:xfrm>
            <a:off x="3207960" y="205596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90" name="Straight Arrow Connector 232"/>
          <p:cNvCxnSpPr/>
          <p:nvPr/>
        </p:nvCxnSpPr>
        <p:spPr>
          <a:xfrm>
            <a:off x="3665160" y="205596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3991" name="Oval 233"/>
          <p:cNvSpPr/>
          <p:nvPr/>
        </p:nvSpPr>
        <p:spPr>
          <a:xfrm>
            <a:off x="3057480" y="196848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Oval 234"/>
          <p:cNvSpPr/>
          <p:nvPr/>
        </p:nvSpPr>
        <p:spPr>
          <a:xfrm>
            <a:off x="3514680" y="196848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Oval 235"/>
          <p:cNvSpPr/>
          <p:nvPr/>
        </p:nvSpPr>
        <p:spPr>
          <a:xfrm>
            <a:off x="3057480" y="151128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Oval 236"/>
          <p:cNvSpPr/>
          <p:nvPr/>
        </p:nvSpPr>
        <p:spPr>
          <a:xfrm>
            <a:off x="3514680" y="151128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Oval 237"/>
          <p:cNvSpPr/>
          <p:nvPr/>
        </p:nvSpPr>
        <p:spPr>
          <a:xfrm>
            <a:off x="3057480" y="105408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Oval 238"/>
          <p:cNvSpPr/>
          <p:nvPr/>
        </p:nvSpPr>
        <p:spPr>
          <a:xfrm>
            <a:off x="3514680" y="105408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7" name="Straight Arrow Connector 240"/>
          <p:cNvCxnSpPr/>
          <p:nvPr/>
        </p:nvCxnSpPr>
        <p:spPr>
          <a:xfrm flipH="1">
            <a:off x="3587400" y="119520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98" name="Straight Arrow Connector 241"/>
          <p:cNvCxnSpPr/>
          <p:nvPr/>
        </p:nvCxnSpPr>
        <p:spPr>
          <a:xfrm flipH="1">
            <a:off x="3588480" y="164736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3999" name="Straight Arrow Connector 242"/>
          <p:cNvCxnSpPr/>
          <p:nvPr/>
        </p:nvCxnSpPr>
        <p:spPr>
          <a:xfrm flipH="1">
            <a:off x="4021920" y="119196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00" name="Straight Arrow Connector 243"/>
          <p:cNvCxnSpPr/>
          <p:nvPr/>
        </p:nvCxnSpPr>
        <p:spPr>
          <a:xfrm flipH="1">
            <a:off x="4021920" y="164736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01" name="Straight Arrow Connector 244"/>
          <p:cNvCxnSpPr/>
          <p:nvPr/>
        </p:nvCxnSpPr>
        <p:spPr>
          <a:xfrm flipH="1">
            <a:off x="4021920" y="210456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02" name="Straight Arrow Connector 245"/>
          <p:cNvCxnSpPr/>
          <p:nvPr/>
        </p:nvCxnSpPr>
        <p:spPr>
          <a:xfrm>
            <a:off x="4107960" y="114300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03" name="Straight Arrow Connector 246"/>
          <p:cNvCxnSpPr/>
          <p:nvPr/>
        </p:nvCxnSpPr>
        <p:spPr>
          <a:xfrm>
            <a:off x="4107960" y="160020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04" name="Straight Arrow Connector 247"/>
          <p:cNvCxnSpPr/>
          <p:nvPr/>
        </p:nvCxnSpPr>
        <p:spPr>
          <a:xfrm>
            <a:off x="4107960" y="205596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005" name="Oval 248"/>
          <p:cNvSpPr/>
          <p:nvPr/>
        </p:nvSpPr>
        <p:spPr>
          <a:xfrm>
            <a:off x="3959280" y="196848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Oval 249"/>
          <p:cNvSpPr/>
          <p:nvPr/>
        </p:nvSpPr>
        <p:spPr>
          <a:xfrm>
            <a:off x="3959280" y="151128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Oval 250"/>
          <p:cNvSpPr/>
          <p:nvPr/>
        </p:nvSpPr>
        <p:spPr>
          <a:xfrm>
            <a:off x="3959280" y="105408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08" name="Straight Arrow Connector 351"/>
          <p:cNvCxnSpPr/>
          <p:nvPr/>
        </p:nvCxnSpPr>
        <p:spPr>
          <a:xfrm flipH="1">
            <a:off x="1742760" y="254916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09" name="Straight Arrow Connector 352"/>
          <p:cNvCxnSpPr/>
          <p:nvPr/>
        </p:nvCxnSpPr>
        <p:spPr>
          <a:xfrm flipH="1">
            <a:off x="1742760" y="300636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10" name="Straight Arrow Connector 353"/>
          <p:cNvCxnSpPr/>
          <p:nvPr/>
        </p:nvCxnSpPr>
        <p:spPr>
          <a:xfrm flipH="1">
            <a:off x="2211120" y="254916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11" name="Straight Arrow Connector 354"/>
          <p:cNvCxnSpPr/>
          <p:nvPr/>
        </p:nvCxnSpPr>
        <p:spPr>
          <a:xfrm flipH="1">
            <a:off x="2211120" y="300636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12" name="Straight Arrow Connector 355"/>
          <p:cNvCxnSpPr/>
          <p:nvPr/>
        </p:nvCxnSpPr>
        <p:spPr>
          <a:xfrm flipH="1">
            <a:off x="2668320" y="254916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13" name="Straight Arrow Connector 356"/>
          <p:cNvCxnSpPr/>
          <p:nvPr/>
        </p:nvCxnSpPr>
        <p:spPr>
          <a:xfrm flipH="1">
            <a:off x="2668320" y="300636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014" name="Oval 357"/>
          <p:cNvSpPr/>
          <p:nvPr/>
        </p:nvSpPr>
        <p:spPr>
          <a:xfrm>
            <a:off x="2168640" y="29163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Oval 358"/>
          <p:cNvSpPr/>
          <p:nvPr/>
        </p:nvSpPr>
        <p:spPr>
          <a:xfrm>
            <a:off x="2625840" y="29163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Oval 359"/>
          <p:cNvSpPr/>
          <p:nvPr/>
        </p:nvSpPr>
        <p:spPr>
          <a:xfrm>
            <a:off x="3083040" y="29163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Oval 360"/>
          <p:cNvSpPr/>
          <p:nvPr/>
        </p:nvSpPr>
        <p:spPr>
          <a:xfrm>
            <a:off x="3540240" y="29163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Oval 361"/>
          <p:cNvSpPr/>
          <p:nvPr/>
        </p:nvSpPr>
        <p:spPr>
          <a:xfrm>
            <a:off x="2168640" y="24591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Oval 362"/>
          <p:cNvSpPr/>
          <p:nvPr/>
        </p:nvSpPr>
        <p:spPr>
          <a:xfrm>
            <a:off x="2625840" y="24591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Oval 363"/>
          <p:cNvSpPr/>
          <p:nvPr/>
        </p:nvSpPr>
        <p:spPr>
          <a:xfrm>
            <a:off x="3083040" y="24591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Oval 364"/>
          <p:cNvSpPr/>
          <p:nvPr/>
        </p:nvSpPr>
        <p:spPr>
          <a:xfrm>
            <a:off x="3540240" y="245916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2" name="Straight Arrow Connector 365"/>
          <p:cNvCxnSpPr/>
          <p:nvPr/>
        </p:nvCxnSpPr>
        <p:spPr>
          <a:xfrm>
            <a:off x="1828440" y="249984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23" name="Straight Arrow Connector 366"/>
          <p:cNvCxnSpPr/>
          <p:nvPr/>
        </p:nvCxnSpPr>
        <p:spPr>
          <a:xfrm>
            <a:off x="2285640" y="249984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24" name="Straight Arrow Connector 367"/>
          <p:cNvCxnSpPr/>
          <p:nvPr/>
        </p:nvCxnSpPr>
        <p:spPr>
          <a:xfrm>
            <a:off x="2742840" y="249984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25" name="Straight Arrow Connector 368"/>
          <p:cNvCxnSpPr/>
          <p:nvPr/>
        </p:nvCxnSpPr>
        <p:spPr>
          <a:xfrm>
            <a:off x="1828440" y="295596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26" name="Straight Arrow Connector 369"/>
          <p:cNvCxnSpPr/>
          <p:nvPr/>
        </p:nvCxnSpPr>
        <p:spPr>
          <a:xfrm>
            <a:off x="2285640" y="295596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27" name="Straight Arrow Connector 370"/>
          <p:cNvCxnSpPr/>
          <p:nvPr/>
        </p:nvCxnSpPr>
        <p:spPr>
          <a:xfrm>
            <a:off x="2742840" y="295596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028" name="Oval 371"/>
          <p:cNvSpPr/>
          <p:nvPr/>
        </p:nvSpPr>
        <p:spPr>
          <a:xfrm>
            <a:off x="1679400" y="28702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Oval 372"/>
          <p:cNvSpPr/>
          <p:nvPr/>
        </p:nvSpPr>
        <p:spPr>
          <a:xfrm>
            <a:off x="2136600" y="28702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Oval 373"/>
          <p:cNvSpPr/>
          <p:nvPr/>
        </p:nvSpPr>
        <p:spPr>
          <a:xfrm>
            <a:off x="2593800" y="28702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Oval 374"/>
          <p:cNvSpPr/>
          <p:nvPr/>
        </p:nvSpPr>
        <p:spPr>
          <a:xfrm>
            <a:off x="1679400" y="24130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Oval 375"/>
          <p:cNvSpPr/>
          <p:nvPr/>
        </p:nvSpPr>
        <p:spPr>
          <a:xfrm>
            <a:off x="2136600" y="24130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Oval 376"/>
          <p:cNvSpPr/>
          <p:nvPr/>
        </p:nvSpPr>
        <p:spPr>
          <a:xfrm>
            <a:off x="2593800" y="24130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4" name="Straight Arrow Connector 377"/>
          <p:cNvCxnSpPr/>
          <p:nvPr/>
        </p:nvCxnSpPr>
        <p:spPr>
          <a:xfrm flipH="1">
            <a:off x="3136680" y="255060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35" name="Straight Arrow Connector 378"/>
          <p:cNvCxnSpPr/>
          <p:nvPr/>
        </p:nvCxnSpPr>
        <p:spPr>
          <a:xfrm flipH="1">
            <a:off x="3136680" y="300780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36" name="Straight Arrow Connector 379"/>
          <p:cNvCxnSpPr/>
          <p:nvPr/>
        </p:nvCxnSpPr>
        <p:spPr>
          <a:xfrm flipH="1">
            <a:off x="3591720" y="300780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37" name="Straight Arrow Connector 380"/>
          <p:cNvCxnSpPr/>
          <p:nvPr/>
        </p:nvCxnSpPr>
        <p:spPr>
          <a:xfrm>
            <a:off x="3209400" y="250200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38" name="Straight Arrow Connector 381"/>
          <p:cNvCxnSpPr/>
          <p:nvPr/>
        </p:nvCxnSpPr>
        <p:spPr>
          <a:xfrm>
            <a:off x="3666600" y="250200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39" name="Straight Arrow Connector 382"/>
          <p:cNvCxnSpPr/>
          <p:nvPr/>
        </p:nvCxnSpPr>
        <p:spPr>
          <a:xfrm>
            <a:off x="3209400" y="295704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40" name="Straight Arrow Connector 383"/>
          <p:cNvCxnSpPr/>
          <p:nvPr/>
        </p:nvCxnSpPr>
        <p:spPr>
          <a:xfrm>
            <a:off x="3666600" y="295704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041" name="Oval 384"/>
          <p:cNvSpPr/>
          <p:nvPr/>
        </p:nvSpPr>
        <p:spPr>
          <a:xfrm>
            <a:off x="3060720" y="287172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Oval 385"/>
          <p:cNvSpPr/>
          <p:nvPr/>
        </p:nvSpPr>
        <p:spPr>
          <a:xfrm>
            <a:off x="3517920" y="287172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Oval 386"/>
          <p:cNvSpPr/>
          <p:nvPr/>
        </p:nvSpPr>
        <p:spPr>
          <a:xfrm>
            <a:off x="3060720" y="241452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Oval 387"/>
          <p:cNvSpPr/>
          <p:nvPr/>
        </p:nvSpPr>
        <p:spPr>
          <a:xfrm>
            <a:off x="3517920" y="241452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5" name="Straight Arrow Connector 388"/>
          <p:cNvCxnSpPr/>
          <p:nvPr/>
        </p:nvCxnSpPr>
        <p:spPr>
          <a:xfrm flipH="1">
            <a:off x="3591720" y="255060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46" name="Straight Arrow Connector 389"/>
          <p:cNvCxnSpPr/>
          <p:nvPr/>
        </p:nvCxnSpPr>
        <p:spPr>
          <a:xfrm flipH="1">
            <a:off x="4024080" y="255060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47" name="Straight Arrow Connector 390"/>
          <p:cNvCxnSpPr/>
          <p:nvPr/>
        </p:nvCxnSpPr>
        <p:spPr>
          <a:xfrm flipH="1">
            <a:off x="4024080" y="300780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48" name="Straight Arrow Connector 391"/>
          <p:cNvCxnSpPr/>
          <p:nvPr/>
        </p:nvCxnSpPr>
        <p:spPr>
          <a:xfrm>
            <a:off x="4111200" y="250200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49" name="Straight Arrow Connector 392"/>
          <p:cNvCxnSpPr/>
          <p:nvPr/>
        </p:nvCxnSpPr>
        <p:spPr>
          <a:xfrm>
            <a:off x="4111200" y="295704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050" name="Oval 393"/>
          <p:cNvSpPr/>
          <p:nvPr/>
        </p:nvSpPr>
        <p:spPr>
          <a:xfrm>
            <a:off x="3960720" y="2871720"/>
            <a:ext cx="1526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Oval 394"/>
          <p:cNvSpPr/>
          <p:nvPr/>
        </p:nvSpPr>
        <p:spPr>
          <a:xfrm>
            <a:off x="3960720" y="2414520"/>
            <a:ext cx="1526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2" name="Straight Arrow Connector 395"/>
          <p:cNvCxnSpPr/>
          <p:nvPr/>
        </p:nvCxnSpPr>
        <p:spPr>
          <a:xfrm flipH="1">
            <a:off x="1742760" y="343008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53" name="Straight Arrow Connector 396"/>
          <p:cNvCxnSpPr/>
          <p:nvPr/>
        </p:nvCxnSpPr>
        <p:spPr>
          <a:xfrm flipH="1">
            <a:off x="2211120" y="342864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54" name="Straight Arrow Connector 397"/>
          <p:cNvCxnSpPr/>
          <p:nvPr/>
        </p:nvCxnSpPr>
        <p:spPr>
          <a:xfrm flipH="1">
            <a:off x="2668320" y="342864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55" name="Straight Arrow Connector 398"/>
          <p:cNvCxnSpPr/>
          <p:nvPr/>
        </p:nvCxnSpPr>
        <p:spPr>
          <a:xfrm>
            <a:off x="1828440" y="338148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56" name="Straight Arrow Connector 399"/>
          <p:cNvCxnSpPr/>
          <p:nvPr/>
        </p:nvCxnSpPr>
        <p:spPr>
          <a:xfrm>
            <a:off x="2285640" y="338148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57" name="Straight Arrow Connector 400"/>
          <p:cNvCxnSpPr/>
          <p:nvPr/>
        </p:nvCxnSpPr>
        <p:spPr>
          <a:xfrm>
            <a:off x="2742840" y="338148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058" name="Oval 401"/>
          <p:cNvSpPr/>
          <p:nvPr/>
        </p:nvSpPr>
        <p:spPr>
          <a:xfrm>
            <a:off x="1679400" y="329256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Oval 402"/>
          <p:cNvSpPr/>
          <p:nvPr/>
        </p:nvSpPr>
        <p:spPr>
          <a:xfrm>
            <a:off x="2136600" y="329256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Oval 403"/>
          <p:cNvSpPr/>
          <p:nvPr/>
        </p:nvSpPr>
        <p:spPr>
          <a:xfrm>
            <a:off x="2593800" y="329256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1" name="Straight Arrow Connector 404"/>
          <p:cNvCxnSpPr/>
          <p:nvPr/>
        </p:nvCxnSpPr>
        <p:spPr>
          <a:xfrm flipH="1">
            <a:off x="3136680" y="343332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62" name="Straight Arrow Connector 405"/>
          <p:cNvCxnSpPr/>
          <p:nvPr/>
        </p:nvCxnSpPr>
        <p:spPr>
          <a:xfrm>
            <a:off x="3209400" y="338256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63" name="Straight Arrow Connector 406"/>
          <p:cNvCxnSpPr/>
          <p:nvPr/>
        </p:nvCxnSpPr>
        <p:spPr>
          <a:xfrm>
            <a:off x="3666600" y="338256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064" name="Oval 407"/>
          <p:cNvSpPr/>
          <p:nvPr/>
        </p:nvSpPr>
        <p:spPr>
          <a:xfrm>
            <a:off x="3060720" y="329580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Oval 408"/>
          <p:cNvSpPr/>
          <p:nvPr/>
        </p:nvSpPr>
        <p:spPr>
          <a:xfrm>
            <a:off x="3517920" y="329580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6" name="Straight Arrow Connector 409"/>
          <p:cNvCxnSpPr/>
          <p:nvPr/>
        </p:nvCxnSpPr>
        <p:spPr>
          <a:xfrm flipH="1">
            <a:off x="3588480" y="343512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67" name="Straight Arrow Connector 410"/>
          <p:cNvCxnSpPr/>
          <p:nvPr/>
        </p:nvCxnSpPr>
        <p:spPr>
          <a:xfrm flipH="1">
            <a:off x="4024080" y="343332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68" name="Straight Arrow Connector 411"/>
          <p:cNvCxnSpPr/>
          <p:nvPr/>
        </p:nvCxnSpPr>
        <p:spPr>
          <a:xfrm>
            <a:off x="4111200" y="338256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069" name="Oval 412"/>
          <p:cNvSpPr/>
          <p:nvPr/>
        </p:nvSpPr>
        <p:spPr>
          <a:xfrm>
            <a:off x="3960720" y="329580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0" name="Straight Arrow Connector 192"/>
          <p:cNvCxnSpPr/>
          <p:nvPr/>
        </p:nvCxnSpPr>
        <p:spPr>
          <a:xfrm flipH="1">
            <a:off x="6114240" y="165528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071" name="Oval 196"/>
          <p:cNvSpPr/>
          <p:nvPr/>
        </p:nvSpPr>
        <p:spPr>
          <a:xfrm>
            <a:off x="6070680" y="29368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Oval 197"/>
          <p:cNvSpPr/>
          <p:nvPr/>
        </p:nvSpPr>
        <p:spPr>
          <a:xfrm>
            <a:off x="6527880" y="29368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Oval 198"/>
          <p:cNvSpPr/>
          <p:nvPr/>
        </p:nvSpPr>
        <p:spPr>
          <a:xfrm>
            <a:off x="6985080" y="29368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Oval 199"/>
          <p:cNvSpPr/>
          <p:nvPr/>
        </p:nvSpPr>
        <p:spPr>
          <a:xfrm>
            <a:off x="7442280" y="29368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Oval 200"/>
          <p:cNvSpPr/>
          <p:nvPr/>
        </p:nvSpPr>
        <p:spPr>
          <a:xfrm>
            <a:off x="6070680" y="24796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Oval 201"/>
          <p:cNvSpPr/>
          <p:nvPr/>
        </p:nvSpPr>
        <p:spPr>
          <a:xfrm>
            <a:off x="6527880" y="24796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Oval 202"/>
          <p:cNvSpPr/>
          <p:nvPr/>
        </p:nvSpPr>
        <p:spPr>
          <a:xfrm>
            <a:off x="6985080" y="24796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Oval 203"/>
          <p:cNvSpPr/>
          <p:nvPr/>
        </p:nvSpPr>
        <p:spPr>
          <a:xfrm>
            <a:off x="7442280" y="24796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Oval 204"/>
          <p:cNvSpPr/>
          <p:nvPr/>
        </p:nvSpPr>
        <p:spPr>
          <a:xfrm>
            <a:off x="6070680" y="20224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Oval 205"/>
          <p:cNvSpPr/>
          <p:nvPr/>
        </p:nvSpPr>
        <p:spPr>
          <a:xfrm>
            <a:off x="6527880" y="20224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Oval 206"/>
          <p:cNvSpPr/>
          <p:nvPr/>
        </p:nvSpPr>
        <p:spPr>
          <a:xfrm>
            <a:off x="6985080" y="20224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Oval 207"/>
          <p:cNvSpPr/>
          <p:nvPr/>
        </p:nvSpPr>
        <p:spPr>
          <a:xfrm>
            <a:off x="7442280" y="20224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Oval 208"/>
          <p:cNvSpPr/>
          <p:nvPr/>
        </p:nvSpPr>
        <p:spPr>
          <a:xfrm>
            <a:off x="6070680" y="15652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Oval 209"/>
          <p:cNvSpPr/>
          <p:nvPr/>
        </p:nvSpPr>
        <p:spPr>
          <a:xfrm>
            <a:off x="6527880" y="15652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Oval 210"/>
          <p:cNvSpPr/>
          <p:nvPr/>
        </p:nvSpPr>
        <p:spPr>
          <a:xfrm>
            <a:off x="6985080" y="15652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Oval 211"/>
          <p:cNvSpPr/>
          <p:nvPr/>
        </p:nvSpPr>
        <p:spPr>
          <a:xfrm>
            <a:off x="7442280" y="156528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7" name="Straight Arrow Connector 212"/>
          <p:cNvCxnSpPr/>
          <p:nvPr/>
        </p:nvCxnSpPr>
        <p:spPr>
          <a:xfrm>
            <a:off x="6189480" y="160668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088" name="Oval 218"/>
          <p:cNvSpPr/>
          <p:nvPr/>
        </p:nvSpPr>
        <p:spPr>
          <a:xfrm>
            <a:off x="6039000" y="151920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9" name="Straight Arrow Connector 220"/>
          <p:cNvCxnSpPr/>
          <p:nvPr/>
        </p:nvCxnSpPr>
        <p:spPr>
          <a:xfrm flipH="1">
            <a:off x="7039800" y="1657080"/>
            <a:ext cx="252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090" name="Straight Arrow Connector 239"/>
          <p:cNvCxnSpPr/>
          <p:nvPr/>
        </p:nvCxnSpPr>
        <p:spPr>
          <a:xfrm>
            <a:off x="7113240" y="160920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091" name="Oval 256"/>
          <p:cNvSpPr/>
          <p:nvPr/>
        </p:nvSpPr>
        <p:spPr>
          <a:xfrm>
            <a:off x="6962760" y="152100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2" name="Straight Arrow Connector 259"/>
          <p:cNvCxnSpPr/>
          <p:nvPr/>
        </p:nvCxnSpPr>
        <p:spPr>
          <a:xfrm flipH="1">
            <a:off x="6116400" y="255852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093" name="Oval 263"/>
          <p:cNvSpPr/>
          <p:nvPr/>
        </p:nvSpPr>
        <p:spPr>
          <a:xfrm>
            <a:off x="6073920" y="29257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Oval 264"/>
          <p:cNvSpPr/>
          <p:nvPr/>
        </p:nvSpPr>
        <p:spPr>
          <a:xfrm>
            <a:off x="6531120" y="29257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Oval 265"/>
          <p:cNvSpPr/>
          <p:nvPr/>
        </p:nvSpPr>
        <p:spPr>
          <a:xfrm>
            <a:off x="6988320" y="29257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Oval 266"/>
          <p:cNvSpPr/>
          <p:nvPr/>
        </p:nvSpPr>
        <p:spPr>
          <a:xfrm>
            <a:off x="7445520" y="29257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Oval 267"/>
          <p:cNvSpPr/>
          <p:nvPr/>
        </p:nvSpPr>
        <p:spPr>
          <a:xfrm>
            <a:off x="6073920" y="24685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Oval 268"/>
          <p:cNvSpPr/>
          <p:nvPr/>
        </p:nvSpPr>
        <p:spPr>
          <a:xfrm>
            <a:off x="6531120" y="24685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Oval 269"/>
          <p:cNvSpPr/>
          <p:nvPr/>
        </p:nvSpPr>
        <p:spPr>
          <a:xfrm>
            <a:off x="6988320" y="24685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Oval 270"/>
          <p:cNvSpPr/>
          <p:nvPr/>
        </p:nvSpPr>
        <p:spPr>
          <a:xfrm>
            <a:off x="7445520" y="2468520"/>
            <a:ext cx="152280" cy="152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1" name="Straight Arrow Connector 271"/>
          <p:cNvCxnSpPr/>
          <p:nvPr/>
        </p:nvCxnSpPr>
        <p:spPr>
          <a:xfrm>
            <a:off x="6190920" y="2509920"/>
            <a:ext cx="2293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102" name="Oval 277"/>
          <p:cNvSpPr/>
          <p:nvPr/>
        </p:nvSpPr>
        <p:spPr>
          <a:xfrm>
            <a:off x="6041880" y="2422440"/>
            <a:ext cx="1526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3" name="Straight Arrow Connector 279"/>
          <p:cNvCxnSpPr/>
          <p:nvPr/>
        </p:nvCxnSpPr>
        <p:spPr>
          <a:xfrm flipH="1">
            <a:off x="7041960" y="2560320"/>
            <a:ext cx="2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cxnSp>
        <p:nvCxnSpPr>
          <p:cNvPr id="4104" name="Straight Arrow Connector 282"/>
          <p:cNvCxnSpPr/>
          <p:nvPr/>
        </p:nvCxnSpPr>
        <p:spPr>
          <a:xfrm>
            <a:off x="7114680" y="2511000"/>
            <a:ext cx="2293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</p:cxnSp>
      <p:sp>
        <p:nvSpPr>
          <p:cNvPr id="4105" name="Oval 288"/>
          <p:cNvSpPr/>
          <p:nvPr/>
        </p:nvSpPr>
        <p:spPr>
          <a:xfrm>
            <a:off x="6966000" y="242424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Rectangle 216"/>
          <p:cNvSpPr/>
          <p:nvPr/>
        </p:nvSpPr>
        <p:spPr>
          <a:xfrm>
            <a:off x="1558800" y="981000"/>
            <a:ext cx="1409760" cy="1352520"/>
          </a:xfrm>
          <a:prstGeom prst="rect">
            <a:avLst/>
          </a:prstGeom>
          <a:noFill/>
          <a:ln w="316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6680" indent="-166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Rectangle 217"/>
          <p:cNvSpPr/>
          <p:nvPr/>
        </p:nvSpPr>
        <p:spPr>
          <a:xfrm>
            <a:off x="5931000" y="1419120"/>
            <a:ext cx="1790640" cy="1800360"/>
          </a:xfrm>
          <a:prstGeom prst="rect">
            <a:avLst/>
          </a:pr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6680" indent="-166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Rectangle 219"/>
          <p:cNvSpPr/>
          <p:nvPr/>
        </p:nvSpPr>
        <p:spPr>
          <a:xfrm>
            <a:off x="2044800" y="1438200"/>
            <a:ext cx="1790640" cy="1800360"/>
          </a:xfrm>
          <a:prstGeom prst="rect">
            <a:avLst/>
          </a:pr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6680" indent="-166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Right Arrow 221"/>
          <p:cNvSpPr/>
          <p:nvPr/>
        </p:nvSpPr>
        <p:spPr>
          <a:xfrm>
            <a:off x="4654440" y="1933560"/>
            <a:ext cx="895320" cy="7318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ccffcc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66680" indent="-166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1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877F-BE4F-46C0-A627-DE09142E5AA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2" name=""/>
          <p:cNvGraphicFramePr/>
          <p:nvPr/>
        </p:nvGraphicFramePr>
        <p:xfrm>
          <a:off x="1143000" y="669960"/>
          <a:ext cx="6772320" cy="5950080"/>
        </p:xfrm>
        <a:graphic>
          <a:graphicData uri="http://schemas.openxmlformats.org/drawingml/2006/table">
            <a:tbl>
              <a:tblPr/>
              <a:tblGrid>
                <a:gridCol w="663480"/>
                <a:gridCol w="644760"/>
                <a:gridCol w="642960"/>
                <a:gridCol w="126720"/>
                <a:gridCol w="573120"/>
                <a:gridCol w="1474920"/>
                <a:gridCol w="663480"/>
                <a:gridCol w="677880"/>
                <a:gridCol w="676440"/>
                <a:gridCol w="114120"/>
                <a:gridCol w="514440"/>
              </a:tblGrid>
              <a:tr h="345600">
                <a:tc gridSpan="5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3.0 RA/B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3.1-dev-adcs RA/B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640">
                <a:tc rowSpan="2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B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B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B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B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B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B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80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% (99%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% (99%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 (96%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% (96%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44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 rowSpan="2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B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B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B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B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B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B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80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 (100%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 (100%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% (99%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% (99%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B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B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B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 B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B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B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 (100%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 (99%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920"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% (98%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200" rIns="522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2200" rIns="522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% (99%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912160" cy="68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sults (BA-Only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4" name="Slide Number Placeholder 3"/>
          <p:cNvSpPr/>
          <p:nvPr/>
        </p:nvSpPr>
        <p:spPr>
          <a:xfrm>
            <a:off x="8342280" y="6657840"/>
            <a:ext cx="838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FAA9-23D9-48F3-B62C-D86B6A8DADB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5" name=""/>
          <p:cNvGraphicFramePr/>
          <p:nvPr/>
        </p:nvGraphicFramePr>
        <p:xfrm>
          <a:off x="387360" y="738360"/>
          <a:ext cx="8346960" cy="5930640"/>
        </p:xfrm>
        <a:graphic>
          <a:graphicData uri="http://schemas.openxmlformats.org/drawingml/2006/table">
            <a:tbl>
              <a:tblPr/>
              <a:tblGrid>
                <a:gridCol w="750240"/>
                <a:gridCol w="347400"/>
                <a:gridCol w="201600"/>
                <a:gridCol w="404280"/>
                <a:gridCol w="77760"/>
                <a:gridCol w="528480"/>
                <a:gridCol w="402840"/>
                <a:gridCol w="740520"/>
                <a:gridCol w="523440"/>
                <a:gridCol w="81000"/>
                <a:gridCol w="437760"/>
                <a:gridCol w="571320"/>
                <a:gridCol w="79920"/>
                <a:gridCol w="1086120"/>
                <a:gridCol w="761400"/>
                <a:gridCol w="347400"/>
                <a:gridCol w="95040"/>
                <a:gridCol w="309240"/>
                <a:gridCol w="100080"/>
                <a:gridCol w="501120"/>
              </a:tblGrid>
              <a:tr h="406800">
                <a:tc gridSpan="6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 3.0 BA-ONLY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sed simplified B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 3.0 BA-ONLY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lassification (sup. Info)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 3.1 dev BA-ONLY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sed simplified B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row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%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%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%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%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row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776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%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1960" rIns="21960" tIns="0" bIns="0" anchor="b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[%]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21960" rIns="219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%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02:16:24Z</dcterms:created>
  <dc:creator>WSL</dc:creator>
  <dc:description/>
  <dc:language>en-US</dc:language>
  <cp:lastModifiedBy>wlai</cp:lastModifiedBy>
  <dcterms:modified xsi:type="dcterms:W3CDTF">2011-07-14T10:23:51Z</dcterms:modified>
  <cp:revision>5568</cp:revision>
  <dc:subject>RF/Modem Workshop</dc:subject>
  <dc:title>WSL Introduction - Status</dc:title>
</cp:coreProperties>
</file>