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3FDF-DF11-45E4-BF6D-B7C6B8F8880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BE1-81C1-4B63-A9A7-6E840FC00949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8834-D832-4DD9-9DC8-4D135C0C546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79A-8E5E-4A44-ADCF-F735FB5BA2AB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917-B0AC-4263-9727-15E60D2B696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239D-957A-4252-AD7E-DECB248F90DE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5C2-FB6E-4D52-B7C2-84F2CCE1D72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9E8C-0BF5-45DD-A08A-BB0405719D9C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ABA-B281-4BD5-8CE4-7ED72BB8D39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AFB-17F7-43D9-B838-9B12F8329DA8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C148-AB5B-4AC0-A61C-9E2284E5819F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5D32-C8D1-4F46-A49E-5C1072C681C4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374-A8FA-4661-8CA3-07F76AAC8D43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B5A-E465-4843-9605-D6CD543FA12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6A2-12C5-4FB8-B62A-C712DDBCCBB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F641-203E-4598-96E0-496B61928CA8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228420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Helvetica 35 Thin"/>
              </a:rPr>
              <a:t>Wavefront Parallel Processing (WPP)</a:t>
            </a: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35 Thin"/>
              </a:rPr>
              <a:t>JCTVC-F274</a:t>
            </a:r>
            <a:endParaRPr b="0" lang="en-US" sz="28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11240" y="45190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2 : Multithreaded De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99640" y="1397160"/>
            <a:ext cx="7993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45 Light"/>
              </a:rPr>
              <a:t>Test condition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ame as Experiment 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ncoding with substream entry points for 16 substreams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ecoded with 2 threads and 4 thread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nchors: HM3.0 decoder tim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45 Light"/>
              </a:rPr>
              <a:t>Cross-check by Qualcomm (JCTVC-F588)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9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2 : Multithreaded De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99640" y="1181160"/>
            <a:ext cx="7993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For larger sequences (Classes A,B,E) acceleration factor is x1.8 with two threads and 3x with four threads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For 1080p@24fps, real-time decoding is achieved with 4 thread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emo available on reques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3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341360" y="3213000"/>
          <a:ext cx="6902640" cy="3168720"/>
        </p:xfrm>
        <a:graphic>
          <a:graphicData uri="http://schemas.openxmlformats.org/drawingml/2006/table">
            <a:tbl>
              <a:tblPr/>
              <a:tblGrid>
                <a:gridCol w="3030480"/>
                <a:gridCol w="1247760"/>
                <a:gridCol w="1378080"/>
                <a:gridCol w="1246320"/>
              </a:tblGrid>
              <a:tr h="2764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CODING with 2 THRE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A (2560x1600) 4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B (1920x1080) 2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E (1280x720) 1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C (832x480) 0.4Mp/fr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D (416x240) 0.1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CODING with 4 THRE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A (2560x1600) 4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B (1920x1080) 2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5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E (1280x720) 1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C (832x480) 0.4Mp/fr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ass D (416x240) 0.1Mp/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3: HM3.0 + Tile + WPP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17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011240" y="1125360"/>
            <a:ext cx="70977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ased on eBrisk HM3.0 + Tiles softwa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avefront is implemented within each tile, taking into account Tile dependenc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xample use case: Wavefront parallel processing of side-by-side 3D conten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Verification by Panasonic (JCTVC-F588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519" name="Picture 2" descr="tiles1"/>
          <p:cNvPicPr/>
          <p:nvPr/>
        </p:nvPicPr>
        <p:blipFill>
          <a:blip r:embed="rId1"/>
          <a:stretch/>
        </p:blipFill>
        <p:spPr>
          <a:xfrm>
            <a:off x="1420920" y="3517920"/>
            <a:ext cx="2493720" cy="2359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tiles2"/>
          <p:cNvPicPr/>
          <p:nvPr/>
        </p:nvPicPr>
        <p:blipFill>
          <a:blip r:embed="rId2"/>
          <a:stretch/>
        </p:blipFill>
        <p:spPr>
          <a:xfrm>
            <a:off x="4805280" y="3517920"/>
            <a:ext cx="2430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3: HM3.0 + Tiles + WPP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92144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ame as Experiment 1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nchors are HM3.0+Til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erformance presented for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2 substreams per tiles (independent til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2 substreams per frame (dependent til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R/D impact similar to Experiment1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PP is compatible with Til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3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124000" y="4581360"/>
          <a:ext cx="5329440" cy="1224000"/>
        </p:xfrm>
        <a:graphic>
          <a:graphicData uri="http://schemas.openxmlformats.org/drawingml/2006/table">
            <a:tbl>
              <a:tblPr/>
              <a:tblGrid>
                <a:gridCol w="1776600"/>
                <a:gridCol w="1776240"/>
                <a:gridCol w="1776600"/>
              </a:tblGrid>
              <a:tr h="30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ependent Ti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endent Ti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dvantages of WPP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11240" y="1125000"/>
            <a:ext cx="709776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Fixed design &amp; regularity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Parallel encoder and decoder 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No buffering of symbol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Good throughput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on encoder and decoder, with the same bitstrea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Size of bitstream is independent from the number of thread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8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R/D penalty does not increase with parallelism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37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Compatible with </a:t>
            </a: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Tiles, Slices, Entropy slices…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8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dvantages of WPP related to transcoding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11240" y="1125000"/>
            <a:ext cx="709776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ranscoding between any level of parallelism is po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75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With Slice, Tiles and other dependency-breaking approaches, transcoding is not po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In particular, a sequential bitstream can be converted to parallel friendly (and back)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ranscoding is only a entropy-level opera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8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JCTVC-F275 shows that transcoding is possible even without entropy re-encoding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75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1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igh-Level Parallel Processing is made possible without large R/D performance loss (I 0.2%, RA 0.7%, LD 1.2%) and whatever the parallelization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have shown substantial acceleration factors in a simple multithreaded software implementa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echnology is know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imilar approach in JCTVC-A114 CfP response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resented during last Geneva meeting (JCTVC-E196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M3.0+WPP software made available on request (delivered to 7 companies/institutions)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Verification performed by HHI (JCTVC-F486),  Qualcomm (JCTVC-F588), Panasonic (JCTVC-F527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yntax and Working Draft modifications are provid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for adop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00"/>
                </a:solidFill>
                <a:latin typeface="Helvetica 65 Medium"/>
              </a:rPr>
              <a:t>SUPPORT SLIDES</a:t>
            </a:r>
            <a:endParaRPr b="0" lang="en-US" sz="40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F274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8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8087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65 Medium"/>
              </a:rPr>
              <a:t>Thread concurrency of HM3.0+WPP decoder (Exp. 2), one frame</a:t>
            </a:r>
            <a:br>
              <a:rPr sz="2000"/>
            </a:br>
            <a:r>
              <a:rPr b="0" lang="fr-FR" sz="2000" spc="-1" strike="noStrike">
                <a:solidFill>
                  <a:srgbClr val="ff6600"/>
                </a:solidFill>
                <a:latin typeface="Helvetica 65 Medium"/>
              </a:rPr>
              <a:t>(Nebuta RAHE)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011240" y="1903320"/>
            <a:ext cx="7097760" cy="4479840"/>
          </a:xfrm>
          <a:prstGeom prst="rect">
            <a:avLst/>
          </a:prstGeom>
          <a:ln w="0">
            <a:noFill/>
          </a:ln>
        </p:spPr>
      </p:pic>
      <p:sp>
        <p:nvSpPr>
          <p:cNvPr id="541" name="Espace réservé du pied de page 3"/>
          <p:cNvSpPr/>
          <p:nvPr/>
        </p:nvSpPr>
        <p:spPr>
          <a:xfrm>
            <a:off x="3840120" y="655164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542" name="Picture 3" descr="threads-one-frame.bmp"/>
          <p:cNvPicPr/>
          <p:nvPr/>
        </p:nvPicPr>
        <p:blipFill>
          <a:blip r:embed="rId2"/>
          <a:srcRect l="14954" t="16693" r="2393" b="17620"/>
          <a:stretch/>
        </p:blipFill>
        <p:spPr>
          <a:xfrm>
            <a:off x="52560" y="1125360"/>
            <a:ext cx="9056520" cy="46422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1946160" y="6021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LCU processing using WPP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5724360" y="6372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DBF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6156360" y="602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SAO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6804000" y="602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ALF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6872400" y="602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MV compress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8" name="Left Brace 16"/>
          <p:cNvSpPr/>
          <p:nvPr/>
        </p:nvSpPr>
        <p:spPr>
          <a:xfrm flipH="1" flipV="1" rot="5400000">
            <a:off x="3558240" y="3579120"/>
            <a:ext cx="300240" cy="4464000"/>
          </a:xfrm>
          <a:custGeom>
            <a:avLst/>
            <a:gdLst>
              <a:gd name="textAreaLeft" fmla="*/ 192240 w 300240"/>
              <a:gd name="textAreaRight" fmla="*/ 300600 w 300240"/>
              <a:gd name="textAreaTop" fmla="*/ 7560 h 4464000"/>
              <a:gd name="textAreaBottom" fmla="*/ 445644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42"/>
                </a:lnTo>
                <a:cubicBezTo>
                  <a:pt x="10800" y="10703"/>
                  <a:pt x="5400" y="10763"/>
                  <a:pt x="0" y="10763"/>
                </a:cubicBezTo>
                <a:cubicBezTo>
                  <a:pt x="5400" y="10763"/>
                  <a:pt x="10800" y="10824"/>
                  <a:pt x="10800" y="10884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9" name="Left Brace 17"/>
          <p:cNvSpPr/>
          <p:nvPr/>
        </p:nvSpPr>
        <p:spPr>
          <a:xfrm flipH="1" flipV="1" rot="5400000">
            <a:off x="6140160" y="5616720"/>
            <a:ext cx="158760" cy="245880"/>
          </a:xfrm>
          <a:custGeom>
            <a:avLst/>
            <a:gdLst>
              <a:gd name="textAreaLeft" fmla="*/ 101160 w 158760"/>
              <a:gd name="textAreaRight" fmla="*/ 158760 w 158760"/>
              <a:gd name="textAreaTop" fmla="*/ 3960 h 245880"/>
              <a:gd name="textAreaBottom" fmla="*/ 241920 h 24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1"/>
                  <a:pt x="10800" y="1161"/>
                </a:cubicBezTo>
                <a:lnTo>
                  <a:pt x="10800" y="9639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1"/>
                  <a:pt x="10800" y="11961"/>
                </a:cubicBezTo>
                <a:lnTo>
                  <a:pt x="10800" y="20439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550" name="Straight Arrow Connector 22"/>
          <p:cNvCxnSpPr>
            <a:stCxn id="547" idx="0"/>
          </p:cNvCxnSpPr>
          <p:nvPr/>
        </p:nvCxnSpPr>
        <p:spPr>
          <a:xfrm flipV="1">
            <a:off x="7736040" y="573372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1" name="Left Brace 26"/>
          <p:cNvSpPr/>
          <p:nvPr/>
        </p:nvSpPr>
        <p:spPr>
          <a:xfrm flipH="1" flipV="1" rot="5400000">
            <a:off x="7007760" y="5288760"/>
            <a:ext cx="145800" cy="885960"/>
          </a:xfrm>
          <a:custGeom>
            <a:avLst/>
            <a:gdLst>
              <a:gd name="textAreaLeft" fmla="*/ 93240 w 145800"/>
              <a:gd name="textAreaRight" fmla="*/ 146160 w 145800"/>
              <a:gd name="textAreaTop" fmla="*/ 3600 h 885960"/>
              <a:gd name="textAreaBottom" fmla="*/ 88236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9"/>
                  <a:pt x="10800" y="297"/>
                </a:cubicBezTo>
                <a:lnTo>
                  <a:pt x="10800" y="10503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9"/>
                  <a:pt x="10800" y="11097"/>
                </a:cubicBezTo>
                <a:lnTo>
                  <a:pt x="10800" y="21303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2" name="Left Brace 27"/>
          <p:cNvSpPr/>
          <p:nvPr/>
        </p:nvSpPr>
        <p:spPr>
          <a:xfrm flipH="1" flipV="1" rot="5400000">
            <a:off x="6406920" y="5695920"/>
            <a:ext cx="144360" cy="73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800 h 73080"/>
              <a:gd name="textAreaBottom" fmla="*/ 71280 h 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553" name="Straight Arrow Connector 29"/>
          <p:cNvCxnSpPr>
            <a:stCxn id="546" idx="0"/>
            <a:endCxn id="551" idx="1"/>
          </p:cNvCxnSpPr>
          <p:nvPr/>
        </p:nvCxnSpPr>
        <p:spPr>
          <a:xfrm flipH="1" flipV="1">
            <a:off x="7081200" y="5805000"/>
            <a:ext cx="118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1"/>
          <p:cNvCxnSpPr>
            <a:stCxn id="545" idx="0"/>
            <a:endCxn id="552" idx="1"/>
          </p:cNvCxnSpPr>
          <p:nvPr/>
        </p:nvCxnSpPr>
        <p:spPr>
          <a:xfrm flipV="1">
            <a:off x="6478920" y="580644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5"/>
          <p:cNvCxnSpPr>
            <a:stCxn id="544" idx="0"/>
            <a:endCxn id="549" idx="1"/>
          </p:cNvCxnSpPr>
          <p:nvPr/>
        </p:nvCxnSpPr>
        <p:spPr>
          <a:xfrm flipH="1" flipV="1">
            <a:off x="6219360" y="5819040"/>
            <a:ext cx="864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Introduct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Method to perform high-level parallel video encoding and decoding using HEVC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Evolution of earlier proposal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-VC-D070/D073 Entropy Slices presented by Shar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VCEG-AK25 “Ordered Entropy Slices for Parallel CABAC” from Mediatek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45 Light"/>
              </a:rPr>
              <a:t>VCEG-AL21 “Massively Parallel CABAC” and </a:t>
            </a: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JCTVC-D243 “Analysis of entropy slice approaches” </a:t>
            </a:r>
            <a:r>
              <a:rPr b="0" lang="pt-BR" sz="2000" spc="-1" strike="noStrike">
                <a:solidFill>
                  <a:srgbClr val="000000"/>
                </a:solidFill>
                <a:latin typeface="Helvetica 45 Light"/>
              </a:rPr>
              <a:t>from  TI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749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Introduct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WPP was presented during Geneva meeting in March (JCTVC-E196)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No change in this proposal, new experiment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xplanation of WP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Overall performance assessment (Exp. 1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ultithreaded capabilities (Exp. 2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ntegration with Tiles (Exp. 3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749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Sequential processing of HEVC LCU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56880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ingle-thread processing in HEVC encoding/decod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Rectangle 373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Rectangle 374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375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Rectangle 376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Rectangle 377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Rectangle 378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Rectangle 379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Rectangle 380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Rectangle 381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Rectangle 382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7" name="Rectangle 383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Rectangle 384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Rectangle 385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Rectangle 386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Rectangle 387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Rectangle 388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Rectangle 389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Rectangle 390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Rectangle 391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Rectangle 39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Rectangle 393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Rectangle 394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9" name="Rectangle 395"/>
          <p:cNvSpPr/>
          <p:nvPr/>
        </p:nvSpPr>
        <p:spPr>
          <a:xfrm>
            <a:off x="169236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Rectangle 396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1" name="Rectangle 397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Rectangle 398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Rectangle 399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Rectangle 40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5" name="Rectangle 401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6" name="Rectangle 402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7" name="Rectangle 403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8" name="Rectangle 404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9" name="Rectangle 405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Rectangle 406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Rectangle 407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2" name="Rectangle 408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3" name="Rectangle 409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410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Rectangle 411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6" name="Rectangle 412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Rectangle 413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8" name="Rectangle 414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9" name="Rectangle 415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0" name="Rectangle 416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1" name="Rectangle 417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2" name="Rectangle 418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3" name="Rectangle 419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Rectangle 420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5" name="Rectangle 421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6" name="Rectangle 422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7" name="Rectangle 423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8" name="Rectangle 424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425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0" name="Rectangle 426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1" name="Rectangle 427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428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429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430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431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432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7" name="Ellipse 439"/>
          <p:cNvSpPr/>
          <p:nvPr/>
        </p:nvSpPr>
        <p:spPr>
          <a:xfrm>
            <a:off x="802800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58" name="Connecteur en arc 440"/>
          <p:cNvCxnSpPr>
            <a:stCxn id="157" idx="0"/>
          </p:cNvCxnSpPr>
          <p:nvPr/>
        </p:nvCxnSpPr>
        <p:spPr>
          <a:xfrm flipH="1" flipV="1" rot="5400000">
            <a:off x="8009280" y="125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9" name="Ellipse 441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0" name="Connecteur en arc 442"/>
          <p:cNvCxnSpPr>
            <a:endCxn id="159" idx="4"/>
          </p:cNvCxnSpPr>
          <p:nvPr/>
        </p:nvCxnSpPr>
        <p:spPr>
          <a:xfrm flipH="1" flipV="1" rot="5400000">
            <a:off x="826560" y="184500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Ellipse 445"/>
          <p:cNvSpPr/>
          <p:nvPr/>
        </p:nvSpPr>
        <p:spPr>
          <a:xfrm>
            <a:off x="226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Ellipse 446"/>
          <p:cNvSpPr/>
          <p:nvPr/>
        </p:nvSpPr>
        <p:spPr>
          <a:xfrm>
            <a:off x="248436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Forme en L 453"/>
          <p:cNvSpPr/>
          <p:nvPr/>
        </p:nvSpPr>
        <p:spPr>
          <a:xfrm flipV="1">
            <a:off x="1042920" y="979920"/>
            <a:ext cx="7058160" cy="1295640"/>
          </a:xfrm>
          <a:custGeom>
            <a:avLst/>
            <a:gdLst>
              <a:gd name="textAreaLeft" fmla="*/ 0 w 7058160"/>
              <a:gd name="textAreaRight" fmla="*/ 7058520 w 7058160"/>
              <a:gd name="textAreaTop" fmla="*/ 732600 h 1295640"/>
              <a:gd name="textAreaBottom" fmla="*/ 1295640 h 1295640"/>
            </a:gdLst>
            <a:ahLst/>
            <a:rect l="textAreaLeft" t="textAreaTop" r="textAreaRight" b="textAreaBottom"/>
            <a:pathLst>
              <a:path w="7058025" h="1295400">
                <a:moveTo>
                  <a:pt x="0" y="0"/>
                </a:moveTo>
                <a:lnTo>
                  <a:pt x="2006031" y="0"/>
                </a:lnTo>
                <a:lnTo>
                  <a:pt x="2006031" y="732717"/>
                </a:lnTo>
                <a:lnTo>
                  <a:pt x="7058025" y="732717"/>
                </a:lnTo>
                <a:lnTo>
                  <a:pt x="7058025" y="1295400"/>
                </a:lnTo>
                <a:lnTo>
                  <a:pt x="0" y="1295400"/>
                </a:lnTo>
                <a:close/>
              </a:path>
            </a:pathLst>
          </a:custGeom>
          <a:noFill/>
          <a:ln w="1260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Flèche droite 457"/>
          <p:cNvSpPr/>
          <p:nvPr/>
        </p:nvSpPr>
        <p:spPr>
          <a:xfrm rot="13460400">
            <a:off x="2314440" y="151848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Flèche droite 458"/>
          <p:cNvSpPr/>
          <p:nvPr/>
        </p:nvSpPr>
        <p:spPr>
          <a:xfrm rot="19800000">
            <a:off x="3029040" y="1518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Flèche droite 460"/>
          <p:cNvSpPr/>
          <p:nvPr/>
        </p:nvSpPr>
        <p:spPr>
          <a:xfrm rot="16200000">
            <a:off x="2663640" y="144756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Flèche droite 461"/>
          <p:cNvSpPr/>
          <p:nvPr/>
        </p:nvSpPr>
        <p:spPr>
          <a:xfrm rot="10800000">
            <a:off x="2268360" y="184428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8" name="Connecteur en arc 447"/>
          <p:cNvCxnSpPr>
            <a:stCxn id="161" idx="0"/>
            <a:endCxn id="162" idx="4"/>
          </p:cNvCxnSpPr>
          <p:nvPr/>
        </p:nvCxnSpPr>
        <p:spPr>
          <a:xfrm flipH="1" flipV="1" rot="5400000">
            <a:off x="2194560" y="188064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Rectangle à coins arrondis 103"/>
          <p:cNvSpPr/>
          <p:nvPr/>
        </p:nvSpPr>
        <p:spPr>
          <a:xfrm>
            <a:off x="6659640" y="5389560"/>
            <a:ext cx="2449440" cy="1461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Ellipse 104"/>
          <p:cNvSpPr/>
          <p:nvPr/>
        </p:nvSpPr>
        <p:spPr>
          <a:xfrm>
            <a:off x="6804000" y="6480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Ellipse 105"/>
          <p:cNvSpPr/>
          <p:nvPr/>
        </p:nvSpPr>
        <p:spPr>
          <a:xfrm>
            <a:off x="6867360" y="61848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72" name="Connecteur en arc 106"/>
          <p:cNvCxnSpPr>
            <a:stCxn id="170" idx="0"/>
            <a:endCxn id="171" idx="4"/>
          </p:cNvCxnSpPr>
          <p:nvPr/>
        </p:nvCxnSpPr>
        <p:spPr>
          <a:xfrm flipH="1" flipV="1" rot="5400000">
            <a:off x="6760080" y="6336360"/>
            <a:ext cx="222840" cy="64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ZoneTexte 468"/>
          <p:cNvSpPr/>
          <p:nvPr/>
        </p:nvSpPr>
        <p:spPr>
          <a:xfrm>
            <a:off x="6915600" y="587844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ixel and MV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4" name="ZoneTexte 469"/>
          <p:cNvSpPr/>
          <p:nvPr/>
        </p:nvSpPr>
        <p:spPr>
          <a:xfrm>
            <a:off x="6891840" y="616572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robabilties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5" name="Rectangle 470"/>
          <p:cNvSpPr/>
          <p:nvPr/>
        </p:nvSpPr>
        <p:spPr>
          <a:xfrm>
            <a:off x="6703200" y="6485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6" name="Rectangle 471"/>
          <p:cNvSpPr/>
          <p:nvPr/>
        </p:nvSpPr>
        <p:spPr>
          <a:xfrm>
            <a:off x="6915960" y="650880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Block(s) being enco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7" name="Flèche droite 111"/>
          <p:cNvSpPr/>
          <p:nvPr/>
        </p:nvSpPr>
        <p:spPr>
          <a:xfrm rot="16200000">
            <a:off x="6768360" y="58618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Ellipse 112"/>
          <p:cNvSpPr/>
          <p:nvPr/>
        </p:nvSpPr>
        <p:spPr>
          <a:xfrm>
            <a:off x="6845400" y="57182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9" name="ZoneTexte 469"/>
          <p:cNvSpPr/>
          <p:nvPr/>
        </p:nvSpPr>
        <p:spPr>
          <a:xfrm>
            <a:off x="6924240" y="562608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CABAC probabilitite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0" name="Rectangle 114"/>
          <p:cNvSpPr/>
          <p:nvPr/>
        </p:nvSpPr>
        <p:spPr>
          <a:xfrm>
            <a:off x="7542000" y="535788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1" name="Espace réservé du pied de page 88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rocessing of HEVC LCUs (ideally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56880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4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7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8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9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1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2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3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4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5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6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7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8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9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0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3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4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5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6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7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8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1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2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3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4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5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6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7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9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0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Ellipse 162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163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Rectangle 164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Rectangle 165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Rectangle 166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Rectangle 167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Rectangle 168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Rectangle 169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9" name="Rectangle 170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Rectangle 171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Rectangle 173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2" name="Ellipse 176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3" name="Ellipse 177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Rectangle 179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Flèche droite 181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6" name="Flèche droite 182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7" name="Flèche droite 183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Flèche droite 184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Flèche droite 185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Flèche droite 186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Flèche droite 187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Flèche droite 188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Flèche droite 189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4" name="Flèche droite 190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5" name="Flèche droite 197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Flèche droite 198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Flèche droite 199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58" name="Connecteur en arc 137"/>
          <p:cNvCxnSpPr>
            <a:stCxn id="208" idx="0"/>
            <a:endCxn id="209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9" name="Connecteur en arc 148"/>
          <p:cNvCxnSpPr>
            <a:stCxn id="231" idx="0"/>
            <a:endCxn id="218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0" name="Connecteur en arc 157"/>
          <p:cNvCxnSpPr>
            <a:stCxn id="225" idx="0"/>
            <a:endCxn id="226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1" name="Connecteur en arc 178"/>
          <p:cNvCxnSpPr>
            <a:stCxn id="242" idx="0"/>
            <a:endCxn id="243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2" name="Rectangle à coins arrondis 212"/>
          <p:cNvSpPr/>
          <p:nvPr/>
        </p:nvSpPr>
        <p:spPr>
          <a:xfrm>
            <a:off x="6659640" y="5389560"/>
            <a:ext cx="2449440" cy="1461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3" name="Ellipse 213"/>
          <p:cNvSpPr/>
          <p:nvPr/>
        </p:nvSpPr>
        <p:spPr>
          <a:xfrm>
            <a:off x="6804000" y="6480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4" name="Ellipse 214"/>
          <p:cNvSpPr/>
          <p:nvPr/>
        </p:nvSpPr>
        <p:spPr>
          <a:xfrm>
            <a:off x="6867360" y="61848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65" name="Connecteur en arc 215"/>
          <p:cNvCxnSpPr>
            <a:stCxn id="263" idx="0"/>
            <a:endCxn id="264" idx="4"/>
          </p:cNvCxnSpPr>
          <p:nvPr/>
        </p:nvCxnSpPr>
        <p:spPr>
          <a:xfrm flipH="1" flipV="1" rot="5400000">
            <a:off x="6760080" y="6336360"/>
            <a:ext cx="222840" cy="64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ZoneTexte 468"/>
          <p:cNvSpPr/>
          <p:nvPr/>
        </p:nvSpPr>
        <p:spPr>
          <a:xfrm>
            <a:off x="6915600" y="587844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ixel and MV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7" name="ZoneTexte 469"/>
          <p:cNvSpPr/>
          <p:nvPr/>
        </p:nvSpPr>
        <p:spPr>
          <a:xfrm>
            <a:off x="6891840" y="616572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robabilties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Rectangle 470"/>
          <p:cNvSpPr/>
          <p:nvPr/>
        </p:nvSpPr>
        <p:spPr>
          <a:xfrm>
            <a:off x="6703200" y="6485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Rectangle 471"/>
          <p:cNvSpPr/>
          <p:nvPr/>
        </p:nvSpPr>
        <p:spPr>
          <a:xfrm>
            <a:off x="6915960" y="650880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Block(s) being enco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0" name="Flèche droite 220"/>
          <p:cNvSpPr/>
          <p:nvPr/>
        </p:nvSpPr>
        <p:spPr>
          <a:xfrm rot="16200000">
            <a:off x="6768360" y="58618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1" name="Ellipse 221"/>
          <p:cNvSpPr/>
          <p:nvPr/>
        </p:nvSpPr>
        <p:spPr>
          <a:xfrm>
            <a:off x="6845400" y="57182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2" name="ZoneTexte 469"/>
          <p:cNvSpPr/>
          <p:nvPr/>
        </p:nvSpPr>
        <p:spPr>
          <a:xfrm>
            <a:off x="6924240" y="562608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CABAC probabilitite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3" name="Rectangle 223"/>
          <p:cNvSpPr/>
          <p:nvPr/>
        </p:nvSpPr>
        <p:spPr>
          <a:xfrm>
            <a:off x="7542000" y="535788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4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5" name="Rectangle 146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6" name="Rectangle 175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7" name="Rectangle 180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8" name="Rectangle 191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9" name="Rectangle 192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0" name="Rectangle 193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1" name="Rectangle 194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2" name="Rectangle 195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3" name="Rectangle 196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4" name="Rectangle 200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123920" y="1852560"/>
            <a:ext cx="5688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arallel processing without breaking pixel/MV dependenc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rocessing of HEVC LCUs (problem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1612440"/>
            <a:ext cx="792144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babilities not available on first LCU of the line!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f we re-initialize at the beginning of each LCU line, performance degradation (I 0.7%, RA 5.9%, LD 7.8%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14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8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9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0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2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3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0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1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5" name="Rectangle 120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Rectangle 122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8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9" name="Rectangle 124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Rectangle 130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6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7" name="Rectangle 132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Rectangle 134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0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1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4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5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6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7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8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9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0" name="Ellipse 146"/>
          <p:cNvSpPr/>
          <p:nvPr/>
        </p:nvSpPr>
        <p:spPr>
          <a:xfrm>
            <a:off x="370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1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2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3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4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5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6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7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8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9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0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1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2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3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4" name="Ellipse 162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5" name="Ellipse 163"/>
          <p:cNvSpPr/>
          <p:nvPr/>
        </p:nvSpPr>
        <p:spPr>
          <a:xfrm>
            <a:off x="1008000" y="242100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6" name="ZoneTexte 164"/>
          <p:cNvSpPr/>
          <p:nvPr/>
        </p:nvSpPr>
        <p:spPr>
          <a:xfrm>
            <a:off x="1237320" y="1784520"/>
            <a:ext cx="2216880" cy="276480"/>
          </a:xfrm>
          <a:prstGeom prst="rect">
            <a:avLst/>
          </a:prstGeom>
          <a:solidFill>
            <a:srgbClr val="ffffff">
              <a:alpha val="91000"/>
            </a:srgbClr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Probabilities not available!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7" name="Ellipse 165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8" name="Rectangle 166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9" name="Rectangle 167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0" name="Rectangle 168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1" name="Rectangle 169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2" name="Rectangle 170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3" name="Rectangle 171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4" name="Rectangle 172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5" name="Rectangle 173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6" name="Rectangle 174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7" name="Rectangle 175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8" name="Rectangle 176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9" name="Rectangle 177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0" name="Ellipse 178"/>
          <p:cNvSpPr/>
          <p:nvPr/>
        </p:nvSpPr>
        <p:spPr>
          <a:xfrm>
            <a:off x="2262240" y="2927520"/>
            <a:ext cx="730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1" name="Ellipse 179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2" name="Ellipse 180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3" name="Rectangle 182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4" name="Ellipse 183"/>
          <p:cNvSpPr/>
          <p:nvPr/>
        </p:nvSpPr>
        <p:spPr>
          <a:xfrm>
            <a:off x="1008000" y="314316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5" name="Ellipse 184"/>
          <p:cNvSpPr/>
          <p:nvPr/>
        </p:nvSpPr>
        <p:spPr>
          <a:xfrm>
            <a:off x="2268360" y="2927520"/>
            <a:ext cx="7164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6" name="Flèche droite 185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7" name="Flèche droite 186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8" name="Flèche droite 187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9" name="Flèche droite 188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0" name="Flèche droite 189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1" name="Flèche droite 190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2" name="Flèche droite 191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3" name="Flèche droite 192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4" name="Flèche droite 193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5" name="Flèche droite 194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6" name="Flèche droite 207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7" name="Flèche droite 208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8" name="Flèche droite 209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79" name="Connecteur en arc 137"/>
          <p:cNvCxnSpPr>
            <a:stCxn id="320" idx="0"/>
            <a:endCxn id="321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0" name="Connecteur en arc 148"/>
          <p:cNvCxnSpPr>
            <a:stCxn id="347" idx="0"/>
            <a:endCxn id="331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Connecteur en arc 157"/>
          <p:cNvCxnSpPr>
            <a:stCxn id="338" idx="0"/>
            <a:endCxn id="339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Connecteur en arc 181"/>
          <p:cNvCxnSpPr>
            <a:stCxn id="361" idx="0"/>
            <a:endCxn id="362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3" name="Connecteur droit avec flèche 226"/>
          <p:cNvCxnSpPr>
            <a:stCxn id="346" idx="1"/>
            <a:endCxn id="344" idx="5"/>
          </p:cNvCxnSpPr>
          <p:nvPr/>
        </p:nvCxnSpPr>
        <p:spPr>
          <a:xfrm flipH="1" flipV="1">
            <a:off x="1068120" y="1761480"/>
            <a:ext cx="33552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Connecteur droit avec flèche 228"/>
          <p:cNvCxnSpPr>
            <a:stCxn id="346" idx="1"/>
            <a:endCxn id="364" idx="0"/>
          </p:cNvCxnSpPr>
          <p:nvPr/>
        </p:nvCxnSpPr>
        <p:spPr>
          <a:xfrm flipH="1">
            <a:off x="1042200" y="1921320"/>
            <a:ext cx="36108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Connecteur droit avec flèche 229"/>
          <p:cNvCxnSpPr>
            <a:stCxn id="346" idx="1"/>
            <a:endCxn id="345" idx="7"/>
          </p:cNvCxnSpPr>
          <p:nvPr/>
        </p:nvCxnSpPr>
        <p:spPr>
          <a:xfrm flipH="1">
            <a:off x="1068120" y="1922400"/>
            <a:ext cx="335520" cy="5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6" name="Ellipse 197"/>
          <p:cNvSpPr/>
          <p:nvPr/>
        </p:nvSpPr>
        <p:spPr>
          <a:xfrm>
            <a:off x="802800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87" name="Connecteur en arc 198"/>
          <p:cNvCxnSpPr>
            <a:stCxn id="386" idx="0"/>
          </p:cNvCxnSpPr>
          <p:nvPr/>
        </p:nvCxnSpPr>
        <p:spPr>
          <a:xfrm flipH="1" flipV="1" rot="5400000">
            <a:off x="8009280" y="125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88" name="Connecteur en arc 199"/>
          <p:cNvCxnSpPr/>
          <p:nvPr/>
        </p:nvCxnSpPr>
        <p:spPr>
          <a:xfrm flipH="1" flipV="1" rot="5400000">
            <a:off x="826560" y="184500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89" name="Ellipse 200"/>
          <p:cNvSpPr/>
          <p:nvPr/>
        </p:nvSpPr>
        <p:spPr>
          <a:xfrm>
            <a:off x="8028000" y="2205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90" name="Connecteur en arc 201"/>
          <p:cNvCxnSpPr>
            <a:stCxn id="389" idx="0"/>
          </p:cNvCxnSpPr>
          <p:nvPr/>
        </p:nvCxnSpPr>
        <p:spPr>
          <a:xfrm flipH="1" flipV="1" rot="5400000">
            <a:off x="8009280" y="197100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91" name="Connecteur en arc 202"/>
          <p:cNvCxnSpPr/>
          <p:nvPr/>
        </p:nvCxnSpPr>
        <p:spPr>
          <a:xfrm flipH="1" flipV="1" rot="5400000">
            <a:off x="826560" y="256572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92" name="Ellipse 203"/>
          <p:cNvSpPr/>
          <p:nvPr/>
        </p:nvSpPr>
        <p:spPr>
          <a:xfrm>
            <a:off x="8028000" y="292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93" name="Connecteur en arc 204"/>
          <p:cNvCxnSpPr>
            <a:stCxn id="392" idx="0"/>
          </p:cNvCxnSpPr>
          <p:nvPr/>
        </p:nvCxnSpPr>
        <p:spPr>
          <a:xfrm flipH="1" flipV="1" rot="5400000">
            <a:off x="8009280" y="269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94" name="Connecteur en arc 205"/>
          <p:cNvCxnSpPr/>
          <p:nvPr/>
        </p:nvCxnSpPr>
        <p:spPr>
          <a:xfrm flipH="1" flipV="1" rot="5400000">
            <a:off x="826560" y="328464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9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10880" y="43920"/>
            <a:ext cx="70959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:</a:t>
            </a:r>
            <a:br>
              <a:rPr sz="2400"/>
            </a:b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arallel Processing of LCUs (WPP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92144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-1684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ynchronize CABAC probabilities with upper-right LCU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Upper-right LCU available anyway, due to spatial/MV dependenc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fficiently carries over quick vertical learning of probabiliti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Only one additional CABAC context buffer shared between all thread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8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9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0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1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2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3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4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5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7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8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9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0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1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2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3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4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5" name="Rectangle 120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6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7" name="Rectangle 122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8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9" name="Rectangle 124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0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1" name="Rectangle 126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2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3" name="Rectangle 128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4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5" name="Rectangle 130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6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7" name="Rectangle 132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8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9" name="Rectangle 134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0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1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2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3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4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5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6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7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8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9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0" name="Ellipse 146"/>
          <p:cNvSpPr/>
          <p:nvPr/>
        </p:nvSpPr>
        <p:spPr>
          <a:xfrm>
            <a:off x="370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1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2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3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4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5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7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8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9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0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1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2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3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4" name="Ellipse 162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5" name="Ellipse 163"/>
          <p:cNvSpPr/>
          <p:nvPr/>
        </p:nvSpPr>
        <p:spPr>
          <a:xfrm>
            <a:off x="1008000" y="242100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6" name="Ellipse 164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7" name="Rectangle 165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8" name="Rectangle 166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9" name="Rectangle 167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0" name="Rectangle 168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1" name="Rectangle 169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2" name="Rectangle 170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3" name="Rectangle 171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4" name="Rectangle 172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5" name="Rectangle 173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6" name="Rectangle 174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7" name="Rectangle 175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8" name="Rectangle 176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9" name="Ellipse 177"/>
          <p:cNvSpPr/>
          <p:nvPr/>
        </p:nvSpPr>
        <p:spPr>
          <a:xfrm>
            <a:off x="2262240" y="2927520"/>
            <a:ext cx="730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0" name="Ellipse 178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1" name="Ellipse 179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2" name="Rectangle 181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3" name="Ellipse 182"/>
          <p:cNvSpPr/>
          <p:nvPr/>
        </p:nvSpPr>
        <p:spPr>
          <a:xfrm>
            <a:off x="1008000" y="314172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4" name="Ellipse 183"/>
          <p:cNvSpPr/>
          <p:nvPr/>
        </p:nvSpPr>
        <p:spPr>
          <a:xfrm>
            <a:off x="2268360" y="2927520"/>
            <a:ext cx="7164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5" name="Flèche droite 184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6" name="Flèche droite 185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7" name="Flèche droite 186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8" name="Flèche droite 187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9" name="Flèche droite 188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0" name="Flèche droite 189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1" name="Flèche droite 190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2" name="Flèche droite 191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3" name="Flèche droite 192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4" name="Flèche droite 193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5" name="Ellipse 200"/>
          <p:cNvSpPr/>
          <p:nvPr/>
        </p:nvSpPr>
        <p:spPr>
          <a:xfrm>
            <a:off x="2268360" y="148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6" name="Ellipse 201"/>
          <p:cNvSpPr/>
          <p:nvPr/>
        </p:nvSpPr>
        <p:spPr>
          <a:xfrm>
            <a:off x="226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7" name="Ellipse 202"/>
          <p:cNvSpPr/>
          <p:nvPr/>
        </p:nvSpPr>
        <p:spPr>
          <a:xfrm>
            <a:off x="226836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88" name="Connecteur en arc 203"/>
          <p:cNvCxnSpPr>
            <a:stCxn id="485" idx="2"/>
            <a:endCxn id="454" idx="6"/>
          </p:cNvCxnSpPr>
          <p:nvPr/>
        </p:nvCxnSpPr>
        <p:spPr>
          <a:xfrm flipV="1" rot="10800000">
            <a:off x="1078920" y="1519920"/>
            <a:ext cx="1189440" cy="216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9" name="Connecteur en arc 204"/>
          <p:cNvCxnSpPr>
            <a:stCxn id="486" idx="2"/>
            <a:endCxn id="455" idx="6"/>
          </p:cNvCxnSpPr>
          <p:nvPr/>
        </p:nvCxnSpPr>
        <p:spPr>
          <a:xfrm flipV="1" rot="10800000">
            <a:off x="1078920" y="2240640"/>
            <a:ext cx="1189440" cy="216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0" name="Connecteur en arc 137"/>
          <p:cNvCxnSpPr>
            <a:stCxn id="430" idx="0"/>
            <a:endCxn id="431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1" name="Connecteur en arc 148"/>
          <p:cNvCxnSpPr>
            <a:stCxn id="456" idx="0"/>
            <a:endCxn id="441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2" name="Connecteur en arc 157"/>
          <p:cNvCxnSpPr>
            <a:stCxn id="448" idx="0"/>
            <a:endCxn id="449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3" name="Connecteur en arc 180"/>
          <p:cNvCxnSpPr>
            <a:stCxn id="470" idx="0"/>
            <a:endCxn id="471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94" name="Flèche droite 206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5" name="Flèche droite 207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6" name="Flèche droite 208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97" name="Connecteur en arc 205"/>
          <p:cNvCxnSpPr>
            <a:stCxn id="487" idx="2"/>
            <a:endCxn id="473" idx="6"/>
          </p:cNvCxnSpPr>
          <p:nvPr/>
        </p:nvCxnSpPr>
        <p:spPr>
          <a:xfrm flipV="1" rot="10800000">
            <a:off x="1078920" y="2960280"/>
            <a:ext cx="1189440" cy="216720"/>
          </a:xfrm>
          <a:prstGeom prst="curvedConnector5">
            <a:avLst>
              <a:gd name="adj1" fmla="val 49984"/>
              <a:gd name="adj2" fmla="val 49916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1 : HM3.0 + WPP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11240" y="1052640"/>
            <a:ext cx="42814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7840" indent="-1778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M3.0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JCTVC-E700 conditio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igh Efficiency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ntra, Low delay, Random Ac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ncludes substream signallin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92240" indent="-21024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erformance presented for 2 substream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77840" indent="-1778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 +0.2%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RA +0.7%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-2624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LD +1.2% (due to class E only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77840" indent="-1778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Cross-check by HHI (JCTVC-F486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778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9224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9224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0668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0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502" name="Object 1"/>
          <p:cNvGraphicFramePr/>
          <p:nvPr/>
        </p:nvGraphicFramePr>
        <p:xfrm>
          <a:off x="971640" y="1197000"/>
          <a:ext cx="352908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35290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periment 2 : Multithreaded De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0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011240" y="141300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6040" indent="-1760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oftware implementation of HM3.0+WPP decode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ach thread processes a line of LCU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ince most processing is done at LCU level, making HM3.0 decoder parallel involves only high-level modifications, except the following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eblocking Filter, Adaptive Loop Filter, Motion Data Compression (each thread performs the filtering in its assigned band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ample Adaptive Offset (each thread performs the filtering in the intersection of its assigned band and the SAO quadtree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arallel implementation 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oes not break any tool,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oes not need low level re-implementation of tools,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new tools would not require to be implemented in a specific wa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Orange Labs</cp:lastModifiedBy>
  <cp:lastPrinted>2006-12-08T11:02:13Z</cp:lastPrinted>
  <dcterms:modified xsi:type="dcterms:W3CDTF">2011-07-14T12:47:55Z</dcterms:modified>
  <cp:revision>452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