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27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567-6030-4A91-BB38-EA160B475DA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27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206964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Grid displacements for filter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1. Problems with SAO application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2124000" y="836640"/>
            <a:ext cx="2335320" cy="2116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2124000" y="2952720"/>
            <a:ext cx="2335320" cy="198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4459320" y="836640"/>
            <a:ext cx="2273400" cy="2116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59320" y="2952720"/>
            <a:ext cx="2273400" cy="198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4008600" y="2592360"/>
            <a:ext cx="2292120" cy="1989000"/>
          </a:xfrm>
          <a:prstGeom prst="rect">
            <a:avLst/>
          </a:prstGeom>
          <a:solidFill>
            <a:srgbClr val="ff0000">
              <a:alpha val="24000"/>
            </a:srgbClr>
          </a:solidFill>
          <a:ln w="1908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195640" y="847800"/>
            <a:ext cx="1595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1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pattern 1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fset values 1 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" name="TextBox 35"/>
          <p:cNvSpPr/>
          <p:nvPr/>
        </p:nvSpPr>
        <p:spPr>
          <a:xfrm>
            <a:off x="3978360" y="23716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5129280" y="2347920"/>
            <a:ext cx="45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3978360" y="35002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TextBox 38"/>
          <p:cNvSpPr/>
          <p:nvPr/>
        </p:nvSpPr>
        <p:spPr>
          <a:xfrm>
            <a:off x="5129280" y="3500280"/>
            <a:ext cx="45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6300720" y="34574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948360" y="32479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Arial"/>
                <a:ea typeface="Arial"/>
              </a:rPr>
              <a:t>SAO application window in decoder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459320" y="836640"/>
            <a:ext cx="1595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2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pattern 2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fset values 2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2124000" y="2938320"/>
            <a:ext cx="1595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3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pattern 3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fset values 3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59320" y="2957400"/>
            <a:ext cx="1595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4: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pattern 4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fset values 4 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9640" y="5013360"/>
            <a:ext cx="842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99520" indent="-299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s in the Decoder: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99520" indent="-2995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O application window intersects 4 different LCUs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99520" indent="-2995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SAO requires frequent parameter set switching at LCU borders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99520" indent="-2995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ines of increase in line memory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6873840" y="4508640"/>
            <a:ext cx="0" cy="412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6298920" y="5040360"/>
            <a:ext cx="439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6154560" y="50688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6875640" y="4579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LCU-based processing of region-based ALF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692360" y="1197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627280" y="1197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1844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908000" y="1413000"/>
            <a:ext cx="3456000" cy="3041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00" name="Group 262" descr=""/>
          <p:cNvPicPr/>
          <p:nvPr/>
        </p:nvPicPr>
        <p:blipFill>
          <a:blip r:embed="rId1"/>
          <a:stretch/>
        </p:blipFill>
        <p:spPr>
          <a:xfrm>
            <a:off x="4780080" y="3014640"/>
            <a:ext cx="1023840" cy="781200"/>
          </a:xfrm>
          <a:prstGeom prst="rect">
            <a:avLst/>
          </a:prstGeom>
          <a:ln w="0">
            <a:noFill/>
          </a:ln>
        </p:spPr>
      </p:pic>
      <p:pic>
        <p:nvPicPr>
          <p:cNvPr id="201" name="Group 262" descr=""/>
          <p:cNvPicPr/>
          <p:nvPr/>
        </p:nvPicPr>
        <p:blipFill>
          <a:blip r:embed="rId2"/>
          <a:stretch/>
        </p:blipFill>
        <p:spPr>
          <a:xfrm>
            <a:off x="3560760" y="4027320"/>
            <a:ext cx="1017720" cy="773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6622920" y="1844640"/>
            <a:ext cx="17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ALF applicatio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" name="Straight Connector 13"/>
          <p:cNvSpPr/>
          <p:nvPr/>
        </p:nvSpPr>
        <p:spPr>
          <a:xfrm>
            <a:off x="6084720" y="2781360"/>
            <a:ext cx="538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659640" y="25527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desig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2627280" y="4797360"/>
            <a:ext cx="3465720" cy="2332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5796000" y="1844640"/>
            <a:ext cx="297000" cy="318600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" name="Straight Connector 13"/>
          <p:cNvSpPr/>
          <p:nvPr/>
        </p:nvSpPr>
        <p:spPr>
          <a:xfrm>
            <a:off x="5364000" y="2060640"/>
            <a:ext cx="12589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39640" y="5589720"/>
            <a:ext cx="73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 design and application windows are not aligned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627280" y="1844640"/>
            <a:ext cx="3457440" cy="3168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692360" y="1179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227640" y="445464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5364000" y="51274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5364000" y="514044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7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229440" y="45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6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2. Problems with region-based ALF application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2124000" y="836640"/>
            <a:ext cx="2335320" cy="2116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2124000" y="2952720"/>
            <a:ext cx="2335320" cy="198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4459320" y="836640"/>
            <a:ext cx="2273400" cy="2116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459320" y="2952720"/>
            <a:ext cx="2273400" cy="198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3924360" y="2421000"/>
            <a:ext cx="2290680" cy="1989000"/>
          </a:xfrm>
          <a:prstGeom prst="rect">
            <a:avLst/>
          </a:prstGeom>
          <a:solidFill>
            <a:srgbClr val="ff0000">
              <a:alpha val="24000"/>
            </a:srgbClr>
          </a:solidFill>
          <a:ln w="1908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500720" y="83664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2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set2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2195640" y="847800"/>
            <a:ext cx="1595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1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set 1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2195640" y="2952720"/>
            <a:ext cx="1595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3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set 3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4459320" y="2952720"/>
            <a:ext cx="1582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CU 4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set 4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3978360" y="23716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TextBox 36"/>
          <p:cNvSpPr/>
          <p:nvPr/>
        </p:nvSpPr>
        <p:spPr>
          <a:xfrm>
            <a:off x="5129280" y="2347920"/>
            <a:ext cx="45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TextBox 37"/>
          <p:cNvSpPr/>
          <p:nvPr/>
        </p:nvSpPr>
        <p:spPr>
          <a:xfrm>
            <a:off x="3978360" y="35002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" name="TextBox 38"/>
          <p:cNvSpPr/>
          <p:nvPr/>
        </p:nvSpPr>
        <p:spPr>
          <a:xfrm>
            <a:off x="5129280" y="3500280"/>
            <a:ext cx="45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39640" y="5300640"/>
            <a:ext cx="734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s in the Decoder: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 application window intersects 4 different LCUs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ALF requires frequent filter switching at LCU borders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" name="Straight Connector 13"/>
          <p:cNvSpPr/>
          <p:nvPr/>
        </p:nvSpPr>
        <p:spPr>
          <a:xfrm>
            <a:off x="6227640" y="3457440"/>
            <a:ext cx="648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875640" y="3247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Arial"/>
                <a:ea typeface="Arial"/>
              </a:rPr>
              <a:t>ALF application window in decoder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6804000" y="4410000"/>
            <a:ext cx="1440" cy="514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6215040" y="5038560"/>
            <a:ext cx="51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118200" y="5084640"/>
            <a:ext cx="7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7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805440" y="44928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6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ummary of the proble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7240" y="1412640"/>
            <a:ext cx="884412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requent filter switching during LCU-based processin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O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gion-based 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ine memory is increased by 2 lines as a result of the misaligment in SAO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posed solution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rid displacements for SAO and 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7240" y="1052640"/>
            <a:ext cx="884412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 partitioning for filtering suited for both frame-based and  LCU-based de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i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 the filter application window in deco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filter design window in encoder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340000" y="1808280"/>
            <a:ext cx="3456000" cy="318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posed solution: Grid displacement for SAO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340000" y="1808280"/>
            <a:ext cx="3456000" cy="318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" name="Straight Connector 13"/>
          <p:cNvSpPr/>
          <p:nvPr/>
        </p:nvSpPr>
        <p:spPr>
          <a:xfrm>
            <a:off x="5796000" y="2276640"/>
            <a:ext cx="7808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588000" y="2060640"/>
            <a:ext cx="17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SAO applicatio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" name="Straight Connector 13"/>
          <p:cNvSpPr/>
          <p:nvPr/>
        </p:nvSpPr>
        <p:spPr>
          <a:xfrm>
            <a:off x="5796000" y="2997360"/>
            <a:ext cx="745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18240" y="27687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desig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229440" y="4992480"/>
            <a:ext cx="0" cy="25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808240" y="5373720"/>
            <a:ext cx="276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6360" y="5068800"/>
            <a:ext cx="136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Shift 3 pixels up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21440" y="5478480"/>
            <a:ext cx="136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Shift 3 pixels left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92360" y="5734080"/>
            <a:ext cx="576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hift SAO design window 3 pixels up and 3 pixels to the left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AO design window is aligned with SAO application window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106880" y="352440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979640" y="1557360"/>
            <a:ext cx="3456000" cy="318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posed solution: Grid displacement for ALF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979640" y="1557360"/>
            <a:ext cx="3456000" cy="318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Straight Connector 13"/>
          <p:cNvSpPr/>
          <p:nvPr/>
        </p:nvSpPr>
        <p:spPr>
          <a:xfrm>
            <a:off x="5475240" y="2276640"/>
            <a:ext cx="7812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227640" y="206064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ALF applicatio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0" name="Straight Connector 13"/>
          <p:cNvSpPr/>
          <p:nvPr/>
        </p:nvSpPr>
        <p:spPr>
          <a:xfrm>
            <a:off x="5475240" y="2997360"/>
            <a:ext cx="746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6227640" y="276876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LF desig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227640" y="474192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435280" y="5373720"/>
            <a:ext cx="64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84720" y="4941720"/>
            <a:ext cx="136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Shift 6 pixels up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508720"/>
            <a:ext cx="136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Shift 7 pixels left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692360" y="5734080"/>
            <a:ext cx="62625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hift ALF design filter 6 pixels up and 7 pixels to the left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ALF design window is aligned with ALF application window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106880" y="352440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077840" y="5972040"/>
            <a:ext cx="65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Average change in bitrate &lt; 0.01%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79640" y="852480"/>
            <a:ext cx="43592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 partitioning for filtering suited to both frame-based and LCU-based de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 memory requirement is reduced by 2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the decoder no filter switching is required for SAO and region-based ALF during the decoding of an L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opt into the next version of 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CU-based filtering in HM3.0 an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solution: grid displacements fo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LCU-based filtering in HM3.0:</a:t>
            </a:r>
            <a:r>
              <a:rPr b="1" lang="de-DE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Non-deblocked LCU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067280" y="3494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Copy line memory to LCU border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92360" y="1413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627280" y="1413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692360" y="141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067280" y="3494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Horizontal deblocking of vertical edge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92360" y="1413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627280" y="1413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692360" y="141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34000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27492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140360" y="2060640"/>
            <a:ext cx="5760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146560" y="2060640"/>
            <a:ext cx="5778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06872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Vertical deblocking of horizontal edge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692360" y="1413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627280" y="1413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692360" y="141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340000" y="4292640"/>
            <a:ext cx="3456000" cy="57636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2340000" y="3500280"/>
            <a:ext cx="3456000" cy="57636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340000" y="2637000"/>
            <a:ext cx="3456000" cy="57600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2340000" y="1773360"/>
            <a:ext cx="3456000" cy="57600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234000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327492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4140360" y="2060640"/>
            <a:ext cx="5760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5146560" y="2060640"/>
            <a:ext cx="5778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Delayed deblocking at LCU border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692360" y="1413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627280" y="1413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692360" y="141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340000" y="4292640"/>
            <a:ext cx="3456000" cy="57636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2340000" y="3500280"/>
            <a:ext cx="3456000" cy="57636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2340000" y="2637000"/>
            <a:ext cx="3456000" cy="57600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2340000" y="1773360"/>
            <a:ext cx="3456000" cy="576000"/>
          </a:xfrm>
          <a:prstGeom prst="rect">
            <a:avLst/>
          </a:prstGeom>
          <a:solidFill>
            <a:srgbClr val="00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234000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3274920" y="2060640"/>
            <a:ext cx="57636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4140360" y="2060640"/>
            <a:ext cx="5760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5146560" y="2060640"/>
            <a:ext cx="577800" cy="3186000"/>
          </a:xfrm>
          <a:prstGeom prst="rect">
            <a:avLst/>
          </a:pr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5796000" y="2060640"/>
            <a:ext cx="576360" cy="3186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627280" y="5013360"/>
            <a:ext cx="3465720" cy="50328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550200" y="5013360"/>
            <a:ext cx="0" cy="260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588000" y="49928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5796000" y="1916280"/>
            <a:ext cx="288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580000" y="1611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39640" y="5589720"/>
            <a:ext cx="842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 at the LCU boundaries cannot be processed at the moment since the right and bottom neighboring LCUs are not available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Delayed deblocking at LCU borders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692360" y="1413000"/>
            <a:ext cx="934920" cy="3833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27280" y="141300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627280" y="2060640"/>
            <a:ext cx="3457440" cy="31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692360" y="141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627280" y="5013360"/>
            <a:ext cx="3465720" cy="2332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6227640" y="4992840"/>
            <a:ext cx="0" cy="260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227640" y="5013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067280" y="3494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5796000" y="2060640"/>
            <a:ext cx="297000" cy="31860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Straight Connector 13"/>
          <p:cNvSpPr/>
          <p:nvPr/>
        </p:nvSpPr>
        <p:spPr>
          <a:xfrm flipV="1">
            <a:off x="5940360" y="3357360"/>
            <a:ext cx="576360" cy="502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516720" y="31291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gion that is not yet deblocked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796000" y="5373720"/>
            <a:ext cx="288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5651640" y="5386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LCU-based processing of SAO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692360" y="620640"/>
            <a:ext cx="934920" cy="383400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627280" y="620640"/>
            <a:ext cx="3457440" cy="64764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627280" y="1268280"/>
            <a:ext cx="3457440" cy="318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692360" y="62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" name="Straight Connector 13"/>
          <p:cNvSpPr/>
          <p:nvPr/>
        </p:nvSpPr>
        <p:spPr>
          <a:xfrm>
            <a:off x="6091200" y="2205000"/>
            <a:ext cx="49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588000" y="1976400"/>
            <a:ext cx="147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AO desig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622920" y="1268280"/>
            <a:ext cx="17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SAO application window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067280" y="2701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2627280" y="4221000"/>
            <a:ext cx="3465720" cy="233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796000" y="1268280"/>
            <a:ext cx="297000" cy="31863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40000" y="1036800"/>
            <a:ext cx="3456000" cy="3184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Straight Connector 13"/>
          <p:cNvSpPr/>
          <p:nvPr/>
        </p:nvSpPr>
        <p:spPr>
          <a:xfrm>
            <a:off x="5802480" y="1484280"/>
            <a:ext cx="7808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24000" y="4943520"/>
            <a:ext cx="8820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000000"/>
                </a:solidFill>
                <a:uFillTx/>
                <a:latin typeface="Arial"/>
              </a:rPr>
              <a:t>In the Encoder</a:t>
            </a:r>
            <a:endParaRPr b="1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different SAO parameter set is designed for each LCU (SAO design window).</a:t>
            </a:r>
            <a:endParaRPr b="1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000000"/>
                </a:solidFill>
                <a:uFillTx/>
                <a:latin typeface="Arial"/>
              </a:rPr>
              <a:t>In the Decoder</a:t>
            </a:r>
            <a:endParaRPr b="1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O is applied on the red region (SAO application window) due to delayed deblocking filtering.</a:t>
            </a:r>
            <a:endParaRPr b="1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O design and application windows are not aligned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627280" y="1268280"/>
            <a:ext cx="3457440" cy="3168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6227640" y="4221000"/>
            <a:ext cx="0" cy="268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5802120" y="4551480"/>
            <a:ext cx="290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5580000" y="456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227640" y="4221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 line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1-07-15T15:20:57Z</dcterms:modified>
  <cp:revision>1862</cp:revision>
  <dc:subject/>
  <dc:title>Template</dc:title>
</cp:coreProperties>
</file>