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1BF-09BF-4B99-856B-80961130DAE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850D-DE09-4E1F-8C07-3A6DE3A0678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= determine MVs and step 2 = determine most reference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513-A274-40C9-8F89-9CC3CC518B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O = Sample adaptive off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4616-A2F9-4C04-A18E-F99812B24FD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F87-1CA2-4E23-952F-358A61D6FE9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fficients sent in the the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4CA-7FC1-4C55-B2CD-07CD5EF2533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65F-96A9-4645-A63A-310AA031D3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827-35D5-48B6-98A2-9872FCF065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ried decoupling luma and chroma and the gains were not significant so we designed the algorithm to couple the decision as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49D-D162-4F21-BC56-956AD6B7D0E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CFDC-0BDC-469C-A88C-7F6096BF7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4927-C3AD-4DDB-A4CC-589B9B61D7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0F1B-BD7F-401D-9427-0C607D7960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759A-F890-4DFC-8F78-C7E27E1DA7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0800-411C-4BC2-A835-6740A5CF143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C38C-4A45-4A56-8A89-ACD94F7778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32A7-8DAA-4257-BC89-2627A6A54F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8693-AD94-4C88-821F-032755DD0A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8ED6-8B0D-497D-B1A0-A73B5A6EA9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BFA0-3153-47D7-88D4-1E4E12E559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B368-C8B6-4D6D-8DD6-6BA448BEF4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D630C-2AED-473E-89B6-61FA79623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C0CF-7C6F-4CA0-9D71-061E781DE8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7F1FE-5D0A-43F1-9CBC-626F87E59B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2A8E7-B9B8-4F86-9C66-228B010E68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94E7A-607D-4880-A67F-5B51D2DBFF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A40D1-1481-48D6-A79E-7514D18529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AE716-D127-4053-AB6D-191C77CFCE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0E1FE-3A0E-47A0-8A6E-8402CDDC45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EDD8A-0CF3-4A41-9357-383200D64D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80D30-C8AD-4E98-80E9-8315104E88F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45D84-5965-418F-9730-266474BD39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9F68E-D825-4E30-BE5D-5BA88FE25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6B5E-4E99-4B03-BD1E-834ED80E66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2CD8E-75E8-4074-B24C-2FB798BC653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73E81-E41D-420C-9B78-3F634BE0E64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47397-76EB-437C-99E4-73D2B5F774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357ED-381E-4B90-B250-9A7632FCC3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F3A43-057A-4CCE-9B9A-327838A3C26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9E22F-FD94-4228-AD4B-4DD5981A73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27EAE-9421-4847-B25B-307362404C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3012A-A6AE-44F9-BA16-56A506B536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4334C-DF23-4C24-95A7-F58E920CAFD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9DDB5-BF2C-447D-9B84-D69A2464A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B4DA-62CB-4F3E-81E5-6511798610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8EA6E-4DAF-4EE0-AF7D-BB9D159534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4B81F-F235-47F5-844E-510942F170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05A02-E4C7-4F32-877C-2158E1980DA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B98C-A665-4612-80C1-CE1E1DF0FE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35D5-CE27-46B0-8CEB-BBF26F0BDA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F099-3093-4CA9-9340-3016225D2E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81E1-C4FF-45B6-B356-1C14BD1A86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54DB-2DA8-4886-ADD4-BF6C7965814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22BA-FCD8-48C4-A5C6-841F5C83D5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CB7F-3AFA-4950-BA4D-C0357CB9D0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A4D7-0695-4E98-BB24-C081869000B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5C29-6C10-4B8A-9B71-1ECC8D9B78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E32B-32F8-47C0-ADE3-E30154849D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DEDB-6B31-4F57-BE29-C595637433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AD91-07AC-4611-85D4-98927AA0A9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AE15-44B6-4EC1-ADC8-757EAC4C7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A3F7-4E30-419D-BF1E-F41699614B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0E58-F104-485D-984A-8FC27D1863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476F-6304-4F31-A7CC-CB487124B6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8D91-BFF3-4EDB-B3E3-F05930F7FD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DB57-308A-4ABB-ADD5-D13D26C76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149B-C563-4BD2-A839-F87AC15D0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AE2C-1D64-4933-B7DF-D0C134A324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8EEC-DA55-44F5-AB25-0864781AD0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BED8-6C96-43BC-BC25-5C4F58DC2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192F-C03C-4945-9927-EC707B400B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0E84-B596-49E1-9756-AE7B23C6AA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DF2-21C7-49D7-A710-646718898B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8CE-5AEC-41F4-9842-DE234D31D0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1A3-6AF2-42D7-A0CA-C0E69A766F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85F-D4C7-4D16-950E-B92CECD35B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EA6-E529-4C96-BD1E-82C0B4076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AD2A-CCAA-4012-9297-A2C4684973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B1F-87BC-485A-A626-A36946AD11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017-A48E-475B-B446-C52ACE3B34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AA0-1C80-4691-8C1F-CF1462AA5A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537-ED32-4460-B532-1CD2D189DA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28A-E940-4109-8FE8-FD2A326E95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3C6-8685-41F0-8F6A-8097569D4E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E87-84EA-4B3B-9A36-D5016128B3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CC8A5-25D4-494D-AA7C-4724CB0FF5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CC46-6E80-4950-BBE2-021B66AD86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2231-CEC8-45EC-872E-1AD4BE55A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D960-F45A-4EDE-B083-DF65CAD358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F83BB-EAC0-44D2-9E5C-207987F9D5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FA647-92F2-4375-BD9D-390C21677D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0E491-EFF2-4532-AB7D-4D483030E9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B4DA9-C430-4CED-87AC-2E19A50E30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66091-CCDA-4112-AF05-EBBA9158B5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18F92-292C-4729-9B32-51C8BF2340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EC23-DB72-4AB1-B803-84A193811E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196D-1C30-4E04-B031-BAD9FEA54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83718-9307-44B8-B951-9FDC648316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6360F-62C3-47AA-9AC7-3EE68E764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AB1A-2409-4AF5-A546-07F3B94ABD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ACE0-412C-4CC9-BF8F-8BB2E89C92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C2C2-5DEE-48C7-8CBC-A2BD49814E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1B29-AD3D-40CE-8278-2B121E201C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182F-B71F-496B-A09E-B40AACA18B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68637-F536-4A12-8468-5D11B2372A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DC5A-538D-4BCB-8FE1-F7A35910AE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2016E-02F2-4EF1-962F-040F8CFF3A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A707-A604-4956-9156-1A2E89A493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3F84D-11AC-474E-A276-FE313F85CE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9D45C-0007-4FF0-B368-3B7459FCB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B316-0A12-48A1-8290-DB3A8082BC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680C1-7B3D-4D17-8296-93081D4592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4CE4-D9F3-4BFB-8C18-95937F0688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7C8-EA12-4C80-9342-332B078810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A81-B22E-4C2C-A90E-24C186CF6F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2FAE-74D0-4B43-A983-F4FC9865AD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B878-CC32-46AF-B2B6-602FF409F6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397F-726F-43B6-87DD-7A0AD33D6A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1A57-DF8F-4E2C-889B-8BE8FD6E53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ADB-B995-4244-AC9D-D90AA68DD9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D90-678C-4345-A7E9-AB9BF3515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7827-D2FE-41DA-B654-C959E74B79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7FB-FD47-4348-A98D-33131C6439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FCB-AF2F-4509-AB3E-F943970C49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DDC-BA9A-47A6-A718-46A9D1CADF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A0419-90DC-4594-96D9-CB9C5E4D33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948B9-5EC6-4C2D-A87D-6EB4A31C4A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B19D0-42CD-478A-91D9-99091B6C47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00D38-22A7-4E3F-AC35-F29957AE10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A45C0-1060-4166-A585-4614085794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5C690-9AC6-4883-99CA-2213F9AA4C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97024-E3FD-4770-B445-B2DED46AA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690C-C444-4496-AEC7-D913C324B1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BD56F-089A-40F1-92EB-7BA59522BB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3585B-53F6-4C91-B02E-DF12F39B46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EF085-F6C0-41F1-94D8-05A28B3FFE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CF99E-EA8C-4A44-83AD-3BB2A84FC4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35C1C-C40C-42BB-AE06-F9650A3719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62C50-67E3-4BCD-9E5A-BBD1C595BE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11D72-A072-4517-AF09-F46BF46A40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23D0C-A3CE-4B80-8030-0015B980A9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D887F-D60E-4CDC-B125-CDF9489B47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E7B35-70C7-4B11-AE7E-0EE5DA3FC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0E52-CDA8-4C65-A47E-1DCAEC1DF4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61E57-117B-4849-B832-91EA75BC2E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DE5C5-2C21-44C2-AAA1-4C7FFB07E5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7ECD0-2257-4F31-AA39-A322744984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84A83-96B1-4EDD-9C03-BF1C2FBD99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D3DC9-8D72-49F3-92A0-79B7BAF13A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45332-6E43-4635-8BD3-7A2DEB9B6F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529D-E522-4086-B357-A5E9DF4249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03B8-AFAD-45A9-8D4B-118C58E747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8C49-BAFF-474B-964A-416C75B8F2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0DE3-84EF-4B6D-AE94-1CF48254B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5056-1D73-4189-9E72-A2CB0307CA0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5B9-11F2-4D88-8A87-7E33BF6DC88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E21-10AF-4E78-B8B3-1C4C1348B1B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4C3E-6692-4625-8ED8-3C69E5901A5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005D-C392-4408-B1A4-2611308B30A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373E-7E55-4CEC-9D80-0D35F551040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ADD-BB7A-4AAD-9ADA-23641730255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BFD-C541-402B-8C53-553E992B010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C1EA-1BA7-4C7B-B58E-ED5D3274805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B350-2D42-41E5-B908-2AB37526E4E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42B-B9E9-460D-B43F-3D75139C1CA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21F0-E153-43CF-AD47-605C121B2BB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E07-94A4-4E4F-B5BE-77D47FFEB53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F216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Filt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, eBrisk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To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4-22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856-94F6-4827-A5AD-2307FEAF916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Filter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&amp; Step 2 already performed in the Luma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Estimate filter coefficient values by minimizing the energy of chroma prediction errors after performing MC using MVs from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Filter Trans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fferences between the filter coefficient values and the corresponding HM 3.0 defaul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304920" y="351000"/>
            <a:ext cx="8610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912-E41C-468D-95C7-9C1C26DB6C1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" y="1752480"/>
          <a:ext cx="8381880" cy="3826080"/>
        </p:xfrm>
        <a:graphic>
          <a:graphicData uri="http://schemas.openxmlformats.org/drawingml/2006/table">
            <a:tbl>
              <a:tblPr/>
              <a:tblGrid>
                <a:gridCol w="1303200"/>
                <a:gridCol w="1214640"/>
                <a:gridCol w="1212840"/>
                <a:gridCol w="1112760"/>
                <a:gridCol w="1112760"/>
                <a:gridCol w="1111320"/>
                <a:gridCol w="1314360"/>
              </a:tblGrid>
              <a:tr h="443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3DA-7596-4101-B7E8-88DD4F41A7C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1828800"/>
          <a:ext cx="8458200" cy="367020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1219320"/>
                <a:gridCol w="1066680"/>
                <a:gridCol w="1324080"/>
                <a:gridCol w="998280"/>
                <a:gridCol w="1182960"/>
              </a:tblGrid>
              <a:tr h="355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17F-EA75-4D0D-8C3A-D9C0B180B4D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457200" y="1981080"/>
          <a:ext cx="8458200" cy="3124440"/>
        </p:xfrm>
        <a:graphic>
          <a:graphicData uri="http://schemas.openxmlformats.org/drawingml/2006/table">
            <a:tbl>
              <a:tblPr/>
              <a:tblGrid>
                <a:gridCol w="1251000"/>
                <a:gridCol w="1165320"/>
                <a:gridCol w="1166760"/>
                <a:gridCol w="1066680"/>
                <a:gridCol w="1068480"/>
                <a:gridCol w="1066680"/>
                <a:gridCol w="1673280"/>
              </a:tblGrid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BAA-1B7A-4613-8947-F12206E5820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F-ALF Inte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strong AIF-ALF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 substantially reduces AIF 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E configur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F, AIF gain averag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C configur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F, AIF g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F can allow for a less complex ALF to achieve similar BD-Rate numbers to those of HM 3.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IF + low complexity ALF (e.g., F041), average Y BD-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HM 3.0 with decoder complexit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IF + low complexity ALF (e.g., F042), average U/V BD-rate reduc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espectively) with decoder complexit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E8B-258C-43FD-AC9B-5834D794EC5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yiel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%, 1.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3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er &amp; encoder complexity relative to HM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: 10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same as HM 3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: 102% to 109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verag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-ALF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F allows for the reduction of ALF complexity while achieving a similar Y BD-Rate to that of HM 3.0 and substantially better U/V BD-Rates than those of HM 3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2E11-4FE1-4B4D-AFE5-E76A8888296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3.0 Interpol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743200" y="1523880"/>
          <a:ext cx="4280040" cy="609840"/>
        </p:xfrm>
        <a:graphic>
          <a:graphicData uri="http://schemas.openxmlformats.org/drawingml/2006/table">
            <a:tbl>
              <a:tblPr/>
              <a:tblGrid>
                <a:gridCol w="814320"/>
                <a:gridCol w="3465720"/>
              </a:tblGrid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   4,  -10,  57,   19,   -7,   3,   -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   4,  -11,  40,   40,  -11,   4,  -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981080" y="2273400"/>
          <a:ext cx="5943600" cy="3746520"/>
        </p:xfrm>
        <a:graphic>
          <a:graphicData uri="http://schemas.openxmlformats.org/drawingml/2006/table">
            <a:tbl>
              <a:tblPr/>
              <a:tblGrid>
                <a:gridCol w="1886040"/>
                <a:gridCol w="2000160"/>
                <a:gridCol w="2057400"/>
              </a:tblGrid>
              <a:tr h="2343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ample po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t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izon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7F2-C799-454C-9A1A-6DF2BD47BCB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80880" y="2514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ere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 slice, select between the ½-pel default and new filters, and between the ¼-pel default and new fil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y selected filters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ma_filter_mod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filters are used only when the first picture of the most-referenced list (indica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if_ref_pic_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refere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905120" y="1866960"/>
          <a:ext cx="4572000" cy="571320"/>
        </p:xfrm>
        <a:graphic>
          <a:graphicData uri="http://schemas.openxmlformats.org/drawingml/2006/table">
            <a:tbl>
              <a:tblPr/>
              <a:tblGrid>
                <a:gridCol w="936360"/>
                <a:gridCol w="363564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  a1,   a2,   a3,   a4,   a5,   a6,   a7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  b1,   b2,   b3,  b3,   b2,   b1,  b0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523880" y="3886200"/>
          <a:ext cx="5867640" cy="1295280"/>
        </p:xfrm>
        <a:graphic>
          <a:graphicData uri="http://schemas.openxmlformats.org/drawingml/2006/table">
            <a:tbl>
              <a:tblPr/>
              <a:tblGrid>
                <a:gridCol w="2760840"/>
                <a:gridCol w="1554120"/>
                <a:gridCol w="1552680"/>
              </a:tblGrid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ma_filter_mode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HM 3.0 Filtering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15E-94F4-4374-8C7F-036F7FBACC2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 Filter Gen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Estimate MVs using HM 3.0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etermine most-referenc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Estimate filter coefficient values by minimizing the energy of prediction errors after performing MC using MVs from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 Filter Trans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p the filter coeffici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fferences between the filter coefficient values and the corresponding HM 3.0 filter coefficie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600200" y="4286160"/>
          <a:ext cx="5867280" cy="615960"/>
        </p:xfrm>
        <a:graphic>
          <a:graphicData uri="http://schemas.openxmlformats.org/drawingml/2006/table">
            <a:tbl>
              <a:tblPr/>
              <a:tblGrid>
                <a:gridCol w="2462040"/>
                <a:gridCol w="363600"/>
                <a:gridCol w="433440"/>
                <a:gridCol w="434880"/>
                <a:gridCol w="435240"/>
                <a:gridCol w="434880"/>
                <a:gridCol w="506520"/>
                <a:gridCol w="434880"/>
                <a:gridCol w="361800"/>
              </a:tblGrid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efficient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ip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6E2-A998-4FCE-93F9-2B3A2942071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09480" y="2057400"/>
          <a:ext cx="8077320" cy="341316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184400"/>
                <a:gridCol w="969840"/>
                <a:gridCol w="1090800"/>
                <a:gridCol w="1098360"/>
                <a:gridCol w="1219320"/>
              </a:tblGrid>
              <a:tr h="31896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19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3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AD3-351E-40B9-9EA6-83F593CACF8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3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57200" y="1905120"/>
          <a:ext cx="8229600" cy="3581280"/>
        </p:xfrm>
        <a:graphic>
          <a:graphicData uri="http://schemas.openxmlformats.org/drawingml/2006/table">
            <a:tbl>
              <a:tblPr/>
              <a:tblGrid>
                <a:gridCol w="1306440"/>
                <a:gridCol w="1158840"/>
                <a:gridCol w="1092240"/>
                <a:gridCol w="1220760"/>
                <a:gridCol w="1373400"/>
                <a:gridCol w="1039680"/>
                <a:gridCol w="1038240"/>
              </a:tblGrid>
              <a:tr h="3405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B) 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B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%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10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%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10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8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B77-5FCA-4B55-A9DC-FB6E146B4BA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533520" y="1828800"/>
          <a:ext cx="8153280" cy="3429000"/>
        </p:xfrm>
        <a:graphic>
          <a:graphicData uri="http://schemas.openxmlformats.org/drawingml/2006/table">
            <a:tbl>
              <a:tblPr/>
              <a:tblGrid>
                <a:gridCol w="1293840"/>
                <a:gridCol w="1147680"/>
                <a:gridCol w="1082520"/>
                <a:gridCol w="1209600"/>
                <a:gridCol w="1360800"/>
                <a:gridCol w="1030320"/>
                <a:gridCol w="1028520"/>
              </a:tblGrid>
              <a:tr h="323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3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831-E66D-4E8B-B705-85F2679EE76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80880" y="3886200"/>
            <a:ext cx="861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ere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 slice &amp; for each of the ½-, ¼-, 1/8- and 3/8-pel filters, select between the default filter and the new filter (the new filters are used only when the first picture of the most-referenced list is referenc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y selected filters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roma_filter_mod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HM 3.0 Filtering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836800" y="2133720"/>
          <a:ext cx="3487680" cy="1523880"/>
        </p:xfrm>
        <a:graphic>
          <a:graphicData uri="http://schemas.openxmlformats.org/drawingml/2006/table">
            <a:tbl>
              <a:tblPr/>
              <a:tblGrid>
                <a:gridCol w="1327320"/>
                <a:gridCol w="216036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  a1,   a2,   a3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  b1,  b2,   b3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c0,   c1,   c2,   c3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d0,   d1,  d1,   d0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766-10BD-48CF-97F5-C492C17B86F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51000"/>
            <a:ext cx="8610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510552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1371600" y="1447920"/>
          <a:ext cx="6477120" cy="3187440"/>
        </p:xfrm>
        <a:graphic>
          <a:graphicData uri="http://schemas.openxmlformats.org/drawingml/2006/table">
            <a:tbl>
              <a:tblPr/>
              <a:tblGrid>
                <a:gridCol w="2362320"/>
                <a:gridCol w="1066680"/>
                <a:gridCol w="1219320"/>
                <a:gridCol w="868320"/>
                <a:gridCol w="960480"/>
              </a:tblGrid>
              <a:tr h="2606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oma_filter_mode_fl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07-13T15:20:41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