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6F9-EC7B-4547-BBE7-D4AA761C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553-E3C1-428A-BCE1-08AA8DC8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08A-7FDD-4865-8C33-CA59E683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0DF-AD95-446F-8A87-84E47026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473-FB16-4380-BB54-E4D1FD77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2F7-12D6-49F1-939F-D393A206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9FF-13CE-4B2A-97C1-6F268032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3A8-C165-4FE2-BDA0-ED51745E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216-3DEC-4D9D-960C-6A9CCF4D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33E-1870-4548-8CF0-E48B117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719-CC1E-4E59-A5CA-5B50A1FF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BB8-6128-46A4-90F2-4B3D71B5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5395-37D4-48AE-862D-5C4B179962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gh-level Syntax: Temporal Information Decoding Refr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Bin Li, Jizheng Xu, Houqiang L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University of Science and Technology of Ch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Microsof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with TMV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ing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olved by some robust parsing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he parsing issue s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rect M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agate to the following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bearable error concealment result when packet loss 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MV is usef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 conceal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on information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compressed domain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oral Information Decoding Refres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DR pi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cess point for correct MV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not using any temporal information (i.e. TMVP) except tex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to truncate the propagation of incorrect temporal information (i.e. TMV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general design of disabling TMVP of some fr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ror Concealment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ketballDrill, QP22, LD_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: ROB_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: TIDR (period = 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 concealment method: frame co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POC=10 l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oding results of POC=20, 50, 100, 300, 4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57200" y="1014480"/>
            <a:ext cx="8209080" cy="25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479520" y="3573360"/>
            <a:ext cx="81867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468360" y="1136520"/>
            <a:ext cx="8207280" cy="257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8207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56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n access point for correct MVs, which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 conceal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domain video analysis and 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 to include TIDR into the HM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6:19:43Z</dcterms:created>
  <dc:creator>Bin Li (MSR Student-Person Consulting)</dc:creator>
  <dc:description/>
  <dc:language>en-US</dc:language>
  <cp:lastModifiedBy>Ji-Zheng Xu</cp:lastModifiedBy>
  <dcterms:modified xsi:type="dcterms:W3CDTF">2011-07-14T15:30:35Z</dcterms:modified>
  <cp:revision>12</cp:revision>
  <dc:subject/>
  <dc:title>High-level Syntax: Temporal Information Decoding Refresh</dc:title>
</cp:coreProperties>
</file>