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FA3-F649-42EC-A32F-F48A3B8D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997-B0A5-4E49-B088-E048DB7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6E1-248B-462B-BF1A-B2A6DD9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0C6-E119-4AC7-B212-551A9289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F66-0583-4AA4-8954-9A52540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F63-A711-4268-93D4-8059122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D2A-17B7-4F62-9702-3560F5CF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5DE-FA24-4FEE-97BD-FA755D1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DB7-E8B5-4762-8670-9F242C4A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E22-75F1-4CE3-AD11-4BFDCCE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D28-5394-40DF-89B8-C9DE204B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F9E-1326-4DB2-AA7F-181D99E6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744C-AF32-4A06-AEA6-B5BBABE8F2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further improvement of inter prediction direction and reference frame index combined coding in CAV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in Li, Jizheng X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University of Science and Technolog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ed coding of inter prediction direction and reference frame 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by JCTVC-E3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mPredRefLC = Min( 4, num_lc )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mPredRefL0 = Min( 2, num_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)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mPredRefL1 = Min( 2, num_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PredRef = NumPredRefLC + NumPredRefL0 * NumPredRefL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ll b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alculating maximum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entry (exception) does not exist all th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um_lc &lt;= 4 &amp;&amp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um_l0 &lt;= 2 &amp;&amp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um_l1 &lt;=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ception, the maximum value should be decreased b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 Configuration, no gain or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16000" y="2133720"/>
          <a:ext cx="6696000" cy="417492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463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3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3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reference frame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ximum value is small, 0.2%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58920" y="2133720"/>
          <a:ext cx="6481800" cy="4248000"/>
        </p:xfrm>
        <a:graphic>
          <a:graphicData uri="http://schemas.openxmlformats.org/drawingml/2006/table">
            <a:tbl>
              <a:tblPr/>
              <a:tblGrid>
                <a:gridCol w="2160720"/>
                <a:gridCol w="2160360"/>
                <a:gridCol w="2160720"/>
              </a:tblGrid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ptive combined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M3, to combined code ref idx/dir or not depends on the upper and left 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more natural to make it PU-based, i.e., based on the upper and left Pus, since ref idx/dir are on PU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for PU-based adap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2492280"/>
          <a:ext cx="5543640" cy="28083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</a:tblGrid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 to accept this bug fix on the calculation of maximum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 to use PU-based adaptation instead of CU-based adap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Samsung for cross-che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6:10:13Z</dcterms:created>
  <dc:creator>Bin Li (MSR Student-Person Consulting)</dc:creator>
  <dc:description/>
  <dc:language>en-US</dc:language>
  <cp:lastModifiedBy>Ji-Zheng Xu</cp:lastModifiedBy>
  <dcterms:modified xsi:type="dcterms:W3CDTF">2011-07-14T15:14:58Z</dcterms:modified>
  <cp:revision>4</cp:revision>
  <dc:subject/>
  <dc:title>A further improvement of inter prediction direction and reference frame index combined coding in CAVLC</dc:title>
</cp:coreProperties>
</file>