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5F6-3464-4E9F-A310-D5C6F0BF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52E-8B2E-483F-ADD2-B2166EB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062-6FB1-4C87-8647-119B3CE8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1AF-B31B-44A1-8C82-7166A8F0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7C6A-7C25-4D24-94B3-13E86C5C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B8C2-8166-4734-9E15-601611A1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AED1-78BB-408D-BB07-C8902771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2F5E-7D07-44AA-88AD-2A379CB2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4D3F-102B-4BAD-85BC-52280566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A070-A9CE-406E-BD82-0878AF8E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81DB-5DC1-4AD0-8182-AAC978F3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FEC-65B3-48DC-9692-19ADAAC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1725-D7C5-4C47-A02E-61781C91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9D7C-70E4-4A7D-A004-6E4E463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F208-8CAA-4D21-9497-B7001312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C64F-963F-4CA1-9B0B-5F0558BA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4942-A505-4A84-A423-E0597CC6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393D-E3D2-469B-9C03-33486B1D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6385-11EE-4861-9F35-AE23A638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2DD50-95F2-4202-99B6-F87EA2C4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CEF3-A246-4FE1-8B3C-F43A916B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1072-91D1-4473-A242-07725FD5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4E5-99E5-48EA-AE11-A6099A87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2E96-F726-4842-93A4-3EF8923D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5510-A73A-4C4F-BCE6-0012FFF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467B-EC61-4CA3-8FB1-1A08762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5BAC-4EF6-4A29-875F-D48A460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3FA5-B7A3-499B-9E52-89F9B90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288A-1384-4440-8C2C-D6B32DAD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D9E5-106D-480F-9AA8-DB5EE300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AD9A-D17A-4A47-A424-02C59B5D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59E11-D746-4429-BA02-D82D4085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859A-4878-45AF-AB06-A8478113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550-3626-494C-83A6-DBE304A5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B999-9AB3-4372-94F4-CE4072ED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EC7D1-C9B0-4791-950B-8B967456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2680-E398-4CA5-92B4-8091A3B2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414E-11A6-40A2-8FCF-7FD0A87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9BD4A-7986-4F5A-B5AE-30F6EA44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C3D8-6606-4A93-B9E5-E21604B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47AD-7B46-46D5-85E0-BE152255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F1A5-3E00-4B60-8837-B6E24DBF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BB8DE-E593-445E-AFB8-86AB886B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C34C-BD6F-4AA4-95E9-0A571D5B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0A2-1110-4235-B45E-8D5D5C2D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67FE-9C4E-4FDC-8751-CBD584E7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D29B0-2B42-4C6E-9460-F7714F49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DDCA6-2C89-4CB1-9181-87865726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D2AD-50A4-4489-84CE-AB9E2A6F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4DFB-FEAB-4EBC-B567-FBF9559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A4B2-B180-443C-BE01-BB5D2447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4D678-172C-4B22-B8E6-543DB6D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290E-ADAC-4976-B6A4-E28BE26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318A8-D3AA-45D2-AC7E-A23A8237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24E93-7743-44F5-AFE0-F9C10F0F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766-F1AE-43F4-942D-396250C2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3421-2D61-4BCC-B04D-3FBA3491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877-460B-4509-8FB1-589AD0B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E0B-562F-456E-87E0-B7F0616E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641-14C7-4B9F-B7B7-76F5C63C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26F-9247-43FA-B1AE-E60E1115AF9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FA53-0FDC-4890-8E36-9AF004857F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4787-575A-4C9D-9823-B4BBC53BF1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B06-5576-4F71-8EE4-D95879FF98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6A8B-DC3B-4CD9-A792-454DEC6371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661440" cy="20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Perpetua"/>
              </a:rPr>
              <a:t>Zhongbo Sh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Perpetua"/>
              </a:rPr>
              <a:t>Xiaoyan Su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Perpetua"/>
              </a:rPr>
              <a:t>Jizheng X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Perpetua"/>
              </a:rPr>
              <a:t>University of Science and Technology of Chin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Perpetua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E12, Subset 1: Report of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blocking for Large-size Blocks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Experimental results – All Intra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116000" y="1844640"/>
          <a:ext cx="6908760" cy="3695760"/>
        </p:xfrm>
        <a:graphic>
          <a:graphicData uri="http://schemas.openxmlformats.org/drawingml/2006/table">
            <a:tbl>
              <a:tblPr/>
              <a:tblGrid>
                <a:gridCol w="1147680"/>
                <a:gridCol w="965160"/>
                <a:gridCol w="963720"/>
                <a:gridCol w="600120"/>
                <a:gridCol w="1316160"/>
                <a:gridCol w="1317600"/>
                <a:gridCol w="598320"/>
              </a:tblGrid>
              <a:tr h="230400"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922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Book"/>
              </a:rPr>
              <a:t>Experimental results – random access</a:t>
            </a:r>
            <a:endParaRPr b="0" lang="en-US" sz="3600" spc="-1" strike="noStrike">
              <a:solidFill>
                <a:srgbClr val="073e87"/>
              </a:solidFill>
              <a:latin typeface="Franklin Gothic Book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03280" y="1916280"/>
          <a:ext cx="6348600" cy="3681360"/>
        </p:xfrm>
        <a:graphic>
          <a:graphicData uri="http://schemas.openxmlformats.org/drawingml/2006/table">
            <a:tbl>
              <a:tblPr/>
              <a:tblGrid>
                <a:gridCol w="1147680"/>
                <a:gridCol w="871560"/>
                <a:gridCol w="870120"/>
                <a:gridCol w="541440"/>
                <a:gridCol w="1188720"/>
                <a:gridCol w="1187640"/>
                <a:gridCol w="541440"/>
              </a:tblGrid>
              <a:tr h="639720"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79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Experimental results – low delay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403280" y="1989000"/>
          <a:ext cx="6405480" cy="3384720"/>
        </p:xfrm>
        <a:graphic>
          <a:graphicData uri="http://schemas.openxmlformats.org/drawingml/2006/table">
            <a:tbl>
              <a:tblPr/>
              <a:tblGrid>
                <a:gridCol w="1147680"/>
                <a:gridCol w="673200"/>
                <a:gridCol w="1084320"/>
                <a:gridCol w="673200"/>
                <a:gridCol w="674640"/>
                <a:gridCol w="1479600"/>
                <a:gridCol w="672840"/>
              </a:tblGrid>
              <a:tr h="260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60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Visual quality evaluation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improvements (Less blocking artifac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Kimono(sky and face area) and Parkscene( trunk are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Intra, Low-delay and RA at low bit-rates (QP37 or 32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Visual comparison 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extracted from Kimono( All Intra, HE, QP37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nch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61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Visual comparison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00720" cy="3951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914400" y="144792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extracted from Kimono( All Intra, HE, QP37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3897360" y="58770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Propos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onclusion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tronger deblocking applied to large smooth reg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tle impact on the objective quality and complex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tter visual quality by further reducing blocking artif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conflict with parallel deblcock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e buffer limited from upper CUs for hardware imple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more useful for even higher resolution vide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pose to consider a stronger deblocking for large blocks in th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矩形 3" descr=""/>
          <p:cNvPicPr/>
          <p:nvPr/>
        </p:nvPicPr>
        <p:blipFill>
          <a:blip r:embed="rId1"/>
          <a:stretch/>
        </p:blipFill>
        <p:spPr>
          <a:xfrm>
            <a:off x="3060720" y="2798640"/>
            <a:ext cx="30052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blocking for large-size blocks revis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has been presented in JCTVC-C273 , JCTVC-D137 and JCTVC-E144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ral idea: a stronger deblocking for large blocks (smooth region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Deblocking for Large-size Blocks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riance calculation of 16x16 Subblock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t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,j = 0,1,2…15 denote the pixels in one 16x16 subblock, and the variance of the subblock is calculated a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oundary_Mean   = ∑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0,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+ ∑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i,0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+ ∑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15,i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+ ∑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i,15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i = 0,1,2…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ariance_Subblock = ∑ab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– Boundary_Mean )  &gt;&gt; 8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variances of 16x16 subblocks in a LCU (64x64) will be     calculated and stored as parameters, and then used for mode decis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Deblocking for Large-size Blocks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6920" y="191592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blocking is changed to TUs, which satisfy the following condi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two adjacent TU’s related to the TU boundary are both in intra-coded CU’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smaller transform size between the two TU's is larger than a certain value(set to 8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larger transform size between the two TU's is larger than a certain value(set to 16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sum of Variance_Subblock from the two subblocks related to the TU boundary is smaller than a certain threshold ( set to 2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ll the pixels at the TU boundaries should be processed as strong filtering in default filtering mod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The proposed deblokcing filter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3027240" y="1341360"/>
            <a:ext cx="3181320" cy="1646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5"/>
          <p:cNvSpPr/>
          <p:nvPr/>
        </p:nvSpPr>
        <p:spPr>
          <a:xfrm>
            <a:off x="4691160" y="974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-28440" y="3068640"/>
            <a:ext cx="779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or the horizontal filtering (vertical edge), their values are modified as 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2"/>
          <a:stretch/>
        </p:blipFill>
        <p:spPr>
          <a:xfrm>
            <a:off x="1336680" y="4005360"/>
            <a:ext cx="2276640" cy="5047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1"/>
          <p:cNvSpPr/>
          <p:nvPr/>
        </p:nvSpPr>
        <p:spPr>
          <a:xfrm>
            <a:off x="4446360" y="917280"/>
            <a:ext cx="25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3377520" y="1422360"/>
            <a:ext cx="238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4464000" y="17460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698720" y="3506760"/>
            <a:ext cx="202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en Q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Luma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&gt; 3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1011240" y="3506760"/>
            <a:ext cx="21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en Q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Luma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&lt;=3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28" descr=""/>
          <p:cNvPicPr/>
          <p:nvPr/>
        </p:nvPicPr>
        <p:blipFill>
          <a:blip r:embed="rId3"/>
          <a:stretch/>
        </p:blipFill>
        <p:spPr>
          <a:xfrm>
            <a:off x="5070600" y="4005360"/>
            <a:ext cx="2276280" cy="504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7" descr=""/>
          <p:cNvPicPr/>
          <p:nvPr/>
        </p:nvPicPr>
        <p:blipFill>
          <a:blip r:embed="rId4"/>
          <a:stretch/>
        </p:blipFill>
        <p:spPr>
          <a:xfrm>
            <a:off x="5070600" y="4594320"/>
            <a:ext cx="2409840" cy="504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5" descr=""/>
          <p:cNvPicPr/>
          <p:nvPr/>
        </p:nvPicPr>
        <p:blipFill>
          <a:blip r:embed="rId5"/>
          <a:stretch/>
        </p:blipFill>
        <p:spPr>
          <a:xfrm>
            <a:off x="6080040" y="5400720"/>
            <a:ext cx="476280" cy="247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9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98640" y="1069920"/>
            <a:ext cx="25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Rectangle 31"/>
          <p:cNvSpPr/>
          <p:nvPr/>
        </p:nvSpPr>
        <p:spPr>
          <a:xfrm>
            <a:off x="3599640" y="1574640"/>
            <a:ext cx="224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4616280" y="189864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15228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Picture 18" descr=""/>
          <p:cNvPicPr/>
          <p:nvPr/>
        </p:nvPicPr>
        <p:blipFill>
          <a:blip r:embed="rId6"/>
          <a:stretch/>
        </p:blipFill>
        <p:spPr>
          <a:xfrm>
            <a:off x="1336680" y="4584600"/>
            <a:ext cx="2409840" cy="505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"/>
          <p:cNvPicPr/>
          <p:nvPr/>
        </p:nvPicPr>
        <p:blipFill>
          <a:blip r:embed="rId7"/>
          <a:stretch/>
        </p:blipFill>
        <p:spPr>
          <a:xfrm>
            <a:off x="2333520" y="5362560"/>
            <a:ext cx="400320" cy="247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6" descr=""/>
          <p:cNvPicPr/>
          <p:nvPr/>
        </p:nvPicPr>
        <p:blipFill>
          <a:blip r:embed="rId8"/>
          <a:stretch/>
        </p:blipFill>
        <p:spPr>
          <a:xfrm>
            <a:off x="5070600" y="5405400"/>
            <a:ext cx="847440" cy="324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9"/>
          <a:stretch/>
        </p:blipFill>
        <p:spPr>
          <a:xfrm>
            <a:off x="1336680" y="5324400"/>
            <a:ext cx="8478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The proposed deblokcing filter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8+8 pixels can be chang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t maximum, 12+12 pixels are us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042920" y="3967200"/>
            <a:ext cx="3086280" cy="1562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356000" y="3967200"/>
            <a:ext cx="4205520" cy="1511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547640" y="573264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re is no overlapped pixel using for the two edges. So the long filter has no confilct with LCU-based deblocking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The proposed deblokcing filter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219240" y="1484280"/>
            <a:ext cx="779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or the horizontal filtering (vertical edge), their values are modified as 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1039680" y="20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en QP&lt;= 3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2340000" y="2587680"/>
            <a:ext cx="400032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2340000" y="3094200"/>
            <a:ext cx="4000320" cy="4572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矩形 9"/>
          <p:cNvSpPr/>
          <p:nvPr/>
        </p:nvSpPr>
        <p:spPr>
          <a:xfrm>
            <a:off x="1024560" y="3789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en QP&gt;3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3"/>
          <a:stretch/>
        </p:blipFill>
        <p:spPr>
          <a:xfrm>
            <a:off x="2340000" y="4179960"/>
            <a:ext cx="407664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4"/>
          <a:stretch/>
        </p:blipFill>
        <p:spPr>
          <a:xfrm>
            <a:off x="2340000" y="4724280"/>
            <a:ext cx="407664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5"/>
          <a:stretch/>
        </p:blipFill>
        <p:spPr>
          <a:xfrm>
            <a:off x="2340000" y="5346720"/>
            <a:ext cx="4086360" cy="457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The proposed deblokcing filter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vertical filtering, at most 4+8 pixels are changed and us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e buffer can be kept as the same as that in AL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916360" y="2932200"/>
            <a:ext cx="3571920" cy="21524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1835280" y="51577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de A shows the line buffer required in default HM deblocking;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de B shows the line buffer required in our deblocking mode;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Experiments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M3.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ed with the anchors for all test seque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1-07-12T14:01:13Z</dcterms:modified>
  <cp:revision>43</cp:revision>
  <dc:subject/>
  <dc:title>PowerPoint 演示文稿</dc:title>
</cp:coreProperties>
</file>