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32960" y="6597720"/>
            <a:ext cx="104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F19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E385-3DAB-4218-B929-14FAA6368AC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60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F19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E12: Results for decisions for deblocking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59280" y="2997360"/>
            <a:ext cx="463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8280" y="6497640"/>
            <a:ext cx="432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6th JCT-VC meeting, Torino 14.-22. July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01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Evaluation of gradient change at the block bound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7600" y="685800"/>
            <a:ext cx="8996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tion and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filter on/off decisions for each line/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869000" y="1222200"/>
                <a:ext cx="31543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859280" y="2000160"/>
                <a:ext cx="315756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871880" y="907920"/>
                <a:ext cx="31384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867200" y="1668600"/>
                <a:ext cx="314316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611280" y="3448080"/>
            <a:ext cx="3054960" cy="1348920"/>
            <a:chOff x="611280" y="3448080"/>
            <a:chExt cx="3054960" cy="134892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33960" y="3448080"/>
                  <a:ext cx="789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627840" y="3771360"/>
                  <a:ext cx="113760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618480" y="4148280"/>
                  <a:ext cx="1364040" cy="31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611280" y="4483080"/>
                  <a:ext cx="1380960" cy="31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2701800" y="3457440"/>
                  <a:ext cx="9644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,2,5,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2698200" y="3771360"/>
                  <a:ext cx="6274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,6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0600" y="692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V="1">
            <a:off x="1292400" y="1277640"/>
            <a:ext cx="162396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292400" y="1917720"/>
            <a:ext cx="162396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92360" y="1240920"/>
            <a:ext cx="1623960" cy="22392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692360" y="1882800"/>
            <a:ext cx="1623960" cy="22392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293840" y="2341440"/>
            <a:ext cx="162396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693800" y="2306520"/>
            <a:ext cx="1623960" cy="22392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92400" y="844200"/>
            <a:ext cx="162396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692360" y="809280"/>
            <a:ext cx="1623960" cy="22392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11280" y="5477040"/>
            <a:ext cx="7532280" cy="1047240"/>
            <a:chOff x="611280" y="5477040"/>
            <a:chExt cx="7532280" cy="104724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792360" y="5477040"/>
                  <a:ext cx="67104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611280" y="6169680"/>
                  <a:ext cx="888840" cy="35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2117880" y="5477040"/>
                  <a:ext cx="126468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gt;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β</m:t>
                          </m:r>
                          <m:r>
                            <m:rPr>
                              <m:lit/>
                              <m:nor/>
                            </m:rPr>
                            <m:t xml:space="preserve">&lt;&lt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673640" y="5555160"/>
                  <a:ext cx="217440" cy="19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673640" y="6255720"/>
                  <a:ext cx="217440" cy="19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4269600" y="5477040"/>
                  <a:ext cx="3873960" cy="35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                     </m:t>
                      </m:r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,1,2,5,6,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3848040" y="5555160"/>
                  <a:ext cx="217440" cy="19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106360" y="6162120"/>
                  <a:ext cx="1481760" cy="35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β</m:t>
                          </m:r>
                          <m:r>
                            <m:rPr>
                              <m:lit/>
                              <m:nor/>
                            </m:rPr>
                            <m:t xml:space="preserve">&lt;&lt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3848040" y="6232680"/>
                  <a:ext cx="217440" cy="19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69600" y="6162120"/>
                  <a:ext cx="3202560" cy="35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                     </m:t>
                      </m:r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3,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D-bit rate re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5932440"/>
            <a:ext cx="5113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vidual decisions and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radient change at the block bound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3754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vidual decisions for each line and colum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s compared to HM3.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te reduction of 0.2% in average of over all te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te reduction of 0.5% in average for LD(B), Cla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 encoder-/decoder run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aluation of gradient change at the block boundary fo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/off-decisions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s compared to HM3.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te reduction of 0.5% in average of over all te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te reduction of 2.1% in average for LD-HE, Clas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 encoder-/decoder run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next version of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decisions for each line and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aluation of gradient change at the block boundary for on/off-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Reference: HM3.0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filter on/off decision for all 8 lines/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0600" y="773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1692360" y="2707920"/>
            <a:ext cx="72072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165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gment of 8 columns/lin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939960" y="131400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39960" y="195696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84680" y="1268280"/>
                <a:ext cx="4416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91160" y="1892160"/>
                <a:ext cx="4376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4365720"/>
                <a:ext cx="1297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H.264/MPEG-4 AVC-like individual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e individual filter on/off decision for each of the 8 lines/colum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0600" y="773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939960" y="89280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939960" y="239616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92600" y="790560"/>
                <a:ext cx="4397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64160" y="2352600"/>
                <a:ext cx="443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229440" y="1197000"/>
            <a:ext cx="287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2400"/>
            </a:b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br>
              <a:rPr sz="2400"/>
            </a:b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6600" y="4508640"/>
                <a:ext cx="2728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938160" y="1109160"/>
            <a:ext cx="273708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38160" y="1333080"/>
            <a:ext cx="273708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44640" y="154908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44640" y="176436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944640" y="198072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949320" y="219672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al: Individual deci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600" y="685800"/>
            <a:ext cx="8996400" cy="59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rmation and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filter on/off decisions for each line/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0600" y="773280"/>
            <a:ext cx="4559400" cy="1993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939960" y="89280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39960" y="2396160"/>
            <a:ext cx="2736720" cy="22356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84680" y="1271520"/>
                <a:ext cx="4416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64160" y="2352600"/>
                <a:ext cx="443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V="1">
            <a:off x="932040" y="133308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932040" y="1972800"/>
            <a:ext cx="2736720" cy="2239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92600" y="836640"/>
                <a:ext cx="4397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91160" y="1892160"/>
                <a:ext cx="4376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696960" y="3429000"/>
            <a:ext cx="3095280" cy="1350720"/>
            <a:chOff x="696960" y="3429000"/>
            <a:chExt cx="3095280" cy="1350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32960" y="3429000"/>
                  <a:ext cx="8434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15680" y="3753000"/>
                  <a:ext cx="120924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96960" y="4130280"/>
                  <a:ext cx="1452960" cy="31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98400" y="4465800"/>
                  <a:ext cx="1453320" cy="31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2826360" y="3438360"/>
                  <a:ext cx="96588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,2,5,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2830320" y="3753000"/>
                  <a:ext cx="628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696960" y="5586480"/>
            <a:ext cx="2442240" cy="794520"/>
            <a:chOff x="696960" y="5586480"/>
            <a:chExt cx="2442240" cy="79452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96960" y="5586480"/>
                  <a:ext cx="6706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696960" y="6026760"/>
                  <a:ext cx="88776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893240" y="5586480"/>
                  <a:ext cx="124596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,1,2,5,6,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906920" y="6041880"/>
                  <a:ext cx="645840" cy="28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;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3,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D-bit rate re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5373720"/>
            <a:ext cx="288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H.264/MPEG-4 AVC-lik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5120" y="5373720"/>
            <a:ext cx="176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Propos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881680"/>
            <a:ext cx="85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=&gt; Same coding efficiency improv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36800" y="765000"/>
            <a:ext cx="3319200" cy="453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30720" y="765000"/>
            <a:ext cx="3328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Coding efficiency versus computational expens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58920" y="1413000"/>
            <a:ext cx="0" cy="4176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5589720"/>
            <a:ext cx="655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70760"/>
            <a:ext cx="496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dditional operations for on/off-decision per edge seg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520" y="765000"/>
            <a:ext cx="225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BD bit rate reduction 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compared to HM2.0</a:t>
            </a:r>
            <a:br>
              <a:rPr sz="1200"/>
            </a:b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averaged over all test c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9480" y="5481720"/>
            <a:ext cx="217440" cy="21564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9368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5000" y="548172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580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9288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1640" y="547704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4440" y="3789360"/>
            <a:ext cx="21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39760" y="1989000"/>
            <a:ext cx="21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560" y="371628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560" y="188424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0.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17840" y="1924200"/>
            <a:ext cx="217440" cy="215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0072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547704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8292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548172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5477040"/>
            <a:ext cx="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91080" y="1925640"/>
            <a:ext cx="21744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5805360"/>
            <a:ext cx="32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040" y="58053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6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166840"/>
            <a:ext cx="86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Propos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216684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H.264/MPEG-4 AVC-lik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5284800"/>
            <a:ext cx="86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HM2.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7840" y="907920"/>
            <a:ext cx="2339640" cy="1008360"/>
            <a:chOff x="3417840" y="907920"/>
            <a:chExt cx="2339640" cy="1008360"/>
          </a:xfrm>
        </p:grpSpPr>
        <p:sp>
          <p:nvSpPr>
            <p:cNvPr id="175" name=""/>
            <p:cNvSpPr/>
            <p:nvPr/>
          </p:nvSpPr>
          <p:spPr>
            <a:xfrm>
              <a:off x="3569040" y="1197000"/>
              <a:ext cx="1885680" cy="719280"/>
            </a:xfrm>
            <a:custGeom>
              <a:avLst/>
              <a:gdLst/>
              <a:ahLst/>
              <a:rect l="l" t="t" r="r" b="b"/>
              <a:pathLst>
                <a:path w="1134" h="453">
                  <a:moveTo>
                    <a:pt x="1134" y="453"/>
                  </a:moveTo>
                  <a:cubicBezTo>
                    <a:pt x="956" y="226"/>
                    <a:pt x="779" y="0"/>
                    <a:pt x="590" y="0"/>
                  </a:cubicBezTo>
                  <a:cubicBezTo>
                    <a:pt x="401" y="0"/>
                    <a:pt x="200" y="226"/>
                    <a:pt x="0" y="45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7840" y="907920"/>
              <a:ext cx="233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Arial"/>
                </a:rPr>
                <a:t>47% less operation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7240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Evaluation of gradient change at the block bound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7600" y="1484280"/>
          <a:ext cx="8817120" cy="4060800"/>
        </p:xfrm>
        <a:graphic>
          <a:graphicData uri="http://schemas.openxmlformats.org/drawingml/2006/table">
            <a:tbl>
              <a:tblPr/>
              <a:tblGrid>
                <a:gridCol w="2192400"/>
                <a:gridCol w="2519280"/>
                <a:gridCol w="4105440"/>
              </a:tblGrid>
              <a:tr h="86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ize of signal change at the block boundary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ain reason for signal change at the block boundary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roblems of HM3.0 decisions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3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Quantization error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 problem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al signal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o problem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e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Quantization error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mall problem</a:t>
                      </a:r>
                      <a:endParaRPr b="0" lang="en-US" sz="19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arge</a:t>
                      </a:r>
                      <a:endParaRPr b="0" lang="en-US" sz="25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Real signal</a:t>
                      </a:r>
                      <a:endParaRPr b="0" lang="en-US" sz="25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erious problem</a:t>
                      </a:r>
                      <a:endParaRPr b="0" lang="en-US" sz="25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601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Evaluation of gradient change at the block boundar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2519280"/>
            <a:ext cx="424980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70280" y="838080"/>
            <a:ext cx="0" cy="1927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9892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2256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748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3204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71640" y="2448000"/>
            <a:ext cx="0" cy="142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1400" y="2579760"/>
                <a:ext cx="9072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235320" y="2590920"/>
                <a:ext cx="12852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541680" y="2584440"/>
                <a:ext cx="1159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36880" y="2597040"/>
                <a:ext cx="12852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25840" y="2590920"/>
                <a:ext cx="20772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16240" y="2590920"/>
                <a:ext cx="233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025720" y="2584440"/>
                <a:ext cx="231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63640" y="2590920"/>
                <a:ext cx="2318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248000" y="1322280"/>
            <a:ext cx="2951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arge offset at the block boundary mainly casued by a real signal chang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6720" y="62064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22560" y="76500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90972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8920" y="1055520"/>
            <a:ext cx="7272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191772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4920" y="206064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64000" y="220500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2349360"/>
            <a:ext cx="73080" cy="730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36720" y="1087560"/>
            <a:ext cx="237636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36720" y="1957320"/>
            <a:ext cx="237636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140360" y="1087560"/>
            <a:ext cx="0" cy="869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71640" y="757080"/>
            <a:ext cx="216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Input signal to deblock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93920" y="2854440"/>
            <a:ext cx="127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Block </a:t>
            </a:r>
            <a:br>
              <a:rPr sz="1000"/>
            </a:b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boundar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3280" y="2612880"/>
            <a:ext cx="13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Sample position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71640" y="3575160"/>
            <a:ext cx="5041800" cy="2805480"/>
            <a:chOff x="971640" y="3575160"/>
            <a:chExt cx="5041800" cy="2805480"/>
          </a:xfrm>
        </p:grpSpPr>
        <p:sp>
          <p:nvSpPr>
            <p:cNvPr id="214" name=""/>
            <p:cNvSpPr/>
            <p:nvPr/>
          </p:nvSpPr>
          <p:spPr>
            <a:xfrm>
              <a:off x="971640" y="4726080"/>
              <a:ext cx="4249800" cy="0"/>
            </a:xfrm>
            <a:prstGeom prst="line">
              <a:avLst/>
            </a:prstGeom>
            <a:ln w="3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870280" y="3575160"/>
              <a:ext cx="0" cy="2014560"/>
            </a:xfrm>
            <a:prstGeom prst="line">
              <a:avLst/>
            </a:prstGeom>
            <a:ln w="3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0840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9892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9592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256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5748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4476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3204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71640" y="4654440"/>
              <a:ext cx="0" cy="14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011400" y="4786200"/>
                  <a:ext cx="90720" cy="1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235320" y="4797360"/>
                  <a:ext cx="128520" cy="1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541680" y="4791240"/>
                  <a:ext cx="11592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3836880" y="4803840"/>
                  <a:ext cx="128880" cy="16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625840" y="4797360"/>
                  <a:ext cx="208080" cy="1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316240" y="4797360"/>
                  <a:ext cx="233280" cy="1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025720" y="4791240"/>
                  <a:ext cx="231840" cy="1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763640" y="4797360"/>
                  <a:ext cx="231840" cy="1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698920" y="5300640"/>
              <a:ext cx="73080" cy="730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86200" y="4148280"/>
              <a:ext cx="73080" cy="727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4000" y="4692600"/>
              <a:ext cx="73080" cy="730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9840" y="46846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4920" y="468648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2560" y="4684680"/>
              <a:ext cx="72720" cy="730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60360" y="6197760"/>
              <a:ext cx="360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Gradient changes evaluated by HM3.0 are zero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3920" y="5654520"/>
              <a:ext cx="1270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66"/>
                  </a:solidFill>
                  <a:latin typeface="Arial"/>
                </a:rPr>
                <a:t>Block </a:t>
              </a:r>
              <a:br>
                <a:rPr sz="1000"/>
              </a:br>
              <a:r>
                <a:rPr b="1" lang="de-DE" sz="1000" spc="-1" strike="noStrike">
                  <a:solidFill>
                    <a:srgbClr val="000066"/>
                  </a:solidFill>
                  <a:latin typeface="Arial"/>
                </a:rPr>
                <a:t>boundary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16360" y="3575160"/>
              <a:ext cx="151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66"/>
                  </a:solidFill>
                  <a:latin typeface="Arial"/>
                </a:rPr>
                <a:t>Change of the gradient of the input signal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43640" y="4797360"/>
              <a:ext cx="136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66"/>
                  </a:solidFill>
                  <a:latin typeface="Arial"/>
                </a:rPr>
                <a:t>Sample position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452680" y="5043240"/>
              <a:ext cx="0" cy="1122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316320" y="5043240"/>
              <a:ext cx="0" cy="1122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32360" y="6032520"/>
            <a:ext cx="2881440" cy="565200"/>
            <a:chOff x="4932360" y="6032520"/>
            <a:chExt cx="2881440" cy="565200"/>
          </a:xfrm>
        </p:grpSpPr>
        <p:sp>
          <p:nvSpPr>
            <p:cNvPr id="245" name=""/>
            <p:cNvSpPr/>
            <p:nvPr/>
          </p:nvSpPr>
          <p:spPr>
            <a:xfrm>
              <a:off x="4932360" y="6032520"/>
              <a:ext cx="719280" cy="565200"/>
            </a:xfrm>
            <a:prstGeom prst="rightArrow">
              <a:avLst>
                <a:gd name="adj1" fmla="val 50000"/>
                <a:gd name="adj2" fmla="val 31815"/>
              </a:avLst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9160" y="6035760"/>
              <a:ext cx="2114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HM3.0 decides for </a:t>
              </a:r>
              <a:br>
                <a:rPr sz="1600"/>
              </a:b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undesired smoothin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833560" y="3757680"/>
            <a:ext cx="6131160" cy="1554120"/>
            <a:chOff x="2833560" y="3757680"/>
            <a:chExt cx="6131160" cy="1554120"/>
          </a:xfrm>
        </p:grpSpPr>
        <p:sp>
          <p:nvSpPr>
            <p:cNvPr id="248" name=""/>
            <p:cNvSpPr/>
            <p:nvPr/>
          </p:nvSpPr>
          <p:spPr>
            <a:xfrm flipH="1">
              <a:off x="3102120" y="4038480"/>
              <a:ext cx="1758960" cy="1098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833560" y="4038480"/>
              <a:ext cx="2027520" cy="1273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6000" y="3798720"/>
              <a:ext cx="31687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8000"/>
                  </a:solidFill>
                  <a:latin typeface="Arial"/>
                </a:rPr>
                <a:t>Proposal avoids undesired smoothing by detecting large gradient changes at the block bounda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33800" y="3757680"/>
              <a:ext cx="863640" cy="608040"/>
            </a:xfrm>
            <a:prstGeom prst="rightArrow">
              <a:avLst>
                <a:gd name="adj1" fmla="val 50000"/>
                <a:gd name="adj2" fmla="val 35509"/>
              </a:avLst>
            </a:prstGeom>
            <a:solidFill>
              <a:srgbClr val="33cc3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.Narroschke</cp:lastModifiedBy>
  <dcterms:modified xsi:type="dcterms:W3CDTF">2011-07-13T09:08:23Z</dcterms:modified>
  <cp:revision>1633</cp:revision>
  <dc:subject/>
  <dc:title>CE12: Results for decisions for deblocking </dc:title>
</cp:coreProperties>
</file>