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A0D9-8E82-4B5D-A587-AAF8D26580D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6EB2-CEF9-42C3-8C08-883BB979678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305-1BD8-49C4-B9CF-D744D886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0B2-76D0-4881-BC08-ECE3AAB0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47A-2339-4E59-BEF4-821150D2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AD6-05CF-4251-8F0B-79A084A5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3AEE-653E-45D8-88CF-275EA0FC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E966-BCCD-47D4-ABC9-502DAD02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23B7-ADED-47CA-A954-3675D92D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1CF8-B452-400A-AE3A-C1B68598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869F-25ED-41A7-89E7-2BDDD956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ACB3-1AF1-4A1C-B0E8-1B00CF31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08B0-23CD-486A-81CD-7B9B99AF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96A5-A01B-482D-838D-3C44422E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0C6D-16C0-48D9-B381-E9DFCB2B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3FD4-489B-41F1-9F85-0D808A3E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2AA2-1947-432B-A0DC-2E047557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5623-D3C0-43A5-9AC7-06BC589F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5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5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719D-783B-4DD2-AFB8-337BDC6B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9EC9-F1C7-4B08-80C5-FA680AA8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0EE-CA07-4A07-9A54-2BD7BD86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218-28BB-4A45-A5D1-F2629F80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B13-3C63-4D91-87FA-DAF2AED1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3C47-81EE-4546-9E77-5639F100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954-677E-4803-A9ED-6B0E6A33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347-C238-43DB-B26A-AAAE7AF4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BFE9-470D-4FF0-970A-10D4CF2AB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8257-3345-47CC-B1E0-A051CCA5CD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3F7F-838A-407B-8D4C-6ECF1E8AE2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79280" y="1052640"/>
            <a:ext cx="878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ar Mode Mapping for Intra Mode 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CTVC-F1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908000" y="4149720"/>
            <a:ext cx="5400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ng Zou, Oscar C. Au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o Pang, Jingjing Dai, Xingyu Zhang, Xing W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ng Kong University of Science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 F190  Out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C661-9157-48C2-B3F7-5ECF64A60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11280" y="1700280"/>
            <a:ext cx="8137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a mode coding rel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within the current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deword redund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CPlanar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ed solution – Planar mode mapping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-F190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ated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Geneva meeting in March, 2011, there are two techniques adopted simultaneously, which are intra mode coding rela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is Intra Mode Coding from both Mediatek in JCTVC-E088 and NTT docomo in JCTVC-E131. This techniqu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allows up to 2 most probable m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uses one additional bit flag to indicate the most probable mode dec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ther adopted technique is Intra Planar Mode from Docomo USA in JCTVC-E321.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Planar and DC share the same mode index and codeword. One additional fla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-F190   Problems within the current sche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s– codeword redunda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HM3.0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3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uma intra prediction modes, including 33 angular prediction modes, DC and Planar for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8x8,16x16 and 32x3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1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s, including 16 angular modes, DC and Planar for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4x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s, including 2 angular modes, DC and Planar for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64x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7030a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7030a0"/>
                </a:solidFill>
                <a:latin typeface="Times New Roman"/>
              </a:rPr>
              <a:t>note:DC and Planar share the same mode index in HM3.0</a:t>
            </a:r>
            <a:r>
              <a:rPr b="0" lang="en-US" sz="1600" spc="-1" strike="noStrike">
                <a:solidFill>
                  <a:srgbClr val="7030a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HM3.0, when none of the MPM candidates is the same as the current mode and the two MPM candidates are different, leaving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</a:rPr>
              <a:t>32(34-2=32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possible mode indices with the remaining modes ranging from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</a:rPr>
              <a:t>0~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</a:rPr>
              <a:t>15(17-2=15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ther possible mode indices with the remaining modes ranging from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</a:rPr>
              <a:t>0~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</a:rPr>
              <a:t>1(3-2=1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possible mode index with the remaining mode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-F190   Problems within the current sche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s– codeword redunda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1. None of the MPM candidates is the same as the current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2. The two MPM candidates are differen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two conditions above are satisfied, the codeword design 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aining mode coding has redundancy in CABAC case, which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marized in Table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1. Summary of the remaining mode coding in HM3.0 CABAC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3860640"/>
          <a:ext cx="8388360" cy="2897280"/>
        </p:xfrm>
        <a:graphic>
          <a:graphicData uri="http://schemas.openxmlformats.org/drawingml/2006/table">
            <a:tbl>
              <a:tblPr/>
              <a:tblGrid>
                <a:gridCol w="1727280"/>
                <a:gridCol w="1152360"/>
                <a:gridCol w="1728720"/>
                <a:gridCol w="1727280"/>
                <a:gridCol w="2052720"/>
              </a:tblGrid>
              <a:tr h="10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PU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Remaining mode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The number of the remaining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The number that  the existing codeword can repre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Redundant codew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8x8,16x16,32x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~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11111 (corresponding to remaining mode 3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~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111(corresponding to remaining mode 1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4x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(corresponding to remaining mode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-F190  Proposed Sche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p 1 Most probable mode deri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ame as HM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p 2 Intra mode 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p 2.1 Map Planar to Mode 2, and then decide whether one of the MPM candidates i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al to the current  mode. If yes, apply Step2.2, otherwise apply Step 2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7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p 2.2 Set prev_intra_luma_pred_flag =1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cate the mpm_idx if NumMPMC is equal to 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Planar flag if the current mode is DC or Plana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p 2.3 Set prev_intra_luma_pred_flag =0, and then code the remaining mode. I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mMPMC is 1, apply Step2.3.1, otherwise apply Step 2.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p 2.3.1 The same method as HM3.0 is used in the remaining mode cod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de DCPlanar flag if appli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p 2.3.2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Map Planar to 34, or 17, or 3 who corresponds to the vacant codewo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in the remaining mode coding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ame binarization method as HM3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used to encode rem_intra_pred_mod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Note : </a:t>
            </a: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DCPlanar flag is need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030a0"/>
                </a:solidFill>
                <a:latin typeface="Times New Roman"/>
              </a:rPr>
              <a:t>//Note the red words indicate the proposed mod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-F190 Test Condition and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Condition and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nchor is HM3.0 with encoding conditions specified in the common test conditions in JCTVC-E70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ults are verified at the decoder and cross checked by Motorola Mobility in JCTVC-F57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050920" y="3462480"/>
          <a:ext cx="5185080" cy="3438360"/>
        </p:xfrm>
        <a:graphic>
          <a:graphicData uri="http://schemas.openxmlformats.org/drawingml/2006/table">
            <a:tbl>
              <a:tblPr/>
              <a:tblGrid>
                <a:gridCol w="1486080"/>
                <a:gridCol w="1231920"/>
                <a:gridCol w="1233360"/>
                <a:gridCol w="1233720"/>
              </a:tblGrid>
              <a:tr h="237960">
                <a:tc rowSpan="2">
                  <a:txBody>
                    <a:bodyPr lIns="4320" rIns="4320" tIns="4320" bIns="0" anchor="b">
                      <a:noAutofit/>
                    </a:bodyPr>
                    <a:p>
                      <a:pPr marL="264960" algn="ctr">
                        <a:lnSpc>
                          <a:spcPts val="12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20" rIns="4320" tIns="4320" bIns="0" anchor="b">
                      <a:noAutofit/>
                    </a:bodyPr>
                    <a:p>
                      <a:pPr marL="264960" algn="ctr">
                        <a:lnSpc>
                          <a:spcPts val="12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Intr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marL="2649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marL="2649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marL="2649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4320" rIns="4320" tIns="4320" bIns="0" anchor="b">
                      <a:noAutofit/>
                    </a:bodyPr>
                    <a:p>
                      <a:pPr marL="2649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marL="264960"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marL="264960"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marL="264960"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4320" rIns="4320" tIns="4320" bIns="0" anchor="b">
                      <a:noAutofit/>
                    </a:bodyPr>
                    <a:p>
                      <a:pPr marL="2649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marL="264960"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marL="264960"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marL="264960"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4320" rIns="4320" tIns="4320" bIns="0" anchor="b">
                      <a:noAutofit/>
                    </a:bodyPr>
                    <a:p>
                      <a:pPr marL="2649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marL="264960"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marL="264960"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marL="264960"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4320" rIns="4320" tIns="4320" bIns="0" anchor="b">
                      <a:noAutofit/>
                    </a:bodyPr>
                    <a:p>
                      <a:pPr marL="2649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marL="264960"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marL="264960"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marL="264960"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4320" rIns="4320" tIns="4320" bIns="0" anchor="b">
                      <a:noAutofit/>
                    </a:bodyPr>
                    <a:p>
                      <a:pPr marL="2649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marL="264960"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marL="264960"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marL="264960"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320" rIns="4320" tIns="4320" bIns="0" anchor="b">
                      <a:noAutofit/>
                    </a:bodyPr>
                    <a:p>
                      <a:pPr marL="264960">
                        <a:lnSpc>
                          <a:spcPts val="12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marL="264960" algn="r">
                        <a:lnSpc>
                          <a:spcPts val="12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marL="264960" algn="r">
                        <a:lnSpc>
                          <a:spcPts val="12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marL="264960" algn="r">
                        <a:lnSpc>
                          <a:spcPts val="12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4320" rIns="4320" tIns="4320" bIns="0" anchor="b">
                      <a:noAutofit/>
                    </a:bodyPr>
                    <a:p>
                      <a:pPr marL="2649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320" rIns="4320" tIns="4320" bIns="0" anchor="b">
                      <a:noAutofit/>
                    </a:bodyPr>
                    <a:p>
                      <a:pPr marL="2649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4320" rIns="4320" tIns="4320" bIns="0" anchor="b">
                      <a:noAutofit/>
                    </a:bodyPr>
                    <a:p>
                      <a:pPr marL="2649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20" rIns="4320" tIns="4320" bIns="0" anchor="b">
                      <a:noAutofit/>
                    </a:bodyPr>
                    <a:p>
                      <a:pPr marL="2649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-F190  Conclu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the codeword 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e the DCPlanar fl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change the Planar mode 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ncoder/decoder running time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ngZou</dc:creator>
  <dc:description/>
  <dc:language>en-US</dc:language>
  <cp:lastModifiedBy>wwwxxx</cp:lastModifiedBy>
  <dcterms:modified xsi:type="dcterms:W3CDTF">2011-07-15T16:55:59Z</dcterms:modified>
  <cp:revision>1490</cp:revision>
  <dc:subject/>
  <dc:title>Edge-based Adaptive Directional Intra Prediction</dc:title>
</cp:coreProperties>
</file>