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EA4B-55B8-450F-A863-E78AF150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BDA-B861-4315-A279-2180397C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54A-DDB2-4E04-90F3-52465B23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4557-796C-49AA-BFD2-ECA114E1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5C04-6916-44DC-AF1B-2C5933A3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9BE-F672-4A1A-B5AC-E02E65C8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2F57-B9E1-4425-AE7B-4AF0A936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04E0-F887-4BBC-8E2D-2F609C79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88B-2A9F-4752-949A-A97DE4CB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A7B-2E13-4A99-BF8F-C0972A47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9FB2-CAF0-4D15-9B15-B161D681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8B6-CCCE-4DC8-80DB-C3D259D4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71280" y="6308280"/>
            <a:ext cx="727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59720" y="652428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8DB8-6DB9-4916-AAB9-8F8AC11A3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st bypass mode for CABA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3429000"/>
            <a:ext cx="8785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yoji Hattori, Kazuo Sugimoto, Shun-ichi Sekigu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itsubishi Electric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62064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CTVC-F1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1B9-A5F0-4AE1-A568-E6F9CDA42F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CABAC bypass mode with path through m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path through mode” directly copy bins to bits with 9 bits de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path through mode” is more than 50% faster than bypass m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54FF-C141-4ABA-BB65-C24964776D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80F-07F2-4089-9DC8-E6F9359A1D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256440" y="2381400"/>
            <a:ext cx="1209240" cy="1135080"/>
            <a:chOff x="6256440" y="2381400"/>
            <a:chExt cx="1209240" cy="1135080"/>
          </a:xfrm>
        </p:grpSpPr>
        <p:sp>
          <p:nvSpPr>
            <p:cNvPr id="49" name=""/>
            <p:cNvSpPr/>
            <p:nvPr/>
          </p:nvSpPr>
          <p:spPr>
            <a:xfrm>
              <a:off x="6256440" y="2827440"/>
              <a:ext cx="1088640" cy="26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94280" y="30909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578640" y="3343320"/>
              <a:ext cx="469440" cy="1731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91040" y="258768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07000" y="2381400"/>
              <a:ext cx="577440" cy="212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6891120" y="2749680"/>
                  <a:ext cx="2379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6459480" y="2779920"/>
                  <a:ext cx="2376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7200720" y="3086280"/>
              <a:ext cx="6120" cy="258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7257960" y="3068640"/>
                  <a:ext cx="2077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8" name=""/>
          <p:cNvSpPr/>
          <p:nvPr/>
        </p:nvSpPr>
        <p:spPr>
          <a:xfrm>
            <a:off x="975600" y="580536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pass mode in en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52440" y="549360"/>
            <a:ext cx="4937040" cy="5014800"/>
            <a:chOff x="352440" y="549360"/>
            <a:chExt cx="4937040" cy="5014800"/>
          </a:xfrm>
        </p:grpSpPr>
        <p:sp>
          <p:nvSpPr>
            <p:cNvPr id="60" name=""/>
            <p:cNvSpPr/>
            <p:nvPr/>
          </p:nvSpPr>
          <p:spPr>
            <a:xfrm>
              <a:off x="1503360" y="1517760"/>
              <a:ext cx="1297080" cy="360360"/>
            </a:xfrm>
            <a:prstGeom prst="hexagon">
              <a:avLst>
                <a:gd name="adj" fmla="val 61390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=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M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51000" y="127800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92040" y="14889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0240" y="14889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08360" y="1700280"/>
              <a:ext cx="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03360" y="1692360"/>
              <a:ext cx="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52440" y="26859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2440" y="3679920"/>
              <a:ext cx="2000160" cy="49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xWriteBitAndBitsToFollow(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m_uiLow -= 10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36800" y="2109960"/>
              <a:ext cx="17287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m_uiLow += m_uiR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20880" y="5391360"/>
              <a:ext cx="469800" cy="172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1719360" y="1517760"/>
                  <a:ext cx="2379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1" name=""/>
            <p:cNvSpPr/>
            <p:nvPr/>
          </p:nvSpPr>
          <p:spPr>
            <a:xfrm>
              <a:off x="1468440" y="944640"/>
              <a:ext cx="1403280" cy="39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m_uiLow &lt;&lt;=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52440" y="717480"/>
              <a:ext cx="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62280" y="549360"/>
              <a:ext cx="577800" cy="212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00440" y="247032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503000" y="2685960"/>
              <a:ext cx="12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52520" y="310356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92520" y="31035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25600" y="31035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04880" y="372096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37960" y="2886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17640" y="28861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52800" y="37101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84800" y="3710160"/>
              <a:ext cx="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76480" y="3492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52520" y="41832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52520" y="5046840"/>
              <a:ext cx="30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84800" y="468648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36880" y="5030640"/>
              <a:ext cx="0" cy="3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24520" y="4680000"/>
              <a:ext cx="6120" cy="258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081400" y="4670280"/>
                  <a:ext cx="20808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3159000" y="4600440"/>
              <a:ext cx="6480" cy="258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3216240" y="4583160"/>
                  <a:ext cx="20808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>
              <a:off x="1495440" y="4278240"/>
              <a:ext cx="20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xWriteBitAndBitsToFollow(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76600" y="4183200"/>
              <a:ext cx="160020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m_uiBitsToFollow+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m_uiLow -= 5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3280" y="4176720"/>
              <a:ext cx="6120" cy="258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560520" y="4167360"/>
                  <a:ext cx="20772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1352520" y="2927520"/>
              <a:ext cx="1441440" cy="360360"/>
            </a:xfrm>
            <a:prstGeom prst="hexagon">
              <a:avLst>
                <a:gd name="adj" fmla="val 51981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m_uiLow &gt;= 10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04880" y="3533760"/>
              <a:ext cx="1441440" cy="360360"/>
            </a:xfrm>
            <a:prstGeom prst="hexagon">
              <a:avLst>
                <a:gd name="adj" fmla="val 51981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m_uiLow &lt; 5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96800" y="3403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580000" y="44280"/>
            <a:ext cx="0" cy="681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9800" y="5589720"/>
            <a:ext cx="27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through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n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C7B-C81D-410A-A3EA-1DC43FE62C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859280" y="44280"/>
            <a:ext cx="0" cy="681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76840" y="2190600"/>
            <a:ext cx="1225080" cy="1134720"/>
            <a:chOff x="5676840" y="2190600"/>
            <a:chExt cx="1225080" cy="1134720"/>
          </a:xfrm>
        </p:grpSpPr>
        <p:sp>
          <p:nvSpPr>
            <p:cNvPr id="104" name=""/>
            <p:cNvSpPr/>
            <p:nvPr/>
          </p:nvSpPr>
          <p:spPr>
            <a:xfrm>
              <a:off x="5676840" y="2636640"/>
              <a:ext cx="1088640" cy="26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14680" y="29001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98680" y="3152520"/>
              <a:ext cx="469800" cy="172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11440" y="239688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27400" y="2190600"/>
              <a:ext cx="577440" cy="212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5829120" y="2587320"/>
                  <a:ext cx="2376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6311520" y="2587320"/>
                  <a:ext cx="2379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6636960" y="2896920"/>
              <a:ext cx="6120" cy="258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6694200" y="2879280"/>
                  <a:ext cx="2077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" name=""/>
          <p:cNvGrpSpPr/>
          <p:nvPr/>
        </p:nvGrpSpPr>
        <p:grpSpPr>
          <a:xfrm>
            <a:off x="846000" y="1409760"/>
            <a:ext cx="3537000" cy="2732040"/>
            <a:chOff x="846000" y="1409760"/>
            <a:chExt cx="3537000" cy="2732040"/>
          </a:xfrm>
        </p:grpSpPr>
        <p:sp>
          <p:nvSpPr>
            <p:cNvPr id="114" name=""/>
            <p:cNvSpPr/>
            <p:nvPr/>
          </p:nvSpPr>
          <p:spPr>
            <a:xfrm>
              <a:off x="2365560" y="208764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09600" y="22557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59080" y="22557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35400" y="2470320"/>
              <a:ext cx="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00040" y="2470320"/>
              <a:ext cx="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0680" y="331776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95360" y="3713040"/>
              <a:ext cx="194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41880" y="34974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67000" y="3713040"/>
              <a:ext cx="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65560" y="159228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76480" y="1409760"/>
              <a:ext cx="577800" cy="212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43000" y="1741680"/>
              <a:ext cx="2448000" cy="34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m_uiValue = m_uiValue &lt;&lt;1 +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46000" y="3060720"/>
              <a:ext cx="944640" cy="26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M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09920" y="3060720"/>
              <a:ext cx="181620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= L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m_uiValue  -= m_uiR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25800" y="3968640"/>
              <a:ext cx="469800" cy="1731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984240" y="3006720"/>
                  <a:ext cx="2383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3151080" y="3022560"/>
                  <a:ext cx="2383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328920" y="1758960"/>
                  <a:ext cx="2383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2" name=""/>
            <p:cNvSpPr/>
            <p:nvPr/>
          </p:nvSpPr>
          <p:spPr>
            <a:xfrm>
              <a:off x="4118040" y="3490920"/>
              <a:ext cx="6480" cy="258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4175280" y="3473640"/>
                  <a:ext cx="20772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4" name=""/>
            <p:cNvSpPr/>
            <p:nvPr/>
          </p:nvSpPr>
          <p:spPr>
            <a:xfrm>
              <a:off x="909720" y="3322800"/>
              <a:ext cx="6120" cy="258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966960" y="3305160"/>
                  <a:ext cx="2077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"/>
            <p:cNvSpPr/>
            <p:nvPr/>
          </p:nvSpPr>
          <p:spPr>
            <a:xfrm>
              <a:off x="1400040" y="2287800"/>
              <a:ext cx="1943280" cy="360360"/>
            </a:xfrm>
            <a:prstGeom prst="hexagon">
              <a:avLst>
                <a:gd name="adj" fmla="val 4978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m_uiValue &gt;= m_uiR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975600" y="580536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pass mode in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9800" y="5589720"/>
            <a:ext cx="27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through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2D8-A140-4419-B6D5-C0AB6790A0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694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34360" y="352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6880" y="32130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0518-B491-4A5D-A022-C13E9EA6D4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4673880" cy="484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34360" y="352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6880" y="32130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3951-19D5-4801-90DD-2391BCFA77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029440" y="237024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+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24800" y="23702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+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96360" y="2370240"/>
            <a:ext cx="43164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45280" y="2370240"/>
            <a:ext cx="43200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23702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237024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23702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+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08360" y="237024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+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0360" y="23702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+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237024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+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98560" y="186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19640" y="186228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56000" y="186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59280" y="186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924000" y="186228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627280" y="18622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43560" y="23702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+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70520" y="237024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+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97480" y="237024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+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80400" y="186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48400" y="18651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684400" y="1863720"/>
            <a:ext cx="863640" cy="5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116400" y="1863720"/>
            <a:ext cx="431640" cy="5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8400" y="143208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142884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7640" y="143208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16880" y="14288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143208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143208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143208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6920" y="143208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1800" y="143208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19840" y="143208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52920" y="143208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84920" y="143208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8480" y="143208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16000" y="1428840"/>
            <a:ext cx="43164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1860480"/>
            <a:ext cx="6048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1428840"/>
            <a:ext cx="43164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1860480"/>
            <a:ext cx="561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27880" y="1863720"/>
            <a:ext cx="88920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64360" y="142884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0200" y="515448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2520" y="515160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9440" y="515448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18320" y="515160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13080" y="515448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44720" y="515448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515448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515448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3240" y="515448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1280" y="515448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54720" y="515448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86360" y="515448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9920" y="515448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7440" y="5151600"/>
            <a:ext cx="43200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5151600"/>
            <a:ext cx="43200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65800" y="515160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+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6960" y="42195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+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3080" y="42195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+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44720" y="421956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+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10160" y="42195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+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41800" y="42195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+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05440" y="42195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+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45000" y="421956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+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72320" y="42195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+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99280" y="42195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+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26240" y="42195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+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907920" y="465264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218200" y="465408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54560" y="465264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057480" y="465264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3922560" y="4652640"/>
            <a:ext cx="392400" cy="501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2625480" y="4652640"/>
            <a:ext cx="392040" cy="501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978600" y="465264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546960" y="4651200"/>
            <a:ext cx="0" cy="5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683320" y="4649760"/>
            <a:ext cx="75240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6114600" y="4649400"/>
            <a:ext cx="397080" cy="490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62920" y="42195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+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378560" y="464940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16000" y="4219560"/>
            <a:ext cx="43164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81080" y="4219560"/>
            <a:ext cx="43200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46512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97080" y="46512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8000" y="1500120"/>
                <a:ext cx="52056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669080" y="1500120"/>
                <a:ext cx="52092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8596440" y="2436840"/>
                <a:ext cx="52056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8000" y="2508120"/>
                <a:ext cx="52056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08000" y="4308480"/>
                <a:ext cx="52056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08000" y="5245200"/>
                <a:ext cx="52056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597800" y="4308480"/>
                <a:ext cx="52056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7597800" y="5245200"/>
                <a:ext cx="52056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2990880" y="285264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ing of AC bit and EP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86560" y="5589720"/>
            <a:ext cx="319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ing of AC bit and EP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29240" y="5965920"/>
            <a:ext cx="432000" cy="43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29560" y="6019920"/>
            <a:ext cx="13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 bin or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29240" y="596592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601992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 bin or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F71-4CC1-4E83-97AD-2064EEE92E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place CABAC bypass mode with path through m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“path through mode” directly copy bins to bits with 9 bits de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“path through mode” is more than 50% faster than bypass m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pose to adopt this technique to HM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04E8-39F1-4826-9C73-77F3EC1364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2:56:40Z</dcterms:created>
  <dc:creator>GB72714</dc:creator>
  <dc:description/>
  <dc:language>en-US</dc:language>
  <cp:lastModifiedBy>Kazuo Sugimoto</cp:lastModifiedBy>
  <dcterms:modified xsi:type="dcterms:W3CDTF">2011-07-16T06:48:28Z</dcterms:modified>
  <cp:revision>113</cp:revision>
  <dc:subject/>
  <dc:title>ドレスデン会合準備について</dc:title>
</cp:coreProperties>
</file>