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6B0-3481-463D-87EC-819B0EFD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B19-3EDA-4BB6-A898-EDACE591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448-C307-45CC-AEAA-FD42630F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492-8FA0-40AA-AE4B-FB33FC5E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8D2-FFF1-43F1-88DA-C8DF9D7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C37-EAF1-41EF-B00A-DFF0F879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135-A026-4AF8-8EC9-DEDC31FC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C30-59EC-492A-90AC-43734BF9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103-9BD5-4297-AD3A-139D05A0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95F-7365-45FA-B7E3-62B2285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257-D974-4040-92B7-6146FB6F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7C8-3FA8-44FA-B7D1-C4030B53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3B1-EFDD-4161-A970-9778C7B2A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roved PIPE/V2F for low complexity entropy co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yoji Hattori, Kazuo Sugimo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hun-ichi Sekiguchi, Kohtaro A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20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F1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289-33C6-49A5-B053-A0E09ED1BD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20640"/>
            <a:ext cx="8229600" cy="51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2F coder #0 also generates 8bit F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2F coder #0 and #12 does not use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F #0 simply copy input bins as outpu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ccessive equal probability bins are converted to bits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F #12 counts the number of successive“0”s. The number becomes outpu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text derivations, probability state updates, etc., are identical to those of CAB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B61-CDF6-4706-96AE-A8B63D5B17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2F on top of HM-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2F on top of HE-PIPE in F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D2E-07B4-427D-B9AE-0D4F503AA4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esults vs HM-3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574560" y="1447920"/>
            <a:ext cx="7885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409-466A-49B5-A44E-BC0E9CF04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esults vs HM-3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023-D4F0-4FAF-9B04-89A473D3FA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esults vs HM-3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45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673-B420-457C-B90F-148D650B26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sults HE-PIPE/V2F vs HM-3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B39-8400-4E6C-B65F-9CD1E59D7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sults HE-PIPE/V2F vs HM-3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7708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319-941E-4EBA-897D-5C7684385D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sults HE-PIPE/V2F vs HM-3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848720" cy="44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17A-4C0C-4D29-9036-A8B2FB004B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 additonal 8bit-V2F coder for the highest probability bins is introduced.he 8bit-V2F coders does not need memory to store the VLC tables, as the input are 8-bit fixed length bins or unary b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text derivations, probability state updates, etc., are identical to those of CAB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sults of HM-3.0 PIPE/V2F for AI/RA/LD(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D-rate: -3.9%, -4.3% and -3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C time: 110%, 101% and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sults of F268 HE-PIPE with V2F for AI/RA/LD(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D-rate: -3.0%, -3.2% and -2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C time: 101%, 99% and 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opose CAVLC to be replaced by PIPE/V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9DC-3280-42BA-85D3-8BF4BC44D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Morse initiated to use VLC for transmitting textual information as series of on-off 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people began using arithmetic coding, and one of them is adopted to the state-of-the-art video coding standard “MPEG-4 AVC/H.26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890-8BAA-4F18-86EA-C3446C80BF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ow we are in 21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century, and here is an entropy coding for this century instead of legacy co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is proposal realizes it with PIPE/V2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3573360"/>
            <a:ext cx="763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High Efficien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ＭＳ Ｐゴシック"/>
              </a:rPr>
              <a:t>Fixed Length Cod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ＭＳ Ｐゴシック"/>
              <a:ea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4AE-0B13-4B54-8FE0-BC8F055B3C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V2F coders generating 4bit fixed length code and 2 V2F coders generating 8bit fixed length code ar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8bit-V2F coders does not need memory to store the VLC tables, as the input are 8-bit fixed length bins or unary bins which are easily converted to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derivations, probability state updates, etc., are identical to those of CAB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AI/RA/LD(L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-rate: -3.9%, -4.3% and -3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 time: 110%, 101% and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77B-7BE7-4B39-9849-293BCB9F8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F coders are used on top of HE-PIPE in JCTVC-F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4bit-V2F coders and two 8bit-V2F coders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for AI/RA/LD(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-rate: -3.0%, -3.2% and -2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 time: 101%, 99% and 9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DD9-29BA-4AEF-8011-CBF26B0585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290-F351-4AEB-98D7-4AEBE0377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3280" y="1825560"/>
            <a:ext cx="2343240" cy="198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as CAB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PE / V2F in JCTVC-D1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960" y="1196640"/>
            <a:ext cx="85294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2F coders generate 4 bit FL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5200" y="2006640"/>
            <a:ext cx="58896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binar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2006640"/>
            <a:ext cx="588960" cy="3524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7480" y="2035080"/>
            <a:ext cx="477720" cy="66600"/>
          </a:xfrm>
          <a:custGeom>
            <a:avLst/>
            <a:gdLst/>
            <a:ahLst/>
            <a:rect l="l" t="t" r="r" b="b"/>
            <a:pathLst>
              <a:path w="301" h="42">
                <a:moveTo>
                  <a:pt x="4" y="19"/>
                </a:moveTo>
                <a:lnTo>
                  <a:pt x="269" y="19"/>
                </a:lnTo>
                <a:lnTo>
                  <a:pt x="269" y="19"/>
                </a:lnTo>
                <a:lnTo>
                  <a:pt x="273" y="23"/>
                </a:lnTo>
                <a:lnTo>
                  <a:pt x="269" y="23"/>
                </a:lnTo>
                <a:lnTo>
                  <a:pt x="269" y="23"/>
                </a:lnTo>
                <a:lnTo>
                  <a:pt x="4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259" y="0"/>
                </a:moveTo>
                <a:lnTo>
                  <a:pt x="301" y="23"/>
                </a:lnTo>
                <a:lnTo>
                  <a:pt x="259" y="42"/>
                </a:lnTo>
                <a:lnTo>
                  <a:pt x="2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35200" y="2838600"/>
            <a:ext cx="5889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35200" y="2838600"/>
            <a:ext cx="588960" cy="70632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5480" y="3081240"/>
            <a:ext cx="23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48960" y="32068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00160" y="2359080"/>
            <a:ext cx="58680" cy="479520"/>
          </a:xfrm>
          <a:custGeom>
            <a:avLst/>
            <a:gdLst/>
            <a:ahLst/>
            <a:rect l="l" t="t" r="r" b="b"/>
            <a:pathLst>
              <a:path w="37" h="302">
                <a:moveTo>
                  <a:pt x="23" y="5"/>
                </a:moveTo>
                <a:lnTo>
                  <a:pt x="23" y="269"/>
                </a:lnTo>
                <a:lnTo>
                  <a:pt x="19" y="269"/>
                </a:lnTo>
                <a:lnTo>
                  <a:pt x="19" y="269"/>
                </a:lnTo>
                <a:lnTo>
                  <a:pt x="14" y="269"/>
                </a:lnTo>
                <a:lnTo>
                  <a:pt x="14" y="269"/>
                </a:lnTo>
                <a:lnTo>
                  <a:pt x="14" y="5"/>
                </a:lnTo>
                <a:lnTo>
                  <a:pt x="14" y="0"/>
                </a:lnTo>
                <a:lnTo>
                  <a:pt x="19" y="0"/>
                </a:lnTo>
                <a:lnTo>
                  <a:pt x="19" y="0"/>
                </a:lnTo>
                <a:lnTo>
                  <a:pt x="23" y="5"/>
                </a:lnTo>
                <a:lnTo>
                  <a:pt x="23" y="5"/>
                </a:lnTo>
                <a:close/>
                <a:moveTo>
                  <a:pt x="37" y="260"/>
                </a:moveTo>
                <a:lnTo>
                  <a:pt x="19" y="302"/>
                </a:lnTo>
                <a:lnTo>
                  <a:pt x="0" y="260"/>
                </a:lnTo>
                <a:lnTo>
                  <a:pt x="37" y="2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7480" y="2271600"/>
            <a:ext cx="477720" cy="65160"/>
          </a:xfrm>
          <a:custGeom>
            <a:avLst/>
            <a:gdLst/>
            <a:ahLst/>
            <a:rect l="l" t="t" r="r" b="b"/>
            <a:pathLst>
              <a:path w="301" h="41">
                <a:moveTo>
                  <a:pt x="4" y="18"/>
                </a:moveTo>
                <a:lnTo>
                  <a:pt x="269" y="18"/>
                </a:lnTo>
                <a:lnTo>
                  <a:pt x="269" y="18"/>
                </a:lnTo>
                <a:lnTo>
                  <a:pt x="273" y="23"/>
                </a:lnTo>
                <a:lnTo>
                  <a:pt x="269" y="23"/>
                </a:lnTo>
                <a:lnTo>
                  <a:pt x="269" y="23"/>
                </a:lnTo>
                <a:lnTo>
                  <a:pt x="4" y="23"/>
                </a:lnTo>
                <a:lnTo>
                  <a:pt x="0" y="23"/>
                </a:lnTo>
                <a:lnTo>
                  <a:pt x="0" y="23"/>
                </a:lnTo>
                <a:lnTo>
                  <a:pt x="0" y="18"/>
                </a:lnTo>
                <a:lnTo>
                  <a:pt x="4" y="18"/>
                </a:lnTo>
                <a:lnTo>
                  <a:pt x="4" y="18"/>
                </a:lnTo>
                <a:close/>
                <a:moveTo>
                  <a:pt x="259" y="0"/>
                </a:moveTo>
                <a:lnTo>
                  <a:pt x="301" y="23"/>
                </a:lnTo>
                <a:lnTo>
                  <a:pt x="259" y="41"/>
                </a:lnTo>
                <a:lnTo>
                  <a:pt x="2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17680" y="2152800"/>
            <a:ext cx="478080" cy="66600"/>
          </a:xfrm>
          <a:custGeom>
            <a:avLst/>
            <a:gdLst/>
            <a:ahLst/>
            <a:rect l="l" t="t" r="r" b="b"/>
            <a:pathLst>
              <a:path w="301" h="42">
                <a:moveTo>
                  <a:pt x="4" y="19"/>
                </a:moveTo>
                <a:lnTo>
                  <a:pt x="269" y="19"/>
                </a:lnTo>
                <a:lnTo>
                  <a:pt x="269" y="19"/>
                </a:lnTo>
                <a:lnTo>
                  <a:pt x="273" y="24"/>
                </a:lnTo>
                <a:lnTo>
                  <a:pt x="269" y="24"/>
                </a:lnTo>
                <a:lnTo>
                  <a:pt x="269" y="24"/>
                </a:lnTo>
                <a:lnTo>
                  <a:pt x="4" y="24"/>
                </a:lnTo>
                <a:lnTo>
                  <a:pt x="0" y="24"/>
                </a:lnTo>
                <a:lnTo>
                  <a:pt x="0" y="24"/>
                </a:lnTo>
                <a:lnTo>
                  <a:pt x="0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264" y="0"/>
                </a:moveTo>
                <a:lnTo>
                  <a:pt x="301" y="24"/>
                </a:lnTo>
                <a:lnTo>
                  <a:pt x="264" y="42"/>
                </a:lnTo>
                <a:lnTo>
                  <a:pt x="26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95760" y="2013120"/>
            <a:ext cx="588960" cy="11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95760" y="2013120"/>
            <a:ext cx="588960" cy="11793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4720" y="2637000"/>
            <a:ext cx="48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b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17680" y="2978280"/>
            <a:ext cx="478080" cy="66600"/>
          </a:xfrm>
          <a:custGeom>
            <a:avLst/>
            <a:gdLst/>
            <a:ahLst/>
            <a:rect l="l" t="t" r="r" b="b"/>
            <a:pathLst>
              <a:path w="301" h="42">
                <a:moveTo>
                  <a:pt x="4" y="19"/>
                </a:moveTo>
                <a:lnTo>
                  <a:pt x="269" y="19"/>
                </a:lnTo>
                <a:lnTo>
                  <a:pt x="269" y="19"/>
                </a:lnTo>
                <a:lnTo>
                  <a:pt x="273" y="23"/>
                </a:lnTo>
                <a:lnTo>
                  <a:pt x="269" y="23"/>
                </a:lnTo>
                <a:lnTo>
                  <a:pt x="269" y="23"/>
                </a:lnTo>
                <a:lnTo>
                  <a:pt x="4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264" y="0"/>
                </a:moveTo>
                <a:lnTo>
                  <a:pt x="301" y="23"/>
                </a:lnTo>
                <a:lnTo>
                  <a:pt x="264" y="42"/>
                </a:lnTo>
                <a:lnTo>
                  <a:pt x="26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4160" y="3368520"/>
            <a:ext cx="19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78240" y="2565360"/>
            <a:ext cx="477720" cy="66600"/>
          </a:xfrm>
          <a:custGeom>
            <a:avLst/>
            <a:gdLst/>
            <a:ahLst/>
            <a:rect l="l" t="t" r="r" b="b"/>
            <a:pathLst>
              <a:path w="301" h="42">
                <a:moveTo>
                  <a:pt x="4" y="19"/>
                </a:moveTo>
                <a:lnTo>
                  <a:pt x="269" y="19"/>
                </a:lnTo>
                <a:lnTo>
                  <a:pt x="273" y="19"/>
                </a:lnTo>
                <a:lnTo>
                  <a:pt x="273" y="23"/>
                </a:lnTo>
                <a:lnTo>
                  <a:pt x="273" y="23"/>
                </a:lnTo>
                <a:lnTo>
                  <a:pt x="269" y="23"/>
                </a:lnTo>
                <a:lnTo>
                  <a:pt x="4" y="23"/>
                </a:lnTo>
                <a:lnTo>
                  <a:pt x="4" y="23"/>
                </a:lnTo>
                <a:lnTo>
                  <a:pt x="0" y="23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264" y="0"/>
                </a:moveTo>
                <a:lnTo>
                  <a:pt x="301" y="23"/>
                </a:lnTo>
                <a:lnTo>
                  <a:pt x="264" y="42"/>
                </a:lnTo>
                <a:lnTo>
                  <a:pt x="26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5960" y="2124000"/>
            <a:ext cx="831960" cy="8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5960" y="2124000"/>
            <a:ext cx="831960" cy="890640"/>
          </a:xfrm>
          <a:custGeom>
            <a:avLst/>
            <a:gdLst/>
            <a:ahLst/>
            <a:rect l="l" t="t" r="r" b="b"/>
            <a:pathLst>
              <a:path w="524" h="561">
                <a:moveTo>
                  <a:pt x="524" y="4"/>
                </a:moveTo>
                <a:lnTo>
                  <a:pt x="501" y="4"/>
                </a:lnTo>
                <a:lnTo>
                  <a:pt x="501" y="0"/>
                </a:lnTo>
                <a:lnTo>
                  <a:pt x="524" y="0"/>
                </a:lnTo>
                <a:lnTo>
                  <a:pt x="524" y="4"/>
                </a:lnTo>
                <a:close/>
                <a:moveTo>
                  <a:pt x="487" y="4"/>
                </a:moveTo>
                <a:lnTo>
                  <a:pt x="469" y="4"/>
                </a:lnTo>
                <a:lnTo>
                  <a:pt x="469" y="0"/>
                </a:lnTo>
                <a:lnTo>
                  <a:pt x="487" y="0"/>
                </a:lnTo>
                <a:lnTo>
                  <a:pt x="487" y="4"/>
                </a:lnTo>
                <a:close/>
                <a:moveTo>
                  <a:pt x="455" y="4"/>
                </a:moveTo>
                <a:lnTo>
                  <a:pt x="436" y="4"/>
                </a:lnTo>
                <a:lnTo>
                  <a:pt x="436" y="0"/>
                </a:lnTo>
                <a:lnTo>
                  <a:pt x="455" y="0"/>
                </a:lnTo>
                <a:lnTo>
                  <a:pt x="455" y="4"/>
                </a:lnTo>
                <a:close/>
                <a:moveTo>
                  <a:pt x="418" y="4"/>
                </a:moveTo>
                <a:lnTo>
                  <a:pt x="399" y="4"/>
                </a:lnTo>
                <a:lnTo>
                  <a:pt x="399" y="0"/>
                </a:lnTo>
                <a:lnTo>
                  <a:pt x="418" y="0"/>
                </a:lnTo>
                <a:lnTo>
                  <a:pt x="418" y="4"/>
                </a:lnTo>
                <a:close/>
                <a:moveTo>
                  <a:pt x="385" y="4"/>
                </a:moveTo>
                <a:lnTo>
                  <a:pt x="367" y="4"/>
                </a:lnTo>
                <a:lnTo>
                  <a:pt x="367" y="0"/>
                </a:lnTo>
                <a:lnTo>
                  <a:pt x="385" y="0"/>
                </a:lnTo>
                <a:lnTo>
                  <a:pt x="385" y="4"/>
                </a:lnTo>
                <a:close/>
                <a:moveTo>
                  <a:pt x="353" y="4"/>
                </a:moveTo>
                <a:lnTo>
                  <a:pt x="329" y="4"/>
                </a:lnTo>
                <a:lnTo>
                  <a:pt x="329" y="0"/>
                </a:lnTo>
                <a:lnTo>
                  <a:pt x="353" y="0"/>
                </a:lnTo>
                <a:lnTo>
                  <a:pt x="353" y="4"/>
                </a:lnTo>
                <a:close/>
                <a:moveTo>
                  <a:pt x="316" y="4"/>
                </a:moveTo>
                <a:lnTo>
                  <a:pt x="297" y="4"/>
                </a:lnTo>
                <a:lnTo>
                  <a:pt x="297" y="0"/>
                </a:lnTo>
                <a:lnTo>
                  <a:pt x="316" y="0"/>
                </a:lnTo>
                <a:lnTo>
                  <a:pt x="316" y="4"/>
                </a:lnTo>
                <a:close/>
                <a:moveTo>
                  <a:pt x="283" y="4"/>
                </a:moveTo>
                <a:lnTo>
                  <a:pt x="265" y="4"/>
                </a:lnTo>
                <a:lnTo>
                  <a:pt x="265" y="0"/>
                </a:lnTo>
                <a:lnTo>
                  <a:pt x="283" y="0"/>
                </a:lnTo>
                <a:lnTo>
                  <a:pt x="283" y="4"/>
                </a:lnTo>
                <a:close/>
                <a:moveTo>
                  <a:pt x="246" y="4"/>
                </a:moveTo>
                <a:lnTo>
                  <a:pt x="227" y="4"/>
                </a:lnTo>
                <a:lnTo>
                  <a:pt x="227" y="0"/>
                </a:lnTo>
                <a:lnTo>
                  <a:pt x="246" y="0"/>
                </a:lnTo>
                <a:lnTo>
                  <a:pt x="246" y="4"/>
                </a:lnTo>
                <a:close/>
                <a:moveTo>
                  <a:pt x="213" y="4"/>
                </a:moveTo>
                <a:lnTo>
                  <a:pt x="195" y="4"/>
                </a:lnTo>
                <a:lnTo>
                  <a:pt x="195" y="0"/>
                </a:lnTo>
                <a:lnTo>
                  <a:pt x="213" y="0"/>
                </a:lnTo>
                <a:lnTo>
                  <a:pt x="213" y="4"/>
                </a:lnTo>
                <a:close/>
                <a:moveTo>
                  <a:pt x="181" y="4"/>
                </a:moveTo>
                <a:lnTo>
                  <a:pt x="158" y="4"/>
                </a:lnTo>
                <a:lnTo>
                  <a:pt x="158" y="0"/>
                </a:lnTo>
                <a:lnTo>
                  <a:pt x="181" y="0"/>
                </a:lnTo>
                <a:lnTo>
                  <a:pt x="181" y="4"/>
                </a:lnTo>
                <a:close/>
                <a:moveTo>
                  <a:pt x="144" y="4"/>
                </a:moveTo>
                <a:lnTo>
                  <a:pt x="125" y="4"/>
                </a:lnTo>
                <a:lnTo>
                  <a:pt x="125" y="0"/>
                </a:lnTo>
                <a:lnTo>
                  <a:pt x="144" y="0"/>
                </a:lnTo>
                <a:lnTo>
                  <a:pt x="144" y="4"/>
                </a:lnTo>
                <a:close/>
                <a:moveTo>
                  <a:pt x="111" y="4"/>
                </a:moveTo>
                <a:lnTo>
                  <a:pt x="88" y="4"/>
                </a:lnTo>
                <a:lnTo>
                  <a:pt x="88" y="0"/>
                </a:lnTo>
                <a:lnTo>
                  <a:pt x="111" y="0"/>
                </a:lnTo>
                <a:lnTo>
                  <a:pt x="111" y="4"/>
                </a:lnTo>
                <a:close/>
                <a:moveTo>
                  <a:pt x="74" y="4"/>
                </a:moveTo>
                <a:lnTo>
                  <a:pt x="56" y="4"/>
                </a:lnTo>
                <a:lnTo>
                  <a:pt x="56" y="0"/>
                </a:lnTo>
                <a:lnTo>
                  <a:pt x="74" y="0"/>
                </a:lnTo>
                <a:lnTo>
                  <a:pt x="74" y="4"/>
                </a:lnTo>
                <a:close/>
                <a:moveTo>
                  <a:pt x="42" y="4"/>
                </a:moveTo>
                <a:lnTo>
                  <a:pt x="23" y="4"/>
                </a:lnTo>
                <a:lnTo>
                  <a:pt x="23" y="0"/>
                </a:lnTo>
                <a:lnTo>
                  <a:pt x="42" y="0"/>
                </a:lnTo>
                <a:lnTo>
                  <a:pt x="42" y="4"/>
                </a:lnTo>
                <a:close/>
                <a:moveTo>
                  <a:pt x="5" y="4"/>
                </a:moveTo>
                <a:lnTo>
                  <a:pt x="0" y="4"/>
                </a:lnTo>
                <a:lnTo>
                  <a:pt x="5" y="0"/>
                </a:lnTo>
                <a:lnTo>
                  <a:pt x="5" y="18"/>
                </a:lnTo>
                <a:lnTo>
                  <a:pt x="0" y="18"/>
                </a:lnTo>
                <a:lnTo>
                  <a:pt x="0" y="0"/>
                </a:lnTo>
                <a:lnTo>
                  <a:pt x="5" y="0"/>
                </a:lnTo>
                <a:lnTo>
                  <a:pt x="5" y="4"/>
                </a:lnTo>
                <a:close/>
                <a:moveTo>
                  <a:pt x="5" y="32"/>
                </a:moveTo>
                <a:lnTo>
                  <a:pt x="5" y="51"/>
                </a:lnTo>
                <a:lnTo>
                  <a:pt x="0" y="51"/>
                </a:lnTo>
                <a:lnTo>
                  <a:pt x="0" y="32"/>
                </a:lnTo>
                <a:lnTo>
                  <a:pt x="5" y="32"/>
                </a:lnTo>
                <a:close/>
                <a:moveTo>
                  <a:pt x="5" y="65"/>
                </a:moveTo>
                <a:lnTo>
                  <a:pt x="5" y="83"/>
                </a:lnTo>
                <a:lnTo>
                  <a:pt x="0" y="83"/>
                </a:lnTo>
                <a:lnTo>
                  <a:pt x="0" y="65"/>
                </a:lnTo>
                <a:lnTo>
                  <a:pt x="5" y="65"/>
                </a:lnTo>
                <a:close/>
                <a:moveTo>
                  <a:pt x="5" y="102"/>
                </a:moveTo>
                <a:lnTo>
                  <a:pt x="5" y="120"/>
                </a:lnTo>
                <a:lnTo>
                  <a:pt x="0" y="120"/>
                </a:lnTo>
                <a:lnTo>
                  <a:pt x="0" y="102"/>
                </a:lnTo>
                <a:lnTo>
                  <a:pt x="5" y="102"/>
                </a:lnTo>
                <a:close/>
                <a:moveTo>
                  <a:pt x="5" y="134"/>
                </a:moveTo>
                <a:lnTo>
                  <a:pt x="5" y="153"/>
                </a:lnTo>
                <a:lnTo>
                  <a:pt x="0" y="153"/>
                </a:lnTo>
                <a:lnTo>
                  <a:pt x="0" y="134"/>
                </a:lnTo>
                <a:lnTo>
                  <a:pt x="5" y="134"/>
                </a:lnTo>
                <a:close/>
                <a:moveTo>
                  <a:pt x="5" y="167"/>
                </a:moveTo>
                <a:lnTo>
                  <a:pt x="5" y="190"/>
                </a:lnTo>
                <a:lnTo>
                  <a:pt x="0" y="190"/>
                </a:lnTo>
                <a:lnTo>
                  <a:pt x="0" y="167"/>
                </a:lnTo>
                <a:lnTo>
                  <a:pt x="5" y="167"/>
                </a:lnTo>
                <a:close/>
                <a:moveTo>
                  <a:pt x="5" y="204"/>
                </a:moveTo>
                <a:lnTo>
                  <a:pt x="5" y="223"/>
                </a:lnTo>
                <a:lnTo>
                  <a:pt x="0" y="223"/>
                </a:lnTo>
                <a:lnTo>
                  <a:pt x="0" y="204"/>
                </a:lnTo>
                <a:lnTo>
                  <a:pt x="5" y="204"/>
                </a:lnTo>
                <a:close/>
                <a:moveTo>
                  <a:pt x="5" y="236"/>
                </a:moveTo>
                <a:lnTo>
                  <a:pt x="5" y="260"/>
                </a:lnTo>
                <a:lnTo>
                  <a:pt x="0" y="260"/>
                </a:lnTo>
                <a:lnTo>
                  <a:pt x="0" y="236"/>
                </a:lnTo>
                <a:lnTo>
                  <a:pt x="5" y="236"/>
                </a:lnTo>
                <a:close/>
                <a:moveTo>
                  <a:pt x="5" y="274"/>
                </a:moveTo>
                <a:lnTo>
                  <a:pt x="5" y="292"/>
                </a:lnTo>
                <a:lnTo>
                  <a:pt x="0" y="292"/>
                </a:lnTo>
                <a:lnTo>
                  <a:pt x="0" y="274"/>
                </a:lnTo>
                <a:lnTo>
                  <a:pt x="5" y="274"/>
                </a:lnTo>
                <a:close/>
                <a:moveTo>
                  <a:pt x="5" y="306"/>
                </a:moveTo>
                <a:lnTo>
                  <a:pt x="5" y="325"/>
                </a:lnTo>
                <a:lnTo>
                  <a:pt x="0" y="325"/>
                </a:lnTo>
                <a:lnTo>
                  <a:pt x="0" y="306"/>
                </a:lnTo>
                <a:lnTo>
                  <a:pt x="5" y="306"/>
                </a:lnTo>
                <a:close/>
                <a:moveTo>
                  <a:pt x="5" y="343"/>
                </a:moveTo>
                <a:lnTo>
                  <a:pt x="5" y="362"/>
                </a:lnTo>
                <a:lnTo>
                  <a:pt x="0" y="362"/>
                </a:lnTo>
                <a:lnTo>
                  <a:pt x="0" y="343"/>
                </a:lnTo>
                <a:lnTo>
                  <a:pt x="5" y="343"/>
                </a:lnTo>
                <a:close/>
                <a:moveTo>
                  <a:pt x="5" y="376"/>
                </a:moveTo>
                <a:lnTo>
                  <a:pt x="5" y="394"/>
                </a:lnTo>
                <a:lnTo>
                  <a:pt x="0" y="394"/>
                </a:lnTo>
                <a:lnTo>
                  <a:pt x="0" y="376"/>
                </a:lnTo>
                <a:lnTo>
                  <a:pt x="5" y="376"/>
                </a:lnTo>
                <a:close/>
                <a:moveTo>
                  <a:pt x="5" y="408"/>
                </a:moveTo>
                <a:lnTo>
                  <a:pt x="5" y="431"/>
                </a:lnTo>
                <a:lnTo>
                  <a:pt x="0" y="431"/>
                </a:lnTo>
                <a:lnTo>
                  <a:pt x="0" y="408"/>
                </a:lnTo>
                <a:lnTo>
                  <a:pt x="5" y="408"/>
                </a:lnTo>
                <a:close/>
                <a:moveTo>
                  <a:pt x="5" y="445"/>
                </a:moveTo>
                <a:lnTo>
                  <a:pt x="5" y="464"/>
                </a:lnTo>
                <a:lnTo>
                  <a:pt x="0" y="464"/>
                </a:lnTo>
                <a:lnTo>
                  <a:pt x="0" y="445"/>
                </a:lnTo>
                <a:lnTo>
                  <a:pt x="5" y="445"/>
                </a:lnTo>
                <a:close/>
                <a:moveTo>
                  <a:pt x="5" y="478"/>
                </a:moveTo>
                <a:lnTo>
                  <a:pt x="5" y="496"/>
                </a:lnTo>
                <a:lnTo>
                  <a:pt x="0" y="496"/>
                </a:lnTo>
                <a:lnTo>
                  <a:pt x="0" y="478"/>
                </a:lnTo>
                <a:lnTo>
                  <a:pt x="5" y="478"/>
                </a:lnTo>
                <a:close/>
                <a:moveTo>
                  <a:pt x="5" y="515"/>
                </a:moveTo>
                <a:lnTo>
                  <a:pt x="5" y="533"/>
                </a:lnTo>
                <a:lnTo>
                  <a:pt x="0" y="533"/>
                </a:lnTo>
                <a:lnTo>
                  <a:pt x="0" y="515"/>
                </a:lnTo>
                <a:lnTo>
                  <a:pt x="5" y="515"/>
                </a:lnTo>
                <a:close/>
                <a:moveTo>
                  <a:pt x="5" y="547"/>
                </a:moveTo>
                <a:lnTo>
                  <a:pt x="5" y="561"/>
                </a:lnTo>
                <a:lnTo>
                  <a:pt x="0" y="557"/>
                </a:lnTo>
                <a:lnTo>
                  <a:pt x="9" y="557"/>
                </a:lnTo>
                <a:lnTo>
                  <a:pt x="9" y="561"/>
                </a:lnTo>
                <a:lnTo>
                  <a:pt x="0" y="561"/>
                </a:lnTo>
                <a:lnTo>
                  <a:pt x="0" y="547"/>
                </a:lnTo>
                <a:lnTo>
                  <a:pt x="5" y="547"/>
                </a:lnTo>
                <a:close/>
                <a:moveTo>
                  <a:pt x="23" y="557"/>
                </a:moveTo>
                <a:lnTo>
                  <a:pt x="42" y="557"/>
                </a:lnTo>
                <a:lnTo>
                  <a:pt x="42" y="561"/>
                </a:lnTo>
                <a:lnTo>
                  <a:pt x="23" y="561"/>
                </a:lnTo>
                <a:lnTo>
                  <a:pt x="23" y="557"/>
                </a:lnTo>
                <a:close/>
                <a:moveTo>
                  <a:pt x="60" y="557"/>
                </a:moveTo>
                <a:lnTo>
                  <a:pt x="79" y="557"/>
                </a:lnTo>
                <a:lnTo>
                  <a:pt x="79" y="561"/>
                </a:lnTo>
                <a:lnTo>
                  <a:pt x="60" y="561"/>
                </a:lnTo>
                <a:lnTo>
                  <a:pt x="60" y="557"/>
                </a:lnTo>
                <a:close/>
                <a:moveTo>
                  <a:pt x="93" y="557"/>
                </a:moveTo>
                <a:lnTo>
                  <a:pt x="111" y="557"/>
                </a:lnTo>
                <a:lnTo>
                  <a:pt x="111" y="561"/>
                </a:lnTo>
                <a:lnTo>
                  <a:pt x="93" y="561"/>
                </a:lnTo>
                <a:lnTo>
                  <a:pt x="93" y="557"/>
                </a:lnTo>
                <a:close/>
                <a:moveTo>
                  <a:pt x="125" y="557"/>
                </a:moveTo>
                <a:lnTo>
                  <a:pt x="149" y="557"/>
                </a:lnTo>
                <a:lnTo>
                  <a:pt x="149" y="561"/>
                </a:lnTo>
                <a:lnTo>
                  <a:pt x="125" y="561"/>
                </a:lnTo>
                <a:lnTo>
                  <a:pt x="125" y="557"/>
                </a:lnTo>
                <a:close/>
                <a:moveTo>
                  <a:pt x="162" y="557"/>
                </a:moveTo>
                <a:lnTo>
                  <a:pt x="181" y="557"/>
                </a:lnTo>
                <a:lnTo>
                  <a:pt x="181" y="561"/>
                </a:lnTo>
                <a:lnTo>
                  <a:pt x="162" y="561"/>
                </a:lnTo>
                <a:lnTo>
                  <a:pt x="162" y="557"/>
                </a:lnTo>
                <a:close/>
                <a:moveTo>
                  <a:pt x="195" y="557"/>
                </a:moveTo>
                <a:lnTo>
                  <a:pt x="213" y="557"/>
                </a:lnTo>
                <a:lnTo>
                  <a:pt x="213" y="561"/>
                </a:lnTo>
                <a:lnTo>
                  <a:pt x="195" y="561"/>
                </a:lnTo>
                <a:lnTo>
                  <a:pt x="195" y="557"/>
                </a:lnTo>
                <a:close/>
                <a:moveTo>
                  <a:pt x="232" y="557"/>
                </a:moveTo>
                <a:lnTo>
                  <a:pt x="251" y="557"/>
                </a:lnTo>
                <a:lnTo>
                  <a:pt x="251" y="561"/>
                </a:lnTo>
                <a:lnTo>
                  <a:pt x="232" y="561"/>
                </a:lnTo>
                <a:lnTo>
                  <a:pt x="232" y="557"/>
                </a:lnTo>
                <a:close/>
                <a:moveTo>
                  <a:pt x="265" y="557"/>
                </a:moveTo>
                <a:lnTo>
                  <a:pt x="283" y="557"/>
                </a:lnTo>
                <a:lnTo>
                  <a:pt x="283" y="561"/>
                </a:lnTo>
                <a:lnTo>
                  <a:pt x="265" y="561"/>
                </a:lnTo>
                <a:lnTo>
                  <a:pt x="265" y="557"/>
                </a:lnTo>
                <a:close/>
                <a:moveTo>
                  <a:pt x="297" y="557"/>
                </a:moveTo>
                <a:lnTo>
                  <a:pt x="320" y="557"/>
                </a:lnTo>
                <a:lnTo>
                  <a:pt x="320" y="561"/>
                </a:lnTo>
                <a:lnTo>
                  <a:pt x="297" y="561"/>
                </a:lnTo>
                <a:lnTo>
                  <a:pt x="297" y="557"/>
                </a:lnTo>
                <a:close/>
                <a:moveTo>
                  <a:pt x="334" y="557"/>
                </a:moveTo>
                <a:lnTo>
                  <a:pt x="353" y="557"/>
                </a:lnTo>
                <a:lnTo>
                  <a:pt x="353" y="561"/>
                </a:lnTo>
                <a:lnTo>
                  <a:pt x="334" y="561"/>
                </a:lnTo>
                <a:lnTo>
                  <a:pt x="334" y="557"/>
                </a:lnTo>
                <a:close/>
                <a:moveTo>
                  <a:pt x="367" y="557"/>
                </a:moveTo>
                <a:lnTo>
                  <a:pt x="390" y="557"/>
                </a:lnTo>
                <a:lnTo>
                  <a:pt x="390" y="561"/>
                </a:lnTo>
                <a:lnTo>
                  <a:pt x="367" y="561"/>
                </a:lnTo>
                <a:lnTo>
                  <a:pt x="367" y="557"/>
                </a:lnTo>
                <a:close/>
                <a:moveTo>
                  <a:pt x="404" y="557"/>
                </a:moveTo>
                <a:lnTo>
                  <a:pt x="422" y="557"/>
                </a:lnTo>
                <a:lnTo>
                  <a:pt x="422" y="561"/>
                </a:lnTo>
                <a:lnTo>
                  <a:pt x="404" y="561"/>
                </a:lnTo>
                <a:lnTo>
                  <a:pt x="404" y="557"/>
                </a:lnTo>
                <a:close/>
                <a:moveTo>
                  <a:pt x="436" y="557"/>
                </a:moveTo>
                <a:lnTo>
                  <a:pt x="455" y="557"/>
                </a:lnTo>
                <a:lnTo>
                  <a:pt x="455" y="561"/>
                </a:lnTo>
                <a:lnTo>
                  <a:pt x="436" y="561"/>
                </a:lnTo>
                <a:lnTo>
                  <a:pt x="436" y="557"/>
                </a:lnTo>
                <a:close/>
                <a:moveTo>
                  <a:pt x="473" y="557"/>
                </a:moveTo>
                <a:lnTo>
                  <a:pt x="492" y="557"/>
                </a:lnTo>
                <a:lnTo>
                  <a:pt x="492" y="561"/>
                </a:lnTo>
                <a:lnTo>
                  <a:pt x="473" y="561"/>
                </a:lnTo>
                <a:lnTo>
                  <a:pt x="473" y="557"/>
                </a:lnTo>
                <a:close/>
                <a:moveTo>
                  <a:pt x="506" y="557"/>
                </a:moveTo>
                <a:lnTo>
                  <a:pt x="524" y="557"/>
                </a:lnTo>
                <a:lnTo>
                  <a:pt x="520" y="561"/>
                </a:lnTo>
                <a:lnTo>
                  <a:pt x="520" y="557"/>
                </a:lnTo>
                <a:lnTo>
                  <a:pt x="524" y="557"/>
                </a:lnTo>
                <a:lnTo>
                  <a:pt x="524" y="561"/>
                </a:lnTo>
                <a:lnTo>
                  <a:pt x="506" y="561"/>
                </a:lnTo>
                <a:lnTo>
                  <a:pt x="506" y="557"/>
                </a:lnTo>
                <a:close/>
                <a:moveTo>
                  <a:pt x="520" y="543"/>
                </a:moveTo>
                <a:lnTo>
                  <a:pt x="520" y="524"/>
                </a:lnTo>
                <a:lnTo>
                  <a:pt x="524" y="524"/>
                </a:lnTo>
                <a:lnTo>
                  <a:pt x="524" y="543"/>
                </a:lnTo>
                <a:lnTo>
                  <a:pt x="520" y="543"/>
                </a:lnTo>
                <a:close/>
                <a:moveTo>
                  <a:pt x="520" y="510"/>
                </a:moveTo>
                <a:lnTo>
                  <a:pt x="520" y="487"/>
                </a:lnTo>
                <a:lnTo>
                  <a:pt x="524" y="487"/>
                </a:lnTo>
                <a:lnTo>
                  <a:pt x="524" y="510"/>
                </a:lnTo>
                <a:lnTo>
                  <a:pt x="520" y="510"/>
                </a:lnTo>
                <a:close/>
                <a:moveTo>
                  <a:pt x="520" y="473"/>
                </a:moveTo>
                <a:lnTo>
                  <a:pt x="520" y="455"/>
                </a:lnTo>
                <a:lnTo>
                  <a:pt x="524" y="455"/>
                </a:lnTo>
                <a:lnTo>
                  <a:pt x="524" y="473"/>
                </a:lnTo>
                <a:lnTo>
                  <a:pt x="520" y="473"/>
                </a:lnTo>
                <a:close/>
                <a:moveTo>
                  <a:pt x="520" y="441"/>
                </a:moveTo>
                <a:lnTo>
                  <a:pt x="520" y="422"/>
                </a:lnTo>
                <a:lnTo>
                  <a:pt x="524" y="422"/>
                </a:lnTo>
                <a:lnTo>
                  <a:pt x="524" y="441"/>
                </a:lnTo>
                <a:lnTo>
                  <a:pt x="520" y="441"/>
                </a:lnTo>
                <a:close/>
                <a:moveTo>
                  <a:pt x="520" y="404"/>
                </a:moveTo>
                <a:lnTo>
                  <a:pt x="520" y="385"/>
                </a:lnTo>
                <a:lnTo>
                  <a:pt x="524" y="385"/>
                </a:lnTo>
                <a:lnTo>
                  <a:pt x="524" y="404"/>
                </a:lnTo>
                <a:lnTo>
                  <a:pt x="520" y="404"/>
                </a:lnTo>
                <a:close/>
                <a:moveTo>
                  <a:pt x="520" y="371"/>
                </a:moveTo>
                <a:lnTo>
                  <a:pt x="520" y="352"/>
                </a:lnTo>
                <a:lnTo>
                  <a:pt x="524" y="352"/>
                </a:lnTo>
                <a:lnTo>
                  <a:pt x="524" y="371"/>
                </a:lnTo>
                <a:lnTo>
                  <a:pt x="520" y="371"/>
                </a:lnTo>
                <a:close/>
                <a:moveTo>
                  <a:pt x="520" y="339"/>
                </a:moveTo>
                <a:lnTo>
                  <a:pt x="520" y="315"/>
                </a:lnTo>
                <a:lnTo>
                  <a:pt x="524" y="315"/>
                </a:lnTo>
                <a:lnTo>
                  <a:pt x="524" y="339"/>
                </a:lnTo>
                <a:lnTo>
                  <a:pt x="520" y="339"/>
                </a:lnTo>
                <a:close/>
                <a:moveTo>
                  <a:pt x="520" y="301"/>
                </a:moveTo>
                <a:lnTo>
                  <a:pt x="520" y="283"/>
                </a:lnTo>
                <a:lnTo>
                  <a:pt x="524" y="283"/>
                </a:lnTo>
                <a:lnTo>
                  <a:pt x="524" y="301"/>
                </a:lnTo>
                <a:lnTo>
                  <a:pt x="520" y="301"/>
                </a:lnTo>
                <a:close/>
                <a:moveTo>
                  <a:pt x="520" y="269"/>
                </a:moveTo>
                <a:lnTo>
                  <a:pt x="520" y="246"/>
                </a:lnTo>
                <a:lnTo>
                  <a:pt x="524" y="246"/>
                </a:lnTo>
                <a:lnTo>
                  <a:pt x="524" y="269"/>
                </a:lnTo>
                <a:lnTo>
                  <a:pt x="520" y="269"/>
                </a:lnTo>
                <a:close/>
                <a:moveTo>
                  <a:pt x="520" y="232"/>
                </a:moveTo>
                <a:lnTo>
                  <a:pt x="520" y="213"/>
                </a:lnTo>
                <a:lnTo>
                  <a:pt x="524" y="213"/>
                </a:lnTo>
                <a:lnTo>
                  <a:pt x="524" y="232"/>
                </a:lnTo>
                <a:lnTo>
                  <a:pt x="520" y="232"/>
                </a:lnTo>
                <a:close/>
                <a:moveTo>
                  <a:pt x="520" y="199"/>
                </a:moveTo>
                <a:lnTo>
                  <a:pt x="520" y="181"/>
                </a:lnTo>
                <a:lnTo>
                  <a:pt x="524" y="181"/>
                </a:lnTo>
                <a:lnTo>
                  <a:pt x="524" y="199"/>
                </a:lnTo>
                <a:lnTo>
                  <a:pt x="520" y="199"/>
                </a:lnTo>
                <a:close/>
                <a:moveTo>
                  <a:pt x="520" y="162"/>
                </a:moveTo>
                <a:lnTo>
                  <a:pt x="520" y="144"/>
                </a:lnTo>
                <a:lnTo>
                  <a:pt x="524" y="144"/>
                </a:lnTo>
                <a:lnTo>
                  <a:pt x="524" y="162"/>
                </a:lnTo>
                <a:lnTo>
                  <a:pt x="520" y="162"/>
                </a:lnTo>
                <a:close/>
                <a:moveTo>
                  <a:pt x="520" y="130"/>
                </a:moveTo>
                <a:lnTo>
                  <a:pt x="520" y="111"/>
                </a:lnTo>
                <a:lnTo>
                  <a:pt x="524" y="111"/>
                </a:lnTo>
                <a:lnTo>
                  <a:pt x="524" y="130"/>
                </a:lnTo>
                <a:lnTo>
                  <a:pt x="520" y="130"/>
                </a:lnTo>
                <a:close/>
                <a:moveTo>
                  <a:pt x="520" y="97"/>
                </a:moveTo>
                <a:lnTo>
                  <a:pt x="520" y="74"/>
                </a:lnTo>
                <a:lnTo>
                  <a:pt x="524" y="74"/>
                </a:lnTo>
                <a:lnTo>
                  <a:pt x="524" y="97"/>
                </a:lnTo>
                <a:lnTo>
                  <a:pt x="520" y="97"/>
                </a:lnTo>
                <a:close/>
                <a:moveTo>
                  <a:pt x="520" y="60"/>
                </a:moveTo>
                <a:lnTo>
                  <a:pt x="520" y="42"/>
                </a:lnTo>
                <a:lnTo>
                  <a:pt x="524" y="42"/>
                </a:lnTo>
                <a:lnTo>
                  <a:pt x="524" y="60"/>
                </a:lnTo>
                <a:lnTo>
                  <a:pt x="520" y="60"/>
                </a:lnTo>
                <a:close/>
                <a:moveTo>
                  <a:pt x="520" y="28"/>
                </a:moveTo>
                <a:lnTo>
                  <a:pt x="520" y="9"/>
                </a:lnTo>
                <a:lnTo>
                  <a:pt x="524" y="9"/>
                </a:lnTo>
                <a:lnTo>
                  <a:pt x="524" y="28"/>
                </a:lnTo>
                <a:lnTo>
                  <a:pt x="52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3014640"/>
            <a:ext cx="66600" cy="353880"/>
          </a:xfrm>
          <a:custGeom>
            <a:avLst/>
            <a:gdLst/>
            <a:ahLst/>
            <a:rect l="l" t="t" r="r" b="b"/>
            <a:pathLst>
              <a:path w="42" h="223">
                <a:moveTo>
                  <a:pt x="19" y="223"/>
                </a:moveTo>
                <a:lnTo>
                  <a:pt x="19" y="33"/>
                </a:lnTo>
                <a:lnTo>
                  <a:pt x="19" y="28"/>
                </a:lnTo>
                <a:lnTo>
                  <a:pt x="19" y="28"/>
                </a:lnTo>
                <a:lnTo>
                  <a:pt x="24" y="28"/>
                </a:lnTo>
                <a:lnTo>
                  <a:pt x="24" y="33"/>
                </a:lnTo>
                <a:lnTo>
                  <a:pt x="24" y="223"/>
                </a:lnTo>
                <a:lnTo>
                  <a:pt x="24" y="223"/>
                </a:lnTo>
                <a:lnTo>
                  <a:pt x="19" y="223"/>
                </a:lnTo>
                <a:lnTo>
                  <a:pt x="19" y="223"/>
                </a:lnTo>
                <a:lnTo>
                  <a:pt x="19" y="223"/>
                </a:lnTo>
                <a:lnTo>
                  <a:pt x="19" y="223"/>
                </a:lnTo>
                <a:close/>
                <a:moveTo>
                  <a:pt x="0" y="37"/>
                </a:moveTo>
                <a:lnTo>
                  <a:pt x="19" y="0"/>
                </a:lnTo>
                <a:lnTo>
                  <a:pt x="42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2478240"/>
            <a:ext cx="388800" cy="153720"/>
          </a:xfrm>
          <a:custGeom>
            <a:avLst/>
            <a:gdLst/>
            <a:ahLst/>
            <a:rect l="l" t="t" r="r" b="b"/>
            <a:pathLst>
              <a:path w="245" h="97">
                <a:moveTo>
                  <a:pt x="18" y="74"/>
                </a:moveTo>
                <a:lnTo>
                  <a:pt x="241" y="0"/>
                </a:lnTo>
                <a:lnTo>
                  <a:pt x="245" y="0"/>
                </a:lnTo>
                <a:lnTo>
                  <a:pt x="245" y="0"/>
                </a:lnTo>
                <a:lnTo>
                  <a:pt x="245" y="4"/>
                </a:lnTo>
                <a:lnTo>
                  <a:pt x="241" y="4"/>
                </a:lnTo>
                <a:lnTo>
                  <a:pt x="18" y="78"/>
                </a:lnTo>
                <a:lnTo>
                  <a:pt x="18" y="78"/>
                </a:lnTo>
                <a:lnTo>
                  <a:pt x="13" y="78"/>
                </a:lnTo>
                <a:lnTo>
                  <a:pt x="13" y="74"/>
                </a:lnTo>
                <a:lnTo>
                  <a:pt x="18" y="74"/>
                </a:lnTo>
                <a:lnTo>
                  <a:pt x="18" y="74"/>
                </a:lnTo>
                <a:close/>
                <a:moveTo>
                  <a:pt x="23" y="97"/>
                </a:moveTo>
                <a:lnTo>
                  <a:pt x="23" y="97"/>
                </a:lnTo>
                <a:lnTo>
                  <a:pt x="18" y="97"/>
                </a:lnTo>
                <a:lnTo>
                  <a:pt x="9" y="92"/>
                </a:lnTo>
                <a:lnTo>
                  <a:pt x="4" y="88"/>
                </a:lnTo>
                <a:lnTo>
                  <a:pt x="0" y="83"/>
                </a:lnTo>
                <a:lnTo>
                  <a:pt x="0" y="78"/>
                </a:lnTo>
                <a:lnTo>
                  <a:pt x="0" y="74"/>
                </a:lnTo>
                <a:lnTo>
                  <a:pt x="0" y="69"/>
                </a:lnTo>
                <a:lnTo>
                  <a:pt x="4" y="60"/>
                </a:lnTo>
                <a:lnTo>
                  <a:pt x="13" y="60"/>
                </a:lnTo>
                <a:lnTo>
                  <a:pt x="18" y="55"/>
                </a:lnTo>
                <a:lnTo>
                  <a:pt x="18" y="55"/>
                </a:lnTo>
                <a:lnTo>
                  <a:pt x="27" y="60"/>
                </a:lnTo>
                <a:lnTo>
                  <a:pt x="32" y="65"/>
                </a:lnTo>
                <a:lnTo>
                  <a:pt x="37" y="69"/>
                </a:lnTo>
                <a:lnTo>
                  <a:pt x="37" y="74"/>
                </a:lnTo>
                <a:lnTo>
                  <a:pt x="37" y="78"/>
                </a:lnTo>
                <a:lnTo>
                  <a:pt x="37" y="83"/>
                </a:lnTo>
                <a:lnTo>
                  <a:pt x="32" y="92"/>
                </a:lnTo>
                <a:lnTo>
                  <a:pt x="23" y="97"/>
                </a:lnTo>
                <a:lnTo>
                  <a:pt x="23" y="9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1280" y="2271600"/>
            <a:ext cx="566640" cy="65160"/>
          </a:xfrm>
          <a:custGeom>
            <a:avLst/>
            <a:gdLst/>
            <a:ahLst/>
            <a:rect l="l" t="t" r="r" b="b"/>
            <a:pathLst>
              <a:path w="357" h="41">
                <a:moveTo>
                  <a:pt x="19" y="18"/>
                </a:moveTo>
                <a:lnTo>
                  <a:pt x="353" y="18"/>
                </a:lnTo>
                <a:lnTo>
                  <a:pt x="357" y="18"/>
                </a:lnTo>
                <a:lnTo>
                  <a:pt x="357" y="23"/>
                </a:lnTo>
                <a:lnTo>
                  <a:pt x="357" y="23"/>
                </a:lnTo>
                <a:lnTo>
                  <a:pt x="353" y="23"/>
                </a:lnTo>
                <a:lnTo>
                  <a:pt x="19" y="23"/>
                </a:lnTo>
                <a:lnTo>
                  <a:pt x="19" y="23"/>
                </a:lnTo>
                <a:lnTo>
                  <a:pt x="14" y="23"/>
                </a:lnTo>
                <a:lnTo>
                  <a:pt x="19" y="18"/>
                </a:lnTo>
                <a:lnTo>
                  <a:pt x="19" y="18"/>
                </a:lnTo>
                <a:lnTo>
                  <a:pt x="19" y="18"/>
                </a:lnTo>
                <a:close/>
                <a:moveTo>
                  <a:pt x="19" y="41"/>
                </a:moveTo>
                <a:lnTo>
                  <a:pt x="14" y="41"/>
                </a:lnTo>
                <a:lnTo>
                  <a:pt x="9" y="41"/>
                </a:lnTo>
                <a:lnTo>
                  <a:pt x="5" y="37"/>
                </a:lnTo>
                <a:lnTo>
                  <a:pt x="0" y="27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5" y="9"/>
                </a:lnTo>
                <a:lnTo>
                  <a:pt x="9" y="4"/>
                </a:lnTo>
                <a:lnTo>
                  <a:pt x="14" y="4"/>
                </a:lnTo>
                <a:lnTo>
                  <a:pt x="19" y="0"/>
                </a:lnTo>
                <a:lnTo>
                  <a:pt x="23" y="4"/>
                </a:lnTo>
                <a:lnTo>
                  <a:pt x="28" y="4"/>
                </a:lnTo>
                <a:lnTo>
                  <a:pt x="33" y="9"/>
                </a:lnTo>
                <a:lnTo>
                  <a:pt x="37" y="14"/>
                </a:lnTo>
                <a:lnTo>
                  <a:pt x="37" y="18"/>
                </a:lnTo>
                <a:lnTo>
                  <a:pt x="37" y="23"/>
                </a:lnTo>
                <a:lnTo>
                  <a:pt x="37" y="27"/>
                </a:lnTo>
                <a:lnTo>
                  <a:pt x="37" y="27"/>
                </a:lnTo>
                <a:lnTo>
                  <a:pt x="33" y="37"/>
                </a:lnTo>
                <a:lnTo>
                  <a:pt x="28" y="41"/>
                </a:lnTo>
                <a:lnTo>
                  <a:pt x="23" y="41"/>
                </a:lnTo>
                <a:lnTo>
                  <a:pt x="19" y="41"/>
                </a:lnTo>
                <a:lnTo>
                  <a:pt x="19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90560" y="238284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21280" y="2682720"/>
            <a:ext cx="566640" cy="66960"/>
          </a:xfrm>
          <a:custGeom>
            <a:avLst/>
            <a:gdLst/>
            <a:ahLst/>
            <a:rect l="l" t="t" r="r" b="b"/>
            <a:pathLst>
              <a:path w="357" h="42">
                <a:moveTo>
                  <a:pt x="19" y="19"/>
                </a:moveTo>
                <a:lnTo>
                  <a:pt x="353" y="19"/>
                </a:lnTo>
                <a:lnTo>
                  <a:pt x="357" y="19"/>
                </a:lnTo>
                <a:lnTo>
                  <a:pt x="357" y="24"/>
                </a:lnTo>
                <a:lnTo>
                  <a:pt x="357" y="24"/>
                </a:lnTo>
                <a:lnTo>
                  <a:pt x="353" y="24"/>
                </a:lnTo>
                <a:lnTo>
                  <a:pt x="19" y="24"/>
                </a:lnTo>
                <a:lnTo>
                  <a:pt x="19" y="24"/>
                </a:lnTo>
                <a:lnTo>
                  <a:pt x="14" y="24"/>
                </a:lnTo>
                <a:lnTo>
                  <a:pt x="19" y="19"/>
                </a:lnTo>
                <a:lnTo>
                  <a:pt x="19" y="19"/>
                </a:lnTo>
                <a:lnTo>
                  <a:pt x="19" y="19"/>
                </a:lnTo>
                <a:close/>
                <a:moveTo>
                  <a:pt x="19" y="42"/>
                </a:moveTo>
                <a:lnTo>
                  <a:pt x="14" y="42"/>
                </a:lnTo>
                <a:lnTo>
                  <a:pt x="9" y="42"/>
                </a:lnTo>
                <a:lnTo>
                  <a:pt x="5" y="38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5" y="10"/>
                </a:lnTo>
                <a:lnTo>
                  <a:pt x="9" y="5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5"/>
                </a:lnTo>
                <a:lnTo>
                  <a:pt x="33" y="10"/>
                </a:lnTo>
                <a:lnTo>
                  <a:pt x="37" y="14"/>
                </a:lnTo>
                <a:lnTo>
                  <a:pt x="37" y="19"/>
                </a:lnTo>
                <a:lnTo>
                  <a:pt x="37" y="24"/>
                </a:lnTo>
                <a:lnTo>
                  <a:pt x="37" y="24"/>
                </a:lnTo>
                <a:lnTo>
                  <a:pt x="37" y="28"/>
                </a:lnTo>
                <a:lnTo>
                  <a:pt x="33" y="38"/>
                </a:lnTo>
                <a:lnTo>
                  <a:pt x="28" y="42"/>
                </a:lnTo>
                <a:lnTo>
                  <a:pt x="23" y="42"/>
                </a:lnTo>
                <a:lnTo>
                  <a:pt x="19" y="42"/>
                </a:lnTo>
                <a:lnTo>
                  <a:pt x="19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21280" y="2801880"/>
            <a:ext cx="566640" cy="65160"/>
          </a:xfrm>
          <a:custGeom>
            <a:avLst/>
            <a:gdLst/>
            <a:ahLst/>
            <a:rect l="l" t="t" r="r" b="b"/>
            <a:pathLst>
              <a:path w="357" h="41">
                <a:moveTo>
                  <a:pt x="19" y="18"/>
                </a:moveTo>
                <a:lnTo>
                  <a:pt x="353" y="18"/>
                </a:lnTo>
                <a:lnTo>
                  <a:pt x="357" y="18"/>
                </a:lnTo>
                <a:lnTo>
                  <a:pt x="357" y="23"/>
                </a:lnTo>
                <a:lnTo>
                  <a:pt x="357" y="23"/>
                </a:lnTo>
                <a:lnTo>
                  <a:pt x="353" y="23"/>
                </a:lnTo>
                <a:lnTo>
                  <a:pt x="19" y="23"/>
                </a:lnTo>
                <a:lnTo>
                  <a:pt x="19" y="23"/>
                </a:lnTo>
                <a:lnTo>
                  <a:pt x="14" y="23"/>
                </a:lnTo>
                <a:lnTo>
                  <a:pt x="19" y="18"/>
                </a:lnTo>
                <a:lnTo>
                  <a:pt x="19" y="18"/>
                </a:lnTo>
                <a:lnTo>
                  <a:pt x="19" y="18"/>
                </a:lnTo>
                <a:close/>
                <a:moveTo>
                  <a:pt x="19" y="41"/>
                </a:moveTo>
                <a:lnTo>
                  <a:pt x="14" y="41"/>
                </a:lnTo>
                <a:lnTo>
                  <a:pt x="9" y="41"/>
                </a:lnTo>
                <a:lnTo>
                  <a:pt x="5" y="37"/>
                </a:lnTo>
                <a:lnTo>
                  <a:pt x="0" y="28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5" y="9"/>
                </a:lnTo>
                <a:lnTo>
                  <a:pt x="9" y="4"/>
                </a:lnTo>
                <a:lnTo>
                  <a:pt x="14" y="4"/>
                </a:lnTo>
                <a:lnTo>
                  <a:pt x="19" y="0"/>
                </a:lnTo>
                <a:lnTo>
                  <a:pt x="23" y="4"/>
                </a:lnTo>
                <a:lnTo>
                  <a:pt x="28" y="4"/>
                </a:lnTo>
                <a:lnTo>
                  <a:pt x="33" y="9"/>
                </a:lnTo>
                <a:lnTo>
                  <a:pt x="37" y="14"/>
                </a:lnTo>
                <a:lnTo>
                  <a:pt x="37" y="18"/>
                </a:lnTo>
                <a:lnTo>
                  <a:pt x="37" y="23"/>
                </a:lnTo>
                <a:lnTo>
                  <a:pt x="37" y="28"/>
                </a:lnTo>
                <a:lnTo>
                  <a:pt x="37" y="28"/>
                </a:lnTo>
                <a:lnTo>
                  <a:pt x="33" y="37"/>
                </a:lnTo>
                <a:lnTo>
                  <a:pt x="28" y="41"/>
                </a:lnTo>
                <a:lnTo>
                  <a:pt x="23" y="41"/>
                </a:lnTo>
                <a:lnTo>
                  <a:pt x="19" y="41"/>
                </a:lnTo>
                <a:lnTo>
                  <a:pt x="19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81440" y="2071440"/>
            <a:ext cx="352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3880" y="2035080"/>
            <a:ext cx="354240" cy="66600"/>
          </a:xfrm>
          <a:custGeom>
            <a:avLst/>
            <a:gdLst/>
            <a:ahLst/>
            <a:rect l="l" t="t" r="r" b="b"/>
            <a:pathLst>
              <a:path w="223" h="42">
                <a:moveTo>
                  <a:pt x="0" y="19"/>
                </a:moveTo>
                <a:lnTo>
                  <a:pt x="190" y="19"/>
                </a:lnTo>
                <a:lnTo>
                  <a:pt x="195" y="19"/>
                </a:lnTo>
                <a:lnTo>
                  <a:pt x="195" y="23"/>
                </a:lnTo>
                <a:lnTo>
                  <a:pt x="195" y="23"/>
                </a:lnTo>
                <a:lnTo>
                  <a:pt x="19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  <a:moveTo>
                  <a:pt x="186" y="0"/>
                </a:moveTo>
                <a:lnTo>
                  <a:pt x="223" y="23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81440" y="2661840"/>
            <a:ext cx="352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3880" y="2624040"/>
            <a:ext cx="354240" cy="66600"/>
          </a:xfrm>
          <a:custGeom>
            <a:avLst/>
            <a:gdLst/>
            <a:ahLst/>
            <a:rect l="l" t="t" r="r" b="b"/>
            <a:pathLst>
              <a:path w="223" h="42">
                <a:moveTo>
                  <a:pt x="0" y="19"/>
                </a:moveTo>
                <a:lnTo>
                  <a:pt x="190" y="19"/>
                </a:lnTo>
                <a:lnTo>
                  <a:pt x="195" y="19"/>
                </a:lnTo>
                <a:lnTo>
                  <a:pt x="195" y="24"/>
                </a:lnTo>
                <a:lnTo>
                  <a:pt x="195" y="24"/>
                </a:lnTo>
                <a:lnTo>
                  <a:pt x="19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  <a:moveTo>
                  <a:pt x="186" y="0"/>
                </a:moveTo>
                <a:lnTo>
                  <a:pt x="223" y="24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3880" y="3036960"/>
            <a:ext cx="354240" cy="66600"/>
          </a:xfrm>
          <a:custGeom>
            <a:avLst/>
            <a:gdLst/>
            <a:ahLst/>
            <a:rect l="l" t="t" r="r" b="b"/>
            <a:pathLst>
              <a:path w="223" h="42">
                <a:moveTo>
                  <a:pt x="0" y="19"/>
                </a:moveTo>
                <a:lnTo>
                  <a:pt x="190" y="19"/>
                </a:lnTo>
                <a:lnTo>
                  <a:pt x="195" y="19"/>
                </a:lnTo>
                <a:lnTo>
                  <a:pt x="195" y="23"/>
                </a:lnTo>
                <a:lnTo>
                  <a:pt x="195" y="23"/>
                </a:lnTo>
                <a:lnTo>
                  <a:pt x="19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  <a:moveTo>
                  <a:pt x="186" y="0"/>
                </a:moveTo>
                <a:lnTo>
                  <a:pt x="223" y="23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1440" y="2838600"/>
            <a:ext cx="352440" cy="234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5440" y="226368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88120" y="1895400"/>
            <a:ext cx="59688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88120" y="1895400"/>
            <a:ext cx="596880" cy="3542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47160" y="201456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 bu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88120" y="2484360"/>
            <a:ext cx="59688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8120" y="2484360"/>
            <a:ext cx="596880" cy="3542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47160" y="260352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 bu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88120" y="2897280"/>
            <a:ext cx="5968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88120" y="2897280"/>
            <a:ext cx="596880" cy="353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47160" y="301608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 bu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77080" y="2035080"/>
            <a:ext cx="353880" cy="66600"/>
          </a:xfrm>
          <a:custGeom>
            <a:avLst/>
            <a:gdLst/>
            <a:ahLst/>
            <a:rect l="l" t="t" r="r" b="b"/>
            <a:pathLst>
              <a:path w="223" h="42">
                <a:moveTo>
                  <a:pt x="0" y="19"/>
                </a:moveTo>
                <a:lnTo>
                  <a:pt x="190" y="19"/>
                </a:lnTo>
                <a:lnTo>
                  <a:pt x="195" y="19"/>
                </a:lnTo>
                <a:lnTo>
                  <a:pt x="195" y="23"/>
                </a:lnTo>
                <a:lnTo>
                  <a:pt x="195" y="23"/>
                </a:lnTo>
                <a:lnTo>
                  <a:pt x="19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  <a:moveTo>
                  <a:pt x="186" y="0"/>
                </a:moveTo>
                <a:lnTo>
                  <a:pt x="223" y="23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77080" y="2624040"/>
            <a:ext cx="353880" cy="66600"/>
          </a:xfrm>
          <a:custGeom>
            <a:avLst/>
            <a:gdLst/>
            <a:ahLst/>
            <a:rect l="l" t="t" r="r" b="b"/>
            <a:pathLst>
              <a:path w="223" h="42">
                <a:moveTo>
                  <a:pt x="0" y="19"/>
                </a:moveTo>
                <a:lnTo>
                  <a:pt x="190" y="19"/>
                </a:lnTo>
                <a:lnTo>
                  <a:pt x="195" y="19"/>
                </a:lnTo>
                <a:lnTo>
                  <a:pt x="195" y="24"/>
                </a:lnTo>
                <a:lnTo>
                  <a:pt x="195" y="24"/>
                </a:lnTo>
                <a:lnTo>
                  <a:pt x="19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  <a:moveTo>
                  <a:pt x="186" y="0"/>
                </a:moveTo>
                <a:lnTo>
                  <a:pt x="223" y="24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3036960"/>
            <a:ext cx="353880" cy="66600"/>
          </a:xfrm>
          <a:custGeom>
            <a:avLst/>
            <a:gdLst/>
            <a:ahLst/>
            <a:rect l="l" t="t" r="r" b="b"/>
            <a:pathLst>
              <a:path w="223" h="42">
                <a:moveTo>
                  <a:pt x="0" y="19"/>
                </a:moveTo>
                <a:lnTo>
                  <a:pt x="190" y="19"/>
                </a:lnTo>
                <a:lnTo>
                  <a:pt x="195" y="19"/>
                </a:lnTo>
                <a:lnTo>
                  <a:pt x="195" y="23"/>
                </a:lnTo>
                <a:lnTo>
                  <a:pt x="195" y="23"/>
                </a:lnTo>
                <a:lnTo>
                  <a:pt x="190" y="23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  <a:moveTo>
                  <a:pt x="186" y="0"/>
                </a:moveTo>
                <a:lnTo>
                  <a:pt x="223" y="23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8280" y="226368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7440" y="1895400"/>
            <a:ext cx="58896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37440" y="1895400"/>
            <a:ext cx="588960" cy="3542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36880" y="194796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2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208584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der#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7440" y="2484360"/>
            <a:ext cx="58896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7440" y="2484360"/>
            <a:ext cx="588960" cy="3542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36880" y="253692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2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270828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der#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37440" y="2897280"/>
            <a:ext cx="58896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7440" y="2897280"/>
            <a:ext cx="588960" cy="353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36880" y="295596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2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3068640"/>
            <a:ext cx="57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der#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80280" y="1895400"/>
            <a:ext cx="588960" cy="13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80280" y="1895400"/>
            <a:ext cx="588960" cy="13557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22120" y="2529000"/>
            <a:ext cx="22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MU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19920" y="2035080"/>
            <a:ext cx="360360" cy="66600"/>
          </a:xfrm>
          <a:custGeom>
            <a:avLst/>
            <a:gdLst/>
            <a:ahLst/>
            <a:rect l="l" t="t" r="r" b="b"/>
            <a:pathLst>
              <a:path w="227" h="42">
                <a:moveTo>
                  <a:pt x="4" y="19"/>
                </a:moveTo>
                <a:lnTo>
                  <a:pt x="195" y="19"/>
                </a:lnTo>
                <a:lnTo>
                  <a:pt x="195" y="19"/>
                </a:lnTo>
                <a:lnTo>
                  <a:pt x="195" y="23"/>
                </a:lnTo>
                <a:lnTo>
                  <a:pt x="195" y="23"/>
                </a:lnTo>
                <a:lnTo>
                  <a:pt x="195" y="23"/>
                </a:lnTo>
                <a:lnTo>
                  <a:pt x="4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185" y="0"/>
                </a:moveTo>
                <a:lnTo>
                  <a:pt x="227" y="23"/>
                </a:lnTo>
                <a:lnTo>
                  <a:pt x="185" y="42"/>
                </a:lnTo>
                <a:lnTo>
                  <a:pt x="18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19920" y="2624040"/>
            <a:ext cx="360360" cy="66600"/>
          </a:xfrm>
          <a:custGeom>
            <a:avLst/>
            <a:gdLst/>
            <a:ahLst/>
            <a:rect l="l" t="t" r="r" b="b"/>
            <a:pathLst>
              <a:path w="227" h="42">
                <a:moveTo>
                  <a:pt x="4" y="19"/>
                </a:moveTo>
                <a:lnTo>
                  <a:pt x="195" y="19"/>
                </a:lnTo>
                <a:lnTo>
                  <a:pt x="195" y="19"/>
                </a:lnTo>
                <a:lnTo>
                  <a:pt x="195" y="24"/>
                </a:lnTo>
                <a:lnTo>
                  <a:pt x="195" y="24"/>
                </a:lnTo>
                <a:lnTo>
                  <a:pt x="195" y="24"/>
                </a:lnTo>
                <a:lnTo>
                  <a:pt x="4" y="24"/>
                </a:lnTo>
                <a:lnTo>
                  <a:pt x="0" y="24"/>
                </a:lnTo>
                <a:lnTo>
                  <a:pt x="0" y="24"/>
                </a:lnTo>
                <a:lnTo>
                  <a:pt x="0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185" y="0"/>
                </a:moveTo>
                <a:lnTo>
                  <a:pt x="227" y="24"/>
                </a:lnTo>
                <a:lnTo>
                  <a:pt x="185" y="42"/>
                </a:lnTo>
                <a:lnTo>
                  <a:pt x="18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19920" y="3036960"/>
            <a:ext cx="360360" cy="66600"/>
          </a:xfrm>
          <a:custGeom>
            <a:avLst/>
            <a:gdLst/>
            <a:ahLst/>
            <a:rect l="l" t="t" r="r" b="b"/>
            <a:pathLst>
              <a:path w="227" h="42">
                <a:moveTo>
                  <a:pt x="4" y="19"/>
                </a:moveTo>
                <a:lnTo>
                  <a:pt x="195" y="19"/>
                </a:lnTo>
                <a:lnTo>
                  <a:pt x="195" y="19"/>
                </a:lnTo>
                <a:lnTo>
                  <a:pt x="195" y="23"/>
                </a:lnTo>
                <a:lnTo>
                  <a:pt x="195" y="23"/>
                </a:lnTo>
                <a:lnTo>
                  <a:pt x="195" y="23"/>
                </a:lnTo>
                <a:lnTo>
                  <a:pt x="4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4" y="19"/>
                </a:lnTo>
                <a:lnTo>
                  <a:pt x="4" y="19"/>
                </a:lnTo>
                <a:close/>
                <a:moveTo>
                  <a:pt x="185" y="0"/>
                </a:moveTo>
                <a:lnTo>
                  <a:pt x="227" y="23"/>
                </a:lnTo>
                <a:lnTo>
                  <a:pt x="185" y="42"/>
                </a:lnTo>
                <a:lnTo>
                  <a:pt x="18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61320" y="2565360"/>
            <a:ext cx="361800" cy="66600"/>
          </a:xfrm>
          <a:custGeom>
            <a:avLst/>
            <a:gdLst/>
            <a:ahLst/>
            <a:rect l="l" t="t" r="r" b="b"/>
            <a:pathLst>
              <a:path w="228" h="42">
                <a:moveTo>
                  <a:pt x="5" y="19"/>
                </a:moveTo>
                <a:lnTo>
                  <a:pt x="195" y="19"/>
                </a:lnTo>
                <a:lnTo>
                  <a:pt x="195" y="19"/>
                </a:lnTo>
                <a:lnTo>
                  <a:pt x="200" y="23"/>
                </a:lnTo>
                <a:lnTo>
                  <a:pt x="195" y="23"/>
                </a:lnTo>
                <a:lnTo>
                  <a:pt x="195" y="23"/>
                </a:lnTo>
                <a:lnTo>
                  <a:pt x="5" y="23"/>
                </a:lnTo>
                <a:lnTo>
                  <a:pt x="0" y="23"/>
                </a:lnTo>
                <a:lnTo>
                  <a:pt x="0" y="23"/>
                </a:lnTo>
                <a:lnTo>
                  <a:pt x="0" y="19"/>
                </a:lnTo>
                <a:lnTo>
                  <a:pt x="5" y="19"/>
                </a:lnTo>
                <a:lnTo>
                  <a:pt x="5" y="19"/>
                </a:lnTo>
                <a:close/>
                <a:moveTo>
                  <a:pt x="186" y="0"/>
                </a:moveTo>
                <a:lnTo>
                  <a:pt x="228" y="23"/>
                </a:lnTo>
                <a:lnTo>
                  <a:pt x="186" y="42"/>
                </a:lnTo>
                <a:lnTo>
                  <a:pt x="18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0400" y="1719360"/>
            <a:ext cx="824040" cy="17082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11800" y="1719360"/>
            <a:ext cx="833400" cy="17082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70400" y="1719360"/>
            <a:ext cx="824040" cy="17082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11800" y="1719360"/>
            <a:ext cx="833400" cy="17082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0" y="1719360"/>
            <a:ext cx="824040" cy="17082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11800" y="1719360"/>
            <a:ext cx="833400" cy="17082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1280" y="3832200"/>
            <a:ext cx="7508880" cy="3103560"/>
            <a:chOff x="611280" y="3832200"/>
            <a:chExt cx="7508880" cy="3103560"/>
          </a:xfrm>
        </p:grpSpPr>
        <p:sp>
          <p:nvSpPr>
            <p:cNvPr id="128" name=""/>
            <p:cNvSpPr/>
            <p:nvPr/>
          </p:nvSpPr>
          <p:spPr>
            <a:xfrm>
              <a:off x="2863800" y="4222800"/>
              <a:ext cx="3542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82800" y="406080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63800" y="4222800"/>
              <a:ext cx="3542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82800" y="406080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8920" y="422280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406080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8920" y="422280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7920" y="406080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48440" y="422280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67440" y="4060800"/>
              <a:ext cx="77292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48440" y="422280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67440" y="4060800"/>
              <a:ext cx="77292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27880" y="422280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46880" y="406080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27880" y="422280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46880" y="406080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3320" y="6477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59360" y="6477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3320" y="6329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59360" y="63295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3320" y="6181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9720" y="618156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3320" y="6027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59720" y="60278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0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3320" y="5880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59720" y="58802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3320" y="5724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59720" y="5732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0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3320" y="5578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59720" y="557856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3320" y="5430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59720" y="54309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93320" y="5283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9720" y="5283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3320" y="5129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59720" y="5129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3320" y="4981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59720" y="49816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3320" y="4834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59720" y="48340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3320" y="4678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9720" y="46782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93320" y="4532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59720" y="45324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93320" y="4384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59720" y="43848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3320" y="4237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59720" y="42372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0280" y="4089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60440" y="408312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49560" y="40687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49560" y="66168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49560" y="4068720"/>
              <a:ext cx="0" cy="254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56080" y="4068720"/>
              <a:ext cx="0" cy="254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82800" y="4068720"/>
              <a:ext cx="0" cy="254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49560" y="42228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49560" y="43704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49560" y="45180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49560" y="467208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49560" y="481968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9560" y="496728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49560" y="51213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9560" y="52689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9560" y="54165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49560" y="55641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9560" y="571824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49560" y="586584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49560" y="601344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49560" y="61675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49560" y="63151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9560" y="64627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93320" y="6477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59360" y="6477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3320" y="6329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59360" y="63295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93320" y="6181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59720" y="618156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3320" y="6027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9720" y="60278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0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93320" y="5880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59720" y="58802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3320" y="5724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59720" y="5732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0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3320" y="5578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59720" y="557856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5430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59720" y="54309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3320" y="5283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59720" y="5283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3320" y="5129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9720" y="5129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3320" y="4981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59720" y="49816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3320" y="4834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59720" y="48340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3320" y="4678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9720" y="46782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93320" y="4532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59720" y="45324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3320" y="4384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59720" y="43848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3320" y="4237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59720" y="423720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60440" y="408312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49560" y="40687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49560" y="66168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49560" y="4068720"/>
              <a:ext cx="0" cy="254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56080" y="4068720"/>
              <a:ext cx="0" cy="254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82800" y="4068720"/>
              <a:ext cx="0" cy="254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49560" y="42228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9560" y="43704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49560" y="451800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49560" y="467208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9560" y="481968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9560" y="496728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9560" y="51213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49560" y="52689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49560" y="54165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49560" y="556416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49560" y="571824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49560" y="586584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9560" y="601344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49560" y="61675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49560" y="63151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49560" y="6462720"/>
              <a:ext cx="14065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86640" y="646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000" y="646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8664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000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664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000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664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00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6640" y="5864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0000" y="5864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8664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000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8664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00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6640" y="54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0000" y="54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8664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000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8664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000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6640" y="4965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0000" y="4965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8664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00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664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00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8664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000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8664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000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8664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00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65400" y="407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2280" y="40672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280" y="40608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280" y="66024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28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5120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792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1280" y="42084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280" y="43560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280" y="451008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1280" y="465768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280" y="480528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1280" y="495936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280" y="510696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280" y="525456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280" y="54086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1280" y="55562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280" y="57038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280" y="58514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280" y="600552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615312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1280" y="630072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1280" y="64548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86640" y="646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0000" y="646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8664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000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664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000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8664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000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6640" y="5864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000" y="5864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664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00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8664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00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86640" y="54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000" y="54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8664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00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664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000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86640" y="4965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0000" y="4965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8664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000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8664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000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664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000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8664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000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8664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000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920" y="40672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280" y="40608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1280" y="66024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128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5120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7792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1280" y="42084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1280" y="43560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1280" y="451008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1280" y="465768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1280" y="480528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280" y="495936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1280" y="510696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1280" y="525456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280" y="54086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280" y="55562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1280" y="57038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280" y="585144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280" y="600552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280" y="615312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1280" y="630072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6454800"/>
              <a:ext cx="1339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5000" y="3832200"/>
              <a:ext cx="3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2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00160" y="3848040"/>
              <a:ext cx="77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able#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11160" y="3832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44600" y="3832200"/>
              <a:ext cx="3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2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71120" y="38480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able #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82840" y="3832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40320" y="3832200"/>
              <a:ext cx="3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2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68280" y="3848040"/>
              <a:ext cx="71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able #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79280" y="3832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3832200"/>
              <a:ext cx="3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2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06880" y="3848040"/>
              <a:ext cx="88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able #1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64400" y="6661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1920" y="6661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64600" y="6661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03600" y="6653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49920" y="6653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34040" y="6653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57880" y="6653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2520" y="6653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8840" y="6653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75040" y="6653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98880" y="66531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01840" y="6653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4360" y="6661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30320" y="6661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2880" y="6661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04880" y="6661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76160" y="6469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37360" y="646920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7616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7360" y="631512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7616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37360" y="61675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7616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37360" y="60199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76160" y="5872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37360" y="587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7616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37360" y="57182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7616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37720" y="557064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76160" y="5423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37720" y="542304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7616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7720" y="526896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7616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37720" y="512136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76160" y="4973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7720" y="497376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7616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37720" y="48196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7616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37720" y="467208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616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37720" y="452448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616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37720" y="43704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7616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37720" y="422280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4560" y="407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40320" y="40672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27560" y="40608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27560" y="66024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2756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036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6744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42084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27560" y="43560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27560" y="451008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27560" y="465768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27560" y="480528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7560" y="495936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27560" y="510696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27560" y="52610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7560" y="54086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27560" y="55562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27560" y="57038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27560" y="585792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7560" y="600552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27560" y="615312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27560" y="63072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27560" y="64548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76160" y="6469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37360" y="646920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616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37360" y="631512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7616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37360" y="61675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7616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37360" y="60199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76160" y="5872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37360" y="587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7616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37360" y="571824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7616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37720" y="557064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76160" y="5423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37720" y="542304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7616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37720" y="526896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7616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7720" y="512136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6160" y="4973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37720" y="497376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7616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37720" y="48196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7616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37720" y="467208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7616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37720" y="4524480"/>
              <a:ext cx="49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7616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37720" y="43704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7616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37720" y="422280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40320" y="40672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27560" y="40608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7560" y="66024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2756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4036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6744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27560" y="42084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27560" y="43560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7560" y="451008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27560" y="465768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27560" y="480528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27560" y="495936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27560" y="510696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27560" y="52610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27560" y="54086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27560" y="55562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27560" y="570384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27560" y="585792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27560" y="600552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27560" y="615312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27560" y="63072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27560" y="6454800"/>
              <a:ext cx="1612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55600" y="646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03520" y="646128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5560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3520" y="631512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45560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3520" y="616752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5560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3520" y="6019920"/>
              <a:ext cx="101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5600" y="5864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3520" y="5864400"/>
              <a:ext cx="98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5560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03520" y="571824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1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560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03520" y="557064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55600" y="54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03880" y="541512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560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3880" y="5268960"/>
              <a:ext cx="84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1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5560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03880" y="512136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1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55600" y="4965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03880" y="4965840"/>
              <a:ext cx="77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560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3880" y="481968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5560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04240" y="46720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5560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04240" y="452448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560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04240" y="437040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5560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04240" y="422280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42280" y="407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15280" y="40672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4440" y="40608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66024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9444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2016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4688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94440" y="42084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94440" y="43560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4440" y="45100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4440" y="46576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4440" y="48052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4440" y="49593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440" y="51069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4440" y="52545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4440" y="54086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4440" y="55562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94440" y="57038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94440" y="58514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4440" y="60055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440" y="61531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4440" y="63007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440" y="64548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55600" y="646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03520" y="646128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55600" y="63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03520" y="631512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5600" y="6167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03520" y="616752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5600" y="6019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03520" y="6019920"/>
              <a:ext cx="101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5600" y="5864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03520" y="5864400"/>
              <a:ext cx="98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5600" y="571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520" y="571824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1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55600" y="5570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03520" y="557064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55600" y="5415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03880" y="541512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55600" y="526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03880" y="5268960"/>
              <a:ext cx="84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1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55600" y="5121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03880" y="512136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1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55600" y="4965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03880" y="4965840"/>
              <a:ext cx="77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55600" y="481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03880" y="481968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5600" y="4672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04240" y="46720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55600" y="4524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04240" y="452448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455600" y="4370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04240" y="437040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455600" y="4222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04240" y="422280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14920" y="40672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440" y="40608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4440" y="66024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444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2016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46880" y="406080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94440" y="42084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94440" y="43560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4440" y="45100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4440" y="46576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4440" y="48052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94440" y="49593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4440" y="51069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94440" y="52545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94440" y="54086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4440" y="55562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94440" y="57038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4440" y="58514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94440" y="60055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440" y="61531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4440" y="63007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4440" y="64548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10160" y="5013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AEB-8664-4FEF-A34F-0C5044F8C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016160" cy="28479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6841440" y="71280"/>
            <a:ext cx="15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テーブ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63040" y="4000680"/>
            <a:ext cx="16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bi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267 bit/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8365680" y="3645000"/>
            <a:ext cx="382680" cy="61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27640" y="3213000"/>
            <a:ext cx="2433600" cy="10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68360" y="478584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ss in the highest probability is l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5160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9756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8168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0552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0052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4648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2268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4652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49840" y="3441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332000" y="344952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7960" y="344952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90880" y="344952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52520" y="34495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156360" y="907920"/>
            <a:ext cx="2035080" cy="3103560"/>
            <a:chOff x="6156360" y="907920"/>
            <a:chExt cx="2035080" cy="3103560"/>
          </a:xfrm>
        </p:grpSpPr>
        <p:sp>
          <p:nvSpPr>
            <p:cNvPr id="628" name=""/>
            <p:cNvSpPr/>
            <p:nvPr/>
          </p:nvSpPr>
          <p:spPr>
            <a:xfrm>
              <a:off x="7499160" y="129852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18160" y="113652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99160" y="1298520"/>
              <a:ext cx="35244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18160" y="1136520"/>
              <a:ext cx="773280" cy="16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48400" y="907920"/>
              <a:ext cx="3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2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78160" y="923760"/>
              <a:ext cx="88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able #1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35680" y="37368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53200" y="37368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35880" y="37368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7240" y="3537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74800" y="353700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527240" y="3390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74800" y="339084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7240" y="3243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74800" y="324324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27240" y="3095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274800" y="3095640"/>
              <a:ext cx="101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27240" y="2940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74800" y="2940120"/>
              <a:ext cx="98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240" y="2793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74800" y="279396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1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27240" y="2646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4800" y="264636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27240" y="2490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75160" y="249084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27240" y="2344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5160" y="2344680"/>
              <a:ext cx="84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1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27240" y="2197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75160" y="219708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1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27240" y="2041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5160" y="2041560"/>
              <a:ext cx="77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27240" y="1895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75160" y="18954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27240" y="1747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75520" y="17478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27240" y="1600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75520" y="160020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27240" y="1446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75520" y="14461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27240" y="1298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75520" y="12985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13560" y="1150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F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86560" y="114300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65720" y="11365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65720" y="36781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91440" y="113652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18160" y="113652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65720" y="12841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65720" y="14317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65720" y="15858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65720" y="17334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65720" y="18810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65720" y="20350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65720" y="21826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65720" y="23302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5720" y="24843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65720" y="26319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65720" y="27795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65720" y="29271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65720" y="30812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65720" y="32288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65720" y="33764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65720" y="35305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27240" y="3537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74800" y="353700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27240" y="3390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74800" y="3390840"/>
              <a:ext cx="10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27240" y="3243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74800" y="324324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01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27240" y="3095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74800" y="3095640"/>
              <a:ext cx="101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01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27240" y="2940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74800" y="2940120"/>
              <a:ext cx="98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01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27240" y="2793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74800" y="279396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01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27240" y="2646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74800" y="264636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01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27240" y="2490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75160" y="249084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01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27240" y="2344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75160" y="2344680"/>
              <a:ext cx="84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01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27240" y="2197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75160" y="219708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01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27240" y="2041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5160" y="2041560"/>
              <a:ext cx="77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01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27240" y="1895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75160" y="18954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01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27240" y="1747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75520" y="17478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01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27240" y="1600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75520" y="160020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1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27240" y="1446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75520" y="14461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7240" y="1298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75520" y="12985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86200" y="114300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65720" y="11365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65720" y="36781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91440" y="113652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18160" y="1136520"/>
              <a:ext cx="0" cy="2541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65720" y="12841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65720" y="14317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65720" y="15858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65720" y="17334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65720" y="188100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65720" y="20350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65720" y="21826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65720" y="233028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65720" y="24843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5720" y="26319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65720" y="27795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65720" y="292716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65720" y="30812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65720" y="32288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65720" y="337644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65720" y="3530520"/>
              <a:ext cx="20257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56360" y="1123920"/>
              <a:ext cx="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101080" y="36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86A-BE73-454C-B2EC-49C045A30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/ V2F in F1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57200" y="1928880"/>
          <a:ext cx="8229600" cy="3422520"/>
        </p:xfrm>
        <a:graphic>
          <a:graphicData uri="http://schemas.openxmlformats.org/drawingml/2006/table">
            <a:tbl>
              <a:tblPr/>
              <a:tblGrid>
                <a:gridCol w="7095960"/>
                <a:gridCol w="1133640"/>
              </a:tblGrid>
              <a:tr h="368280">
                <a:tc gridSpan="2">
                  <a:txBody>
                    <a:bodyPr lIns="36000" rIns="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2F #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4240">
                <a:tc>
                  <a:txBody>
                    <a:bodyPr lIns="36000" rIns="0" tIns="46800" bIns="46800" anchor="t">
                      <a:noAutofit/>
                    </a:bodyPr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                                           (no ‘0’s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1                                            (a ‘0’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1                                          (2 ‘0’s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1                                         (3 ‘0’s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1                                        (4 ‘0’s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1                                       (5 ‘0’s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000000000000000…..00000000000000000001 (254 ‘0’s and a ‘1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637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000000000000000…..00000000000000000000 (255 ‘0’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000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111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"/>
          <p:cNvSpPr/>
          <p:nvPr/>
        </p:nvSpPr>
        <p:spPr>
          <a:xfrm>
            <a:off x="2556720" y="5622840"/>
            <a:ext cx="3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5bin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8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.031 bit/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5579640" y="4981680"/>
            <a:ext cx="33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604360" y="498168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46520" y="1341360"/>
            <a:ext cx="80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ditional V2F coder for the highest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278-34CF-469F-8AD4-67C927546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Kazuo Sugimoto</cp:lastModifiedBy>
  <dcterms:modified xsi:type="dcterms:W3CDTF">2011-07-16T09:37:43Z</dcterms:modified>
  <cp:revision>116</cp:revision>
  <dc:subject/>
  <dc:title>ドレスデン会合準備について</dc:title>
</cp:coreProperties>
</file>